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4783-BCB6-4889-9227-9BC8C265B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E258-65B6-40EF-BEC2-7C9CED2E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6217-835C-4774-9C3F-E752BBEB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DF0B-693C-4A22-A8CD-AEA1C1CC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CE6C-8F9C-48F7-9E91-F220C3C0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7261-05CE-48E4-9128-C42AB3EF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B72B-CD5A-492A-AFF0-01FEE4BD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C80B-1CF2-49B3-95D3-C946DF8D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B9D8-9955-4461-9344-EF84485BA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2C9E-2FC5-40C7-803E-1EB7B197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42C0-EEED-41F5-ADC4-F531FA56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8701-7F7F-47CE-AF62-40BD83B9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6303-A1ED-48F6-8AFF-6F8172A7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DE0F-2775-4C44-B826-11A9DE78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4D38E-9A10-4E74-9656-92D401576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276BA-6F93-4353-980C-91820F624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A29C-0BC4-4C50-9623-290695C4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AFDE7-18EC-473D-8213-72D4B23A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A22F9-34A8-443B-AC1D-EE5903A0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308ED-8C46-45DE-B659-791338EB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7135F-1342-4974-AF7B-7EAA9B84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ADCAF-F3BD-4974-ACCD-4A2864CF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AC4A-B282-49C9-9158-A77CAD57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CC029-372F-4E91-B83D-5AE67990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FFB3D-196D-4FAB-8B0B-328E3459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BAED4-C4A4-4498-8448-74B517B0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D0215-7737-4DD6-BFA3-D6716060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117E5-F3B7-4832-A5CA-675E023E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FC622-324C-4FA0-83B2-7A0CBB59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F5903-2B0C-4619-866F-B3FD916B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BA2FD-06F2-4965-B900-7CE57B99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7547E-92C2-4AEF-B637-64F50420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DC8A4-CB0E-4EB6-8BB0-164382C0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36E3-8D2A-49AB-B2A3-C264F909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4A3AC-7E6D-47CB-B0AF-55071B33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1826C-4914-491F-9920-644B8074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BA248-07F1-40C8-850D-38211E81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66DA6-206D-491E-BDCD-6D09EAD5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E744D-155F-4EEE-B5E0-E77975BA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43AF0-03D9-473C-93E6-5500AFD8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B6705-FBED-4766-A0A6-69C05AD9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0FB77-ECBA-4DCF-8820-4B60BB64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20A99-7261-4B9D-923C-A82A5FBD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78E1-9A1E-450C-9B6E-AFA665FF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C0A6-47D9-4243-81F1-DED263B6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E8C6-7CFD-4CD8-9282-9EC750A8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073E-B276-4174-B1D8-CC4793A3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B97B-A94D-489B-9742-A0ACEEAD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8762-059D-4C21-8C5D-145C788BC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144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1958-B25B-4BBA-A71C-5B15475BF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2D44-5F03-42CF-B8A4-3E088075B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-23760"/>
            <a:ext cx="9180360" cy="14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240" y="3240"/>
            <a:ext cx="9177120" cy="14191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89B6-8639-4DE8-ACC5-8EB89432C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6624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6:03:33Z</dcterms:created>
  <dc:creator>Administrator</dc:creator>
  <dc:description/>
  <dc:language>en-US</dc:language>
  <cp:lastModifiedBy/>
  <cp:lastPrinted>1899-12-30T00:00:00Z</cp:lastPrinted>
  <dcterms:modified xsi:type="dcterms:W3CDTF">2014-05-24T01:45:4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