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CA4B5-F349-47DB-A4D9-86CBC3F77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1EE51-9874-4663-8F60-418E5F5C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23877-3B5F-4EDB-BA98-E645D01DC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751DE-CC57-48BE-9284-E299A1C09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3DB9F-348E-4DBB-9C47-6B5D71A3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10275-E12E-46A5-833A-451B5F07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B1569-B76B-4776-87C1-763987B8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D6499-57EA-44EE-B3BE-C171E617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291F8-518C-457F-B272-FFD31366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06C6E-DE3E-4049-8201-5F03AAE4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77B8A-AD49-4A26-9666-52026D36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E1A65-E77A-435C-BDE4-DAE4D446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1AE9-3919-4855-9346-2F05BD0FA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36360" y="6611760"/>
            <a:ext cx="576360" cy="2350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63280" y="2781360"/>
            <a:ext cx="504036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00"/>
                </a:solidFill>
                <a:latin typeface="Arial"/>
                <a:ea typeface="宋体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8160" y="6607080"/>
            <a:ext cx="803160" cy="263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4-11-06T04:56:46Z</dcterms:modified>
  <cp:revision>586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