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CFEB-4F67-430B-B8C8-FFF17BB7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C94E-4020-4E58-B1F6-8C03AEBD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973F-C547-4C3D-BE87-9590D2CC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37D-81EB-410C-9336-26EC91B5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D48A-4CB4-476A-96AB-A3587304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7F04-C2FA-4D0A-B9C1-45C70CCF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E2FF-BA81-4AA5-9C8A-DFA12A2D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94CE-5FE4-4345-AD1E-B97CE47B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B130-D104-411E-AA8E-D38F9ADC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9640" y="18900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603D-718D-4B97-B42A-0A4D2133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B9A1-508D-4C2C-8ACC-1E02B95D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0C4D-7F94-42BD-9CF0-2501D4F92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E1E1-B145-4659-A166-ED91687A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787F-8165-492E-A8B5-2C8C1281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1953-BD10-4EE1-993A-619683C9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9EFE-F210-40CF-BD93-B7B2F668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DE18-8966-462D-8694-488007BF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FDCA8-7614-4C88-B7F2-B0829DFD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3F70D-9B13-4AC4-A81E-C657E6D2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C5B57-3ECC-403B-9343-0B99B298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D73DD-CC45-4EE6-830D-EAE07846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92224-F334-4A10-8368-B0DD70CA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59F2-39FE-4111-AEF3-7E8BDF5C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39640" y="18900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5B353-F70E-4041-8CFE-AD31F948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12B11-B403-4D4E-915A-7977416E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929DB-84CC-4D9B-AFCA-C7961F79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015D6-F97D-4F30-B6F6-3FB045BB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1622C-E4E6-4D20-A47E-AA0BD55A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CABB7-CEA8-43EE-97D5-D265684F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5DE48-3B92-46AA-B977-BC468AB1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092-1DC1-49AA-AF67-7435A962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BBCC-2356-4183-8EE7-57EBC42D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9640" y="18900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4B4C-6024-4DA7-8B8E-40CF60AA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3FD1-CF0C-4D9B-90DD-D5B3AD63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E6A4-E88A-4899-8D5D-49B621D3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A17B-C9D9-45D0-BF1E-63D34D6C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nordridesign.cn/index.php" TargetMode="External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"/>
          <p:cNvPicPr/>
          <p:nvPr/>
        </p:nvPicPr>
        <p:blipFill>
          <a:blip r:embed="rId2"/>
          <a:stretch/>
        </p:blipFill>
        <p:spPr>
          <a:xfrm>
            <a:off x="36360" y="1764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0B96-5808-4B59-B804-DB2438ECC875}" type="slidenum">
              <a: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1"/>
          <p:cNvPicPr/>
          <p:nvPr/>
        </p:nvPicPr>
        <p:blipFill>
          <a:blip r:embed="rId2"/>
          <a:stretch/>
        </p:blipFill>
        <p:spPr>
          <a:xfrm>
            <a:off x="0" y="442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96720" y="8366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8908-B267-4092-91EB-1F60E1C2BFAC}" type="slidenum">
              <a: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31DE-52F0-4DE0-94C4-F4E58C3AC50E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8131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029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42559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45435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7577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5037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52642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54784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4077360" y="301932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" descr="logo"/>
          <p:cNvPicPr/>
          <p:nvPr/>
        </p:nvPicPr>
        <p:blipFill>
          <a:blip r:embed="rId2"/>
          <a:stretch/>
        </p:blipFill>
        <p:spPr>
          <a:xfrm>
            <a:off x="3116160" y="2525760"/>
            <a:ext cx="782640" cy="73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logo2"/>
          <p:cNvPicPr/>
          <p:nvPr/>
        </p:nvPicPr>
        <p:blipFill>
          <a:blip r:embed="rId3"/>
          <a:stretch/>
        </p:blipFill>
        <p:spPr>
          <a:xfrm>
            <a:off x="2563920" y="2347920"/>
            <a:ext cx="3828960" cy="1325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8">
            <a:hlinkClick r:id="rId4"/>
          </p:cNvPr>
          <p:cNvSpPr/>
          <p:nvPr/>
        </p:nvSpPr>
        <p:spPr>
          <a:xfrm>
            <a:off x="2484360" y="2060640"/>
            <a:ext cx="3987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Unbenannt-2"/>
          <p:cNvPicPr/>
          <p:nvPr/>
        </p:nvPicPr>
        <p:blipFill>
          <a:blip r:embed="rId1"/>
          <a:stretch/>
        </p:blipFill>
        <p:spPr>
          <a:xfrm>
            <a:off x="7164360" y="5661000"/>
            <a:ext cx="279360" cy="432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16184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首页主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3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副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内页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内页内容文字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华文细黑）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03640" y="4653000"/>
            <a:ext cx="338616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感谢您的关注！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4" name=""/>
          <p:cNvSpPr/>
          <p:nvPr/>
        </p:nvSpPr>
        <p:spPr>
          <a:xfrm>
            <a:off x="1956240" y="62136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e2d70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e2d7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3:16:42Z</dcterms:created>
  <dc:creator/>
  <dc:description/>
  <dc:language>en-US</dc:language>
  <cp:lastModifiedBy>king</cp:lastModifiedBy>
  <cp:lastPrinted>1899-12-30T00:00:00Z</cp:lastPrinted>
  <dcterms:modified xsi:type="dcterms:W3CDTF">2014-05-29T07:09:55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