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17C2-3F11-4083-AE79-14F5FF3E5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29E9-F6BB-4610-9E19-DD43CB69E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F76F-58B8-4088-B776-743DB81FA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4B4E-FA96-47C6-8D25-DB8F76E81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A6C7-AC5A-4C17-BB7D-C66173242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9D1C-EE00-474C-B3B1-6FE06D9A0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5F5B-8F97-40CF-BAB7-28CA58207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696A-C181-4120-85A1-25827CFD7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BDEA-19D5-4612-B4FA-2A7F47A5C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FB4C-A4DF-40FB-9D31-7F63D655A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5C7C-BE9A-446E-9819-827086829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5CD7-05B4-4329-A630-0EF53D74D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308720" y="628812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FEA3666-17D9-4285-9540-C940E9C01252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1" descr="bg1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8327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460800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3808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B5CDA7A-9624-4161-ACF4-72E87E1ED5A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56320" y="623736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285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Administrator</dc:creator>
  <dc:description/>
  <dc:language>en-US</dc:language>
  <cp:lastModifiedBy>微软用户</cp:lastModifiedBy>
  <cp:lastPrinted>1899-12-30T00:00:00Z</cp:lastPrinted>
  <dcterms:modified xsi:type="dcterms:W3CDTF">2014-05-25T06:27:41Z</dcterms:modified>
  <cp:revision>218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