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188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904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9188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9188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904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9188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9188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904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9188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92C-FA73-4CC8-A0EE-8C09059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99D-0D1E-4111-9BA6-E269E65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B8F-C5FE-419B-AB56-0349BBCA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1BE-D1F7-41BC-9351-9BEB3E00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FF1-CEB6-42E3-BCFE-998B62B6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320-0C73-4FCD-BE39-278E5E8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32C-2403-42B3-B7BB-238A5EDE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B34-39DD-40F0-B3C4-12409A3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4BE-6980-4B22-A74F-63F4FB8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8A2-FB3D-4F62-A93F-F09549F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727-8304-43FA-84CE-E9EFA664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91880" y="160020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904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91880" y="3964320"/>
            <a:ext cx="218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AB3-13D9-42AB-9B6D-8FB27A4F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80920" y="396432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0920" y="1600200"/>
            <a:ext cx="33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6780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6400" y="75960"/>
            <a:ext cx="7885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33200"/>
            <a:ext cx="81151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04920" y="2057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386280" indent="-14832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594360" indent="-1188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831960" indent="-1188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069560" indent="-1188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069560" indent="-1188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069560" indent="-1188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7238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FE46-5CA3-44B5-8CB8-9A021B51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04920" y="2286000"/>
            <a:ext cx="72388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Microsoft Sans Serif"/>
              <a:ea typeface="微软雅黑"/>
            </a:endParaRPr>
          </a:p>
        </p:txBody>
      </p:sp>
      <p:sp>
        <p:nvSpPr>
          <p:cNvPr id="157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6400" y="75960"/>
            <a:ext cx="7885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67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352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/>
  <dc:description/>
  <dc:language>en-US</dc:language>
  <cp:lastModifiedBy>ilovePPT.ORG</cp:lastModifiedBy>
  <cp:lastPrinted>1899-12-30T00:00:00Z</cp:lastPrinted>
  <dcterms:modified xsi:type="dcterms:W3CDTF">2014-06-03T09:02:23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