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EA9C-200C-44B1-BD00-A9D688A5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E2E6-74A7-45B5-8822-AE42C2F2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9FF-FA76-4CA7-9E7F-C7922310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B30-5161-4C2A-8168-56ABE9DF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ACB3-4B70-4AD8-9515-1880B3AC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6AEF-3785-4D4B-8EAA-B1BC1287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6276-A790-4C92-8A69-70A105E5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6F08-FAA9-4520-B622-6D6613AA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FEB8-9F3C-47EE-8E8A-3F2E5EAF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21844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2B94-FDD9-4403-895F-F1F4BADE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2574-50C0-455C-B591-662B8652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2E16-26EB-4141-804B-3A9669EC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9090-271A-4759-B5BA-83845921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A026-EA48-4072-BD9E-6352E9AA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CF70-294D-4837-B305-F033B0B9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9348-9F2F-4A26-A74E-B1F773AD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03A2-E03A-4DAE-A475-B764B3D6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1BD-F2A3-4AE2-A115-B1FB84C1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CF54-A18C-48F2-967D-0F4D3799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5292-2761-4614-BE3C-25A146C0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21844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0DD-F795-4C3C-B3CC-68E37B37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0867-DB15-4131-9803-77557694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44CB-6038-48F7-9B69-266B42C5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661E-387F-4F15-9BF5-255974D6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abddce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abddce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652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www.1ppt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432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8544-98EF-437C-9B84-D02DBE7F4E44}" type="slidenum">
              <a:rPr b="1" lang="ko-KR" sz="1200" spc="-1" strike="noStrike">
                <a:solidFill>
                  <a:srgbClr val="ffffff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abddce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abddce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bddce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bddce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abddce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34DD-0BE9-4C6C-9ACE-8F46474F63A5}" type="slidenum">
              <a:rPr b="0" lang="ko-KR" sz="1400" spc="-1" strike="noStrike">
                <a:solidFill>
                  <a:srgbClr val="abddce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315920" y="650880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abddc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1745640" y="60958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1ad6c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abddc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abddce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abddce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abddce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abddce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abddce"/>
                </a:solidFill>
                <a:latin typeface="Times New Roman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61ad6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61ad6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61ad6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abddce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03:17:12Z</dcterms:created>
  <dc:creator>arkey</dc:creator>
  <dc:description/>
  <dc:language>en-US</dc:language>
  <cp:lastModifiedBy>king</cp:lastModifiedBy>
  <cp:lastPrinted>1899-12-30T00:00:00Z</cp:lastPrinted>
  <dcterms:modified xsi:type="dcterms:W3CDTF">2014-05-30T06:55:51Z</dcterms:modified>
  <cp:revision>16</cp:revision>
  <dc:subject/>
  <dc:title>PowerPoint 站长素材 SC.CHINA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