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95AF-ED70-4E75-9B93-C2AC570061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DF45-C6D7-4F23-B19B-018CFF5A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E8E5-C5E1-42BC-9795-08480F6A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403D-B888-4FC6-8393-A178ED726E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A0AC2-25D3-4A5D-A3DD-A59791A032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C3FD9-0542-404C-9009-67BE6EF9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21DFF-915C-449F-8C81-AA79942E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6110D-5348-4353-8861-4FECB0E6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23DCD-460B-4347-8176-A500F750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8640" y="276120"/>
            <a:ext cx="82188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85040-0C1D-484A-8CC0-4F9B86B6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7E776-C468-4934-B19C-75C56A40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2ED56-0993-46BC-BE65-18C216D7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13E13-DBE2-468C-A03A-964DFB58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AD493-0936-4397-973D-251A092A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7880C-FF0D-44F3-BC26-2F594067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0CE44-4DBA-4CF2-AEF5-52A89E0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933F7-7872-4964-AA8C-ED0DA8DAA7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0091-8C01-4319-943A-14B2E5B5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40BA-6EC2-427E-844A-4948E214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3273-964A-4AD9-8269-2A07A513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8640" y="276120"/>
            <a:ext cx="82188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4394-BFFD-47E0-8C8E-A5CCCCA3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7AA1F-AD5C-474D-ACDA-CB8F3422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3D55-7C07-43C7-BC05-97A9E00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F7EC-22BA-419B-BE41-BE7E9BC3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c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ownloads\4858559151_e13efd3e8b_b.jpg"/>
          <p:cNvPicPr/>
          <p:nvPr/>
        </p:nvPicPr>
        <p:blipFill>
          <a:blip r:embed="rId2"/>
          <a:stretch/>
        </p:blipFill>
        <p:spPr>
          <a:xfrm>
            <a:off x="4376880" y="0"/>
            <a:ext cx="4767120" cy="3573360"/>
          </a:xfrm>
          <a:prstGeom prst="rect">
            <a:avLst/>
          </a:prstGeom>
          <a:ln w="0">
            <a:noFill/>
          </a:ln>
        </p:spPr>
      </p:pic>
      <p:sp>
        <p:nvSpPr>
          <p:cNvPr id="1" name="椭圆 6"/>
          <p:cNvSpPr/>
          <p:nvPr/>
        </p:nvSpPr>
        <p:spPr>
          <a:xfrm>
            <a:off x="2173320" y="1989000"/>
            <a:ext cx="6985080" cy="3527640"/>
          </a:xfrm>
          <a:prstGeom prst="ellipse">
            <a:avLst/>
          </a:prstGeom>
          <a:solidFill>
            <a:srgbClr val="96cedf"/>
          </a:solidFill>
          <a:ln w="25560">
            <a:solidFill>
              <a:srgbClr val="96ce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2" descr="C:\Users\Administrator\Downloads\4858559151_e13efd3e8b_b.jpg"/>
          <p:cNvPicPr/>
          <p:nvPr/>
        </p:nvPicPr>
        <p:blipFill>
          <a:blip r:embed="rId3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216B-F07D-4B64-84CC-00EFF8023F30}" type="datetime">
              <a:rPr b="0" lang="zh-CN" sz="1200" spc="-1" strike="noStrike">
                <a:solidFill>
                  <a:srgbClr val="40404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8221-D0E4-462F-B863-2D28C299105C}" type="slidenum">
              <a:rPr b="0" lang="zh-CN" sz="12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c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ownloads\4858559151_e13efd3e8b_b.jpg"/>
          <p:cNvPicPr/>
          <p:nvPr/>
        </p:nvPicPr>
        <p:blipFill>
          <a:blip r:embed="rId2"/>
          <a:srcRect l="784" t="0" r="0" b="0"/>
          <a:stretch/>
        </p:blipFill>
        <p:spPr>
          <a:xfrm>
            <a:off x="4414680" y="0"/>
            <a:ext cx="4729320" cy="3573360"/>
          </a:xfrm>
          <a:prstGeom prst="rect">
            <a:avLst/>
          </a:prstGeom>
          <a:ln w="0">
            <a:noFill/>
          </a:ln>
        </p:spPr>
      </p:pic>
      <p:sp>
        <p:nvSpPr>
          <p:cNvPr id="44" name="椭圆 6"/>
          <p:cNvSpPr/>
          <p:nvPr/>
        </p:nvSpPr>
        <p:spPr>
          <a:xfrm>
            <a:off x="2173320" y="1989000"/>
            <a:ext cx="6985080" cy="3527640"/>
          </a:xfrm>
          <a:prstGeom prst="ellipse">
            <a:avLst/>
          </a:prstGeom>
          <a:solidFill>
            <a:srgbClr val="96cedf"/>
          </a:solidFill>
          <a:ln w="25560">
            <a:solidFill>
              <a:srgbClr val="96ce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C9AC-3BC1-4F93-9378-83D053061D28}" type="datetime">
              <a:rPr b="0" lang="zh-CN" sz="1200" spc="-1" strike="noStrike">
                <a:solidFill>
                  <a:srgbClr val="40404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96EC-2593-443D-BA2F-6F83ABB9A6B2}" type="slidenum">
              <a:rPr b="0" lang="zh-CN" sz="12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c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720" y="4150800"/>
            <a:ext cx="835344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840" y="5157720"/>
            <a:ext cx="835632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4532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c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21FD-9E28-4804-9712-DCEA23342905}" type="datetime">
              <a:rPr b="0" lang="zh-CN" sz="1200" spc="-1" strike="noStrike">
                <a:solidFill>
                  <a:srgbClr val="40404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B662-8C9B-4C16-8DA4-DFA336957A34}" type="slidenum">
              <a:rPr b="0" lang="zh-CN" sz="12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082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/>
  <dc:description/>
  <dc:language>en-US</dc:language>
  <cp:lastModifiedBy>ilovePPT.ORG</cp:lastModifiedBy>
  <cp:lastPrinted>1899-12-30T00:00:00Z</cp:lastPrinted>
  <dcterms:modified xsi:type="dcterms:W3CDTF">2014-05-22T10:30:03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