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B5B-B67E-4728-8F87-A1D11DF0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7ED-02C1-445F-9C06-9DD4CCB2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D1E-2A3E-482D-ABA8-4C196A88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E3A-3818-4BC1-A0D1-45697CB1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812-E13D-4BFC-A995-97E590B8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924C-3E93-4035-B15B-31118924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6BD-145B-4174-9A75-DCE224DF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92C-0A56-4389-B0D4-EE5F82EF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C9E-793B-43B1-959F-6B303AF6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183-C7B2-43B7-B170-F8FA9092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B1B-4DAC-4056-B824-24C0BEF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FE8-CD3B-4C73-BC7C-050F9EA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F286-1547-4D52-BFA8-50E51997BF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4C9E-7393-4F85-B62E-681C9521D6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0" b="43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724360" y="8985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gneto"/>
              </a:rPr>
              <a:t>PowerPoint </a:t>
            </a:r>
            <a:r>
              <a:rPr b="1" lang="zh-CN" sz="2800" spc="-1" strike="noStrike">
                <a:solidFill>
                  <a:srgbClr val="000000"/>
                </a:solidFill>
                <a:latin typeface="方正细圆简体"/>
                <a:ea typeface="方正细圆简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7451640" y="143496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细圆简体"/>
                <a:ea typeface="方正细圆简体"/>
              </a:rPr>
              <a:t>时尚通用系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22960" y="6456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rcRect l="0" t="-640" r="75481" b="76010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3320" y="0"/>
            <a:ext cx="922320" cy="124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5"/>
          <p:cNvSpPr/>
          <p:nvPr/>
        </p:nvSpPr>
        <p:spPr>
          <a:xfrm>
            <a:off x="2355840" y="1844640"/>
            <a:ext cx="358920" cy="3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687">
                <a:moveTo>
                  <a:pt x="3600" y="0"/>
                </a:moveTo>
                <a:arcTo wR="3600" hR="3600" stAng="16200000" swAng="-5400000"/>
                <a:lnTo>
                  <a:pt x="0" y="18087"/>
                </a:lnTo>
                <a:arcTo wR="3600" hR="3600" stAng="10800000" swAng="-5400000"/>
                <a:lnTo>
                  <a:pt x="18000" y="21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9120" y="1844640"/>
            <a:ext cx="380052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390760" y="1835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118040" y="18972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3"/>
          <p:cNvSpPr/>
          <p:nvPr/>
        </p:nvSpPr>
        <p:spPr>
          <a:xfrm>
            <a:off x="2355840" y="2390760"/>
            <a:ext cx="358920" cy="358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2859120" y="2390760"/>
            <a:ext cx="3800520" cy="35892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2390760" y="23814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118040" y="24415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7"/>
          <p:cNvSpPr/>
          <p:nvPr/>
        </p:nvSpPr>
        <p:spPr>
          <a:xfrm>
            <a:off x="2340000" y="29653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2843280" y="2965320"/>
            <a:ext cx="380196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2374920" y="29574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4103640" y="3017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2340000" y="35416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2843280" y="3541680"/>
            <a:ext cx="380196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2374920" y="35337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4"/>
          <p:cNvSpPr/>
          <p:nvPr/>
        </p:nvSpPr>
        <p:spPr>
          <a:xfrm>
            <a:off x="4103640" y="359424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rcRect l="0" t="-640" r="75481" b="76010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3320" y="0"/>
            <a:ext cx="922320" cy="124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5"/>
          <p:cNvSpPr/>
          <p:nvPr/>
        </p:nvSpPr>
        <p:spPr>
          <a:xfrm>
            <a:off x="2355840" y="2533680"/>
            <a:ext cx="358920" cy="3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687">
                <a:moveTo>
                  <a:pt x="3600" y="0"/>
                </a:moveTo>
                <a:arcTo wR="3600" hR="3600" stAng="16200000" swAng="-5400000"/>
                <a:lnTo>
                  <a:pt x="0" y="18087"/>
                </a:lnTo>
                <a:arcTo wR="3600" hR="3600" stAng="10800000" swAng="-5400000"/>
                <a:lnTo>
                  <a:pt x="18000" y="21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2859120" y="2533680"/>
            <a:ext cx="380052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390760" y="252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0"/>
          <p:cNvSpPr/>
          <p:nvPr/>
        </p:nvSpPr>
        <p:spPr>
          <a:xfrm>
            <a:off x="4118040" y="2585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rcRect l="0" t="-640" r="75481" b="76010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3320" y="0"/>
            <a:ext cx="922320" cy="1247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3"/>
          <p:cNvSpPr/>
          <p:nvPr/>
        </p:nvSpPr>
        <p:spPr>
          <a:xfrm>
            <a:off x="1908000" y="1484280"/>
            <a:ext cx="5680080" cy="3273480"/>
          </a:xfrm>
          <a:prstGeom prst="roundRect">
            <a:avLst>
              <a:gd name="adj" fmla="val 347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322380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26528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30676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34788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3176640" y="3389400"/>
            <a:ext cx="5335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4214880" y="3008160"/>
            <a:ext cx="533160" cy="12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5205240" y="2627280"/>
            <a:ext cx="533520" cy="16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6272280" y="2017800"/>
            <a:ext cx="533160" cy="22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796120" y="1815840"/>
            <a:ext cx="4512240" cy="2460960"/>
            <a:chOff x="2796120" y="1815840"/>
            <a:chExt cx="4512240" cy="2460960"/>
          </a:xfrm>
        </p:grpSpPr>
        <p:cxnSp>
          <p:nvCxnSpPr>
            <p:cNvPr id="93" name="直接箭头连接符 13"/>
            <p:cNvCxnSpPr/>
            <p:nvPr/>
          </p:nvCxnSpPr>
          <p:spPr>
            <a:xfrm flipV="1">
              <a:off x="2796120" y="1815840"/>
              <a:ext cx="1800" cy="24609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94" name="直接箭头连接符 14"/>
            <p:cNvCxnSpPr/>
            <p:nvPr/>
          </p:nvCxnSpPr>
          <p:spPr>
            <a:xfrm>
              <a:off x="2797200" y="4275360"/>
              <a:ext cx="4511520" cy="1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95" name="TextBox 15"/>
          <p:cNvSpPr/>
          <p:nvPr/>
        </p:nvSpPr>
        <p:spPr>
          <a:xfrm>
            <a:off x="3222360" y="3008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4238280" y="2627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5241600" y="2259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6308280" y="1662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906560" y="765000"/>
            <a:ext cx="568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69040" y="6454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rcRect l="0" t="-640" r="75481" b="76010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3320" y="0"/>
            <a:ext cx="922320" cy="124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81800" y="1628640"/>
            <a:ext cx="2303280" cy="1460520"/>
            <a:chOff x="5581800" y="1628640"/>
            <a:chExt cx="2303280" cy="1460520"/>
          </a:xfrm>
        </p:grpSpPr>
        <p:sp>
          <p:nvSpPr>
            <p:cNvPr id="108" name="Rectangle 3"/>
            <p:cNvSpPr/>
            <p:nvPr/>
          </p:nvSpPr>
          <p:spPr>
            <a:xfrm>
              <a:off x="5581800" y="162864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80"/>
            <p:cNvSpPr/>
            <p:nvPr/>
          </p:nvSpPr>
          <p:spPr>
            <a:xfrm>
              <a:off x="5805720" y="1914120"/>
              <a:ext cx="2079360" cy="91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42000" y="1628640"/>
            <a:ext cx="798480" cy="1460520"/>
            <a:chOff x="4842000" y="1628640"/>
            <a:chExt cx="798480" cy="1460520"/>
          </a:xfrm>
        </p:grpSpPr>
        <p:sp>
          <p:nvSpPr>
            <p:cNvPr id="111" name="Rectangle 174"/>
            <p:cNvSpPr/>
            <p:nvPr/>
          </p:nvSpPr>
          <p:spPr>
            <a:xfrm>
              <a:off x="4842000" y="162864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77"/>
            <p:cNvSpPr/>
            <p:nvPr/>
          </p:nvSpPr>
          <p:spPr>
            <a:xfrm>
              <a:off x="5034600" y="219996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482840" y="1628640"/>
            <a:ext cx="2303280" cy="1460520"/>
            <a:chOff x="1482840" y="1628640"/>
            <a:chExt cx="2303280" cy="1460520"/>
          </a:xfrm>
        </p:grpSpPr>
        <p:sp>
          <p:nvSpPr>
            <p:cNvPr id="114" name="Rectangle 3"/>
            <p:cNvSpPr/>
            <p:nvPr/>
          </p:nvSpPr>
          <p:spPr>
            <a:xfrm>
              <a:off x="1482840" y="162864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80"/>
            <p:cNvSpPr/>
            <p:nvPr/>
          </p:nvSpPr>
          <p:spPr>
            <a:xfrm>
              <a:off x="1706760" y="2057040"/>
              <a:ext cx="2079360" cy="641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781440" y="1628640"/>
            <a:ext cx="798480" cy="1460520"/>
            <a:chOff x="3781440" y="1628640"/>
            <a:chExt cx="798480" cy="1460520"/>
          </a:xfrm>
        </p:grpSpPr>
        <p:sp>
          <p:nvSpPr>
            <p:cNvPr id="117" name="Rectangle 174"/>
            <p:cNvSpPr/>
            <p:nvPr/>
          </p:nvSpPr>
          <p:spPr>
            <a:xfrm>
              <a:off x="3781440" y="162864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7"/>
            <p:cNvSpPr/>
            <p:nvPr/>
          </p:nvSpPr>
          <p:spPr>
            <a:xfrm>
              <a:off x="3959640" y="219996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581800" y="3341520"/>
            <a:ext cx="2303280" cy="1460520"/>
            <a:chOff x="5581800" y="3341520"/>
            <a:chExt cx="2303280" cy="1460520"/>
          </a:xfrm>
        </p:grpSpPr>
        <p:sp>
          <p:nvSpPr>
            <p:cNvPr id="120" name="Rectangle 3"/>
            <p:cNvSpPr/>
            <p:nvPr/>
          </p:nvSpPr>
          <p:spPr>
            <a:xfrm>
              <a:off x="5581800" y="334152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80"/>
            <p:cNvSpPr/>
            <p:nvPr/>
          </p:nvSpPr>
          <p:spPr>
            <a:xfrm>
              <a:off x="5805720" y="3628440"/>
              <a:ext cx="2079360" cy="91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842000" y="3341520"/>
            <a:ext cx="798480" cy="1460520"/>
            <a:chOff x="4842000" y="3341520"/>
            <a:chExt cx="798480" cy="1460520"/>
          </a:xfrm>
        </p:grpSpPr>
        <p:sp>
          <p:nvSpPr>
            <p:cNvPr id="123" name="Rectangle 174"/>
            <p:cNvSpPr/>
            <p:nvPr/>
          </p:nvSpPr>
          <p:spPr>
            <a:xfrm>
              <a:off x="4842000" y="334152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7"/>
            <p:cNvSpPr/>
            <p:nvPr/>
          </p:nvSpPr>
          <p:spPr>
            <a:xfrm>
              <a:off x="5034600" y="391428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482840" y="3341520"/>
            <a:ext cx="2303280" cy="1460520"/>
            <a:chOff x="1482840" y="3341520"/>
            <a:chExt cx="2303280" cy="1460520"/>
          </a:xfrm>
        </p:grpSpPr>
        <p:sp>
          <p:nvSpPr>
            <p:cNvPr id="126" name="Rectangle 3"/>
            <p:cNvSpPr/>
            <p:nvPr/>
          </p:nvSpPr>
          <p:spPr>
            <a:xfrm>
              <a:off x="1482840" y="334152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0"/>
            <p:cNvSpPr/>
            <p:nvPr/>
          </p:nvSpPr>
          <p:spPr>
            <a:xfrm>
              <a:off x="1706760" y="3666240"/>
              <a:ext cx="2079360" cy="91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781440" y="3341520"/>
            <a:ext cx="798480" cy="1460520"/>
            <a:chOff x="3781440" y="3341520"/>
            <a:chExt cx="798480" cy="1460520"/>
          </a:xfrm>
        </p:grpSpPr>
        <p:sp>
          <p:nvSpPr>
            <p:cNvPr id="129" name="Rectangle 174"/>
            <p:cNvSpPr/>
            <p:nvPr/>
          </p:nvSpPr>
          <p:spPr>
            <a:xfrm>
              <a:off x="3781440" y="334152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77"/>
            <p:cNvSpPr/>
            <p:nvPr/>
          </p:nvSpPr>
          <p:spPr>
            <a:xfrm>
              <a:off x="3962880" y="391428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数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2"/>
          <a:srcRect l="0" t="-640" r="75481" b="76010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3320" y="0"/>
            <a:ext cx="922320" cy="1247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136520" y="1700280"/>
            <a:ext cx="7180200" cy="3163320"/>
            <a:chOff x="1136520" y="1700280"/>
            <a:chExt cx="7180200" cy="3163320"/>
          </a:xfrm>
        </p:grpSpPr>
        <p:grpSp>
          <p:nvGrpSpPr>
            <p:cNvPr id="138" name=""/>
            <p:cNvGrpSpPr/>
            <p:nvPr/>
          </p:nvGrpSpPr>
          <p:grpSpPr>
            <a:xfrm>
              <a:off x="1136520" y="1700280"/>
              <a:ext cx="3149640" cy="3163320"/>
              <a:chOff x="1136520" y="1700280"/>
              <a:chExt cx="3149640" cy="3163320"/>
            </a:xfrm>
          </p:grpSpPr>
          <p:sp>
            <p:nvSpPr>
              <p:cNvPr id="139" name="Freeform 17"/>
              <p:cNvSpPr/>
              <p:nvPr/>
            </p:nvSpPr>
            <p:spPr>
              <a:xfrm>
                <a:off x="1201680" y="1700280"/>
                <a:ext cx="1503360" cy="184284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8"/>
              <p:cNvSpPr/>
              <p:nvPr/>
            </p:nvSpPr>
            <p:spPr>
              <a:xfrm>
                <a:off x="2717640" y="3018960"/>
                <a:ext cx="1503360" cy="184464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48"/>
              <p:cNvSpPr/>
              <p:nvPr/>
            </p:nvSpPr>
            <p:spPr>
              <a:xfrm>
                <a:off x="1136520" y="3281040"/>
                <a:ext cx="1844640" cy="150156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49"/>
              <p:cNvSpPr/>
              <p:nvPr/>
            </p:nvSpPr>
            <p:spPr>
              <a:xfrm>
                <a:off x="2442960" y="1765080"/>
                <a:ext cx="1843200" cy="15012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831680" y="2390400"/>
              <a:ext cx="1762200" cy="1768320"/>
              <a:chOff x="1831680" y="2390400"/>
              <a:chExt cx="1762200" cy="1768320"/>
            </a:xfrm>
          </p:grpSpPr>
          <p:sp>
            <p:nvSpPr>
              <p:cNvPr id="144" name="Freeform 7"/>
              <p:cNvSpPr/>
              <p:nvPr/>
            </p:nvSpPr>
            <p:spPr>
              <a:xfrm>
                <a:off x="1831680" y="2393640"/>
                <a:ext cx="1762200" cy="8650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"/>
              <p:cNvSpPr/>
              <p:nvPr/>
            </p:nvSpPr>
            <p:spPr>
              <a:xfrm>
                <a:off x="1831680" y="3292200"/>
                <a:ext cx="1762200" cy="8636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3"/>
              <p:cNvSpPr/>
              <p:nvPr/>
            </p:nvSpPr>
            <p:spPr>
              <a:xfrm>
                <a:off x="1841040" y="2398320"/>
                <a:ext cx="1743120" cy="858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4"/>
              <p:cNvSpPr/>
              <p:nvPr/>
            </p:nvSpPr>
            <p:spPr>
              <a:xfrm>
                <a:off x="1841040" y="3290400"/>
                <a:ext cx="1743120" cy="857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51"/>
              <p:cNvSpPr/>
              <p:nvPr/>
            </p:nvSpPr>
            <p:spPr>
              <a:xfrm>
                <a:off x="1990440" y="3777840"/>
                <a:ext cx="1450800" cy="380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0"/>
              <p:cNvSpPr/>
              <p:nvPr/>
            </p:nvSpPr>
            <p:spPr>
              <a:xfrm>
                <a:off x="1906200" y="2390400"/>
                <a:ext cx="1613160" cy="527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55"/>
              <p:cNvSpPr/>
              <p:nvPr/>
            </p:nvSpPr>
            <p:spPr>
              <a:xfrm>
                <a:off x="2487240" y="2477880"/>
                <a:ext cx="360360" cy="36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349440" y="1782360"/>
              <a:ext cx="4967280" cy="2970000"/>
              <a:chOff x="3349440" y="1782360"/>
              <a:chExt cx="4967280" cy="2970000"/>
            </a:xfrm>
          </p:grpSpPr>
          <p:sp>
            <p:nvSpPr>
              <p:cNvPr id="152" name="Freeform 59"/>
              <p:cNvSpPr/>
              <p:nvPr/>
            </p:nvSpPr>
            <p:spPr>
              <a:xfrm>
                <a:off x="3349440" y="1782360"/>
                <a:ext cx="4967280" cy="1561680"/>
              </a:xfrm>
              <a:prstGeom prst="pie">
                <a:avLst/>
              </a:prstGeom>
              <a:noFill/>
              <a:ln w="19080">
                <a:solidFill>
                  <a:srgbClr val="0d508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97"/>
              <p:cNvSpPr/>
              <p:nvPr/>
            </p:nvSpPr>
            <p:spPr>
              <a:xfrm>
                <a:off x="5746680" y="1850400"/>
                <a:ext cx="2070000" cy="29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矩形 61"/>
          <p:cNvSpPr/>
          <p:nvPr/>
        </p:nvSpPr>
        <p:spPr>
          <a:xfrm>
            <a:off x="2171880" y="276696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2"/>
          <p:cNvSpPr/>
          <p:nvPr/>
        </p:nvSpPr>
        <p:spPr>
          <a:xfrm>
            <a:off x="2160720" y="335592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rcRect l="0" t="0" r="0" b="43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6300720" y="8683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gneto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7435800" y="14349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细圆简体"/>
                <a:ea typeface="方正细圆简体"/>
              </a:rPr>
              <a:t>谢谢观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9040" y="64404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2"/>
          <a:srcRect l="0" t="-640" r="75481" b="76010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3320" y="0"/>
            <a:ext cx="922320" cy="1247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165" name="矩形 1"/>
          <p:cNvSpPr/>
          <p:nvPr/>
        </p:nvSpPr>
        <p:spPr>
          <a:xfrm>
            <a:off x="1042920" y="1844640"/>
            <a:ext cx="559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37160" y="64101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5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3:21:00Z</dcterms:created>
  <dc:creator>Sky123.Org</dc:creator>
  <dc:description/>
  <dc:language>en-US</dc:language>
  <cp:lastModifiedBy>Sky123.Org</cp:lastModifiedBy>
  <cp:lastPrinted>1899-12-30T00:00:00Z</cp:lastPrinted>
  <dcterms:modified xsi:type="dcterms:W3CDTF">2014-05-25T05:55:18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