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736800"/>
            <a:ext cx="822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7368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7368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1250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1250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7368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7368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7368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7368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7368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736800"/>
            <a:ext cx="822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736800"/>
            <a:ext cx="822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7368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7368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1250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1250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7368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7368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7368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7368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7368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736800"/>
            <a:ext cx="822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7286760" y="36360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华文细黑"/>
              </a:rPr>
              <a:t>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28720" y="76500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2124000" y="19173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20" y="645336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1413000"/>
            <a:ext cx="9144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感谢您的关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794240" y="6308640"/>
            <a:ext cx="56332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80808"/>
                </a:solidFill>
                <a:uFillTx/>
                <a:latin typeface="华文新魏"/>
                <a:ea typeface="华文新魏"/>
                <a:hlinkClick r:id="rId2"/>
              </a:rPr>
              <a:t>PPT之家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整理发布，更多免费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PPT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85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6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80808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80808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80808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1T01:27:31Z</dcterms:created>
  <dc:creator/>
  <dc:description/>
  <dc:language>en-US</dc:language>
  <cp:lastModifiedBy>小田</cp:lastModifiedBy>
  <cp:lastPrinted>1899-12-30T00:00:00Z</cp:lastPrinted>
  <dcterms:modified xsi:type="dcterms:W3CDTF">2014-05-21T04:22:41Z</dcterms:modified>
  <cp:revision>5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</Properties>
</file>