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EBE-BD7F-464C-AA57-E817DC37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96F-A1D3-4508-BC38-612038C9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C92-C444-4119-9C6E-90696319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6AF-7317-402E-9C1A-91A59101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B09-9291-436B-9708-BD33E98E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736-AB76-454C-B172-EEA40EBB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CB0-E0C4-42F5-BFC9-684A4359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DFC-5ABD-4962-9B7D-3B8ECE67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746-AD41-4BD9-BF97-F9EC41CB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9FE-EBDF-40A6-9AD2-C4979E9C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40C-5CFC-4D0F-9ED4-8AD0804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951-8466-4915-99EC-B714BE12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E29-DBBF-4A71-93BF-107C97BB910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DF78-40CF-4D52-88E6-A6B1DA51C7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7" descr=""/>
          <p:cNvPicPr/>
          <p:nvPr/>
        </p:nvPicPr>
        <p:blipFill>
          <a:blip r:embed="rId3"/>
          <a:srcRect l="0" t="0" r="8261" b="0"/>
          <a:stretch/>
        </p:blipFill>
        <p:spPr>
          <a:xfrm>
            <a:off x="7147080" y="3691080"/>
            <a:ext cx="1996920" cy="3176280"/>
          </a:xfrm>
          <a:prstGeom prst="rect">
            <a:avLst/>
          </a:prstGeom>
          <a:ln w="0">
            <a:noFill/>
          </a:ln>
        </p:spPr>
      </p:pic>
      <p:sp>
        <p:nvSpPr>
          <p:cNvPr id="7" name="矩形 9"/>
          <p:cNvSpPr/>
          <p:nvPr/>
        </p:nvSpPr>
        <p:spPr>
          <a:xfrm>
            <a:off x="0" y="0"/>
            <a:ext cx="9144000" cy="117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>
            <a:grayscl/>
          </a:blip>
          <a:srcRect l="0" t="0" r="20135" b="953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"/>
          <p:cNvPicPr/>
          <p:nvPr/>
        </p:nvPicPr>
        <p:blipFill>
          <a:blip r:embed="rId2"/>
          <a:srcRect l="0" t="0" r="8261" b="0"/>
          <a:stretch/>
        </p:blipFill>
        <p:spPr>
          <a:xfrm>
            <a:off x="5148360" y="515880"/>
            <a:ext cx="3995640" cy="635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 rot="16200000">
            <a:off x="900000" y="620640"/>
            <a:ext cx="295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MingLiU"/>
                <a:ea typeface="PMingLiU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PMingLiU"/>
                <a:ea typeface="PMingLiU"/>
              </a:rPr>
              <a:t>杜少陵</a:t>
            </a:r>
            <a:r>
              <a:rPr b="1" lang="en-US" sz="4000" spc="-1" strike="noStrike">
                <a:solidFill>
                  <a:srgbClr val="000000"/>
                </a:solidFill>
                <a:latin typeface="PMingLiU"/>
                <a:ea typeface="PMingLiU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50920" y="620640"/>
            <a:ext cx="115236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Book Antiqua"/>
            </a:endParaRPr>
          </a:p>
        </p:txBody>
      </p:sp>
      <p:sp>
        <p:nvSpPr>
          <p:cNvPr id="48" name=""/>
          <p:cNvSpPr/>
          <p:nvPr/>
        </p:nvSpPr>
        <p:spPr>
          <a:xfrm>
            <a:off x="6840" y="6470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接连接符 6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7"/>
          <p:cNvSpPr/>
          <p:nvPr/>
        </p:nvSpPr>
        <p:spPr>
          <a:xfrm>
            <a:off x="687708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8"/>
          <p:cNvSpPr/>
          <p:nvPr/>
        </p:nvSpPr>
        <p:spPr>
          <a:xfrm>
            <a:off x="1181160" y="274680"/>
            <a:ext cx="0" cy="53071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349236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10"/>
          <p:cNvSpPr/>
          <p:nvPr/>
        </p:nvSpPr>
        <p:spPr>
          <a:xfrm>
            <a:off x="234000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1"/>
          <p:cNvSpPr/>
          <p:nvPr/>
        </p:nvSpPr>
        <p:spPr>
          <a:xfrm>
            <a:off x="457200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2"/>
          <p:cNvSpPr/>
          <p:nvPr/>
        </p:nvSpPr>
        <p:spPr>
          <a:xfrm>
            <a:off x="572436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3"/>
          <p:cNvSpPr/>
          <p:nvPr/>
        </p:nvSpPr>
        <p:spPr>
          <a:xfrm>
            <a:off x="8028000" y="260280"/>
            <a:ext cx="144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 rot="16200000">
            <a:off x="6876720" y="1052640"/>
            <a:ext cx="1150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"/>
              </a:rPr>
              <a:t>登高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 rot="16200000">
            <a:off x="456840" y="274680"/>
            <a:ext cx="52671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風急天高猿嘯哀，渚清沙白鳥飛回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無邊落木蕭蕭下，不盡長江滾滾來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萬里悲秋常作客，百年多病獨登臺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艱難苦恨繁霜鬢，潦倒新停濁酒杯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直接连接符 6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7"/>
          <p:cNvSpPr/>
          <p:nvPr/>
        </p:nvSpPr>
        <p:spPr>
          <a:xfrm>
            <a:off x="687708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1181160" y="274680"/>
            <a:ext cx="0" cy="53071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9"/>
          <p:cNvSpPr/>
          <p:nvPr/>
        </p:nvSpPr>
        <p:spPr>
          <a:xfrm>
            <a:off x="349236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0"/>
          <p:cNvSpPr/>
          <p:nvPr/>
        </p:nvSpPr>
        <p:spPr>
          <a:xfrm>
            <a:off x="234000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1"/>
          <p:cNvSpPr/>
          <p:nvPr/>
        </p:nvSpPr>
        <p:spPr>
          <a:xfrm>
            <a:off x="457200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2"/>
          <p:cNvSpPr/>
          <p:nvPr/>
        </p:nvSpPr>
        <p:spPr>
          <a:xfrm>
            <a:off x="572436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3"/>
          <p:cNvSpPr/>
          <p:nvPr/>
        </p:nvSpPr>
        <p:spPr>
          <a:xfrm>
            <a:off x="8028000" y="260280"/>
            <a:ext cx="144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 rot="16200000">
            <a:off x="6876720" y="274680"/>
            <a:ext cx="1150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Lucida Sans"/>
              </a:rPr>
              <a:t>杜甫其人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 rot="16200000"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杜甫（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712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770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），字子美，自號少陵野老，漢族，鞏縣（今河南鞏義）人。杜甫曾祖父（杜審言父親）起由襄陽（今屬湖北）遷居鞏縣（今河南鞏義）。盛唐時期偉大的現實主義詩人。他憂國憂民，人格高尚，他的約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500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首詩歌被保留了下來，詩藝精湛，他在中國古典詩歌中的影響非常深遠，被後世尊稱為“詩聖”，他的詩也被稱為“詩史”。杜甫與李白合稱“李杜”，為了與另兩位詩人李商隱與杜牧即“小李杜”區別，杜甫與李白又合稱“大李杜”。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38160" y="6426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"/>
          <p:cNvSpPr/>
          <p:nvPr/>
        </p:nvSpPr>
        <p:spPr>
          <a:xfrm>
            <a:off x="771840" y="6183360"/>
            <a:ext cx="4833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2:06:00Z</dcterms:created>
  <dc:creator>果因PPT工作室</dc:creator>
  <dc:description/>
  <cp:keywords>XS-普屏 4：3;SC-黑白色;BG-浅色;DH-静态;XJ-一级</cp:keywords>
  <dc:language>en-US</dc:language>
  <cp:lastModifiedBy>田士庆</cp:lastModifiedBy>
  <dcterms:modified xsi:type="dcterms:W3CDTF">2014-11-06T01:30:05Z</dcterms:modified>
  <cp:revision>4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