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C4B-5479-4858-A13C-E29EB180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B95-73CB-42A2-8BCA-0003FEF7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7DB-CC73-49B8-80DC-1B52DA4A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96C-E7C5-4F5B-A6DC-52CED6BF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A23-DF8D-4AAC-9F1A-E2C76CAD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533-42A3-47EC-ACB6-C5C9375C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AF4-EB82-4A43-AC4E-908DACF6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607-B9EE-43C0-AD86-E02A78FB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65E-6DB7-4D00-BD51-925941DD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C47-2469-4257-A098-6E4D73DE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F91-3546-4265-879D-E0E9848B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643-3430-45F1-8FED-7FABDA2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3A26-0E0C-45BF-B688-B4B196B99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4680" y="0"/>
            <a:ext cx="9655920" cy="6877080"/>
            <a:chOff x="-94680" y="0"/>
            <a:chExt cx="9655920" cy="6877080"/>
          </a:xfrm>
        </p:grpSpPr>
        <p:sp>
          <p:nvSpPr>
            <p:cNvPr id="42" name=""/>
            <p:cNvSpPr/>
            <p:nvPr/>
          </p:nvSpPr>
          <p:spPr>
            <a:xfrm>
              <a:off x="2880" y="0"/>
              <a:ext cx="9140760" cy="42926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133800" y="917640"/>
              <a:ext cx="5038200" cy="1150920"/>
            </a:xfrm>
            <a:prstGeom prst="cloudCallout">
              <a:avLst>
                <a:gd name="adj1" fmla="val -67263"/>
                <a:gd name="adj2" fmla="val 14273"/>
              </a:avLst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1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 flipH="1">
              <a:off x="2413080" y="2492280"/>
              <a:ext cx="5831640" cy="1622520"/>
            </a:xfrm>
            <a:custGeom>
              <a:avLst/>
              <a:gdLst/>
              <a:ahLst/>
              <a:rect l="l" t="t" r="r" b="b"/>
              <a:pathLst>
                <a:path w="5716" h="1702">
                  <a:moveTo>
                    <a:pt x="0" y="840"/>
                  </a:moveTo>
                  <a:cubicBezTo>
                    <a:pt x="30" y="696"/>
                    <a:pt x="194" y="833"/>
                    <a:pt x="182" y="794"/>
                  </a:cubicBezTo>
                  <a:cubicBezTo>
                    <a:pt x="258" y="794"/>
                    <a:pt x="303" y="893"/>
                    <a:pt x="454" y="840"/>
                  </a:cubicBezTo>
                  <a:cubicBezTo>
                    <a:pt x="605" y="787"/>
                    <a:pt x="885" y="537"/>
                    <a:pt x="1089" y="477"/>
                  </a:cubicBezTo>
                  <a:cubicBezTo>
                    <a:pt x="1293" y="417"/>
                    <a:pt x="1598" y="485"/>
                    <a:pt x="1802" y="521"/>
                  </a:cubicBezTo>
                  <a:cubicBezTo>
                    <a:pt x="2006" y="557"/>
                    <a:pt x="1770" y="598"/>
                    <a:pt x="1951" y="522"/>
                  </a:cubicBezTo>
                  <a:cubicBezTo>
                    <a:pt x="2112" y="439"/>
                    <a:pt x="2518" y="46"/>
                    <a:pt x="2767" y="23"/>
                  </a:cubicBezTo>
                  <a:cubicBezTo>
                    <a:pt x="3016" y="0"/>
                    <a:pt x="3251" y="303"/>
                    <a:pt x="3448" y="386"/>
                  </a:cubicBezTo>
                  <a:cubicBezTo>
                    <a:pt x="3645" y="469"/>
                    <a:pt x="3705" y="439"/>
                    <a:pt x="3947" y="522"/>
                  </a:cubicBezTo>
                  <a:cubicBezTo>
                    <a:pt x="4189" y="605"/>
                    <a:pt x="4604" y="764"/>
                    <a:pt x="4899" y="885"/>
                  </a:cubicBezTo>
                  <a:cubicBezTo>
                    <a:pt x="5194" y="1006"/>
                    <a:pt x="5580" y="1112"/>
                    <a:pt x="5716" y="1248"/>
                  </a:cubicBezTo>
                  <a:lnTo>
                    <a:pt x="5716" y="1702"/>
                  </a:lnTo>
                  <a:lnTo>
                    <a:pt x="0" y="1656"/>
                  </a:lnTo>
                  <a:lnTo>
                    <a:pt x="0" y="840"/>
                  </a:lnTo>
                  <a:close/>
                </a:path>
              </a:pathLst>
            </a:custGeom>
            <a:gradFill rotWithShape="0">
              <a:gsLst>
                <a:gs pos="0">
                  <a:srgbClr val="c0d5ea">
                    <a:alpha val="89019"/>
                  </a:srgbClr>
                </a:gs>
                <a:gs pos="100000">
                  <a:srgbClr val="dce8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880" y="2637000"/>
              <a:ext cx="5795640" cy="1622160"/>
            </a:xfrm>
            <a:custGeom>
              <a:avLst/>
              <a:gdLst/>
              <a:ahLst/>
              <a:rect l="l" t="t" r="r" b="b"/>
              <a:pathLst>
                <a:path w="3652" h="1022">
                  <a:moveTo>
                    <a:pt x="0" y="487"/>
                  </a:moveTo>
                  <a:cubicBezTo>
                    <a:pt x="19" y="401"/>
                    <a:pt x="49" y="474"/>
                    <a:pt x="94" y="477"/>
                  </a:cubicBezTo>
                  <a:cubicBezTo>
                    <a:pt x="143" y="477"/>
                    <a:pt x="172" y="536"/>
                    <a:pt x="269" y="504"/>
                  </a:cubicBezTo>
                  <a:cubicBezTo>
                    <a:pt x="366" y="473"/>
                    <a:pt x="546" y="322"/>
                    <a:pt x="677" y="286"/>
                  </a:cubicBezTo>
                  <a:cubicBezTo>
                    <a:pt x="808" y="250"/>
                    <a:pt x="1004" y="291"/>
                    <a:pt x="1136" y="313"/>
                  </a:cubicBezTo>
                  <a:cubicBezTo>
                    <a:pt x="1267" y="334"/>
                    <a:pt x="1115" y="359"/>
                    <a:pt x="1231" y="313"/>
                  </a:cubicBezTo>
                  <a:cubicBezTo>
                    <a:pt x="1335" y="264"/>
                    <a:pt x="1596" y="28"/>
                    <a:pt x="1756" y="14"/>
                  </a:cubicBezTo>
                  <a:cubicBezTo>
                    <a:pt x="1916" y="0"/>
                    <a:pt x="2067" y="182"/>
                    <a:pt x="2194" y="232"/>
                  </a:cubicBezTo>
                  <a:cubicBezTo>
                    <a:pt x="2320" y="282"/>
                    <a:pt x="2359" y="264"/>
                    <a:pt x="2515" y="313"/>
                  </a:cubicBezTo>
                  <a:cubicBezTo>
                    <a:pt x="2670" y="363"/>
                    <a:pt x="2937" y="459"/>
                    <a:pt x="3127" y="531"/>
                  </a:cubicBezTo>
                  <a:cubicBezTo>
                    <a:pt x="3316" y="604"/>
                    <a:pt x="3565" y="668"/>
                    <a:pt x="3652" y="749"/>
                  </a:cubicBezTo>
                  <a:lnTo>
                    <a:pt x="3652" y="1022"/>
                  </a:lnTo>
                  <a:lnTo>
                    <a:pt x="24" y="979"/>
                  </a:lnTo>
                  <a:lnTo>
                    <a:pt x="0" y="487"/>
                  </a:lnTo>
                  <a:close/>
                </a:path>
              </a:pathLst>
            </a:custGeom>
            <a:gradFill rotWithShape="0">
              <a:gsLst>
                <a:gs pos="0">
                  <a:srgbClr val="c0d5ea">
                    <a:alpha val="89019"/>
                  </a:srgbClr>
                </a:gs>
                <a:gs pos="100000">
                  <a:srgbClr val="a3c2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4622760" y="2489040"/>
              <a:ext cx="4539960" cy="1854360"/>
            </a:xfrm>
            <a:custGeom>
              <a:avLst/>
              <a:gdLst/>
              <a:ahLst/>
              <a:rect l="l" t="t" r="r" b="b"/>
              <a:pathLst>
                <a:path w="2861" h="1168">
                  <a:moveTo>
                    <a:pt x="2861" y="604"/>
                  </a:moveTo>
                  <a:cubicBezTo>
                    <a:pt x="2848" y="506"/>
                    <a:pt x="2854" y="574"/>
                    <a:pt x="2825" y="574"/>
                  </a:cubicBezTo>
                  <a:cubicBezTo>
                    <a:pt x="2786" y="573"/>
                    <a:pt x="2761" y="640"/>
                    <a:pt x="2685" y="602"/>
                  </a:cubicBezTo>
                  <a:cubicBezTo>
                    <a:pt x="2610" y="564"/>
                    <a:pt x="2472" y="391"/>
                    <a:pt x="2369" y="347"/>
                  </a:cubicBezTo>
                  <a:cubicBezTo>
                    <a:pt x="2266" y="304"/>
                    <a:pt x="2110" y="347"/>
                    <a:pt x="2007" y="369"/>
                  </a:cubicBezTo>
                  <a:cubicBezTo>
                    <a:pt x="1902" y="391"/>
                    <a:pt x="2022" y="422"/>
                    <a:pt x="1931" y="368"/>
                  </a:cubicBezTo>
                  <a:cubicBezTo>
                    <a:pt x="1850" y="309"/>
                    <a:pt x="1651" y="37"/>
                    <a:pt x="1525" y="19"/>
                  </a:cubicBezTo>
                  <a:cubicBezTo>
                    <a:pt x="1399" y="0"/>
                    <a:pt x="1275" y="203"/>
                    <a:pt x="1173" y="256"/>
                  </a:cubicBezTo>
                  <a:cubicBezTo>
                    <a:pt x="1072" y="311"/>
                    <a:pt x="1041" y="289"/>
                    <a:pt x="917" y="343"/>
                  </a:cubicBezTo>
                  <a:cubicBezTo>
                    <a:pt x="794" y="396"/>
                    <a:pt x="580" y="499"/>
                    <a:pt x="428" y="578"/>
                  </a:cubicBezTo>
                  <a:cubicBezTo>
                    <a:pt x="276" y="657"/>
                    <a:pt x="79" y="724"/>
                    <a:pt x="7" y="814"/>
                  </a:cubicBezTo>
                  <a:lnTo>
                    <a:pt x="0" y="1123"/>
                  </a:lnTo>
                  <a:lnTo>
                    <a:pt x="2861" y="1168"/>
                  </a:lnTo>
                  <a:lnTo>
                    <a:pt x="2861" y="604"/>
                  </a:lnTo>
                  <a:close/>
                </a:path>
              </a:pathLst>
            </a:custGeom>
            <a:gradFill rotWithShape="0">
              <a:gsLst>
                <a:gs pos="0">
                  <a:srgbClr val="a3c2e1"/>
                </a:gs>
                <a:gs pos="100000">
                  <a:srgbClr val="6c9d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8160" y="3516480"/>
              <a:ext cx="2304000" cy="746280"/>
              <a:chOff x="398160" y="3516480"/>
              <a:chExt cx="2304000" cy="746280"/>
            </a:xfrm>
          </p:grpSpPr>
          <p:sp>
            <p:nvSpPr>
              <p:cNvPr id="48" name="未知"/>
              <p:cNvSpPr/>
              <p:nvPr/>
            </p:nvSpPr>
            <p:spPr>
              <a:xfrm>
                <a:off x="398160" y="3516480"/>
                <a:ext cx="2304000" cy="7365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 rot="21248400">
                <a:off x="1317240" y="390312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3710160" y="3573360"/>
              <a:ext cx="2304000" cy="746280"/>
              <a:chOff x="3710160" y="3573360"/>
              <a:chExt cx="2304000" cy="746280"/>
            </a:xfrm>
          </p:grpSpPr>
          <p:sp>
            <p:nvSpPr>
              <p:cNvPr id="51" name="未知"/>
              <p:cNvSpPr/>
              <p:nvPr/>
            </p:nvSpPr>
            <p:spPr>
              <a:xfrm>
                <a:off x="3710160" y="3573360"/>
                <a:ext cx="2304000" cy="7365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rot="21248400">
                <a:off x="4629240" y="396000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718160" y="2997360"/>
              <a:ext cx="2303640" cy="746280"/>
              <a:chOff x="4718160" y="2997360"/>
              <a:chExt cx="2303640" cy="746280"/>
            </a:xfrm>
          </p:grpSpPr>
          <p:sp>
            <p:nvSpPr>
              <p:cNvPr id="54" name="未知"/>
              <p:cNvSpPr/>
              <p:nvPr/>
            </p:nvSpPr>
            <p:spPr>
              <a:xfrm>
                <a:off x="4718160" y="2997360"/>
                <a:ext cx="2303640" cy="7365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 rot="21248400">
                <a:off x="5637240" y="338400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686960" y="3532320"/>
              <a:ext cx="2304000" cy="746280"/>
              <a:chOff x="1686960" y="3532320"/>
              <a:chExt cx="2304000" cy="746280"/>
            </a:xfrm>
          </p:grpSpPr>
          <p:sp>
            <p:nvSpPr>
              <p:cNvPr id="57" name="未知"/>
              <p:cNvSpPr/>
              <p:nvPr/>
            </p:nvSpPr>
            <p:spPr>
              <a:xfrm flipH="1">
                <a:off x="1686960" y="3532320"/>
                <a:ext cx="2304000" cy="7365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H="1" rot="351600">
                <a:off x="2643480" y="391932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387400" y="2912400"/>
              <a:ext cx="2402280" cy="1555560"/>
              <a:chOff x="5387400" y="2912400"/>
              <a:chExt cx="2402280" cy="1555560"/>
            </a:xfrm>
          </p:grpSpPr>
          <p:sp>
            <p:nvSpPr>
              <p:cNvPr id="60" name="未知"/>
              <p:cNvSpPr/>
              <p:nvPr/>
            </p:nvSpPr>
            <p:spPr>
              <a:xfrm flipH="1" rot="259800">
                <a:off x="5436000" y="2997000"/>
                <a:ext cx="2304000" cy="138564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flipH="1" rot="611400">
                <a:off x="6366960" y="3726000"/>
                <a:ext cx="427320" cy="63648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266160" y="3272400"/>
              <a:ext cx="2374920" cy="1196280"/>
              <a:chOff x="6266160" y="3272400"/>
              <a:chExt cx="2374920" cy="1196280"/>
            </a:xfrm>
          </p:grpSpPr>
          <p:sp>
            <p:nvSpPr>
              <p:cNvPr id="63" name="未知"/>
              <p:cNvSpPr/>
              <p:nvPr/>
            </p:nvSpPr>
            <p:spPr>
              <a:xfrm flipH="1" rot="259800">
                <a:off x="6301080" y="3357720"/>
                <a:ext cx="2304000" cy="102528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flipH="1" rot="611400">
                <a:off x="7239240" y="3897000"/>
                <a:ext cx="427320" cy="47088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045440" y="3213000"/>
              <a:ext cx="2304000" cy="974880"/>
              <a:chOff x="1045440" y="3213000"/>
              <a:chExt cx="2304000" cy="974880"/>
            </a:xfrm>
          </p:grpSpPr>
          <p:sp>
            <p:nvSpPr>
              <p:cNvPr id="66" name="未知"/>
              <p:cNvSpPr/>
              <p:nvPr/>
            </p:nvSpPr>
            <p:spPr>
              <a:xfrm>
                <a:off x="1045440" y="3213000"/>
                <a:ext cx="2304000" cy="96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 rot="21248400">
                <a:off x="1964520" y="3722040"/>
                <a:ext cx="427320" cy="44496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未知"/>
            <p:cNvSpPr/>
            <p:nvPr/>
          </p:nvSpPr>
          <p:spPr>
            <a:xfrm>
              <a:off x="1478880" y="3141720"/>
              <a:ext cx="1842480" cy="1079280"/>
            </a:xfrm>
            <a:custGeom>
              <a:avLst/>
              <a:gdLst/>
              <a:ahLst/>
              <a:rect l="l" t="t" r="r" b="b"/>
              <a:pathLst>
                <a:path w="2614" h="2359">
                  <a:moveTo>
                    <a:pt x="225" y="2343"/>
                  </a:moveTo>
                  <a:cubicBezTo>
                    <a:pt x="0" y="2294"/>
                    <a:pt x="416" y="2193"/>
                    <a:pt x="489" y="2067"/>
                  </a:cubicBezTo>
                  <a:cubicBezTo>
                    <a:pt x="562" y="1941"/>
                    <a:pt x="640" y="1690"/>
                    <a:pt x="661" y="1588"/>
                  </a:cubicBezTo>
                  <a:cubicBezTo>
                    <a:pt x="682" y="1486"/>
                    <a:pt x="661" y="1460"/>
                    <a:pt x="616" y="1452"/>
                  </a:cubicBezTo>
                  <a:cubicBezTo>
                    <a:pt x="571" y="1444"/>
                    <a:pt x="457" y="1542"/>
                    <a:pt x="389" y="1542"/>
                  </a:cubicBezTo>
                  <a:cubicBezTo>
                    <a:pt x="321" y="1542"/>
                    <a:pt x="178" y="1505"/>
                    <a:pt x="208" y="1452"/>
                  </a:cubicBezTo>
                  <a:cubicBezTo>
                    <a:pt x="238" y="1399"/>
                    <a:pt x="548" y="1353"/>
                    <a:pt x="571" y="1225"/>
                  </a:cubicBezTo>
                  <a:cubicBezTo>
                    <a:pt x="594" y="1097"/>
                    <a:pt x="322" y="747"/>
                    <a:pt x="344" y="681"/>
                  </a:cubicBezTo>
                  <a:cubicBezTo>
                    <a:pt x="344" y="681"/>
                    <a:pt x="621" y="855"/>
                    <a:pt x="705" y="831"/>
                  </a:cubicBezTo>
                  <a:cubicBezTo>
                    <a:pt x="789" y="807"/>
                    <a:pt x="1008" y="607"/>
                    <a:pt x="1137" y="471"/>
                  </a:cubicBezTo>
                  <a:lnTo>
                    <a:pt x="1478" y="0"/>
                  </a:lnTo>
                  <a:cubicBezTo>
                    <a:pt x="1478" y="0"/>
                    <a:pt x="994" y="892"/>
                    <a:pt x="1251" y="771"/>
                  </a:cubicBezTo>
                  <a:cubicBezTo>
                    <a:pt x="1508" y="650"/>
                    <a:pt x="1519" y="683"/>
                    <a:pt x="1773" y="555"/>
                  </a:cubicBezTo>
                  <a:cubicBezTo>
                    <a:pt x="1924" y="457"/>
                    <a:pt x="2151" y="137"/>
                    <a:pt x="2158" y="182"/>
                  </a:cubicBezTo>
                  <a:cubicBezTo>
                    <a:pt x="2207" y="203"/>
                    <a:pt x="2107" y="553"/>
                    <a:pt x="2067" y="681"/>
                  </a:cubicBezTo>
                  <a:cubicBezTo>
                    <a:pt x="2027" y="809"/>
                    <a:pt x="1826" y="951"/>
                    <a:pt x="1917" y="951"/>
                  </a:cubicBezTo>
                  <a:cubicBezTo>
                    <a:pt x="2008" y="951"/>
                    <a:pt x="2610" y="651"/>
                    <a:pt x="2612" y="681"/>
                  </a:cubicBezTo>
                  <a:cubicBezTo>
                    <a:pt x="2614" y="711"/>
                    <a:pt x="1987" y="1078"/>
                    <a:pt x="1929" y="1131"/>
                  </a:cubicBezTo>
                  <a:cubicBezTo>
                    <a:pt x="1871" y="1184"/>
                    <a:pt x="2234" y="983"/>
                    <a:pt x="2265" y="999"/>
                  </a:cubicBezTo>
                  <a:cubicBezTo>
                    <a:pt x="2296" y="1015"/>
                    <a:pt x="2101" y="1195"/>
                    <a:pt x="2113" y="1225"/>
                  </a:cubicBezTo>
                  <a:cubicBezTo>
                    <a:pt x="2125" y="1255"/>
                    <a:pt x="2385" y="990"/>
                    <a:pt x="2340" y="1179"/>
                  </a:cubicBezTo>
                  <a:lnTo>
                    <a:pt x="1841" y="2359"/>
                  </a:lnTo>
                  <a:lnTo>
                    <a:pt x="225" y="2343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5509800" y="2637000"/>
              <a:ext cx="1337400" cy="1655640"/>
            </a:xfrm>
            <a:custGeom>
              <a:avLst/>
              <a:gdLst/>
              <a:ahLst/>
              <a:rect l="l" t="t" r="r" b="b"/>
              <a:pathLst>
                <a:path w="2614" h="2359">
                  <a:moveTo>
                    <a:pt x="225" y="2343"/>
                  </a:moveTo>
                  <a:cubicBezTo>
                    <a:pt x="0" y="2294"/>
                    <a:pt x="416" y="2193"/>
                    <a:pt x="489" y="2067"/>
                  </a:cubicBezTo>
                  <a:cubicBezTo>
                    <a:pt x="562" y="1941"/>
                    <a:pt x="640" y="1690"/>
                    <a:pt x="661" y="1588"/>
                  </a:cubicBezTo>
                  <a:cubicBezTo>
                    <a:pt x="682" y="1486"/>
                    <a:pt x="661" y="1460"/>
                    <a:pt x="616" y="1452"/>
                  </a:cubicBezTo>
                  <a:cubicBezTo>
                    <a:pt x="571" y="1444"/>
                    <a:pt x="457" y="1542"/>
                    <a:pt x="389" y="1542"/>
                  </a:cubicBezTo>
                  <a:cubicBezTo>
                    <a:pt x="321" y="1542"/>
                    <a:pt x="178" y="1505"/>
                    <a:pt x="208" y="1452"/>
                  </a:cubicBezTo>
                  <a:cubicBezTo>
                    <a:pt x="238" y="1399"/>
                    <a:pt x="548" y="1353"/>
                    <a:pt x="571" y="1225"/>
                  </a:cubicBezTo>
                  <a:cubicBezTo>
                    <a:pt x="594" y="1097"/>
                    <a:pt x="322" y="747"/>
                    <a:pt x="344" y="681"/>
                  </a:cubicBezTo>
                  <a:cubicBezTo>
                    <a:pt x="344" y="681"/>
                    <a:pt x="621" y="855"/>
                    <a:pt x="705" y="831"/>
                  </a:cubicBezTo>
                  <a:cubicBezTo>
                    <a:pt x="789" y="807"/>
                    <a:pt x="1008" y="607"/>
                    <a:pt x="1137" y="471"/>
                  </a:cubicBezTo>
                  <a:lnTo>
                    <a:pt x="1478" y="0"/>
                  </a:lnTo>
                  <a:cubicBezTo>
                    <a:pt x="1478" y="0"/>
                    <a:pt x="994" y="892"/>
                    <a:pt x="1251" y="771"/>
                  </a:cubicBezTo>
                  <a:cubicBezTo>
                    <a:pt x="1508" y="650"/>
                    <a:pt x="1519" y="683"/>
                    <a:pt x="1773" y="555"/>
                  </a:cubicBezTo>
                  <a:cubicBezTo>
                    <a:pt x="1924" y="457"/>
                    <a:pt x="2151" y="137"/>
                    <a:pt x="2158" y="182"/>
                  </a:cubicBezTo>
                  <a:cubicBezTo>
                    <a:pt x="2207" y="203"/>
                    <a:pt x="2107" y="553"/>
                    <a:pt x="2067" y="681"/>
                  </a:cubicBezTo>
                  <a:cubicBezTo>
                    <a:pt x="2027" y="809"/>
                    <a:pt x="1826" y="951"/>
                    <a:pt x="1917" y="951"/>
                  </a:cubicBezTo>
                  <a:cubicBezTo>
                    <a:pt x="2008" y="951"/>
                    <a:pt x="2610" y="651"/>
                    <a:pt x="2612" y="681"/>
                  </a:cubicBezTo>
                  <a:cubicBezTo>
                    <a:pt x="2614" y="711"/>
                    <a:pt x="1987" y="1078"/>
                    <a:pt x="1929" y="1131"/>
                  </a:cubicBezTo>
                  <a:cubicBezTo>
                    <a:pt x="1871" y="1184"/>
                    <a:pt x="2234" y="983"/>
                    <a:pt x="2265" y="999"/>
                  </a:cubicBezTo>
                  <a:cubicBezTo>
                    <a:pt x="2296" y="1015"/>
                    <a:pt x="2101" y="1195"/>
                    <a:pt x="2113" y="1225"/>
                  </a:cubicBezTo>
                  <a:cubicBezTo>
                    <a:pt x="2125" y="1255"/>
                    <a:pt x="2385" y="990"/>
                    <a:pt x="2340" y="1179"/>
                  </a:cubicBezTo>
                  <a:lnTo>
                    <a:pt x="1841" y="2359"/>
                  </a:lnTo>
                  <a:lnTo>
                    <a:pt x="225" y="2343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 flipH="1">
              <a:off x="4285440" y="2924280"/>
              <a:ext cx="1337400" cy="1655640"/>
            </a:xfrm>
            <a:custGeom>
              <a:avLst/>
              <a:gdLst/>
              <a:ahLst/>
              <a:rect l="l" t="t" r="r" b="b"/>
              <a:pathLst>
                <a:path w="2614" h="2359">
                  <a:moveTo>
                    <a:pt x="225" y="2343"/>
                  </a:moveTo>
                  <a:cubicBezTo>
                    <a:pt x="0" y="2294"/>
                    <a:pt x="416" y="2193"/>
                    <a:pt x="489" y="2067"/>
                  </a:cubicBezTo>
                  <a:cubicBezTo>
                    <a:pt x="562" y="1941"/>
                    <a:pt x="640" y="1690"/>
                    <a:pt x="661" y="1588"/>
                  </a:cubicBezTo>
                  <a:cubicBezTo>
                    <a:pt x="682" y="1486"/>
                    <a:pt x="661" y="1460"/>
                    <a:pt x="616" y="1452"/>
                  </a:cubicBezTo>
                  <a:cubicBezTo>
                    <a:pt x="571" y="1444"/>
                    <a:pt x="457" y="1542"/>
                    <a:pt x="389" y="1542"/>
                  </a:cubicBezTo>
                  <a:cubicBezTo>
                    <a:pt x="321" y="1542"/>
                    <a:pt x="178" y="1505"/>
                    <a:pt x="208" y="1452"/>
                  </a:cubicBezTo>
                  <a:cubicBezTo>
                    <a:pt x="238" y="1399"/>
                    <a:pt x="548" y="1353"/>
                    <a:pt x="571" y="1225"/>
                  </a:cubicBezTo>
                  <a:cubicBezTo>
                    <a:pt x="594" y="1097"/>
                    <a:pt x="322" y="747"/>
                    <a:pt x="344" y="681"/>
                  </a:cubicBezTo>
                  <a:cubicBezTo>
                    <a:pt x="344" y="681"/>
                    <a:pt x="621" y="855"/>
                    <a:pt x="705" y="831"/>
                  </a:cubicBezTo>
                  <a:cubicBezTo>
                    <a:pt x="789" y="807"/>
                    <a:pt x="1008" y="607"/>
                    <a:pt x="1137" y="471"/>
                  </a:cubicBezTo>
                  <a:lnTo>
                    <a:pt x="1478" y="0"/>
                  </a:lnTo>
                  <a:cubicBezTo>
                    <a:pt x="1478" y="0"/>
                    <a:pt x="994" y="892"/>
                    <a:pt x="1251" y="771"/>
                  </a:cubicBezTo>
                  <a:cubicBezTo>
                    <a:pt x="1508" y="650"/>
                    <a:pt x="1519" y="683"/>
                    <a:pt x="1773" y="555"/>
                  </a:cubicBezTo>
                  <a:cubicBezTo>
                    <a:pt x="1924" y="457"/>
                    <a:pt x="2151" y="137"/>
                    <a:pt x="2158" y="182"/>
                  </a:cubicBezTo>
                  <a:cubicBezTo>
                    <a:pt x="2207" y="203"/>
                    <a:pt x="2107" y="553"/>
                    <a:pt x="2067" y="681"/>
                  </a:cubicBezTo>
                  <a:cubicBezTo>
                    <a:pt x="2027" y="809"/>
                    <a:pt x="1826" y="951"/>
                    <a:pt x="1917" y="951"/>
                  </a:cubicBezTo>
                  <a:cubicBezTo>
                    <a:pt x="2008" y="951"/>
                    <a:pt x="2610" y="651"/>
                    <a:pt x="2612" y="681"/>
                  </a:cubicBezTo>
                  <a:cubicBezTo>
                    <a:pt x="2614" y="711"/>
                    <a:pt x="1987" y="1078"/>
                    <a:pt x="1929" y="1131"/>
                  </a:cubicBezTo>
                  <a:cubicBezTo>
                    <a:pt x="1871" y="1184"/>
                    <a:pt x="2234" y="983"/>
                    <a:pt x="2265" y="999"/>
                  </a:cubicBezTo>
                  <a:cubicBezTo>
                    <a:pt x="2296" y="1015"/>
                    <a:pt x="2101" y="1195"/>
                    <a:pt x="2113" y="1225"/>
                  </a:cubicBezTo>
                  <a:cubicBezTo>
                    <a:pt x="2125" y="1255"/>
                    <a:pt x="2385" y="990"/>
                    <a:pt x="2340" y="1179"/>
                  </a:cubicBezTo>
                  <a:lnTo>
                    <a:pt x="1841" y="2359"/>
                  </a:lnTo>
                  <a:lnTo>
                    <a:pt x="225" y="2343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789440" y="3500280"/>
              <a:ext cx="2304000" cy="746640"/>
              <a:chOff x="4789440" y="3500280"/>
              <a:chExt cx="2304000" cy="746640"/>
            </a:xfrm>
          </p:grpSpPr>
          <p:sp>
            <p:nvSpPr>
              <p:cNvPr id="72" name="未知"/>
              <p:cNvSpPr/>
              <p:nvPr/>
            </p:nvSpPr>
            <p:spPr>
              <a:xfrm>
                <a:off x="4789440" y="3500280"/>
                <a:ext cx="2304000" cy="73692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 rot="21248400">
                <a:off x="5708520" y="3887280"/>
                <a:ext cx="42732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未知"/>
            <p:cNvSpPr/>
            <p:nvPr/>
          </p:nvSpPr>
          <p:spPr>
            <a:xfrm>
              <a:off x="7812360" y="3645000"/>
              <a:ext cx="1152000" cy="718920"/>
            </a:xfrm>
            <a:custGeom>
              <a:avLst/>
              <a:gdLst/>
              <a:ahLst/>
              <a:rect l="l" t="t" r="r" b="b"/>
              <a:pathLst>
                <a:path w="2614" h="2359">
                  <a:moveTo>
                    <a:pt x="225" y="2343"/>
                  </a:moveTo>
                  <a:cubicBezTo>
                    <a:pt x="0" y="2294"/>
                    <a:pt x="416" y="2193"/>
                    <a:pt x="489" y="2067"/>
                  </a:cubicBezTo>
                  <a:cubicBezTo>
                    <a:pt x="562" y="1941"/>
                    <a:pt x="640" y="1690"/>
                    <a:pt x="661" y="1588"/>
                  </a:cubicBezTo>
                  <a:cubicBezTo>
                    <a:pt x="682" y="1486"/>
                    <a:pt x="661" y="1460"/>
                    <a:pt x="616" y="1452"/>
                  </a:cubicBezTo>
                  <a:cubicBezTo>
                    <a:pt x="571" y="1444"/>
                    <a:pt x="457" y="1542"/>
                    <a:pt x="389" y="1542"/>
                  </a:cubicBezTo>
                  <a:cubicBezTo>
                    <a:pt x="321" y="1542"/>
                    <a:pt x="178" y="1505"/>
                    <a:pt x="208" y="1452"/>
                  </a:cubicBezTo>
                  <a:cubicBezTo>
                    <a:pt x="238" y="1399"/>
                    <a:pt x="548" y="1353"/>
                    <a:pt x="571" y="1225"/>
                  </a:cubicBezTo>
                  <a:cubicBezTo>
                    <a:pt x="594" y="1097"/>
                    <a:pt x="322" y="747"/>
                    <a:pt x="344" y="681"/>
                  </a:cubicBezTo>
                  <a:cubicBezTo>
                    <a:pt x="344" y="681"/>
                    <a:pt x="621" y="855"/>
                    <a:pt x="705" y="831"/>
                  </a:cubicBezTo>
                  <a:cubicBezTo>
                    <a:pt x="789" y="807"/>
                    <a:pt x="1008" y="607"/>
                    <a:pt x="1137" y="471"/>
                  </a:cubicBezTo>
                  <a:lnTo>
                    <a:pt x="1478" y="0"/>
                  </a:lnTo>
                  <a:cubicBezTo>
                    <a:pt x="1478" y="0"/>
                    <a:pt x="994" y="892"/>
                    <a:pt x="1251" y="771"/>
                  </a:cubicBezTo>
                  <a:cubicBezTo>
                    <a:pt x="1508" y="650"/>
                    <a:pt x="1519" y="683"/>
                    <a:pt x="1773" y="555"/>
                  </a:cubicBezTo>
                  <a:cubicBezTo>
                    <a:pt x="1924" y="457"/>
                    <a:pt x="2151" y="137"/>
                    <a:pt x="2158" y="182"/>
                  </a:cubicBezTo>
                  <a:cubicBezTo>
                    <a:pt x="2207" y="203"/>
                    <a:pt x="2107" y="553"/>
                    <a:pt x="2067" y="681"/>
                  </a:cubicBezTo>
                  <a:cubicBezTo>
                    <a:pt x="2027" y="809"/>
                    <a:pt x="1826" y="951"/>
                    <a:pt x="1917" y="951"/>
                  </a:cubicBezTo>
                  <a:cubicBezTo>
                    <a:pt x="2008" y="951"/>
                    <a:pt x="2610" y="651"/>
                    <a:pt x="2612" y="681"/>
                  </a:cubicBezTo>
                  <a:cubicBezTo>
                    <a:pt x="2614" y="711"/>
                    <a:pt x="1987" y="1078"/>
                    <a:pt x="1929" y="1131"/>
                  </a:cubicBezTo>
                  <a:cubicBezTo>
                    <a:pt x="1871" y="1184"/>
                    <a:pt x="2234" y="983"/>
                    <a:pt x="2265" y="999"/>
                  </a:cubicBezTo>
                  <a:cubicBezTo>
                    <a:pt x="2296" y="1015"/>
                    <a:pt x="2101" y="1195"/>
                    <a:pt x="2113" y="1225"/>
                  </a:cubicBezTo>
                  <a:cubicBezTo>
                    <a:pt x="2125" y="1255"/>
                    <a:pt x="2385" y="990"/>
                    <a:pt x="2340" y="1179"/>
                  </a:cubicBezTo>
                  <a:lnTo>
                    <a:pt x="1841" y="2359"/>
                  </a:lnTo>
                  <a:lnTo>
                    <a:pt x="225" y="2343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8172720" y="3645000"/>
              <a:ext cx="992160" cy="718920"/>
            </a:xfrm>
            <a:custGeom>
              <a:avLst/>
              <a:gdLst/>
              <a:ahLst/>
              <a:rect l="l" t="t" r="r" b="b"/>
              <a:pathLst>
                <a:path w="625" h="453">
                  <a:moveTo>
                    <a:pt x="62" y="450"/>
                  </a:moveTo>
                  <a:cubicBezTo>
                    <a:pt x="0" y="441"/>
                    <a:pt x="116" y="421"/>
                    <a:pt x="136" y="397"/>
                  </a:cubicBezTo>
                  <a:cubicBezTo>
                    <a:pt x="156" y="373"/>
                    <a:pt x="178" y="325"/>
                    <a:pt x="184" y="305"/>
                  </a:cubicBezTo>
                  <a:cubicBezTo>
                    <a:pt x="189" y="285"/>
                    <a:pt x="184" y="280"/>
                    <a:pt x="171" y="279"/>
                  </a:cubicBezTo>
                  <a:cubicBezTo>
                    <a:pt x="159" y="277"/>
                    <a:pt x="127" y="296"/>
                    <a:pt x="108" y="296"/>
                  </a:cubicBezTo>
                  <a:cubicBezTo>
                    <a:pt x="89" y="296"/>
                    <a:pt x="49" y="289"/>
                    <a:pt x="58" y="279"/>
                  </a:cubicBezTo>
                  <a:cubicBezTo>
                    <a:pt x="66" y="269"/>
                    <a:pt x="152" y="260"/>
                    <a:pt x="159" y="235"/>
                  </a:cubicBezTo>
                  <a:cubicBezTo>
                    <a:pt x="165" y="211"/>
                    <a:pt x="89" y="143"/>
                    <a:pt x="96" y="131"/>
                  </a:cubicBezTo>
                  <a:cubicBezTo>
                    <a:pt x="96" y="131"/>
                    <a:pt x="172" y="164"/>
                    <a:pt x="196" y="160"/>
                  </a:cubicBezTo>
                  <a:cubicBezTo>
                    <a:pt x="219" y="155"/>
                    <a:pt x="280" y="117"/>
                    <a:pt x="316" y="90"/>
                  </a:cubicBezTo>
                  <a:lnTo>
                    <a:pt x="410" y="0"/>
                  </a:lnTo>
                  <a:cubicBezTo>
                    <a:pt x="410" y="0"/>
                    <a:pt x="276" y="171"/>
                    <a:pt x="347" y="148"/>
                  </a:cubicBezTo>
                  <a:cubicBezTo>
                    <a:pt x="419" y="125"/>
                    <a:pt x="422" y="131"/>
                    <a:pt x="492" y="107"/>
                  </a:cubicBezTo>
                  <a:cubicBezTo>
                    <a:pt x="534" y="88"/>
                    <a:pt x="526" y="40"/>
                    <a:pt x="540" y="44"/>
                  </a:cubicBezTo>
                  <a:cubicBezTo>
                    <a:pt x="554" y="48"/>
                    <a:pt x="575" y="108"/>
                    <a:pt x="574" y="131"/>
                  </a:cubicBezTo>
                  <a:cubicBezTo>
                    <a:pt x="563" y="155"/>
                    <a:pt x="507" y="183"/>
                    <a:pt x="532" y="183"/>
                  </a:cubicBezTo>
                  <a:cubicBezTo>
                    <a:pt x="558" y="183"/>
                    <a:pt x="575" y="98"/>
                    <a:pt x="576" y="104"/>
                  </a:cubicBezTo>
                  <a:cubicBezTo>
                    <a:pt x="577" y="110"/>
                    <a:pt x="540" y="197"/>
                    <a:pt x="536" y="217"/>
                  </a:cubicBezTo>
                  <a:cubicBezTo>
                    <a:pt x="520" y="227"/>
                    <a:pt x="544" y="221"/>
                    <a:pt x="552" y="224"/>
                  </a:cubicBezTo>
                  <a:cubicBezTo>
                    <a:pt x="561" y="223"/>
                    <a:pt x="578" y="214"/>
                    <a:pt x="588" y="212"/>
                  </a:cubicBezTo>
                  <a:cubicBezTo>
                    <a:pt x="591" y="218"/>
                    <a:pt x="625" y="172"/>
                    <a:pt x="612" y="212"/>
                  </a:cubicBezTo>
                  <a:lnTo>
                    <a:pt x="511" y="453"/>
                  </a:lnTo>
                  <a:lnTo>
                    <a:pt x="62" y="450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80" y="3816360"/>
              <a:ext cx="9558360" cy="3041640"/>
            </a:xfrm>
            <a:custGeom>
              <a:avLst/>
              <a:gdLst/>
              <a:ahLst/>
              <a:rect l="l" t="t" r="r" b="b"/>
              <a:pathLst>
                <a:path w="6023" h="1916">
                  <a:moveTo>
                    <a:pt x="0" y="56"/>
                  </a:moveTo>
                  <a:cubicBezTo>
                    <a:pt x="0" y="56"/>
                    <a:pt x="1892" y="110"/>
                    <a:pt x="2812" y="147"/>
                  </a:cubicBezTo>
                  <a:cubicBezTo>
                    <a:pt x="3732" y="184"/>
                    <a:pt x="5015" y="245"/>
                    <a:pt x="5519" y="281"/>
                  </a:cubicBezTo>
                  <a:cubicBezTo>
                    <a:pt x="6023" y="317"/>
                    <a:pt x="5708" y="0"/>
                    <a:pt x="5748" y="272"/>
                  </a:cubicBezTo>
                  <a:lnTo>
                    <a:pt x="5760" y="1916"/>
                  </a:lnTo>
                  <a:lnTo>
                    <a:pt x="0" y="187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880" y="3500280"/>
              <a:ext cx="1907640" cy="743040"/>
              <a:chOff x="2880" y="3500280"/>
              <a:chExt cx="1907640" cy="743040"/>
            </a:xfrm>
          </p:grpSpPr>
          <p:sp>
            <p:nvSpPr>
              <p:cNvPr id="78" name="未知"/>
              <p:cNvSpPr/>
              <p:nvPr/>
            </p:nvSpPr>
            <p:spPr>
              <a:xfrm>
                <a:off x="2880" y="3500280"/>
                <a:ext cx="1907640" cy="73692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 rot="21248400">
                <a:off x="764280" y="3887640"/>
                <a:ext cx="353880" cy="338400"/>
              </a:xfrm>
              <a:custGeom>
                <a:avLst/>
                <a:gdLst/>
                <a:ahLst/>
                <a:rect l="l" t="t" r="r" b="b"/>
                <a:pathLst>
                  <a:path w="5131" h="3457">
                    <a:moveTo>
                      <a:pt x="1189" y="3263"/>
                    </a:moveTo>
                    <a:cubicBezTo>
                      <a:pt x="1291" y="3283"/>
                      <a:pt x="788" y="3116"/>
                      <a:pt x="831" y="3087"/>
                    </a:cubicBezTo>
                    <a:cubicBezTo>
                      <a:pt x="874" y="3058"/>
                      <a:pt x="1486" y="3178"/>
                      <a:pt x="1445" y="3087"/>
                    </a:cubicBezTo>
                    <a:cubicBezTo>
                      <a:pt x="1404" y="2996"/>
                      <a:pt x="636" y="2625"/>
                      <a:pt x="585" y="2543"/>
                    </a:cubicBezTo>
                    <a:cubicBezTo>
                      <a:pt x="534" y="2461"/>
                      <a:pt x="998" y="2594"/>
                      <a:pt x="1141" y="2594"/>
                    </a:cubicBezTo>
                    <a:cubicBezTo>
                      <a:pt x="1284" y="2594"/>
                      <a:pt x="1579" y="2643"/>
                      <a:pt x="1445" y="2543"/>
                    </a:cubicBezTo>
                    <a:lnTo>
                      <a:pt x="339" y="1995"/>
                    </a:lnTo>
                    <a:cubicBezTo>
                      <a:pt x="240" y="1918"/>
                      <a:pt x="713" y="2072"/>
                      <a:pt x="853" y="2078"/>
                    </a:cubicBezTo>
                    <a:cubicBezTo>
                      <a:pt x="993" y="2084"/>
                      <a:pt x="1303" y="2104"/>
                      <a:pt x="1177" y="2030"/>
                    </a:cubicBezTo>
                    <a:lnTo>
                      <a:pt x="96" y="1636"/>
                    </a:lnTo>
                    <a:cubicBezTo>
                      <a:pt x="0" y="1576"/>
                      <a:pt x="479" y="1670"/>
                      <a:pt x="601" y="1670"/>
                    </a:cubicBezTo>
                    <a:cubicBezTo>
                      <a:pt x="723" y="1670"/>
                      <a:pt x="915" y="1732"/>
                      <a:pt x="831" y="1636"/>
                    </a:cubicBezTo>
                    <a:lnTo>
                      <a:pt x="96" y="1092"/>
                    </a:lnTo>
                    <a:cubicBezTo>
                      <a:pt x="44" y="1014"/>
                      <a:pt x="415" y="1166"/>
                      <a:pt x="517" y="1166"/>
                    </a:cubicBezTo>
                    <a:cubicBezTo>
                      <a:pt x="619" y="1166"/>
                      <a:pt x="737" y="1165"/>
                      <a:pt x="707" y="1092"/>
                    </a:cubicBezTo>
                    <a:lnTo>
                      <a:pt x="339" y="728"/>
                    </a:lnTo>
                    <a:cubicBezTo>
                      <a:pt x="339" y="667"/>
                      <a:pt x="686" y="789"/>
                      <a:pt x="707" y="728"/>
                    </a:cubicBezTo>
                    <a:cubicBezTo>
                      <a:pt x="728" y="667"/>
                      <a:pt x="443" y="394"/>
                      <a:pt x="464" y="364"/>
                    </a:cubicBezTo>
                    <a:cubicBezTo>
                      <a:pt x="485" y="334"/>
                      <a:pt x="770" y="609"/>
                      <a:pt x="831" y="548"/>
                    </a:cubicBezTo>
                    <a:cubicBezTo>
                      <a:pt x="892" y="487"/>
                      <a:pt x="790" y="0"/>
                      <a:pt x="831" y="0"/>
                    </a:cubicBezTo>
                    <a:lnTo>
                      <a:pt x="1075" y="548"/>
                    </a:lnTo>
                    <a:lnTo>
                      <a:pt x="1075" y="184"/>
                    </a:lnTo>
                    <a:cubicBezTo>
                      <a:pt x="1456" y="932"/>
                      <a:pt x="1212" y="868"/>
                      <a:pt x="1396" y="960"/>
                    </a:cubicBezTo>
                    <a:cubicBezTo>
                      <a:pt x="1519" y="1051"/>
                      <a:pt x="1743" y="827"/>
                      <a:pt x="1813" y="728"/>
                    </a:cubicBezTo>
                    <a:cubicBezTo>
                      <a:pt x="1883" y="629"/>
                      <a:pt x="1773" y="364"/>
                      <a:pt x="1813" y="364"/>
                    </a:cubicBezTo>
                    <a:lnTo>
                      <a:pt x="2056" y="728"/>
                    </a:lnTo>
                    <a:cubicBezTo>
                      <a:pt x="2096" y="940"/>
                      <a:pt x="1998" y="1529"/>
                      <a:pt x="2056" y="1636"/>
                    </a:cubicBezTo>
                    <a:cubicBezTo>
                      <a:pt x="2114" y="1743"/>
                      <a:pt x="2339" y="1316"/>
                      <a:pt x="2401" y="1370"/>
                    </a:cubicBezTo>
                    <a:cubicBezTo>
                      <a:pt x="2463" y="1424"/>
                      <a:pt x="2331" y="1914"/>
                      <a:pt x="2425" y="1958"/>
                    </a:cubicBezTo>
                    <a:cubicBezTo>
                      <a:pt x="2519" y="2002"/>
                      <a:pt x="2895" y="1584"/>
                      <a:pt x="2965" y="1634"/>
                    </a:cubicBezTo>
                    <a:cubicBezTo>
                      <a:pt x="3035" y="1684"/>
                      <a:pt x="2745" y="2244"/>
                      <a:pt x="2845" y="2258"/>
                    </a:cubicBezTo>
                    <a:cubicBezTo>
                      <a:pt x="2945" y="2272"/>
                      <a:pt x="3512" y="1641"/>
                      <a:pt x="3565" y="1718"/>
                    </a:cubicBezTo>
                    <a:lnTo>
                      <a:pt x="3161" y="2723"/>
                    </a:lnTo>
                    <a:cubicBezTo>
                      <a:pt x="3147" y="2870"/>
                      <a:pt x="3372" y="2703"/>
                      <a:pt x="3481" y="2603"/>
                    </a:cubicBezTo>
                    <a:cubicBezTo>
                      <a:pt x="3590" y="2503"/>
                      <a:pt x="3789" y="2042"/>
                      <a:pt x="3817" y="2123"/>
                    </a:cubicBezTo>
                    <a:cubicBezTo>
                      <a:pt x="3845" y="2204"/>
                      <a:pt x="3583" y="2967"/>
                      <a:pt x="3651" y="3087"/>
                    </a:cubicBezTo>
                    <a:cubicBezTo>
                      <a:pt x="3719" y="3207"/>
                      <a:pt x="4155" y="2824"/>
                      <a:pt x="4225" y="2843"/>
                    </a:cubicBezTo>
                    <a:cubicBezTo>
                      <a:pt x="4295" y="2862"/>
                      <a:pt x="4001" y="3102"/>
                      <a:pt x="4069" y="3203"/>
                    </a:cubicBezTo>
                    <a:cubicBezTo>
                      <a:pt x="4137" y="3304"/>
                      <a:pt x="5131" y="3436"/>
                      <a:pt x="4632" y="3447"/>
                    </a:cubicBezTo>
                    <a:cubicBezTo>
                      <a:pt x="4152" y="3457"/>
                      <a:pt x="1087" y="3243"/>
                      <a:pt x="1189" y="3263"/>
                    </a:cubicBezTo>
                    <a:close/>
                  </a:path>
                </a:pathLst>
              </a:custGeom>
              <a:solidFill>
                <a:srgbClr val="61c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未知"/>
            <p:cNvSpPr/>
            <p:nvPr/>
          </p:nvSpPr>
          <p:spPr>
            <a:xfrm>
              <a:off x="2898000" y="3876840"/>
              <a:ext cx="6265080" cy="1952640"/>
            </a:xfrm>
            <a:custGeom>
              <a:avLst/>
              <a:gdLst/>
              <a:ahLst/>
              <a:rect l="l" t="t" r="r" b="b"/>
              <a:pathLst>
                <a:path w="3948" h="1230">
                  <a:moveTo>
                    <a:pt x="3948" y="198"/>
                  </a:moveTo>
                  <a:cubicBezTo>
                    <a:pt x="3752" y="33"/>
                    <a:pt x="3442" y="230"/>
                    <a:pt x="2784" y="222"/>
                  </a:cubicBezTo>
                  <a:cubicBezTo>
                    <a:pt x="2292" y="270"/>
                    <a:pt x="265" y="0"/>
                    <a:pt x="0" y="150"/>
                  </a:cubicBezTo>
                  <a:lnTo>
                    <a:pt x="1392" y="834"/>
                  </a:lnTo>
                  <a:lnTo>
                    <a:pt x="3912" y="1230"/>
                  </a:lnTo>
                  <a:lnTo>
                    <a:pt x="3948" y="198"/>
                  </a:lnTo>
                  <a:close/>
                </a:path>
              </a:pathLst>
            </a:custGeom>
            <a:solidFill>
              <a:srgbClr val="d0e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730760" y="3357720"/>
              <a:ext cx="3814560" cy="1439640"/>
              <a:chOff x="4730760" y="3357720"/>
              <a:chExt cx="3814560" cy="1439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730760" y="3784320"/>
                <a:ext cx="3814560" cy="1013040"/>
                <a:chOff x="4730760" y="3784320"/>
                <a:chExt cx="3814560" cy="101304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4906800" y="3784320"/>
                  <a:ext cx="3638520" cy="1012680"/>
                  <a:chOff x="4906800" y="3784320"/>
                  <a:chExt cx="3638520" cy="1012680"/>
                </a:xfrm>
              </p:grpSpPr>
              <p:grpSp>
                <p:nvGrpSpPr>
                  <p:cNvPr id="84" name=""/>
                  <p:cNvGrpSpPr/>
                  <p:nvPr/>
                </p:nvGrpSpPr>
                <p:grpSpPr>
                  <a:xfrm>
                    <a:off x="4906800" y="3784320"/>
                    <a:ext cx="1413000" cy="915480"/>
                    <a:chOff x="4906800" y="3784320"/>
                    <a:chExt cx="1413000" cy="91548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4916520" y="3784320"/>
                      <a:ext cx="1403280" cy="906480"/>
                    </a:xfrm>
                    <a:prstGeom prst="rect">
                      <a:avLst/>
                    </a:prstGeom>
                    <a:solidFill>
                      <a:srgbClr val="ffd31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5130000" y="3970440"/>
                      <a:ext cx="945360" cy="319680"/>
                    </a:xfrm>
                    <a:prstGeom prst="rect">
                      <a:avLst/>
                    </a:prstGeom>
                    <a:solidFill>
                      <a:srgbClr val="875a2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4916520" y="3970440"/>
                      <a:ext cx="1402560" cy="0"/>
                    </a:xfrm>
                    <a:prstGeom prst="line">
                      <a:avLst/>
                    </a:prstGeom>
                    <a:ln w="38160">
                      <a:solidFill>
                        <a:srgbClr val="6845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4906800" y="4279680"/>
                      <a:ext cx="1402560" cy="0"/>
                    </a:xfrm>
                    <a:prstGeom prst="line">
                      <a:avLst/>
                    </a:prstGeom>
                    <a:ln w="38160">
                      <a:solidFill>
                        <a:srgbClr val="6845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085440" y="3970440"/>
                      <a:ext cx="0" cy="720000"/>
                    </a:xfrm>
                    <a:prstGeom prst="line">
                      <a:avLst/>
                    </a:prstGeom>
                    <a:ln w="38160">
                      <a:solidFill>
                        <a:srgbClr val="6845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5119920" y="3979800"/>
                      <a:ext cx="0" cy="720000"/>
                    </a:xfrm>
                    <a:prstGeom prst="line">
                      <a:avLst/>
                    </a:prstGeom>
                    <a:ln w="38160">
                      <a:solidFill>
                        <a:srgbClr val="68452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未知"/>
                  <p:cNvSpPr/>
                  <p:nvPr/>
                </p:nvSpPr>
                <p:spPr>
                  <a:xfrm>
                    <a:off x="6319440" y="3784320"/>
                    <a:ext cx="1799280" cy="90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12" h="1542">
                        <a:moveTo>
                          <a:pt x="0" y="1542"/>
                        </a:moveTo>
                        <a:lnTo>
                          <a:pt x="0" y="0"/>
                        </a:lnTo>
                        <a:lnTo>
                          <a:pt x="2812" y="90"/>
                        </a:lnTo>
                        <a:lnTo>
                          <a:pt x="2812" y="1224"/>
                        </a:lnTo>
                        <a:lnTo>
                          <a:pt x="0" y="1542"/>
                        </a:lnTo>
                        <a:close/>
                      </a:path>
                    </a:pathLst>
                  </a:custGeom>
                  <a:solidFill>
                    <a:srgbClr val="ffd31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343640" y="3975120"/>
                    <a:ext cx="0" cy="56016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未知"/>
                  <p:cNvSpPr/>
                  <p:nvPr/>
                </p:nvSpPr>
                <p:spPr>
                  <a:xfrm>
                    <a:off x="6319440" y="3917160"/>
                    <a:ext cx="142920" cy="77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1316">
                        <a:moveTo>
                          <a:pt x="0" y="1316"/>
                        </a:moveTo>
                        <a:lnTo>
                          <a:pt x="0" y="0"/>
                        </a:lnTo>
                        <a:lnTo>
                          <a:pt x="235" y="10"/>
                        </a:lnTo>
                        <a:lnTo>
                          <a:pt x="227" y="1294"/>
                        </a:lnTo>
                        <a:lnTo>
                          <a:pt x="0" y="13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7343640" y="3979800"/>
                    <a:ext cx="387360" cy="549720"/>
                    <a:chOff x="7343640" y="3979800"/>
                    <a:chExt cx="387360" cy="549720"/>
                  </a:xfrm>
                </p:grpSpPr>
                <p:sp>
                  <p:nvSpPr>
                    <p:cNvPr id="95" name="未知"/>
                    <p:cNvSpPr/>
                    <p:nvPr/>
                  </p:nvSpPr>
                  <p:spPr>
                    <a:xfrm>
                      <a:off x="7343640" y="3979800"/>
                      <a:ext cx="137160" cy="54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935">
                          <a:moveTo>
                            <a:pt x="5" y="935"/>
                          </a:moveTo>
                          <a:lnTo>
                            <a:pt x="0" y="0"/>
                          </a:lnTo>
                          <a:lnTo>
                            <a:pt x="225" y="11"/>
                          </a:lnTo>
                          <a:lnTo>
                            <a:pt x="225" y="907"/>
                          </a:lnTo>
                          <a:lnTo>
                            <a:pt x="5" y="935"/>
                          </a:lnTo>
                          <a:close/>
                        </a:path>
                      </a:pathLst>
                    </a:cu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38160">
                      <a:solidFill>
                        <a:srgbClr val="68452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未知"/>
                    <p:cNvSpPr/>
                    <p:nvPr/>
                  </p:nvSpPr>
                  <p:spPr>
                    <a:xfrm>
                      <a:off x="7485120" y="3986640"/>
                      <a:ext cx="108000" cy="52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935">
                          <a:moveTo>
                            <a:pt x="5" y="935"/>
                          </a:moveTo>
                          <a:lnTo>
                            <a:pt x="0" y="0"/>
                          </a:lnTo>
                          <a:lnTo>
                            <a:pt x="225" y="11"/>
                          </a:lnTo>
                          <a:lnTo>
                            <a:pt x="225" y="907"/>
                          </a:lnTo>
                          <a:lnTo>
                            <a:pt x="5" y="9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68452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未知"/>
                    <p:cNvSpPr/>
                    <p:nvPr/>
                  </p:nvSpPr>
                  <p:spPr>
                    <a:xfrm>
                      <a:off x="7597440" y="3991320"/>
                      <a:ext cx="133560" cy="50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935">
                          <a:moveTo>
                            <a:pt x="5" y="935"/>
                          </a:moveTo>
                          <a:lnTo>
                            <a:pt x="0" y="0"/>
                          </a:lnTo>
                          <a:lnTo>
                            <a:pt x="225" y="11"/>
                          </a:lnTo>
                          <a:lnTo>
                            <a:pt x="225" y="907"/>
                          </a:lnTo>
                          <a:lnTo>
                            <a:pt x="5" y="935"/>
                          </a:ln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38160">
                      <a:solidFill>
                        <a:srgbClr val="68452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" name=""/>
                  <p:cNvSpPr/>
                  <p:nvPr/>
                </p:nvSpPr>
                <p:spPr>
                  <a:xfrm>
                    <a:off x="6818400" y="3975120"/>
                    <a:ext cx="331200" cy="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145280" y="3970440"/>
                    <a:ext cx="0" cy="58680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6789960" y="4214880"/>
                    <a:ext cx="359640" cy="2700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V="1">
                    <a:off x="6818400" y="4451040"/>
                    <a:ext cx="1300320" cy="13752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149960" y="3982680"/>
                    <a:ext cx="193320" cy="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V="1">
                    <a:off x="7731360" y="3837240"/>
                    <a:ext cx="0" cy="64008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未知"/>
                  <p:cNvSpPr/>
                  <p:nvPr/>
                </p:nvSpPr>
                <p:spPr>
                  <a:xfrm>
                    <a:off x="6458040" y="3920400"/>
                    <a:ext cx="38700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6" h="1284">
                        <a:moveTo>
                          <a:pt x="4" y="1284"/>
                        </a:moveTo>
                        <a:lnTo>
                          <a:pt x="0" y="0"/>
                        </a:lnTo>
                        <a:lnTo>
                          <a:pt x="717" y="4"/>
                        </a:lnTo>
                        <a:lnTo>
                          <a:pt x="726" y="1260"/>
                        </a:lnTo>
                        <a:lnTo>
                          <a:pt x="4" y="128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V="1">
                    <a:off x="7731720" y="4174200"/>
                    <a:ext cx="386280" cy="19440"/>
                  </a:xfrm>
                  <a:prstGeom prst="line">
                    <a:avLst/>
                  </a:prstGeom>
                  <a:ln w="38160">
                    <a:solidFill>
                      <a:srgbClr val="6845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>
                    <a:off x="8088480" y="3837240"/>
                    <a:ext cx="274320" cy="666720"/>
                  </a:xfrm>
                  <a:custGeom>
                    <a:avLst/>
                    <a:gdLst/>
                    <a:ahLst/>
                    <a:rect l="l" t="t" r="r" b="b"/>
                    <a:pathLst>
                      <a:path w="726" h="1284">
                        <a:moveTo>
                          <a:pt x="4" y="1284"/>
                        </a:moveTo>
                        <a:lnTo>
                          <a:pt x="0" y="0"/>
                        </a:lnTo>
                        <a:lnTo>
                          <a:pt x="717" y="4"/>
                        </a:lnTo>
                        <a:lnTo>
                          <a:pt x="726" y="1260"/>
                        </a:lnTo>
                        <a:lnTo>
                          <a:pt x="4" y="1284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未知"/>
                  <p:cNvSpPr/>
                  <p:nvPr/>
                </p:nvSpPr>
                <p:spPr>
                  <a:xfrm>
                    <a:off x="6315120" y="4477320"/>
                    <a:ext cx="2226240" cy="31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11" h="544">
                        <a:moveTo>
                          <a:pt x="0" y="363"/>
                        </a:moveTo>
                        <a:lnTo>
                          <a:pt x="3039" y="0"/>
                        </a:lnTo>
                        <a:lnTo>
                          <a:pt x="3311" y="91"/>
                        </a:lnTo>
                        <a:lnTo>
                          <a:pt x="45" y="544"/>
                        </a:lnTo>
                        <a:lnTo>
                          <a:pt x="0" y="363"/>
                        </a:lnTo>
                        <a:close/>
                      </a:path>
                    </a:pathLst>
                  </a:custGeom>
                  <a:solidFill>
                    <a:srgbClr val="8a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未知"/>
                  <p:cNvSpPr/>
                  <p:nvPr/>
                </p:nvSpPr>
                <p:spPr>
                  <a:xfrm>
                    <a:off x="8362800" y="4424040"/>
                    <a:ext cx="18252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182">
                        <a:moveTo>
                          <a:pt x="272" y="182"/>
                        </a:moveTo>
                        <a:lnTo>
                          <a:pt x="0" y="91"/>
                        </a:lnTo>
                        <a:lnTo>
                          <a:pt x="0" y="0"/>
                        </a:lnTo>
                        <a:lnTo>
                          <a:pt x="272" y="182"/>
                        </a:lnTo>
                        <a:close/>
                      </a:path>
                    </a:pathLst>
                  </a:custGeom>
                  <a:solidFill>
                    <a:srgbClr val="6845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>
                    <a:off x="6319440" y="4477320"/>
                    <a:ext cx="21420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86" h="431">
                        <a:moveTo>
                          <a:pt x="0" y="363"/>
                        </a:moveTo>
                        <a:lnTo>
                          <a:pt x="3039" y="0"/>
                        </a:lnTo>
                        <a:cubicBezTo>
                          <a:pt x="3084" y="15"/>
                          <a:pt x="3129" y="32"/>
                          <a:pt x="3175" y="45"/>
                        </a:cubicBezTo>
                        <a:cubicBezTo>
                          <a:pt x="3186" y="48"/>
                          <a:pt x="3156" y="33"/>
                          <a:pt x="3145" y="29"/>
                        </a:cubicBezTo>
                        <a:cubicBezTo>
                          <a:pt x="3141" y="28"/>
                          <a:pt x="3137" y="29"/>
                          <a:pt x="3133" y="29"/>
                        </a:cubicBezTo>
                        <a:lnTo>
                          <a:pt x="13" y="431"/>
                        </a:lnTo>
                        <a:lnTo>
                          <a:pt x="0" y="36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>
                          <a:alpha val="21176"/>
                        </a:srgbClr>
                      </a:gs>
                      <a:gs pos="100000">
                        <a:srgbClr val="ad7339">
                          <a:alpha val="70196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874640" y="4111200"/>
                    <a:ext cx="152280" cy="133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>
                          <a:alpha val="41176"/>
                        </a:srgbClr>
                      </a:gs>
                      <a:gs pos="100000">
                        <a:srgbClr val="ad7339">
                          <a:alpha val="75294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" name="未知"/>
                <p:cNvSpPr/>
                <p:nvPr/>
              </p:nvSpPr>
              <p:spPr>
                <a:xfrm>
                  <a:off x="4730760" y="4691160"/>
                  <a:ext cx="1618920" cy="106200"/>
                </a:xfrm>
                <a:custGeom>
                  <a:avLst/>
                  <a:gdLst/>
                  <a:ahLst/>
                  <a:rect l="l" t="t" r="r" b="b"/>
                  <a:pathLst>
                    <a:path w="2405" h="196">
                      <a:moveTo>
                        <a:pt x="277" y="0"/>
                      </a:moveTo>
                      <a:lnTo>
                        <a:pt x="0" y="196"/>
                      </a:lnTo>
                      <a:lnTo>
                        <a:pt x="2405" y="196"/>
                      </a:lnTo>
                      <a:lnTo>
                        <a:pt x="2363" y="0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8a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未知"/>
                <p:cNvSpPr/>
                <p:nvPr/>
              </p:nvSpPr>
              <p:spPr>
                <a:xfrm>
                  <a:off x="4861080" y="4691160"/>
                  <a:ext cx="1465560" cy="41040"/>
                </a:xfrm>
                <a:custGeom>
                  <a:avLst/>
                  <a:gdLst/>
                  <a:ahLst/>
                  <a:rect l="l" t="t" r="r" b="b"/>
                  <a:pathLst>
                    <a:path w="2180" h="70">
                      <a:moveTo>
                        <a:pt x="83" y="0"/>
                      </a:moveTo>
                      <a:lnTo>
                        <a:pt x="0" y="54"/>
                      </a:lnTo>
                      <a:lnTo>
                        <a:pt x="2180" y="70"/>
                      </a:lnTo>
                      <a:lnTo>
                        <a:pt x="2169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ad73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4733280" y="4610880"/>
                  <a:ext cx="183240" cy="186120"/>
                </a:xfrm>
                <a:custGeom>
                  <a:avLst/>
                  <a:gdLst/>
                  <a:ahLst/>
                  <a:rect l="l" t="t" r="r" b="b"/>
                  <a:pathLst>
                    <a:path w="273" h="317">
                      <a:moveTo>
                        <a:pt x="0" y="317"/>
                      </a:moveTo>
                      <a:lnTo>
                        <a:pt x="273" y="136"/>
                      </a:lnTo>
                      <a:lnTo>
                        <a:pt x="273" y="0"/>
                      </a:lnTo>
                      <a:lnTo>
                        <a:pt x="0" y="317"/>
                      </a:lnTo>
                      <a:close/>
                    </a:path>
                  </a:pathLst>
                </a:custGeom>
                <a:solidFill>
                  <a:srgbClr val="684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761360" y="3357720"/>
                <a:ext cx="1575360" cy="514800"/>
                <a:chOff x="4761360" y="3357720"/>
                <a:chExt cx="1575360" cy="514800"/>
              </a:xfrm>
            </p:grpSpPr>
            <p:sp>
              <p:nvSpPr>
                <p:cNvPr id="115" name="未知"/>
                <p:cNvSpPr/>
                <p:nvPr/>
              </p:nvSpPr>
              <p:spPr>
                <a:xfrm>
                  <a:off x="4761360" y="3709080"/>
                  <a:ext cx="1573560" cy="163440"/>
                </a:xfrm>
                <a:custGeom>
                  <a:avLst/>
                  <a:gdLst/>
                  <a:ahLst/>
                  <a:rect l="l" t="t" r="r" b="b"/>
                  <a:pathLst>
                    <a:path w="2340" h="278">
                      <a:moveTo>
                        <a:pt x="80" y="231"/>
                      </a:moveTo>
                      <a:cubicBezTo>
                        <a:pt x="103" y="224"/>
                        <a:pt x="147" y="186"/>
                        <a:pt x="170" y="186"/>
                      </a:cubicBezTo>
                      <a:cubicBezTo>
                        <a:pt x="193" y="186"/>
                        <a:pt x="201" y="231"/>
                        <a:pt x="216" y="231"/>
                      </a:cubicBezTo>
                      <a:cubicBezTo>
                        <a:pt x="231" y="231"/>
                        <a:pt x="238" y="186"/>
                        <a:pt x="261" y="186"/>
                      </a:cubicBezTo>
                      <a:cubicBezTo>
                        <a:pt x="284" y="186"/>
                        <a:pt x="329" y="231"/>
                        <a:pt x="352" y="231"/>
                      </a:cubicBezTo>
                      <a:cubicBezTo>
                        <a:pt x="375" y="231"/>
                        <a:pt x="382" y="186"/>
                        <a:pt x="397" y="186"/>
                      </a:cubicBezTo>
                      <a:cubicBezTo>
                        <a:pt x="412" y="186"/>
                        <a:pt x="428" y="231"/>
                        <a:pt x="443" y="231"/>
                      </a:cubicBezTo>
                      <a:cubicBezTo>
                        <a:pt x="458" y="231"/>
                        <a:pt x="465" y="186"/>
                        <a:pt x="488" y="186"/>
                      </a:cubicBezTo>
                      <a:cubicBezTo>
                        <a:pt x="511" y="186"/>
                        <a:pt x="556" y="231"/>
                        <a:pt x="579" y="231"/>
                      </a:cubicBezTo>
                      <a:cubicBezTo>
                        <a:pt x="602" y="231"/>
                        <a:pt x="601" y="186"/>
                        <a:pt x="624" y="186"/>
                      </a:cubicBezTo>
                      <a:cubicBezTo>
                        <a:pt x="647" y="186"/>
                        <a:pt x="685" y="231"/>
                        <a:pt x="715" y="231"/>
                      </a:cubicBezTo>
                      <a:cubicBezTo>
                        <a:pt x="745" y="231"/>
                        <a:pt x="782" y="186"/>
                        <a:pt x="805" y="186"/>
                      </a:cubicBezTo>
                      <a:cubicBezTo>
                        <a:pt x="828" y="186"/>
                        <a:pt x="836" y="231"/>
                        <a:pt x="851" y="231"/>
                      </a:cubicBezTo>
                      <a:cubicBezTo>
                        <a:pt x="866" y="231"/>
                        <a:pt x="873" y="186"/>
                        <a:pt x="896" y="186"/>
                      </a:cubicBezTo>
                      <a:cubicBezTo>
                        <a:pt x="919" y="186"/>
                        <a:pt x="964" y="231"/>
                        <a:pt x="987" y="231"/>
                      </a:cubicBezTo>
                      <a:cubicBezTo>
                        <a:pt x="1010" y="231"/>
                        <a:pt x="1017" y="179"/>
                        <a:pt x="1032" y="186"/>
                      </a:cubicBezTo>
                      <a:cubicBezTo>
                        <a:pt x="1047" y="193"/>
                        <a:pt x="1053" y="274"/>
                        <a:pt x="1078" y="276"/>
                      </a:cubicBezTo>
                      <a:cubicBezTo>
                        <a:pt x="1103" y="278"/>
                        <a:pt x="1150" y="205"/>
                        <a:pt x="1180" y="198"/>
                      </a:cubicBezTo>
                      <a:cubicBezTo>
                        <a:pt x="1210" y="191"/>
                        <a:pt x="1238" y="233"/>
                        <a:pt x="1259" y="231"/>
                      </a:cubicBezTo>
                      <a:cubicBezTo>
                        <a:pt x="1280" y="229"/>
                        <a:pt x="1289" y="186"/>
                        <a:pt x="1304" y="186"/>
                      </a:cubicBezTo>
                      <a:cubicBezTo>
                        <a:pt x="1304" y="186"/>
                        <a:pt x="1332" y="228"/>
                        <a:pt x="1350" y="231"/>
                      </a:cubicBezTo>
                      <a:cubicBezTo>
                        <a:pt x="1368" y="234"/>
                        <a:pt x="1396" y="204"/>
                        <a:pt x="1412" y="206"/>
                      </a:cubicBezTo>
                      <a:cubicBezTo>
                        <a:pt x="1428" y="208"/>
                        <a:pt x="1435" y="248"/>
                        <a:pt x="1448" y="246"/>
                      </a:cubicBezTo>
                      <a:cubicBezTo>
                        <a:pt x="1461" y="244"/>
                        <a:pt x="1467" y="192"/>
                        <a:pt x="1488" y="194"/>
                      </a:cubicBezTo>
                      <a:cubicBezTo>
                        <a:pt x="1509" y="196"/>
                        <a:pt x="1553" y="247"/>
                        <a:pt x="1576" y="258"/>
                      </a:cubicBezTo>
                      <a:cubicBezTo>
                        <a:pt x="1599" y="269"/>
                        <a:pt x="1613" y="267"/>
                        <a:pt x="1628" y="258"/>
                      </a:cubicBezTo>
                      <a:cubicBezTo>
                        <a:pt x="1643" y="249"/>
                        <a:pt x="1652" y="203"/>
                        <a:pt x="1668" y="206"/>
                      </a:cubicBezTo>
                      <a:cubicBezTo>
                        <a:pt x="1668" y="206"/>
                        <a:pt x="1709" y="277"/>
                        <a:pt x="1724" y="274"/>
                      </a:cubicBezTo>
                      <a:cubicBezTo>
                        <a:pt x="1739" y="271"/>
                        <a:pt x="1737" y="193"/>
                        <a:pt x="1758" y="186"/>
                      </a:cubicBezTo>
                      <a:cubicBezTo>
                        <a:pt x="1779" y="179"/>
                        <a:pt x="1826" y="231"/>
                        <a:pt x="1849" y="231"/>
                      </a:cubicBezTo>
                      <a:cubicBezTo>
                        <a:pt x="1872" y="231"/>
                        <a:pt x="1871" y="186"/>
                        <a:pt x="1894" y="186"/>
                      </a:cubicBezTo>
                      <a:cubicBezTo>
                        <a:pt x="1917" y="186"/>
                        <a:pt x="1962" y="231"/>
                        <a:pt x="1985" y="231"/>
                      </a:cubicBezTo>
                      <a:cubicBezTo>
                        <a:pt x="2008" y="231"/>
                        <a:pt x="2015" y="186"/>
                        <a:pt x="2030" y="186"/>
                      </a:cubicBezTo>
                      <a:cubicBezTo>
                        <a:pt x="2045" y="186"/>
                        <a:pt x="2061" y="246"/>
                        <a:pt x="2076" y="231"/>
                      </a:cubicBezTo>
                      <a:cubicBezTo>
                        <a:pt x="2091" y="216"/>
                        <a:pt x="2105" y="200"/>
                        <a:pt x="2121" y="186"/>
                      </a:cubicBezTo>
                      <a:cubicBezTo>
                        <a:pt x="2124" y="183"/>
                        <a:pt x="2126" y="179"/>
                        <a:pt x="2132" y="182"/>
                      </a:cubicBezTo>
                      <a:cubicBezTo>
                        <a:pt x="2138" y="185"/>
                        <a:pt x="2144" y="198"/>
                        <a:pt x="2144" y="198"/>
                      </a:cubicBezTo>
                      <a:cubicBezTo>
                        <a:pt x="2157" y="206"/>
                        <a:pt x="2193" y="233"/>
                        <a:pt x="2212" y="231"/>
                      </a:cubicBezTo>
                      <a:cubicBezTo>
                        <a:pt x="2231" y="229"/>
                        <a:pt x="2242" y="186"/>
                        <a:pt x="2257" y="186"/>
                      </a:cubicBezTo>
                      <a:cubicBezTo>
                        <a:pt x="2272" y="186"/>
                        <a:pt x="2295" y="231"/>
                        <a:pt x="2302" y="231"/>
                      </a:cubicBezTo>
                      <a:cubicBezTo>
                        <a:pt x="2309" y="231"/>
                        <a:pt x="2296" y="187"/>
                        <a:pt x="2302" y="186"/>
                      </a:cubicBezTo>
                      <a:lnTo>
                        <a:pt x="2340" y="224"/>
                      </a:lnTo>
                      <a:lnTo>
                        <a:pt x="2316" y="4"/>
                      </a:lnTo>
                      <a:lnTo>
                        <a:pt x="544" y="0"/>
                      </a:lnTo>
                      <a:cubicBezTo>
                        <a:pt x="192" y="1"/>
                        <a:pt x="281" y="0"/>
                        <a:pt x="204" y="12"/>
                      </a:cubicBezTo>
                      <a:cubicBezTo>
                        <a:pt x="127" y="24"/>
                        <a:pt x="118" y="37"/>
                        <a:pt x="84" y="72"/>
                      </a:cubicBezTo>
                      <a:cubicBezTo>
                        <a:pt x="50" y="107"/>
                        <a:pt x="1" y="194"/>
                        <a:pt x="0" y="220"/>
                      </a:cubicBezTo>
                      <a:cubicBezTo>
                        <a:pt x="5" y="245"/>
                        <a:pt x="57" y="238"/>
                        <a:pt x="80" y="231"/>
                      </a:cubicBezTo>
                      <a:close/>
                    </a:path>
                  </a:pathLst>
                </a:custGeom>
                <a:solidFill>
                  <a:srgbClr val="ffe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>
                  <a:off x="4769280" y="3674880"/>
                  <a:ext cx="1559880" cy="168480"/>
                </a:xfrm>
                <a:custGeom>
                  <a:avLst/>
                  <a:gdLst/>
                  <a:ahLst/>
                  <a:rect l="l" t="t" r="r" b="b"/>
                  <a:pathLst>
                    <a:path w="2320" h="287">
                      <a:moveTo>
                        <a:pt x="80" y="240"/>
                      </a:moveTo>
                      <a:cubicBezTo>
                        <a:pt x="103" y="233"/>
                        <a:pt x="146" y="195"/>
                        <a:pt x="169" y="195"/>
                      </a:cubicBezTo>
                      <a:cubicBezTo>
                        <a:pt x="191" y="195"/>
                        <a:pt x="199" y="240"/>
                        <a:pt x="214" y="240"/>
                      </a:cubicBezTo>
                      <a:cubicBezTo>
                        <a:pt x="229" y="240"/>
                        <a:pt x="236" y="195"/>
                        <a:pt x="258" y="195"/>
                      </a:cubicBezTo>
                      <a:cubicBezTo>
                        <a:pt x="281" y="195"/>
                        <a:pt x="325" y="240"/>
                        <a:pt x="348" y="240"/>
                      </a:cubicBezTo>
                      <a:cubicBezTo>
                        <a:pt x="370" y="240"/>
                        <a:pt x="377" y="195"/>
                        <a:pt x="393" y="195"/>
                      </a:cubicBezTo>
                      <a:cubicBezTo>
                        <a:pt x="408" y="195"/>
                        <a:pt x="423" y="240"/>
                        <a:pt x="438" y="240"/>
                      </a:cubicBezTo>
                      <a:cubicBezTo>
                        <a:pt x="453" y="240"/>
                        <a:pt x="460" y="195"/>
                        <a:pt x="482" y="195"/>
                      </a:cubicBezTo>
                      <a:cubicBezTo>
                        <a:pt x="505" y="195"/>
                        <a:pt x="549" y="240"/>
                        <a:pt x="572" y="240"/>
                      </a:cubicBezTo>
                      <a:cubicBezTo>
                        <a:pt x="594" y="240"/>
                        <a:pt x="593" y="195"/>
                        <a:pt x="616" y="195"/>
                      </a:cubicBezTo>
                      <a:cubicBezTo>
                        <a:pt x="639" y="195"/>
                        <a:pt x="676" y="240"/>
                        <a:pt x="706" y="240"/>
                      </a:cubicBezTo>
                      <a:cubicBezTo>
                        <a:pt x="735" y="240"/>
                        <a:pt x="771" y="195"/>
                        <a:pt x="794" y="195"/>
                      </a:cubicBezTo>
                      <a:cubicBezTo>
                        <a:pt x="817" y="195"/>
                        <a:pt x="825" y="240"/>
                        <a:pt x="839" y="240"/>
                      </a:cubicBezTo>
                      <a:cubicBezTo>
                        <a:pt x="854" y="240"/>
                        <a:pt x="861" y="195"/>
                        <a:pt x="883" y="195"/>
                      </a:cubicBezTo>
                      <a:cubicBezTo>
                        <a:pt x="906" y="195"/>
                        <a:pt x="950" y="240"/>
                        <a:pt x="973" y="240"/>
                      </a:cubicBezTo>
                      <a:cubicBezTo>
                        <a:pt x="996" y="240"/>
                        <a:pt x="1002" y="188"/>
                        <a:pt x="1017" y="195"/>
                      </a:cubicBezTo>
                      <a:cubicBezTo>
                        <a:pt x="1032" y="202"/>
                        <a:pt x="1038" y="283"/>
                        <a:pt x="1062" y="285"/>
                      </a:cubicBezTo>
                      <a:cubicBezTo>
                        <a:pt x="1087" y="287"/>
                        <a:pt x="1133" y="214"/>
                        <a:pt x="1164" y="207"/>
                      </a:cubicBezTo>
                      <a:cubicBezTo>
                        <a:pt x="1193" y="200"/>
                        <a:pt x="1221" y="242"/>
                        <a:pt x="1241" y="240"/>
                      </a:cubicBezTo>
                      <a:cubicBezTo>
                        <a:pt x="1262" y="238"/>
                        <a:pt x="1271" y="195"/>
                        <a:pt x="1286" y="195"/>
                      </a:cubicBezTo>
                      <a:cubicBezTo>
                        <a:pt x="1286" y="195"/>
                        <a:pt x="1313" y="237"/>
                        <a:pt x="1331" y="240"/>
                      </a:cubicBezTo>
                      <a:cubicBezTo>
                        <a:pt x="1348" y="243"/>
                        <a:pt x="1376" y="213"/>
                        <a:pt x="1392" y="215"/>
                      </a:cubicBezTo>
                      <a:cubicBezTo>
                        <a:pt x="1407" y="217"/>
                        <a:pt x="1414" y="257"/>
                        <a:pt x="1427" y="255"/>
                      </a:cubicBezTo>
                      <a:cubicBezTo>
                        <a:pt x="1440" y="253"/>
                        <a:pt x="1446" y="201"/>
                        <a:pt x="1466" y="203"/>
                      </a:cubicBezTo>
                      <a:cubicBezTo>
                        <a:pt x="1487" y="205"/>
                        <a:pt x="1530" y="256"/>
                        <a:pt x="1553" y="267"/>
                      </a:cubicBezTo>
                      <a:cubicBezTo>
                        <a:pt x="1576" y="278"/>
                        <a:pt x="1589" y="276"/>
                        <a:pt x="1604" y="267"/>
                      </a:cubicBezTo>
                      <a:cubicBezTo>
                        <a:pt x="1619" y="258"/>
                        <a:pt x="1628" y="212"/>
                        <a:pt x="1643" y="215"/>
                      </a:cubicBezTo>
                      <a:cubicBezTo>
                        <a:pt x="1643" y="215"/>
                        <a:pt x="1684" y="286"/>
                        <a:pt x="1698" y="283"/>
                      </a:cubicBezTo>
                      <a:cubicBezTo>
                        <a:pt x="1713" y="280"/>
                        <a:pt x="1711" y="202"/>
                        <a:pt x="1732" y="195"/>
                      </a:cubicBezTo>
                      <a:cubicBezTo>
                        <a:pt x="1753" y="188"/>
                        <a:pt x="1799" y="240"/>
                        <a:pt x="1821" y="240"/>
                      </a:cubicBezTo>
                      <a:cubicBezTo>
                        <a:pt x="1844" y="240"/>
                        <a:pt x="1843" y="195"/>
                        <a:pt x="1866" y="195"/>
                      </a:cubicBezTo>
                      <a:cubicBezTo>
                        <a:pt x="1888" y="195"/>
                        <a:pt x="1933" y="240"/>
                        <a:pt x="1956" y="240"/>
                      </a:cubicBezTo>
                      <a:cubicBezTo>
                        <a:pt x="1979" y="240"/>
                        <a:pt x="1986" y="195"/>
                        <a:pt x="2000" y="195"/>
                      </a:cubicBezTo>
                      <a:cubicBezTo>
                        <a:pt x="2015" y="195"/>
                        <a:pt x="2031" y="255"/>
                        <a:pt x="2045" y="240"/>
                      </a:cubicBezTo>
                      <a:cubicBezTo>
                        <a:pt x="2060" y="225"/>
                        <a:pt x="2074" y="209"/>
                        <a:pt x="2090" y="195"/>
                      </a:cubicBezTo>
                      <a:cubicBezTo>
                        <a:pt x="2093" y="192"/>
                        <a:pt x="2095" y="188"/>
                        <a:pt x="2101" y="191"/>
                      </a:cubicBezTo>
                      <a:cubicBezTo>
                        <a:pt x="2106" y="194"/>
                        <a:pt x="2112" y="207"/>
                        <a:pt x="2112" y="207"/>
                      </a:cubicBezTo>
                      <a:cubicBezTo>
                        <a:pt x="2125" y="215"/>
                        <a:pt x="2160" y="242"/>
                        <a:pt x="2179" y="240"/>
                      </a:cubicBezTo>
                      <a:cubicBezTo>
                        <a:pt x="2198" y="238"/>
                        <a:pt x="2209" y="195"/>
                        <a:pt x="2223" y="195"/>
                      </a:cubicBezTo>
                      <a:cubicBezTo>
                        <a:pt x="2238" y="195"/>
                        <a:pt x="2261" y="240"/>
                        <a:pt x="2268" y="240"/>
                      </a:cubicBezTo>
                      <a:cubicBezTo>
                        <a:pt x="2275" y="240"/>
                        <a:pt x="2262" y="196"/>
                        <a:pt x="2268" y="195"/>
                      </a:cubicBezTo>
                      <a:lnTo>
                        <a:pt x="2320" y="234"/>
                      </a:lnTo>
                      <a:lnTo>
                        <a:pt x="2296" y="14"/>
                      </a:lnTo>
                      <a:lnTo>
                        <a:pt x="542" y="13"/>
                      </a:lnTo>
                      <a:cubicBezTo>
                        <a:pt x="194" y="13"/>
                        <a:pt x="286" y="0"/>
                        <a:pt x="205" y="13"/>
                      </a:cubicBezTo>
                      <a:cubicBezTo>
                        <a:pt x="124" y="26"/>
                        <a:pt x="90" y="54"/>
                        <a:pt x="57" y="93"/>
                      </a:cubicBezTo>
                      <a:cubicBezTo>
                        <a:pt x="24" y="132"/>
                        <a:pt x="0" y="223"/>
                        <a:pt x="4" y="247"/>
                      </a:cubicBezTo>
                      <a:cubicBezTo>
                        <a:pt x="9" y="272"/>
                        <a:pt x="58" y="247"/>
                        <a:pt x="80" y="240"/>
                      </a:cubicBezTo>
                      <a:close/>
                    </a:path>
                  </a:pathLst>
                </a:custGeom>
                <a:solidFill>
                  <a:srgbClr val="ad73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未知"/>
                <p:cNvSpPr/>
                <p:nvPr/>
              </p:nvSpPr>
              <p:spPr>
                <a:xfrm>
                  <a:off x="4780080" y="3650760"/>
                  <a:ext cx="1549080" cy="168120"/>
                </a:xfrm>
                <a:custGeom>
                  <a:avLst/>
                  <a:gdLst/>
                  <a:ahLst/>
                  <a:rect l="l" t="t" r="r" b="b"/>
                  <a:pathLst>
                    <a:path w="2304" h="286">
                      <a:moveTo>
                        <a:pt x="70" y="239"/>
                      </a:moveTo>
                      <a:cubicBezTo>
                        <a:pt x="92" y="232"/>
                        <a:pt x="135" y="194"/>
                        <a:pt x="158" y="194"/>
                      </a:cubicBezTo>
                      <a:cubicBezTo>
                        <a:pt x="180" y="194"/>
                        <a:pt x="188" y="239"/>
                        <a:pt x="203" y="239"/>
                      </a:cubicBezTo>
                      <a:cubicBezTo>
                        <a:pt x="217" y="239"/>
                        <a:pt x="224" y="194"/>
                        <a:pt x="246" y="194"/>
                      </a:cubicBezTo>
                      <a:cubicBezTo>
                        <a:pt x="269" y="194"/>
                        <a:pt x="313" y="239"/>
                        <a:pt x="335" y="239"/>
                      </a:cubicBezTo>
                      <a:cubicBezTo>
                        <a:pt x="358" y="239"/>
                        <a:pt x="364" y="194"/>
                        <a:pt x="379" y="194"/>
                      </a:cubicBezTo>
                      <a:cubicBezTo>
                        <a:pt x="394" y="194"/>
                        <a:pt x="409" y="239"/>
                        <a:pt x="424" y="239"/>
                      </a:cubicBezTo>
                      <a:cubicBezTo>
                        <a:pt x="439" y="239"/>
                        <a:pt x="445" y="194"/>
                        <a:pt x="468" y="194"/>
                      </a:cubicBezTo>
                      <a:cubicBezTo>
                        <a:pt x="490" y="194"/>
                        <a:pt x="534" y="239"/>
                        <a:pt x="556" y="239"/>
                      </a:cubicBezTo>
                      <a:cubicBezTo>
                        <a:pt x="579" y="239"/>
                        <a:pt x="578" y="194"/>
                        <a:pt x="600" y="194"/>
                      </a:cubicBezTo>
                      <a:cubicBezTo>
                        <a:pt x="623" y="194"/>
                        <a:pt x="660" y="239"/>
                        <a:pt x="689" y="239"/>
                      </a:cubicBezTo>
                      <a:cubicBezTo>
                        <a:pt x="718" y="239"/>
                        <a:pt x="754" y="194"/>
                        <a:pt x="777" y="194"/>
                      </a:cubicBezTo>
                      <a:cubicBezTo>
                        <a:pt x="799" y="194"/>
                        <a:pt x="807" y="239"/>
                        <a:pt x="822" y="239"/>
                      </a:cubicBezTo>
                      <a:cubicBezTo>
                        <a:pt x="836" y="239"/>
                        <a:pt x="843" y="194"/>
                        <a:pt x="865" y="194"/>
                      </a:cubicBezTo>
                      <a:cubicBezTo>
                        <a:pt x="888" y="194"/>
                        <a:pt x="932" y="239"/>
                        <a:pt x="954" y="239"/>
                      </a:cubicBezTo>
                      <a:cubicBezTo>
                        <a:pt x="977" y="239"/>
                        <a:pt x="983" y="187"/>
                        <a:pt x="998" y="194"/>
                      </a:cubicBezTo>
                      <a:cubicBezTo>
                        <a:pt x="1013" y="201"/>
                        <a:pt x="1018" y="282"/>
                        <a:pt x="1043" y="284"/>
                      </a:cubicBezTo>
                      <a:cubicBezTo>
                        <a:pt x="1067" y="286"/>
                        <a:pt x="1113" y="213"/>
                        <a:pt x="1142" y="206"/>
                      </a:cubicBezTo>
                      <a:cubicBezTo>
                        <a:pt x="1172" y="199"/>
                        <a:pt x="1199" y="241"/>
                        <a:pt x="1219" y="239"/>
                      </a:cubicBezTo>
                      <a:cubicBezTo>
                        <a:pt x="1240" y="237"/>
                        <a:pt x="1249" y="194"/>
                        <a:pt x="1263" y="194"/>
                      </a:cubicBezTo>
                      <a:cubicBezTo>
                        <a:pt x="1263" y="194"/>
                        <a:pt x="1290" y="236"/>
                        <a:pt x="1308" y="239"/>
                      </a:cubicBezTo>
                      <a:cubicBezTo>
                        <a:pt x="1326" y="242"/>
                        <a:pt x="1353" y="212"/>
                        <a:pt x="1368" y="214"/>
                      </a:cubicBezTo>
                      <a:cubicBezTo>
                        <a:pt x="1384" y="216"/>
                        <a:pt x="1391" y="256"/>
                        <a:pt x="1404" y="254"/>
                      </a:cubicBezTo>
                      <a:cubicBezTo>
                        <a:pt x="1416" y="252"/>
                        <a:pt x="1422" y="200"/>
                        <a:pt x="1443" y="202"/>
                      </a:cubicBezTo>
                      <a:cubicBezTo>
                        <a:pt x="1463" y="204"/>
                        <a:pt x="1506" y="255"/>
                        <a:pt x="1528" y="266"/>
                      </a:cubicBezTo>
                      <a:cubicBezTo>
                        <a:pt x="1551" y="277"/>
                        <a:pt x="1564" y="275"/>
                        <a:pt x="1579" y="266"/>
                      </a:cubicBezTo>
                      <a:cubicBezTo>
                        <a:pt x="1594" y="257"/>
                        <a:pt x="1602" y="211"/>
                        <a:pt x="1618" y="214"/>
                      </a:cubicBezTo>
                      <a:cubicBezTo>
                        <a:pt x="1618" y="214"/>
                        <a:pt x="1658" y="285"/>
                        <a:pt x="1673" y="282"/>
                      </a:cubicBezTo>
                      <a:cubicBezTo>
                        <a:pt x="1687" y="279"/>
                        <a:pt x="1685" y="201"/>
                        <a:pt x="1706" y="194"/>
                      </a:cubicBezTo>
                      <a:cubicBezTo>
                        <a:pt x="1726" y="187"/>
                        <a:pt x="1772" y="239"/>
                        <a:pt x="1794" y="239"/>
                      </a:cubicBezTo>
                      <a:cubicBezTo>
                        <a:pt x="1817" y="239"/>
                        <a:pt x="1816" y="194"/>
                        <a:pt x="1838" y="194"/>
                      </a:cubicBezTo>
                      <a:cubicBezTo>
                        <a:pt x="1861" y="194"/>
                        <a:pt x="1905" y="239"/>
                        <a:pt x="1927" y="239"/>
                      </a:cubicBezTo>
                      <a:cubicBezTo>
                        <a:pt x="1949" y="239"/>
                        <a:pt x="1956" y="194"/>
                        <a:pt x="1971" y="194"/>
                      </a:cubicBezTo>
                      <a:cubicBezTo>
                        <a:pt x="1985" y="194"/>
                        <a:pt x="2001" y="254"/>
                        <a:pt x="2016" y="239"/>
                      </a:cubicBezTo>
                      <a:cubicBezTo>
                        <a:pt x="2030" y="224"/>
                        <a:pt x="2044" y="208"/>
                        <a:pt x="2060" y="194"/>
                      </a:cubicBezTo>
                      <a:cubicBezTo>
                        <a:pt x="2062" y="191"/>
                        <a:pt x="2064" y="187"/>
                        <a:pt x="2070" y="190"/>
                      </a:cubicBezTo>
                      <a:cubicBezTo>
                        <a:pt x="2076" y="193"/>
                        <a:pt x="2082" y="206"/>
                        <a:pt x="2082" y="206"/>
                      </a:cubicBezTo>
                      <a:cubicBezTo>
                        <a:pt x="2095" y="214"/>
                        <a:pt x="2130" y="241"/>
                        <a:pt x="2148" y="239"/>
                      </a:cubicBezTo>
                      <a:cubicBezTo>
                        <a:pt x="2167" y="237"/>
                        <a:pt x="2177" y="194"/>
                        <a:pt x="2192" y="194"/>
                      </a:cubicBezTo>
                      <a:cubicBezTo>
                        <a:pt x="2207" y="194"/>
                        <a:pt x="2229" y="239"/>
                        <a:pt x="2236" y="239"/>
                      </a:cubicBezTo>
                      <a:cubicBezTo>
                        <a:pt x="2243" y="239"/>
                        <a:pt x="2230" y="195"/>
                        <a:pt x="2236" y="194"/>
                      </a:cubicBezTo>
                      <a:lnTo>
                        <a:pt x="2304" y="231"/>
                      </a:lnTo>
                      <a:lnTo>
                        <a:pt x="2280" y="3"/>
                      </a:lnTo>
                      <a:lnTo>
                        <a:pt x="452" y="0"/>
                      </a:lnTo>
                      <a:cubicBezTo>
                        <a:pt x="93" y="7"/>
                        <a:pt x="199" y="10"/>
                        <a:pt x="124" y="47"/>
                      </a:cubicBezTo>
                      <a:cubicBezTo>
                        <a:pt x="49" y="84"/>
                        <a:pt x="9" y="191"/>
                        <a:pt x="0" y="223"/>
                      </a:cubicBezTo>
                      <a:cubicBezTo>
                        <a:pt x="5" y="248"/>
                        <a:pt x="48" y="246"/>
                        <a:pt x="70" y="239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未知"/>
                <p:cNvSpPr/>
                <p:nvPr/>
              </p:nvSpPr>
              <p:spPr>
                <a:xfrm>
                  <a:off x="4794120" y="3623760"/>
                  <a:ext cx="1542600" cy="165600"/>
                </a:xfrm>
                <a:custGeom>
                  <a:avLst/>
                  <a:gdLst/>
                  <a:ahLst/>
                  <a:rect l="l" t="t" r="r" b="b"/>
                  <a:pathLst>
                    <a:path w="2294" h="282">
                      <a:moveTo>
                        <a:pt x="52" y="235"/>
                      </a:moveTo>
                      <a:cubicBezTo>
                        <a:pt x="74" y="228"/>
                        <a:pt x="117" y="190"/>
                        <a:pt x="140" y="190"/>
                      </a:cubicBezTo>
                      <a:cubicBezTo>
                        <a:pt x="162" y="190"/>
                        <a:pt x="170" y="235"/>
                        <a:pt x="185" y="235"/>
                      </a:cubicBezTo>
                      <a:cubicBezTo>
                        <a:pt x="199" y="235"/>
                        <a:pt x="206" y="190"/>
                        <a:pt x="228" y="190"/>
                      </a:cubicBezTo>
                      <a:cubicBezTo>
                        <a:pt x="251" y="190"/>
                        <a:pt x="295" y="235"/>
                        <a:pt x="317" y="235"/>
                      </a:cubicBezTo>
                      <a:cubicBezTo>
                        <a:pt x="340" y="235"/>
                        <a:pt x="346" y="190"/>
                        <a:pt x="361" y="190"/>
                      </a:cubicBezTo>
                      <a:cubicBezTo>
                        <a:pt x="376" y="190"/>
                        <a:pt x="391" y="235"/>
                        <a:pt x="406" y="235"/>
                      </a:cubicBezTo>
                      <a:cubicBezTo>
                        <a:pt x="421" y="235"/>
                        <a:pt x="427" y="190"/>
                        <a:pt x="450" y="190"/>
                      </a:cubicBezTo>
                      <a:cubicBezTo>
                        <a:pt x="472" y="190"/>
                        <a:pt x="516" y="235"/>
                        <a:pt x="538" y="235"/>
                      </a:cubicBezTo>
                      <a:cubicBezTo>
                        <a:pt x="561" y="235"/>
                        <a:pt x="560" y="190"/>
                        <a:pt x="582" y="190"/>
                      </a:cubicBezTo>
                      <a:cubicBezTo>
                        <a:pt x="605" y="190"/>
                        <a:pt x="642" y="235"/>
                        <a:pt x="671" y="235"/>
                      </a:cubicBezTo>
                      <a:cubicBezTo>
                        <a:pt x="700" y="235"/>
                        <a:pt x="736" y="190"/>
                        <a:pt x="759" y="190"/>
                      </a:cubicBezTo>
                      <a:cubicBezTo>
                        <a:pt x="781" y="190"/>
                        <a:pt x="789" y="235"/>
                        <a:pt x="804" y="235"/>
                      </a:cubicBezTo>
                      <a:cubicBezTo>
                        <a:pt x="818" y="235"/>
                        <a:pt x="825" y="190"/>
                        <a:pt x="847" y="190"/>
                      </a:cubicBezTo>
                      <a:cubicBezTo>
                        <a:pt x="870" y="190"/>
                        <a:pt x="914" y="235"/>
                        <a:pt x="936" y="235"/>
                      </a:cubicBezTo>
                      <a:cubicBezTo>
                        <a:pt x="959" y="235"/>
                        <a:pt x="965" y="183"/>
                        <a:pt x="980" y="190"/>
                      </a:cubicBezTo>
                      <a:cubicBezTo>
                        <a:pt x="995" y="197"/>
                        <a:pt x="1000" y="278"/>
                        <a:pt x="1025" y="280"/>
                      </a:cubicBezTo>
                      <a:cubicBezTo>
                        <a:pt x="1049" y="282"/>
                        <a:pt x="1095" y="209"/>
                        <a:pt x="1124" y="202"/>
                      </a:cubicBezTo>
                      <a:cubicBezTo>
                        <a:pt x="1154" y="195"/>
                        <a:pt x="1181" y="237"/>
                        <a:pt x="1201" y="235"/>
                      </a:cubicBezTo>
                      <a:cubicBezTo>
                        <a:pt x="1222" y="233"/>
                        <a:pt x="1231" y="190"/>
                        <a:pt x="1245" y="190"/>
                      </a:cubicBezTo>
                      <a:cubicBezTo>
                        <a:pt x="1245" y="190"/>
                        <a:pt x="1272" y="232"/>
                        <a:pt x="1290" y="235"/>
                      </a:cubicBezTo>
                      <a:cubicBezTo>
                        <a:pt x="1308" y="238"/>
                        <a:pt x="1335" y="208"/>
                        <a:pt x="1350" y="210"/>
                      </a:cubicBezTo>
                      <a:cubicBezTo>
                        <a:pt x="1366" y="212"/>
                        <a:pt x="1373" y="252"/>
                        <a:pt x="1386" y="250"/>
                      </a:cubicBezTo>
                      <a:cubicBezTo>
                        <a:pt x="1398" y="248"/>
                        <a:pt x="1404" y="196"/>
                        <a:pt x="1425" y="198"/>
                      </a:cubicBezTo>
                      <a:cubicBezTo>
                        <a:pt x="1445" y="200"/>
                        <a:pt x="1488" y="251"/>
                        <a:pt x="1510" y="262"/>
                      </a:cubicBezTo>
                      <a:cubicBezTo>
                        <a:pt x="1533" y="273"/>
                        <a:pt x="1546" y="271"/>
                        <a:pt x="1561" y="262"/>
                      </a:cubicBezTo>
                      <a:cubicBezTo>
                        <a:pt x="1576" y="253"/>
                        <a:pt x="1584" y="207"/>
                        <a:pt x="1600" y="210"/>
                      </a:cubicBezTo>
                      <a:cubicBezTo>
                        <a:pt x="1600" y="210"/>
                        <a:pt x="1640" y="281"/>
                        <a:pt x="1655" y="278"/>
                      </a:cubicBezTo>
                      <a:cubicBezTo>
                        <a:pt x="1669" y="275"/>
                        <a:pt x="1667" y="197"/>
                        <a:pt x="1688" y="190"/>
                      </a:cubicBezTo>
                      <a:cubicBezTo>
                        <a:pt x="1708" y="183"/>
                        <a:pt x="1754" y="235"/>
                        <a:pt x="1776" y="235"/>
                      </a:cubicBezTo>
                      <a:cubicBezTo>
                        <a:pt x="1799" y="235"/>
                        <a:pt x="1798" y="190"/>
                        <a:pt x="1820" y="190"/>
                      </a:cubicBezTo>
                      <a:cubicBezTo>
                        <a:pt x="1843" y="190"/>
                        <a:pt x="1887" y="235"/>
                        <a:pt x="1909" y="235"/>
                      </a:cubicBezTo>
                      <a:cubicBezTo>
                        <a:pt x="1931" y="235"/>
                        <a:pt x="1938" y="190"/>
                        <a:pt x="1953" y="190"/>
                      </a:cubicBezTo>
                      <a:cubicBezTo>
                        <a:pt x="1967" y="190"/>
                        <a:pt x="1983" y="250"/>
                        <a:pt x="1998" y="235"/>
                      </a:cubicBezTo>
                      <a:cubicBezTo>
                        <a:pt x="2012" y="220"/>
                        <a:pt x="2026" y="204"/>
                        <a:pt x="2042" y="190"/>
                      </a:cubicBezTo>
                      <a:cubicBezTo>
                        <a:pt x="2044" y="187"/>
                        <a:pt x="2046" y="183"/>
                        <a:pt x="2052" y="186"/>
                      </a:cubicBezTo>
                      <a:cubicBezTo>
                        <a:pt x="2058" y="189"/>
                        <a:pt x="2064" y="202"/>
                        <a:pt x="2064" y="202"/>
                      </a:cubicBezTo>
                      <a:cubicBezTo>
                        <a:pt x="2077" y="210"/>
                        <a:pt x="2112" y="237"/>
                        <a:pt x="2130" y="235"/>
                      </a:cubicBezTo>
                      <a:cubicBezTo>
                        <a:pt x="2149" y="233"/>
                        <a:pt x="2159" y="190"/>
                        <a:pt x="2174" y="190"/>
                      </a:cubicBezTo>
                      <a:cubicBezTo>
                        <a:pt x="2189" y="190"/>
                        <a:pt x="2280" y="253"/>
                        <a:pt x="2287" y="253"/>
                      </a:cubicBezTo>
                      <a:cubicBezTo>
                        <a:pt x="2294" y="253"/>
                        <a:pt x="2288" y="234"/>
                        <a:pt x="2287" y="193"/>
                      </a:cubicBezTo>
                      <a:lnTo>
                        <a:pt x="2267" y="1"/>
                      </a:lnTo>
                      <a:lnTo>
                        <a:pt x="432" y="8"/>
                      </a:lnTo>
                      <a:cubicBezTo>
                        <a:pt x="91" y="9"/>
                        <a:pt x="278" y="0"/>
                        <a:pt x="222" y="10"/>
                      </a:cubicBezTo>
                      <a:cubicBezTo>
                        <a:pt x="166" y="20"/>
                        <a:pt x="131" y="30"/>
                        <a:pt x="94" y="66"/>
                      </a:cubicBezTo>
                      <a:cubicBezTo>
                        <a:pt x="57" y="102"/>
                        <a:pt x="7" y="196"/>
                        <a:pt x="0" y="224"/>
                      </a:cubicBezTo>
                      <a:cubicBezTo>
                        <a:pt x="5" y="249"/>
                        <a:pt x="30" y="242"/>
                        <a:pt x="52" y="2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未知"/>
                <p:cNvSpPr/>
                <p:nvPr/>
              </p:nvSpPr>
              <p:spPr>
                <a:xfrm>
                  <a:off x="4824360" y="3568680"/>
                  <a:ext cx="1501920" cy="168120"/>
                </a:xfrm>
                <a:custGeom>
                  <a:avLst/>
                  <a:gdLst/>
                  <a:ahLst/>
                  <a:rect l="l" t="t" r="r" b="b"/>
                  <a:pathLst>
                    <a:path w="2234" h="286">
                      <a:moveTo>
                        <a:pt x="52" y="239"/>
                      </a:moveTo>
                      <a:cubicBezTo>
                        <a:pt x="74" y="232"/>
                        <a:pt x="117" y="194"/>
                        <a:pt x="140" y="194"/>
                      </a:cubicBezTo>
                      <a:cubicBezTo>
                        <a:pt x="162" y="194"/>
                        <a:pt x="170" y="239"/>
                        <a:pt x="185" y="239"/>
                      </a:cubicBezTo>
                      <a:cubicBezTo>
                        <a:pt x="199" y="239"/>
                        <a:pt x="206" y="194"/>
                        <a:pt x="228" y="194"/>
                      </a:cubicBezTo>
                      <a:cubicBezTo>
                        <a:pt x="251" y="194"/>
                        <a:pt x="295" y="239"/>
                        <a:pt x="317" y="239"/>
                      </a:cubicBezTo>
                      <a:cubicBezTo>
                        <a:pt x="340" y="239"/>
                        <a:pt x="346" y="194"/>
                        <a:pt x="361" y="194"/>
                      </a:cubicBezTo>
                      <a:cubicBezTo>
                        <a:pt x="376" y="194"/>
                        <a:pt x="391" y="239"/>
                        <a:pt x="406" y="239"/>
                      </a:cubicBezTo>
                      <a:cubicBezTo>
                        <a:pt x="421" y="239"/>
                        <a:pt x="427" y="194"/>
                        <a:pt x="450" y="194"/>
                      </a:cubicBezTo>
                      <a:cubicBezTo>
                        <a:pt x="472" y="194"/>
                        <a:pt x="516" y="239"/>
                        <a:pt x="538" y="239"/>
                      </a:cubicBezTo>
                      <a:cubicBezTo>
                        <a:pt x="561" y="239"/>
                        <a:pt x="560" y="194"/>
                        <a:pt x="582" y="194"/>
                      </a:cubicBezTo>
                      <a:cubicBezTo>
                        <a:pt x="605" y="194"/>
                        <a:pt x="642" y="239"/>
                        <a:pt x="671" y="239"/>
                      </a:cubicBezTo>
                      <a:cubicBezTo>
                        <a:pt x="700" y="239"/>
                        <a:pt x="736" y="194"/>
                        <a:pt x="759" y="194"/>
                      </a:cubicBezTo>
                      <a:cubicBezTo>
                        <a:pt x="781" y="194"/>
                        <a:pt x="789" y="239"/>
                        <a:pt x="804" y="239"/>
                      </a:cubicBezTo>
                      <a:cubicBezTo>
                        <a:pt x="818" y="239"/>
                        <a:pt x="825" y="194"/>
                        <a:pt x="847" y="194"/>
                      </a:cubicBezTo>
                      <a:cubicBezTo>
                        <a:pt x="870" y="194"/>
                        <a:pt x="914" y="239"/>
                        <a:pt x="936" y="239"/>
                      </a:cubicBezTo>
                      <a:cubicBezTo>
                        <a:pt x="959" y="239"/>
                        <a:pt x="965" y="187"/>
                        <a:pt x="980" y="194"/>
                      </a:cubicBezTo>
                      <a:cubicBezTo>
                        <a:pt x="995" y="201"/>
                        <a:pt x="1000" y="282"/>
                        <a:pt x="1025" y="284"/>
                      </a:cubicBezTo>
                      <a:cubicBezTo>
                        <a:pt x="1049" y="286"/>
                        <a:pt x="1095" y="213"/>
                        <a:pt x="1124" y="206"/>
                      </a:cubicBezTo>
                      <a:cubicBezTo>
                        <a:pt x="1154" y="199"/>
                        <a:pt x="1181" y="241"/>
                        <a:pt x="1201" y="239"/>
                      </a:cubicBezTo>
                      <a:cubicBezTo>
                        <a:pt x="1222" y="237"/>
                        <a:pt x="1231" y="194"/>
                        <a:pt x="1245" y="194"/>
                      </a:cubicBezTo>
                      <a:cubicBezTo>
                        <a:pt x="1245" y="194"/>
                        <a:pt x="1272" y="236"/>
                        <a:pt x="1290" y="239"/>
                      </a:cubicBezTo>
                      <a:cubicBezTo>
                        <a:pt x="1308" y="242"/>
                        <a:pt x="1335" y="212"/>
                        <a:pt x="1350" y="214"/>
                      </a:cubicBezTo>
                      <a:cubicBezTo>
                        <a:pt x="1366" y="216"/>
                        <a:pt x="1373" y="256"/>
                        <a:pt x="1386" y="254"/>
                      </a:cubicBezTo>
                      <a:cubicBezTo>
                        <a:pt x="1398" y="252"/>
                        <a:pt x="1404" y="200"/>
                        <a:pt x="1425" y="202"/>
                      </a:cubicBezTo>
                      <a:cubicBezTo>
                        <a:pt x="1445" y="204"/>
                        <a:pt x="1488" y="255"/>
                        <a:pt x="1510" y="266"/>
                      </a:cubicBezTo>
                      <a:cubicBezTo>
                        <a:pt x="1533" y="277"/>
                        <a:pt x="1546" y="275"/>
                        <a:pt x="1561" y="266"/>
                      </a:cubicBezTo>
                      <a:cubicBezTo>
                        <a:pt x="1576" y="257"/>
                        <a:pt x="1584" y="211"/>
                        <a:pt x="1600" y="214"/>
                      </a:cubicBezTo>
                      <a:cubicBezTo>
                        <a:pt x="1600" y="214"/>
                        <a:pt x="1640" y="285"/>
                        <a:pt x="1655" y="282"/>
                      </a:cubicBezTo>
                      <a:cubicBezTo>
                        <a:pt x="1669" y="279"/>
                        <a:pt x="1667" y="201"/>
                        <a:pt x="1688" y="194"/>
                      </a:cubicBezTo>
                      <a:cubicBezTo>
                        <a:pt x="1708" y="187"/>
                        <a:pt x="1754" y="239"/>
                        <a:pt x="1776" y="239"/>
                      </a:cubicBezTo>
                      <a:cubicBezTo>
                        <a:pt x="1799" y="239"/>
                        <a:pt x="1798" y="194"/>
                        <a:pt x="1820" y="194"/>
                      </a:cubicBezTo>
                      <a:cubicBezTo>
                        <a:pt x="1843" y="194"/>
                        <a:pt x="1887" y="239"/>
                        <a:pt x="1909" y="239"/>
                      </a:cubicBezTo>
                      <a:cubicBezTo>
                        <a:pt x="1931" y="239"/>
                        <a:pt x="1938" y="194"/>
                        <a:pt x="1953" y="194"/>
                      </a:cubicBezTo>
                      <a:cubicBezTo>
                        <a:pt x="1967" y="194"/>
                        <a:pt x="1983" y="254"/>
                        <a:pt x="1998" y="239"/>
                      </a:cubicBezTo>
                      <a:cubicBezTo>
                        <a:pt x="2012" y="224"/>
                        <a:pt x="2026" y="208"/>
                        <a:pt x="2042" y="194"/>
                      </a:cubicBezTo>
                      <a:cubicBezTo>
                        <a:pt x="2044" y="191"/>
                        <a:pt x="2046" y="187"/>
                        <a:pt x="2052" y="190"/>
                      </a:cubicBezTo>
                      <a:cubicBezTo>
                        <a:pt x="2058" y="193"/>
                        <a:pt x="2064" y="206"/>
                        <a:pt x="2064" y="206"/>
                      </a:cubicBezTo>
                      <a:cubicBezTo>
                        <a:pt x="2077" y="214"/>
                        <a:pt x="2112" y="241"/>
                        <a:pt x="2130" y="239"/>
                      </a:cubicBezTo>
                      <a:cubicBezTo>
                        <a:pt x="2149" y="237"/>
                        <a:pt x="2155" y="197"/>
                        <a:pt x="2174" y="194"/>
                      </a:cubicBezTo>
                      <a:cubicBezTo>
                        <a:pt x="2193" y="191"/>
                        <a:pt x="2229" y="258"/>
                        <a:pt x="2234" y="227"/>
                      </a:cubicBezTo>
                      <a:lnTo>
                        <a:pt x="2190" y="11"/>
                      </a:lnTo>
                      <a:lnTo>
                        <a:pt x="630" y="11"/>
                      </a:lnTo>
                      <a:cubicBezTo>
                        <a:pt x="338" y="10"/>
                        <a:pt x="514" y="0"/>
                        <a:pt x="438" y="7"/>
                      </a:cubicBezTo>
                      <a:cubicBezTo>
                        <a:pt x="362" y="14"/>
                        <a:pt x="247" y="18"/>
                        <a:pt x="174" y="55"/>
                      </a:cubicBezTo>
                      <a:cubicBezTo>
                        <a:pt x="101" y="92"/>
                        <a:pt x="20" y="197"/>
                        <a:pt x="0" y="228"/>
                      </a:cubicBezTo>
                      <a:cubicBezTo>
                        <a:pt x="5" y="253"/>
                        <a:pt x="30" y="246"/>
                        <a:pt x="52" y="239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未知"/>
                <p:cNvSpPr/>
                <p:nvPr/>
              </p:nvSpPr>
              <p:spPr>
                <a:xfrm>
                  <a:off x="4842000" y="3546720"/>
                  <a:ext cx="1476000" cy="168120"/>
                </a:xfrm>
                <a:custGeom>
                  <a:avLst/>
                  <a:gdLst/>
                  <a:ahLst/>
                  <a:rect l="l" t="t" r="r" b="b"/>
                  <a:pathLst>
                    <a:path w="2195" h="286">
                      <a:moveTo>
                        <a:pt x="52" y="239"/>
                      </a:moveTo>
                      <a:cubicBezTo>
                        <a:pt x="74" y="232"/>
                        <a:pt x="117" y="194"/>
                        <a:pt x="140" y="194"/>
                      </a:cubicBezTo>
                      <a:cubicBezTo>
                        <a:pt x="162" y="194"/>
                        <a:pt x="170" y="239"/>
                        <a:pt x="185" y="239"/>
                      </a:cubicBezTo>
                      <a:cubicBezTo>
                        <a:pt x="199" y="239"/>
                        <a:pt x="206" y="194"/>
                        <a:pt x="228" y="194"/>
                      </a:cubicBezTo>
                      <a:cubicBezTo>
                        <a:pt x="251" y="194"/>
                        <a:pt x="295" y="239"/>
                        <a:pt x="317" y="239"/>
                      </a:cubicBezTo>
                      <a:cubicBezTo>
                        <a:pt x="340" y="239"/>
                        <a:pt x="346" y="194"/>
                        <a:pt x="361" y="194"/>
                      </a:cubicBezTo>
                      <a:cubicBezTo>
                        <a:pt x="376" y="194"/>
                        <a:pt x="391" y="239"/>
                        <a:pt x="406" y="239"/>
                      </a:cubicBezTo>
                      <a:cubicBezTo>
                        <a:pt x="421" y="239"/>
                        <a:pt x="427" y="194"/>
                        <a:pt x="450" y="194"/>
                      </a:cubicBezTo>
                      <a:cubicBezTo>
                        <a:pt x="472" y="194"/>
                        <a:pt x="516" y="239"/>
                        <a:pt x="538" y="239"/>
                      </a:cubicBezTo>
                      <a:cubicBezTo>
                        <a:pt x="561" y="239"/>
                        <a:pt x="560" y="194"/>
                        <a:pt x="582" y="194"/>
                      </a:cubicBezTo>
                      <a:cubicBezTo>
                        <a:pt x="605" y="194"/>
                        <a:pt x="642" y="239"/>
                        <a:pt x="671" y="239"/>
                      </a:cubicBezTo>
                      <a:cubicBezTo>
                        <a:pt x="700" y="239"/>
                        <a:pt x="736" y="194"/>
                        <a:pt x="759" y="194"/>
                      </a:cubicBezTo>
                      <a:cubicBezTo>
                        <a:pt x="781" y="194"/>
                        <a:pt x="789" y="239"/>
                        <a:pt x="804" y="239"/>
                      </a:cubicBezTo>
                      <a:cubicBezTo>
                        <a:pt x="818" y="239"/>
                        <a:pt x="825" y="194"/>
                        <a:pt x="847" y="194"/>
                      </a:cubicBezTo>
                      <a:cubicBezTo>
                        <a:pt x="870" y="194"/>
                        <a:pt x="914" y="239"/>
                        <a:pt x="936" y="239"/>
                      </a:cubicBezTo>
                      <a:cubicBezTo>
                        <a:pt x="959" y="239"/>
                        <a:pt x="965" y="187"/>
                        <a:pt x="980" y="194"/>
                      </a:cubicBezTo>
                      <a:cubicBezTo>
                        <a:pt x="995" y="201"/>
                        <a:pt x="1000" y="282"/>
                        <a:pt x="1025" y="284"/>
                      </a:cubicBezTo>
                      <a:cubicBezTo>
                        <a:pt x="1049" y="286"/>
                        <a:pt x="1095" y="213"/>
                        <a:pt x="1124" y="206"/>
                      </a:cubicBezTo>
                      <a:cubicBezTo>
                        <a:pt x="1154" y="199"/>
                        <a:pt x="1181" y="241"/>
                        <a:pt x="1201" y="239"/>
                      </a:cubicBezTo>
                      <a:cubicBezTo>
                        <a:pt x="1222" y="237"/>
                        <a:pt x="1231" y="194"/>
                        <a:pt x="1245" y="194"/>
                      </a:cubicBezTo>
                      <a:cubicBezTo>
                        <a:pt x="1245" y="194"/>
                        <a:pt x="1272" y="236"/>
                        <a:pt x="1290" y="239"/>
                      </a:cubicBezTo>
                      <a:cubicBezTo>
                        <a:pt x="1308" y="242"/>
                        <a:pt x="1335" y="212"/>
                        <a:pt x="1350" y="214"/>
                      </a:cubicBezTo>
                      <a:cubicBezTo>
                        <a:pt x="1366" y="216"/>
                        <a:pt x="1373" y="256"/>
                        <a:pt x="1386" y="254"/>
                      </a:cubicBezTo>
                      <a:cubicBezTo>
                        <a:pt x="1398" y="252"/>
                        <a:pt x="1404" y="200"/>
                        <a:pt x="1425" y="202"/>
                      </a:cubicBezTo>
                      <a:cubicBezTo>
                        <a:pt x="1445" y="204"/>
                        <a:pt x="1488" y="255"/>
                        <a:pt x="1510" y="266"/>
                      </a:cubicBezTo>
                      <a:cubicBezTo>
                        <a:pt x="1533" y="277"/>
                        <a:pt x="1546" y="275"/>
                        <a:pt x="1561" y="266"/>
                      </a:cubicBezTo>
                      <a:cubicBezTo>
                        <a:pt x="1576" y="257"/>
                        <a:pt x="1584" y="211"/>
                        <a:pt x="1600" y="214"/>
                      </a:cubicBezTo>
                      <a:cubicBezTo>
                        <a:pt x="1600" y="214"/>
                        <a:pt x="1640" y="285"/>
                        <a:pt x="1655" y="282"/>
                      </a:cubicBezTo>
                      <a:cubicBezTo>
                        <a:pt x="1669" y="279"/>
                        <a:pt x="1667" y="201"/>
                        <a:pt x="1688" y="194"/>
                      </a:cubicBezTo>
                      <a:cubicBezTo>
                        <a:pt x="1708" y="187"/>
                        <a:pt x="1754" y="239"/>
                        <a:pt x="1776" y="239"/>
                      </a:cubicBezTo>
                      <a:cubicBezTo>
                        <a:pt x="1799" y="239"/>
                        <a:pt x="1798" y="194"/>
                        <a:pt x="1820" y="194"/>
                      </a:cubicBezTo>
                      <a:cubicBezTo>
                        <a:pt x="1843" y="194"/>
                        <a:pt x="1887" y="239"/>
                        <a:pt x="1909" y="239"/>
                      </a:cubicBezTo>
                      <a:cubicBezTo>
                        <a:pt x="1931" y="239"/>
                        <a:pt x="1938" y="194"/>
                        <a:pt x="1953" y="194"/>
                      </a:cubicBezTo>
                      <a:cubicBezTo>
                        <a:pt x="1967" y="194"/>
                        <a:pt x="1983" y="254"/>
                        <a:pt x="1998" y="239"/>
                      </a:cubicBezTo>
                      <a:cubicBezTo>
                        <a:pt x="2012" y="224"/>
                        <a:pt x="2026" y="208"/>
                        <a:pt x="2042" y="194"/>
                      </a:cubicBezTo>
                      <a:cubicBezTo>
                        <a:pt x="2044" y="191"/>
                        <a:pt x="2046" y="187"/>
                        <a:pt x="2052" y="190"/>
                      </a:cubicBezTo>
                      <a:cubicBezTo>
                        <a:pt x="2058" y="193"/>
                        <a:pt x="2064" y="206"/>
                        <a:pt x="2064" y="206"/>
                      </a:cubicBezTo>
                      <a:cubicBezTo>
                        <a:pt x="2077" y="214"/>
                        <a:pt x="2112" y="241"/>
                        <a:pt x="2130" y="239"/>
                      </a:cubicBezTo>
                      <a:cubicBezTo>
                        <a:pt x="2149" y="237"/>
                        <a:pt x="2155" y="197"/>
                        <a:pt x="2174" y="194"/>
                      </a:cubicBezTo>
                      <a:cubicBezTo>
                        <a:pt x="2193" y="191"/>
                        <a:pt x="2195" y="257"/>
                        <a:pt x="2188" y="228"/>
                      </a:cubicBezTo>
                      <a:lnTo>
                        <a:pt x="2144" y="24"/>
                      </a:lnTo>
                      <a:lnTo>
                        <a:pt x="1260" y="0"/>
                      </a:lnTo>
                      <a:lnTo>
                        <a:pt x="692" y="18"/>
                      </a:lnTo>
                      <a:cubicBezTo>
                        <a:pt x="551" y="21"/>
                        <a:pt x="497" y="12"/>
                        <a:pt x="412" y="18"/>
                      </a:cubicBezTo>
                      <a:cubicBezTo>
                        <a:pt x="327" y="24"/>
                        <a:pt x="253" y="19"/>
                        <a:pt x="184" y="54"/>
                      </a:cubicBezTo>
                      <a:cubicBezTo>
                        <a:pt x="115" y="89"/>
                        <a:pt x="22" y="197"/>
                        <a:pt x="0" y="228"/>
                      </a:cubicBezTo>
                      <a:cubicBezTo>
                        <a:pt x="5" y="253"/>
                        <a:pt x="30" y="246"/>
                        <a:pt x="52" y="23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未知"/>
                <p:cNvSpPr/>
                <p:nvPr/>
              </p:nvSpPr>
              <p:spPr>
                <a:xfrm>
                  <a:off x="4885560" y="3490920"/>
                  <a:ext cx="1446120" cy="170280"/>
                </a:xfrm>
                <a:custGeom>
                  <a:avLst/>
                  <a:gdLst/>
                  <a:ahLst/>
                  <a:rect l="l" t="t" r="r" b="b"/>
                  <a:pathLst>
                    <a:path w="2151" h="290">
                      <a:moveTo>
                        <a:pt x="52" y="243"/>
                      </a:moveTo>
                      <a:cubicBezTo>
                        <a:pt x="74" y="236"/>
                        <a:pt x="117" y="198"/>
                        <a:pt x="140" y="198"/>
                      </a:cubicBezTo>
                      <a:cubicBezTo>
                        <a:pt x="162" y="198"/>
                        <a:pt x="170" y="243"/>
                        <a:pt x="185" y="243"/>
                      </a:cubicBezTo>
                      <a:cubicBezTo>
                        <a:pt x="199" y="243"/>
                        <a:pt x="206" y="198"/>
                        <a:pt x="228" y="198"/>
                      </a:cubicBezTo>
                      <a:cubicBezTo>
                        <a:pt x="251" y="198"/>
                        <a:pt x="295" y="243"/>
                        <a:pt x="317" y="243"/>
                      </a:cubicBezTo>
                      <a:cubicBezTo>
                        <a:pt x="340" y="243"/>
                        <a:pt x="346" y="198"/>
                        <a:pt x="361" y="198"/>
                      </a:cubicBezTo>
                      <a:cubicBezTo>
                        <a:pt x="376" y="198"/>
                        <a:pt x="391" y="243"/>
                        <a:pt x="406" y="243"/>
                      </a:cubicBezTo>
                      <a:cubicBezTo>
                        <a:pt x="421" y="243"/>
                        <a:pt x="427" y="198"/>
                        <a:pt x="450" y="198"/>
                      </a:cubicBezTo>
                      <a:cubicBezTo>
                        <a:pt x="472" y="198"/>
                        <a:pt x="516" y="243"/>
                        <a:pt x="538" y="243"/>
                      </a:cubicBezTo>
                      <a:cubicBezTo>
                        <a:pt x="561" y="243"/>
                        <a:pt x="560" y="198"/>
                        <a:pt x="582" y="198"/>
                      </a:cubicBezTo>
                      <a:cubicBezTo>
                        <a:pt x="605" y="198"/>
                        <a:pt x="642" y="243"/>
                        <a:pt x="671" y="243"/>
                      </a:cubicBezTo>
                      <a:cubicBezTo>
                        <a:pt x="700" y="243"/>
                        <a:pt x="736" y="198"/>
                        <a:pt x="759" y="198"/>
                      </a:cubicBezTo>
                      <a:cubicBezTo>
                        <a:pt x="781" y="198"/>
                        <a:pt x="789" y="243"/>
                        <a:pt x="804" y="243"/>
                      </a:cubicBezTo>
                      <a:cubicBezTo>
                        <a:pt x="818" y="243"/>
                        <a:pt x="825" y="198"/>
                        <a:pt x="847" y="198"/>
                      </a:cubicBezTo>
                      <a:cubicBezTo>
                        <a:pt x="870" y="198"/>
                        <a:pt x="914" y="243"/>
                        <a:pt x="936" y="243"/>
                      </a:cubicBezTo>
                      <a:cubicBezTo>
                        <a:pt x="959" y="243"/>
                        <a:pt x="965" y="191"/>
                        <a:pt x="980" y="198"/>
                      </a:cubicBezTo>
                      <a:cubicBezTo>
                        <a:pt x="995" y="205"/>
                        <a:pt x="1000" y="286"/>
                        <a:pt x="1025" y="288"/>
                      </a:cubicBezTo>
                      <a:cubicBezTo>
                        <a:pt x="1049" y="290"/>
                        <a:pt x="1095" y="217"/>
                        <a:pt x="1124" y="210"/>
                      </a:cubicBezTo>
                      <a:cubicBezTo>
                        <a:pt x="1154" y="203"/>
                        <a:pt x="1181" y="245"/>
                        <a:pt x="1201" y="243"/>
                      </a:cubicBezTo>
                      <a:cubicBezTo>
                        <a:pt x="1222" y="241"/>
                        <a:pt x="1231" y="198"/>
                        <a:pt x="1245" y="198"/>
                      </a:cubicBezTo>
                      <a:cubicBezTo>
                        <a:pt x="1245" y="198"/>
                        <a:pt x="1272" y="240"/>
                        <a:pt x="1290" y="243"/>
                      </a:cubicBezTo>
                      <a:cubicBezTo>
                        <a:pt x="1308" y="246"/>
                        <a:pt x="1335" y="216"/>
                        <a:pt x="1350" y="218"/>
                      </a:cubicBezTo>
                      <a:cubicBezTo>
                        <a:pt x="1366" y="220"/>
                        <a:pt x="1373" y="260"/>
                        <a:pt x="1386" y="258"/>
                      </a:cubicBezTo>
                      <a:cubicBezTo>
                        <a:pt x="1398" y="256"/>
                        <a:pt x="1404" y="204"/>
                        <a:pt x="1425" y="206"/>
                      </a:cubicBezTo>
                      <a:cubicBezTo>
                        <a:pt x="1445" y="208"/>
                        <a:pt x="1488" y="259"/>
                        <a:pt x="1510" y="270"/>
                      </a:cubicBezTo>
                      <a:cubicBezTo>
                        <a:pt x="1533" y="281"/>
                        <a:pt x="1546" y="279"/>
                        <a:pt x="1561" y="270"/>
                      </a:cubicBezTo>
                      <a:cubicBezTo>
                        <a:pt x="1576" y="261"/>
                        <a:pt x="1584" y="215"/>
                        <a:pt x="1600" y="218"/>
                      </a:cubicBezTo>
                      <a:cubicBezTo>
                        <a:pt x="1600" y="218"/>
                        <a:pt x="1640" y="289"/>
                        <a:pt x="1655" y="286"/>
                      </a:cubicBezTo>
                      <a:cubicBezTo>
                        <a:pt x="1669" y="283"/>
                        <a:pt x="1667" y="205"/>
                        <a:pt x="1688" y="198"/>
                      </a:cubicBezTo>
                      <a:cubicBezTo>
                        <a:pt x="1708" y="191"/>
                        <a:pt x="1754" y="243"/>
                        <a:pt x="1776" y="243"/>
                      </a:cubicBezTo>
                      <a:cubicBezTo>
                        <a:pt x="1799" y="243"/>
                        <a:pt x="1798" y="198"/>
                        <a:pt x="1820" y="198"/>
                      </a:cubicBezTo>
                      <a:cubicBezTo>
                        <a:pt x="1843" y="198"/>
                        <a:pt x="1887" y="243"/>
                        <a:pt x="1909" y="243"/>
                      </a:cubicBezTo>
                      <a:cubicBezTo>
                        <a:pt x="1931" y="243"/>
                        <a:pt x="1938" y="198"/>
                        <a:pt x="1953" y="198"/>
                      </a:cubicBezTo>
                      <a:cubicBezTo>
                        <a:pt x="1967" y="198"/>
                        <a:pt x="1983" y="258"/>
                        <a:pt x="1998" y="243"/>
                      </a:cubicBezTo>
                      <a:cubicBezTo>
                        <a:pt x="2012" y="228"/>
                        <a:pt x="2026" y="212"/>
                        <a:pt x="2042" y="198"/>
                      </a:cubicBezTo>
                      <a:cubicBezTo>
                        <a:pt x="2044" y="195"/>
                        <a:pt x="2046" y="191"/>
                        <a:pt x="2052" y="194"/>
                      </a:cubicBezTo>
                      <a:cubicBezTo>
                        <a:pt x="2058" y="197"/>
                        <a:pt x="2064" y="210"/>
                        <a:pt x="2064" y="210"/>
                      </a:cubicBezTo>
                      <a:cubicBezTo>
                        <a:pt x="2077" y="218"/>
                        <a:pt x="2120" y="242"/>
                        <a:pt x="2130" y="243"/>
                      </a:cubicBezTo>
                      <a:cubicBezTo>
                        <a:pt x="2151" y="247"/>
                        <a:pt x="2130" y="251"/>
                        <a:pt x="2123" y="215"/>
                      </a:cubicBezTo>
                      <a:lnTo>
                        <a:pt x="2059" y="27"/>
                      </a:lnTo>
                      <a:lnTo>
                        <a:pt x="861" y="11"/>
                      </a:lnTo>
                      <a:cubicBezTo>
                        <a:pt x="621" y="8"/>
                        <a:pt x="710" y="0"/>
                        <a:pt x="617" y="7"/>
                      </a:cubicBezTo>
                      <a:cubicBezTo>
                        <a:pt x="524" y="14"/>
                        <a:pt x="408" y="14"/>
                        <a:pt x="305" y="51"/>
                      </a:cubicBezTo>
                      <a:cubicBezTo>
                        <a:pt x="202" y="88"/>
                        <a:pt x="42" y="200"/>
                        <a:pt x="0" y="232"/>
                      </a:cubicBezTo>
                      <a:cubicBezTo>
                        <a:pt x="5" y="257"/>
                        <a:pt x="30" y="250"/>
                        <a:pt x="52" y="243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未知"/>
                <p:cNvSpPr/>
                <p:nvPr/>
              </p:nvSpPr>
              <p:spPr>
                <a:xfrm>
                  <a:off x="4973040" y="3455640"/>
                  <a:ext cx="1342800" cy="171000"/>
                </a:xfrm>
                <a:custGeom>
                  <a:avLst/>
                  <a:gdLst/>
                  <a:ahLst/>
                  <a:rect l="l" t="t" r="r" b="b"/>
                  <a:pathLst>
                    <a:path w="1997" h="291">
                      <a:moveTo>
                        <a:pt x="27" y="199"/>
                      </a:moveTo>
                      <a:cubicBezTo>
                        <a:pt x="0" y="230"/>
                        <a:pt x="57" y="244"/>
                        <a:pt x="72" y="244"/>
                      </a:cubicBezTo>
                      <a:cubicBezTo>
                        <a:pt x="86" y="244"/>
                        <a:pt x="93" y="199"/>
                        <a:pt x="115" y="199"/>
                      </a:cubicBezTo>
                      <a:cubicBezTo>
                        <a:pt x="138" y="199"/>
                        <a:pt x="182" y="244"/>
                        <a:pt x="204" y="244"/>
                      </a:cubicBezTo>
                      <a:cubicBezTo>
                        <a:pt x="227" y="244"/>
                        <a:pt x="233" y="199"/>
                        <a:pt x="248" y="199"/>
                      </a:cubicBezTo>
                      <a:cubicBezTo>
                        <a:pt x="263" y="199"/>
                        <a:pt x="278" y="244"/>
                        <a:pt x="293" y="244"/>
                      </a:cubicBezTo>
                      <a:cubicBezTo>
                        <a:pt x="308" y="244"/>
                        <a:pt x="314" y="199"/>
                        <a:pt x="337" y="199"/>
                      </a:cubicBezTo>
                      <a:cubicBezTo>
                        <a:pt x="359" y="199"/>
                        <a:pt x="403" y="244"/>
                        <a:pt x="425" y="244"/>
                      </a:cubicBezTo>
                      <a:cubicBezTo>
                        <a:pt x="448" y="244"/>
                        <a:pt x="447" y="199"/>
                        <a:pt x="469" y="199"/>
                      </a:cubicBezTo>
                      <a:cubicBezTo>
                        <a:pt x="492" y="199"/>
                        <a:pt x="529" y="244"/>
                        <a:pt x="558" y="244"/>
                      </a:cubicBezTo>
                      <a:cubicBezTo>
                        <a:pt x="587" y="244"/>
                        <a:pt x="623" y="199"/>
                        <a:pt x="646" y="199"/>
                      </a:cubicBezTo>
                      <a:cubicBezTo>
                        <a:pt x="668" y="199"/>
                        <a:pt x="676" y="244"/>
                        <a:pt x="691" y="244"/>
                      </a:cubicBezTo>
                      <a:cubicBezTo>
                        <a:pt x="705" y="244"/>
                        <a:pt x="712" y="199"/>
                        <a:pt x="734" y="199"/>
                      </a:cubicBezTo>
                      <a:cubicBezTo>
                        <a:pt x="757" y="199"/>
                        <a:pt x="801" y="244"/>
                        <a:pt x="823" y="244"/>
                      </a:cubicBezTo>
                      <a:cubicBezTo>
                        <a:pt x="846" y="244"/>
                        <a:pt x="852" y="192"/>
                        <a:pt x="867" y="199"/>
                      </a:cubicBezTo>
                      <a:cubicBezTo>
                        <a:pt x="882" y="206"/>
                        <a:pt x="887" y="287"/>
                        <a:pt x="912" y="289"/>
                      </a:cubicBezTo>
                      <a:cubicBezTo>
                        <a:pt x="936" y="291"/>
                        <a:pt x="982" y="218"/>
                        <a:pt x="1011" y="211"/>
                      </a:cubicBezTo>
                      <a:cubicBezTo>
                        <a:pt x="1041" y="204"/>
                        <a:pt x="1068" y="246"/>
                        <a:pt x="1088" y="244"/>
                      </a:cubicBezTo>
                      <a:cubicBezTo>
                        <a:pt x="1109" y="242"/>
                        <a:pt x="1118" y="199"/>
                        <a:pt x="1132" y="199"/>
                      </a:cubicBezTo>
                      <a:cubicBezTo>
                        <a:pt x="1132" y="199"/>
                        <a:pt x="1159" y="241"/>
                        <a:pt x="1177" y="244"/>
                      </a:cubicBezTo>
                      <a:cubicBezTo>
                        <a:pt x="1195" y="247"/>
                        <a:pt x="1222" y="217"/>
                        <a:pt x="1237" y="219"/>
                      </a:cubicBezTo>
                      <a:cubicBezTo>
                        <a:pt x="1253" y="221"/>
                        <a:pt x="1260" y="261"/>
                        <a:pt x="1273" y="259"/>
                      </a:cubicBezTo>
                      <a:cubicBezTo>
                        <a:pt x="1285" y="257"/>
                        <a:pt x="1291" y="205"/>
                        <a:pt x="1312" y="207"/>
                      </a:cubicBezTo>
                      <a:cubicBezTo>
                        <a:pt x="1332" y="209"/>
                        <a:pt x="1375" y="260"/>
                        <a:pt x="1397" y="271"/>
                      </a:cubicBezTo>
                      <a:cubicBezTo>
                        <a:pt x="1420" y="282"/>
                        <a:pt x="1433" y="280"/>
                        <a:pt x="1448" y="271"/>
                      </a:cubicBezTo>
                      <a:cubicBezTo>
                        <a:pt x="1463" y="262"/>
                        <a:pt x="1471" y="216"/>
                        <a:pt x="1487" y="219"/>
                      </a:cubicBezTo>
                      <a:cubicBezTo>
                        <a:pt x="1487" y="219"/>
                        <a:pt x="1527" y="290"/>
                        <a:pt x="1542" y="287"/>
                      </a:cubicBezTo>
                      <a:cubicBezTo>
                        <a:pt x="1556" y="284"/>
                        <a:pt x="1554" y="206"/>
                        <a:pt x="1575" y="199"/>
                      </a:cubicBezTo>
                      <a:cubicBezTo>
                        <a:pt x="1595" y="192"/>
                        <a:pt x="1641" y="244"/>
                        <a:pt x="1663" y="244"/>
                      </a:cubicBezTo>
                      <a:cubicBezTo>
                        <a:pt x="1686" y="244"/>
                        <a:pt x="1685" y="199"/>
                        <a:pt x="1707" y="199"/>
                      </a:cubicBezTo>
                      <a:cubicBezTo>
                        <a:pt x="1730" y="199"/>
                        <a:pt x="1774" y="244"/>
                        <a:pt x="1796" y="244"/>
                      </a:cubicBezTo>
                      <a:cubicBezTo>
                        <a:pt x="1818" y="244"/>
                        <a:pt x="1825" y="199"/>
                        <a:pt x="1840" y="199"/>
                      </a:cubicBezTo>
                      <a:cubicBezTo>
                        <a:pt x="1854" y="199"/>
                        <a:pt x="1867" y="242"/>
                        <a:pt x="1885" y="244"/>
                      </a:cubicBezTo>
                      <a:cubicBezTo>
                        <a:pt x="1903" y="246"/>
                        <a:pt x="1997" y="275"/>
                        <a:pt x="1981" y="239"/>
                      </a:cubicBezTo>
                      <a:cubicBezTo>
                        <a:pt x="1965" y="203"/>
                        <a:pt x="1970" y="64"/>
                        <a:pt x="1789" y="27"/>
                      </a:cubicBezTo>
                      <a:lnTo>
                        <a:pt x="893" y="15"/>
                      </a:lnTo>
                      <a:cubicBezTo>
                        <a:pt x="686" y="12"/>
                        <a:pt x="647" y="0"/>
                        <a:pt x="545" y="7"/>
                      </a:cubicBezTo>
                      <a:cubicBezTo>
                        <a:pt x="443" y="14"/>
                        <a:pt x="367" y="27"/>
                        <a:pt x="281" y="59"/>
                      </a:cubicBezTo>
                      <a:cubicBezTo>
                        <a:pt x="195" y="91"/>
                        <a:pt x="80" y="170"/>
                        <a:pt x="27" y="19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未知"/>
                <p:cNvSpPr/>
                <p:nvPr/>
              </p:nvSpPr>
              <p:spPr>
                <a:xfrm>
                  <a:off x="5055120" y="3390840"/>
                  <a:ext cx="1217520" cy="163440"/>
                </a:xfrm>
                <a:custGeom>
                  <a:avLst/>
                  <a:gdLst/>
                  <a:ahLst/>
                  <a:rect l="l" t="t" r="r" b="b"/>
                  <a:pathLst>
                    <a:path w="1811" h="278">
                      <a:moveTo>
                        <a:pt x="1627" y="9"/>
                      </a:moveTo>
                      <a:lnTo>
                        <a:pt x="1099" y="9"/>
                      </a:lnTo>
                      <a:cubicBezTo>
                        <a:pt x="968" y="9"/>
                        <a:pt x="941" y="5"/>
                        <a:pt x="839" y="9"/>
                      </a:cubicBezTo>
                      <a:cubicBezTo>
                        <a:pt x="737" y="13"/>
                        <a:pt x="617" y="0"/>
                        <a:pt x="487" y="33"/>
                      </a:cubicBezTo>
                      <a:cubicBezTo>
                        <a:pt x="357" y="66"/>
                        <a:pt x="118" y="176"/>
                        <a:pt x="59" y="209"/>
                      </a:cubicBezTo>
                      <a:cubicBezTo>
                        <a:pt x="0" y="242"/>
                        <a:pt x="111" y="235"/>
                        <a:pt x="130" y="231"/>
                      </a:cubicBezTo>
                      <a:cubicBezTo>
                        <a:pt x="144" y="231"/>
                        <a:pt x="151" y="186"/>
                        <a:pt x="173" y="186"/>
                      </a:cubicBezTo>
                      <a:cubicBezTo>
                        <a:pt x="196" y="186"/>
                        <a:pt x="240" y="231"/>
                        <a:pt x="262" y="231"/>
                      </a:cubicBezTo>
                      <a:cubicBezTo>
                        <a:pt x="285" y="231"/>
                        <a:pt x="291" y="186"/>
                        <a:pt x="306" y="186"/>
                      </a:cubicBezTo>
                      <a:cubicBezTo>
                        <a:pt x="321" y="186"/>
                        <a:pt x="336" y="231"/>
                        <a:pt x="351" y="231"/>
                      </a:cubicBezTo>
                      <a:cubicBezTo>
                        <a:pt x="366" y="231"/>
                        <a:pt x="372" y="186"/>
                        <a:pt x="395" y="186"/>
                      </a:cubicBezTo>
                      <a:cubicBezTo>
                        <a:pt x="417" y="186"/>
                        <a:pt x="461" y="231"/>
                        <a:pt x="483" y="231"/>
                      </a:cubicBezTo>
                      <a:cubicBezTo>
                        <a:pt x="506" y="231"/>
                        <a:pt x="505" y="186"/>
                        <a:pt x="527" y="186"/>
                      </a:cubicBezTo>
                      <a:cubicBezTo>
                        <a:pt x="550" y="186"/>
                        <a:pt x="587" y="231"/>
                        <a:pt x="616" y="231"/>
                      </a:cubicBezTo>
                      <a:cubicBezTo>
                        <a:pt x="645" y="231"/>
                        <a:pt x="681" y="186"/>
                        <a:pt x="704" y="186"/>
                      </a:cubicBezTo>
                      <a:cubicBezTo>
                        <a:pt x="726" y="186"/>
                        <a:pt x="734" y="231"/>
                        <a:pt x="749" y="231"/>
                      </a:cubicBezTo>
                      <a:cubicBezTo>
                        <a:pt x="763" y="231"/>
                        <a:pt x="770" y="186"/>
                        <a:pt x="792" y="186"/>
                      </a:cubicBezTo>
                      <a:cubicBezTo>
                        <a:pt x="815" y="186"/>
                        <a:pt x="859" y="231"/>
                        <a:pt x="881" y="231"/>
                      </a:cubicBezTo>
                      <a:cubicBezTo>
                        <a:pt x="904" y="231"/>
                        <a:pt x="910" y="179"/>
                        <a:pt x="925" y="186"/>
                      </a:cubicBezTo>
                      <a:cubicBezTo>
                        <a:pt x="940" y="193"/>
                        <a:pt x="945" y="274"/>
                        <a:pt x="970" y="276"/>
                      </a:cubicBezTo>
                      <a:cubicBezTo>
                        <a:pt x="994" y="278"/>
                        <a:pt x="1040" y="205"/>
                        <a:pt x="1069" y="198"/>
                      </a:cubicBezTo>
                      <a:cubicBezTo>
                        <a:pt x="1099" y="191"/>
                        <a:pt x="1126" y="233"/>
                        <a:pt x="1146" y="231"/>
                      </a:cubicBezTo>
                      <a:cubicBezTo>
                        <a:pt x="1167" y="229"/>
                        <a:pt x="1176" y="186"/>
                        <a:pt x="1190" y="186"/>
                      </a:cubicBezTo>
                      <a:cubicBezTo>
                        <a:pt x="1190" y="186"/>
                        <a:pt x="1217" y="228"/>
                        <a:pt x="1235" y="231"/>
                      </a:cubicBezTo>
                      <a:cubicBezTo>
                        <a:pt x="1253" y="234"/>
                        <a:pt x="1280" y="204"/>
                        <a:pt x="1295" y="206"/>
                      </a:cubicBezTo>
                      <a:cubicBezTo>
                        <a:pt x="1311" y="208"/>
                        <a:pt x="1318" y="248"/>
                        <a:pt x="1331" y="246"/>
                      </a:cubicBezTo>
                      <a:cubicBezTo>
                        <a:pt x="1343" y="244"/>
                        <a:pt x="1349" y="192"/>
                        <a:pt x="1370" y="194"/>
                      </a:cubicBezTo>
                      <a:cubicBezTo>
                        <a:pt x="1390" y="196"/>
                        <a:pt x="1433" y="247"/>
                        <a:pt x="1455" y="258"/>
                      </a:cubicBezTo>
                      <a:cubicBezTo>
                        <a:pt x="1478" y="269"/>
                        <a:pt x="1491" y="267"/>
                        <a:pt x="1506" y="258"/>
                      </a:cubicBezTo>
                      <a:cubicBezTo>
                        <a:pt x="1521" y="249"/>
                        <a:pt x="1529" y="203"/>
                        <a:pt x="1545" y="206"/>
                      </a:cubicBezTo>
                      <a:cubicBezTo>
                        <a:pt x="1545" y="206"/>
                        <a:pt x="1585" y="277"/>
                        <a:pt x="1600" y="274"/>
                      </a:cubicBezTo>
                      <a:cubicBezTo>
                        <a:pt x="1614" y="271"/>
                        <a:pt x="1612" y="193"/>
                        <a:pt x="1633" y="186"/>
                      </a:cubicBezTo>
                      <a:cubicBezTo>
                        <a:pt x="1653" y="179"/>
                        <a:pt x="1699" y="231"/>
                        <a:pt x="1721" y="231"/>
                      </a:cubicBezTo>
                      <a:cubicBezTo>
                        <a:pt x="1744" y="231"/>
                        <a:pt x="1792" y="207"/>
                        <a:pt x="1811" y="201"/>
                      </a:cubicBezTo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未知"/>
                <p:cNvSpPr/>
                <p:nvPr/>
              </p:nvSpPr>
              <p:spPr>
                <a:xfrm>
                  <a:off x="5129640" y="3357720"/>
                  <a:ext cx="1116000" cy="160920"/>
                </a:xfrm>
                <a:custGeom>
                  <a:avLst/>
                  <a:gdLst/>
                  <a:ahLst/>
                  <a:rect l="l" t="t" r="r" b="b"/>
                  <a:pathLst>
                    <a:path w="1660" h="274">
                      <a:moveTo>
                        <a:pt x="1499" y="14"/>
                      </a:moveTo>
                      <a:lnTo>
                        <a:pt x="1102" y="5"/>
                      </a:lnTo>
                      <a:cubicBezTo>
                        <a:pt x="993" y="4"/>
                        <a:pt x="941" y="0"/>
                        <a:pt x="842" y="5"/>
                      </a:cubicBezTo>
                      <a:cubicBezTo>
                        <a:pt x="743" y="10"/>
                        <a:pt x="637" y="1"/>
                        <a:pt x="507" y="34"/>
                      </a:cubicBezTo>
                      <a:cubicBezTo>
                        <a:pt x="377" y="67"/>
                        <a:pt x="124" y="173"/>
                        <a:pt x="62" y="205"/>
                      </a:cubicBezTo>
                      <a:cubicBezTo>
                        <a:pt x="0" y="237"/>
                        <a:pt x="114" y="231"/>
                        <a:pt x="133" y="227"/>
                      </a:cubicBezTo>
                      <a:cubicBezTo>
                        <a:pt x="147" y="227"/>
                        <a:pt x="154" y="182"/>
                        <a:pt x="176" y="182"/>
                      </a:cubicBezTo>
                      <a:cubicBezTo>
                        <a:pt x="199" y="182"/>
                        <a:pt x="243" y="227"/>
                        <a:pt x="265" y="227"/>
                      </a:cubicBezTo>
                      <a:cubicBezTo>
                        <a:pt x="288" y="227"/>
                        <a:pt x="294" y="182"/>
                        <a:pt x="309" y="182"/>
                      </a:cubicBezTo>
                      <a:cubicBezTo>
                        <a:pt x="324" y="182"/>
                        <a:pt x="339" y="227"/>
                        <a:pt x="354" y="227"/>
                      </a:cubicBezTo>
                      <a:cubicBezTo>
                        <a:pt x="369" y="227"/>
                        <a:pt x="375" y="182"/>
                        <a:pt x="398" y="182"/>
                      </a:cubicBezTo>
                      <a:cubicBezTo>
                        <a:pt x="420" y="182"/>
                        <a:pt x="464" y="227"/>
                        <a:pt x="486" y="227"/>
                      </a:cubicBezTo>
                      <a:cubicBezTo>
                        <a:pt x="509" y="227"/>
                        <a:pt x="508" y="182"/>
                        <a:pt x="530" y="182"/>
                      </a:cubicBezTo>
                      <a:cubicBezTo>
                        <a:pt x="553" y="182"/>
                        <a:pt x="590" y="227"/>
                        <a:pt x="619" y="227"/>
                      </a:cubicBezTo>
                      <a:cubicBezTo>
                        <a:pt x="648" y="227"/>
                        <a:pt x="684" y="182"/>
                        <a:pt x="707" y="182"/>
                      </a:cubicBezTo>
                      <a:cubicBezTo>
                        <a:pt x="729" y="182"/>
                        <a:pt x="737" y="227"/>
                        <a:pt x="752" y="227"/>
                      </a:cubicBezTo>
                      <a:cubicBezTo>
                        <a:pt x="766" y="227"/>
                        <a:pt x="773" y="182"/>
                        <a:pt x="795" y="182"/>
                      </a:cubicBezTo>
                      <a:cubicBezTo>
                        <a:pt x="818" y="182"/>
                        <a:pt x="862" y="227"/>
                        <a:pt x="884" y="227"/>
                      </a:cubicBezTo>
                      <a:cubicBezTo>
                        <a:pt x="907" y="227"/>
                        <a:pt x="913" y="175"/>
                        <a:pt x="928" y="182"/>
                      </a:cubicBezTo>
                      <a:cubicBezTo>
                        <a:pt x="943" y="189"/>
                        <a:pt x="948" y="270"/>
                        <a:pt x="973" y="272"/>
                      </a:cubicBezTo>
                      <a:cubicBezTo>
                        <a:pt x="997" y="274"/>
                        <a:pt x="1043" y="201"/>
                        <a:pt x="1072" y="194"/>
                      </a:cubicBezTo>
                      <a:cubicBezTo>
                        <a:pt x="1102" y="187"/>
                        <a:pt x="1129" y="229"/>
                        <a:pt x="1149" y="227"/>
                      </a:cubicBezTo>
                      <a:cubicBezTo>
                        <a:pt x="1170" y="225"/>
                        <a:pt x="1179" y="182"/>
                        <a:pt x="1193" y="182"/>
                      </a:cubicBezTo>
                      <a:cubicBezTo>
                        <a:pt x="1193" y="182"/>
                        <a:pt x="1220" y="224"/>
                        <a:pt x="1238" y="227"/>
                      </a:cubicBezTo>
                      <a:cubicBezTo>
                        <a:pt x="1256" y="230"/>
                        <a:pt x="1283" y="200"/>
                        <a:pt x="1298" y="202"/>
                      </a:cubicBezTo>
                      <a:cubicBezTo>
                        <a:pt x="1314" y="204"/>
                        <a:pt x="1321" y="244"/>
                        <a:pt x="1334" y="242"/>
                      </a:cubicBezTo>
                      <a:cubicBezTo>
                        <a:pt x="1346" y="240"/>
                        <a:pt x="1352" y="188"/>
                        <a:pt x="1373" y="190"/>
                      </a:cubicBezTo>
                      <a:cubicBezTo>
                        <a:pt x="1393" y="192"/>
                        <a:pt x="1436" y="243"/>
                        <a:pt x="1458" y="254"/>
                      </a:cubicBezTo>
                      <a:cubicBezTo>
                        <a:pt x="1481" y="265"/>
                        <a:pt x="1494" y="263"/>
                        <a:pt x="1509" y="254"/>
                      </a:cubicBezTo>
                      <a:cubicBezTo>
                        <a:pt x="1524" y="245"/>
                        <a:pt x="1532" y="199"/>
                        <a:pt x="1548" y="202"/>
                      </a:cubicBezTo>
                      <a:cubicBezTo>
                        <a:pt x="1548" y="202"/>
                        <a:pt x="1585" y="269"/>
                        <a:pt x="1603" y="270"/>
                      </a:cubicBezTo>
                      <a:cubicBezTo>
                        <a:pt x="1617" y="267"/>
                        <a:pt x="1658" y="238"/>
                        <a:pt x="1659" y="210"/>
                      </a:cubicBezTo>
                      <a:cubicBezTo>
                        <a:pt x="1660" y="182"/>
                        <a:pt x="1605" y="118"/>
                        <a:pt x="1591" y="94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136560" y="3357720"/>
                <a:ext cx="2400840" cy="528480"/>
                <a:chOff x="6136560" y="3357720"/>
                <a:chExt cx="2400840" cy="528480"/>
              </a:xfrm>
            </p:grpSpPr>
            <p:sp>
              <p:nvSpPr>
                <p:cNvPr id="126" name="未知"/>
                <p:cNvSpPr/>
                <p:nvPr/>
              </p:nvSpPr>
              <p:spPr>
                <a:xfrm>
                  <a:off x="6280920" y="3683880"/>
                  <a:ext cx="2256480" cy="202320"/>
                </a:xfrm>
                <a:custGeom>
                  <a:avLst/>
                  <a:gdLst/>
                  <a:ahLst/>
                  <a:rect l="l" t="t" r="r" b="b"/>
                  <a:pathLst>
                    <a:path w="3356" h="344">
                      <a:moveTo>
                        <a:pt x="3227" y="316"/>
                      </a:moveTo>
                      <a:cubicBezTo>
                        <a:pt x="3190" y="308"/>
                        <a:pt x="3121" y="269"/>
                        <a:pt x="3084" y="269"/>
                      </a:cubicBezTo>
                      <a:cubicBezTo>
                        <a:pt x="3047" y="268"/>
                        <a:pt x="3033" y="313"/>
                        <a:pt x="3009" y="313"/>
                      </a:cubicBezTo>
                      <a:cubicBezTo>
                        <a:pt x="2985" y="313"/>
                        <a:pt x="2975" y="268"/>
                        <a:pt x="2938" y="267"/>
                      </a:cubicBezTo>
                      <a:cubicBezTo>
                        <a:pt x="2901" y="267"/>
                        <a:pt x="2827" y="311"/>
                        <a:pt x="2790" y="311"/>
                      </a:cubicBezTo>
                      <a:cubicBezTo>
                        <a:pt x="2753" y="310"/>
                        <a:pt x="2743" y="265"/>
                        <a:pt x="2719" y="265"/>
                      </a:cubicBezTo>
                      <a:cubicBezTo>
                        <a:pt x="2695" y="264"/>
                        <a:pt x="2668" y="309"/>
                        <a:pt x="2644" y="309"/>
                      </a:cubicBezTo>
                      <a:cubicBezTo>
                        <a:pt x="2620" y="309"/>
                        <a:pt x="2610" y="263"/>
                        <a:pt x="2573" y="263"/>
                      </a:cubicBezTo>
                      <a:cubicBezTo>
                        <a:pt x="2536" y="263"/>
                        <a:pt x="2463" y="307"/>
                        <a:pt x="2426" y="306"/>
                      </a:cubicBezTo>
                      <a:cubicBezTo>
                        <a:pt x="2389" y="306"/>
                        <a:pt x="2391" y="261"/>
                        <a:pt x="2354" y="261"/>
                      </a:cubicBezTo>
                      <a:cubicBezTo>
                        <a:pt x="2317" y="260"/>
                        <a:pt x="2255" y="304"/>
                        <a:pt x="2207" y="304"/>
                      </a:cubicBezTo>
                      <a:cubicBezTo>
                        <a:pt x="2159" y="303"/>
                        <a:pt x="2100" y="258"/>
                        <a:pt x="2063" y="257"/>
                      </a:cubicBezTo>
                      <a:cubicBezTo>
                        <a:pt x="2027" y="257"/>
                        <a:pt x="2013" y="302"/>
                        <a:pt x="1989" y="301"/>
                      </a:cubicBezTo>
                      <a:cubicBezTo>
                        <a:pt x="1964" y="301"/>
                        <a:pt x="1954" y="256"/>
                        <a:pt x="1917" y="256"/>
                      </a:cubicBezTo>
                      <a:cubicBezTo>
                        <a:pt x="1880" y="255"/>
                        <a:pt x="1807" y="299"/>
                        <a:pt x="1770" y="299"/>
                      </a:cubicBezTo>
                      <a:cubicBezTo>
                        <a:pt x="1733" y="298"/>
                        <a:pt x="1723" y="246"/>
                        <a:pt x="1699" y="253"/>
                      </a:cubicBezTo>
                      <a:cubicBezTo>
                        <a:pt x="1675" y="260"/>
                        <a:pt x="1664" y="341"/>
                        <a:pt x="1624" y="342"/>
                      </a:cubicBezTo>
                      <a:cubicBezTo>
                        <a:pt x="1584" y="344"/>
                        <a:pt x="1509" y="270"/>
                        <a:pt x="1461" y="262"/>
                      </a:cubicBezTo>
                      <a:cubicBezTo>
                        <a:pt x="1413" y="255"/>
                        <a:pt x="1367" y="296"/>
                        <a:pt x="1333" y="294"/>
                      </a:cubicBezTo>
                      <a:cubicBezTo>
                        <a:pt x="1299" y="291"/>
                        <a:pt x="1286" y="248"/>
                        <a:pt x="1262" y="248"/>
                      </a:cubicBezTo>
                      <a:cubicBezTo>
                        <a:pt x="1262" y="248"/>
                        <a:pt x="1216" y="290"/>
                        <a:pt x="1187" y="292"/>
                      </a:cubicBezTo>
                      <a:cubicBezTo>
                        <a:pt x="1158" y="295"/>
                        <a:pt x="1114" y="264"/>
                        <a:pt x="1088" y="266"/>
                      </a:cubicBezTo>
                      <a:cubicBezTo>
                        <a:pt x="1062" y="268"/>
                        <a:pt x="1050" y="308"/>
                        <a:pt x="1029" y="305"/>
                      </a:cubicBezTo>
                      <a:cubicBezTo>
                        <a:pt x="1008" y="303"/>
                        <a:pt x="1000" y="251"/>
                        <a:pt x="966" y="253"/>
                      </a:cubicBezTo>
                      <a:cubicBezTo>
                        <a:pt x="932" y="254"/>
                        <a:pt x="861" y="304"/>
                        <a:pt x="824" y="315"/>
                      </a:cubicBezTo>
                      <a:cubicBezTo>
                        <a:pt x="787" y="326"/>
                        <a:pt x="764" y="323"/>
                        <a:pt x="740" y="314"/>
                      </a:cubicBezTo>
                      <a:cubicBezTo>
                        <a:pt x="716" y="305"/>
                        <a:pt x="703" y="259"/>
                        <a:pt x="677" y="261"/>
                      </a:cubicBezTo>
                      <a:cubicBezTo>
                        <a:pt x="677" y="261"/>
                        <a:pt x="610" y="332"/>
                        <a:pt x="586" y="328"/>
                      </a:cubicBezTo>
                      <a:cubicBezTo>
                        <a:pt x="562" y="325"/>
                        <a:pt x="566" y="247"/>
                        <a:pt x="532" y="240"/>
                      </a:cubicBezTo>
                      <a:cubicBezTo>
                        <a:pt x="498" y="232"/>
                        <a:pt x="423" y="283"/>
                        <a:pt x="386" y="283"/>
                      </a:cubicBezTo>
                      <a:cubicBezTo>
                        <a:pt x="349" y="283"/>
                        <a:pt x="351" y="238"/>
                        <a:pt x="314" y="237"/>
                      </a:cubicBezTo>
                      <a:cubicBezTo>
                        <a:pt x="277" y="237"/>
                        <a:pt x="204" y="281"/>
                        <a:pt x="167" y="281"/>
                      </a:cubicBezTo>
                      <a:cubicBezTo>
                        <a:pt x="130" y="280"/>
                        <a:pt x="119" y="235"/>
                        <a:pt x="95" y="235"/>
                      </a:cubicBezTo>
                      <a:cubicBezTo>
                        <a:pt x="71" y="234"/>
                        <a:pt x="81" y="330"/>
                        <a:pt x="74" y="310"/>
                      </a:cubicBezTo>
                      <a:cubicBezTo>
                        <a:pt x="67" y="290"/>
                        <a:pt x="56" y="152"/>
                        <a:pt x="56" y="76"/>
                      </a:cubicBezTo>
                      <a:cubicBezTo>
                        <a:pt x="56" y="0"/>
                        <a:pt x="0" y="48"/>
                        <a:pt x="406" y="42"/>
                      </a:cubicBezTo>
                      <a:lnTo>
                        <a:pt x="2485" y="76"/>
                      </a:lnTo>
                      <a:cubicBezTo>
                        <a:pt x="2922" y="85"/>
                        <a:pt x="2907" y="81"/>
                        <a:pt x="3031" y="94"/>
                      </a:cubicBezTo>
                      <a:cubicBezTo>
                        <a:pt x="3155" y="108"/>
                        <a:pt x="3169" y="121"/>
                        <a:pt x="3223" y="156"/>
                      </a:cubicBezTo>
                      <a:cubicBezTo>
                        <a:pt x="3278" y="192"/>
                        <a:pt x="3355" y="280"/>
                        <a:pt x="3356" y="306"/>
                      </a:cubicBezTo>
                      <a:cubicBezTo>
                        <a:pt x="3348" y="331"/>
                        <a:pt x="3264" y="323"/>
                        <a:pt x="3227" y="316"/>
                      </a:cubicBezTo>
                      <a:close/>
                    </a:path>
                  </a:pathLst>
                </a:custGeom>
                <a:solidFill>
                  <a:srgbClr val="ffe6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>
                  <a:off x="6315840" y="3679920"/>
                  <a:ext cx="2189160" cy="174960"/>
                </a:xfrm>
                <a:custGeom>
                  <a:avLst/>
                  <a:gdLst/>
                  <a:ahLst/>
                  <a:rect l="l" t="t" r="r" b="b"/>
                  <a:pathLst>
                    <a:path w="3256" h="298">
                      <a:moveTo>
                        <a:pt x="3033" y="266"/>
                      </a:moveTo>
                      <a:cubicBezTo>
                        <a:pt x="3002" y="259"/>
                        <a:pt x="2945" y="220"/>
                        <a:pt x="2913" y="220"/>
                      </a:cubicBezTo>
                      <a:cubicBezTo>
                        <a:pt x="2884" y="219"/>
                        <a:pt x="2872" y="264"/>
                        <a:pt x="2852" y="264"/>
                      </a:cubicBezTo>
                      <a:cubicBezTo>
                        <a:pt x="2831" y="264"/>
                        <a:pt x="2823" y="219"/>
                        <a:pt x="2793" y="218"/>
                      </a:cubicBezTo>
                      <a:cubicBezTo>
                        <a:pt x="2762" y="218"/>
                        <a:pt x="2701" y="262"/>
                        <a:pt x="2670" y="262"/>
                      </a:cubicBezTo>
                      <a:cubicBezTo>
                        <a:pt x="2641" y="262"/>
                        <a:pt x="2632" y="217"/>
                        <a:pt x="2610" y="216"/>
                      </a:cubicBezTo>
                      <a:cubicBezTo>
                        <a:pt x="2590" y="216"/>
                        <a:pt x="2569" y="261"/>
                        <a:pt x="2549" y="261"/>
                      </a:cubicBezTo>
                      <a:cubicBezTo>
                        <a:pt x="2528" y="260"/>
                        <a:pt x="2520" y="215"/>
                        <a:pt x="2490" y="215"/>
                      </a:cubicBezTo>
                      <a:cubicBezTo>
                        <a:pt x="2459" y="215"/>
                        <a:pt x="2398" y="259"/>
                        <a:pt x="2367" y="259"/>
                      </a:cubicBezTo>
                      <a:cubicBezTo>
                        <a:pt x="2338" y="258"/>
                        <a:pt x="2340" y="213"/>
                        <a:pt x="2309" y="213"/>
                      </a:cubicBezTo>
                      <a:cubicBezTo>
                        <a:pt x="2278" y="213"/>
                        <a:pt x="2227" y="257"/>
                        <a:pt x="2186" y="257"/>
                      </a:cubicBezTo>
                      <a:cubicBezTo>
                        <a:pt x="2147" y="256"/>
                        <a:pt x="2099" y="211"/>
                        <a:pt x="2068" y="210"/>
                      </a:cubicBezTo>
                      <a:cubicBezTo>
                        <a:pt x="2037" y="210"/>
                        <a:pt x="2025" y="255"/>
                        <a:pt x="2006" y="254"/>
                      </a:cubicBezTo>
                      <a:cubicBezTo>
                        <a:pt x="1986" y="254"/>
                        <a:pt x="1977" y="209"/>
                        <a:pt x="1948" y="209"/>
                      </a:cubicBezTo>
                      <a:cubicBezTo>
                        <a:pt x="1917" y="208"/>
                        <a:pt x="1856" y="253"/>
                        <a:pt x="1825" y="252"/>
                      </a:cubicBezTo>
                      <a:cubicBezTo>
                        <a:pt x="1794" y="252"/>
                        <a:pt x="1787" y="200"/>
                        <a:pt x="1766" y="207"/>
                      </a:cubicBezTo>
                      <a:cubicBezTo>
                        <a:pt x="1746" y="213"/>
                        <a:pt x="1737" y="294"/>
                        <a:pt x="1705" y="296"/>
                      </a:cubicBezTo>
                      <a:cubicBezTo>
                        <a:pt x="1671" y="298"/>
                        <a:pt x="1610" y="224"/>
                        <a:pt x="1568" y="216"/>
                      </a:cubicBezTo>
                      <a:cubicBezTo>
                        <a:pt x="1528" y="209"/>
                        <a:pt x="1489" y="251"/>
                        <a:pt x="1462" y="248"/>
                      </a:cubicBezTo>
                      <a:cubicBezTo>
                        <a:pt x="1434" y="246"/>
                        <a:pt x="1423" y="203"/>
                        <a:pt x="1403" y="203"/>
                      </a:cubicBezTo>
                      <a:cubicBezTo>
                        <a:pt x="1403" y="203"/>
                        <a:pt x="1365" y="244"/>
                        <a:pt x="1341" y="247"/>
                      </a:cubicBezTo>
                      <a:cubicBezTo>
                        <a:pt x="1318" y="250"/>
                        <a:pt x="1281" y="219"/>
                        <a:pt x="1259" y="221"/>
                      </a:cubicBezTo>
                      <a:cubicBezTo>
                        <a:pt x="1239" y="223"/>
                        <a:pt x="1228" y="263"/>
                        <a:pt x="1211" y="260"/>
                      </a:cubicBezTo>
                      <a:cubicBezTo>
                        <a:pt x="1193" y="258"/>
                        <a:pt x="1186" y="206"/>
                        <a:pt x="1159" y="208"/>
                      </a:cubicBezTo>
                      <a:cubicBezTo>
                        <a:pt x="1131" y="209"/>
                        <a:pt x="1072" y="260"/>
                        <a:pt x="1040" y="270"/>
                      </a:cubicBezTo>
                      <a:cubicBezTo>
                        <a:pt x="1009" y="281"/>
                        <a:pt x="992" y="279"/>
                        <a:pt x="971" y="270"/>
                      </a:cubicBezTo>
                      <a:cubicBezTo>
                        <a:pt x="951" y="260"/>
                        <a:pt x="940" y="214"/>
                        <a:pt x="920" y="217"/>
                      </a:cubicBezTo>
                      <a:cubicBezTo>
                        <a:pt x="920" y="217"/>
                        <a:pt x="863" y="287"/>
                        <a:pt x="844" y="284"/>
                      </a:cubicBezTo>
                      <a:cubicBezTo>
                        <a:pt x="824" y="281"/>
                        <a:pt x="828" y="203"/>
                        <a:pt x="799" y="196"/>
                      </a:cubicBezTo>
                      <a:cubicBezTo>
                        <a:pt x="771" y="188"/>
                        <a:pt x="708" y="240"/>
                        <a:pt x="678" y="239"/>
                      </a:cubicBezTo>
                      <a:cubicBezTo>
                        <a:pt x="647" y="239"/>
                        <a:pt x="649" y="194"/>
                        <a:pt x="618" y="194"/>
                      </a:cubicBezTo>
                      <a:cubicBezTo>
                        <a:pt x="588" y="193"/>
                        <a:pt x="526" y="238"/>
                        <a:pt x="495" y="237"/>
                      </a:cubicBezTo>
                      <a:cubicBezTo>
                        <a:pt x="464" y="237"/>
                        <a:pt x="456" y="192"/>
                        <a:pt x="437" y="192"/>
                      </a:cubicBezTo>
                      <a:cubicBezTo>
                        <a:pt x="417" y="191"/>
                        <a:pt x="394" y="251"/>
                        <a:pt x="375" y="236"/>
                      </a:cubicBezTo>
                      <a:cubicBezTo>
                        <a:pt x="356" y="221"/>
                        <a:pt x="337" y="204"/>
                        <a:pt x="315" y="190"/>
                      </a:cubicBezTo>
                      <a:cubicBezTo>
                        <a:pt x="311" y="187"/>
                        <a:pt x="308" y="183"/>
                        <a:pt x="300" y="186"/>
                      </a:cubicBezTo>
                      <a:cubicBezTo>
                        <a:pt x="293" y="189"/>
                        <a:pt x="285" y="202"/>
                        <a:pt x="285" y="202"/>
                      </a:cubicBezTo>
                      <a:cubicBezTo>
                        <a:pt x="268" y="210"/>
                        <a:pt x="219" y="236"/>
                        <a:pt x="194" y="234"/>
                      </a:cubicBezTo>
                      <a:cubicBezTo>
                        <a:pt x="169" y="231"/>
                        <a:pt x="154" y="188"/>
                        <a:pt x="135" y="188"/>
                      </a:cubicBezTo>
                      <a:cubicBezTo>
                        <a:pt x="115" y="188"/>
                        <a:pt x="83" y="232"/>
                        <a:pt x="74" y="232"/>
                      </a:cubicBezTo>
                      <a:cubicBezTo>
                        <a:pt x="65" y="232"/>
                        <a:pt x="82" y="188"/>
                        <a:pt x="74" y="187"/>
                      </a:cubicBezTo>
                      <a:lnTo>
                        <a:pt x="4" y="226"/>
                      </a:lnTo>
                      <a:lnTo>
                        <a:pt x="0" y="0"/>
                      </a:lnTo>
                      <a:lnTo>
                        <a:pt x="2411" y="32"/>
                      </a:lnTo>
                      <a:cubicBezTo>
                        <a:pt x="2889" y="38"/>
                        <a:pt x="2754" y="23"/>
                        <a:pt x="2867" y="37"/>
                      </a:cubicBezTo>
                      <a:cubicBezTo>
                        <a:pt x="2980" y="51"/>
                        <a:pt x="3027" y="82"/>
                        <a:pt x="3090" y="114"/>
                      </a:cubicBezTo>
                      <a:cubicBezTo>
                        <a:pt x="3153" y="146"/>
                        <a:pt x="3256" y="203"/>
                        <a:pt x="3246" y="228"/>
                      </a:cubicBezTo>
                      <a:cubicBezTo>
                        <a:pt x="3239" y="253"/>
                        <a:pt x="3063" y="274"/>
                        <a:pt x="3033" y="266"/>
                      </a:cubicBezTo>
                      <a:close/>
                    </a:path>
                  </a:pathLst>
                </a:custGeom>
                <a:solidFill>
                  <a:srgbClr val="ad73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>
                  <a:off x="6235920" y="3635640"/>
                  <a:ext cx="2217960" cy="185040"/>
                </a:xfrm>
                <a:custGeom>
                  <a:avLst/>
                  <a:gdLst/>
                  <a:ahLst/>
                  <a:rect l="l" t="t" r="r" b="b"/>
                  <a:pathLst>
                    <a:path w="3299" h="315">
                      <a:moveTo>
                        <a:pt x="3168" y="286"/>
                      </a:moveTo>
                      <a:cubicBezTo>
                        <a:pt x="3132" y="279"/>
                        <a:pt x="3064" y="240"/>
                        <a:pt x="3027" y="240"/>
                      </a:cubicBezTo>
                      <a:cubicBezTo>
                        <a:pt x="2992" y="239"/>
                        <a:pt x="2978" y="284"/>
                        <a:pt x="2954" y="284"/>
                      </a:cubicBezTo>
                      <a:cubicBezTo>
                        <a:pt x="2931" y="284"/>
                        <a:pt x="2921" y="239"/>
                        <a:pt x="2886" y="238"/>
                      </a:cubicBezTo>
                      <a:cubicBezTo>
                        <a:pt x="2849" y="238"/>
                        <a:pt x="2777" y="282"/>
                        <a:pt x="2742" y="282"/>
                      </a:cubicBezTo>
                      <a:cubicBezTo>
                        <a:pt x="2705" y="281"/>
                        <a:pt x="2696" y="236"/>
                        <a:pt x="2672" y="236"/>
                      </a:cubicBezTo>
                      <a:cubicBezTo>
                        <a:pt x="2648" y="235"/>
                        <a:pt x="2623" y="280"/>
                        <a:pt x="2599" y="280"/>
                      </a:cubicBezTo>
                      <a:cubicBezTo>
                        <a:pt x="2575" y="280"/>
                        <a:pt x="2566" y="234"/>
                        <a:pt x="2529" y="234"/>
                      </a:cubicBezTo>
                      <a:cubicBezTo>
                        <a:pt x="2494" y="234"/>
                        <a:pt x="2422" y="278"/>
                        <a:pt x="2387" y="277"/>
                      </a:cubicBezTo>
                      <a:cubicBezTo>
                        <a:pt x="2350" y="277"/>
                        <a:pt x="2352" y="232"/>
                        <a:pt x="2317" y="232"/>
                      </a:cubicBezTo>
                      <a:cubicBezTo>
                        <a:pt x="2280" y="231"/>
                        <a:pt x="2220" y="276"/>
                        <a:pt x="2173" y="275"/>
                      </a:cubicBezTo>
                      <a:cubicBezTo>
                        <a:pt x="2126" y="274"/>
                        <a:pt x="2069" y="229"/>
                        <a:pt x="2033" y="228"/>
                      </a:cubicBezTo>
                      <a:cubicBezTo>
                        <a:pt x="1997" y="228"/>
                        <a:pt x="1983" y="273"/>
                        <a:pt x="1959" y="273"/>
                      </a:cubicBezTo>
                      <a:cubicBezTo>
                        <a:pt x="1937" y="272"/>
                        <a:pt x="1926" y="227"/>
                        <a:pt x="1891" y="227"/>
                      </a:cubicBezTo>
                      <a:cubicBezTo>
                        <a:pt x="1854" y="226"/>
                        <a:pt x="1782" y="271"/>
                        <a:pt x="1747" y="270"/>
                      </a:cubicBezTo>
                      <a:cubicBezTo>
                        <a:pt x="1710" y="270"/>
                        <a:pt x="1702" y="218"/>
                        <a:pt x="1677" y="224"/>
                      </a:cubicBezTo>
                      <a:cubicBezTo>
                        <a:pt x="1653" y="231"/>
                        <a:pt x="1644" y="312"/>
                        <a:pt x="1604" y="313"/>
                      </a:cubicBezTo>
                      <a:cubicBezTo>
                        <a:pt x="1566" y="315"/>
                        <a:pt x="1493" y="241"/>
                        <a:pt x="1446" y="234"/>
                      </a:cubicBezTo>
                      <a:cubicBezTo>
                        <a:pt x="1398" y="226"/>
                        <a:pt x="1353" y="268"/>
                        <a:pt x="1321" y="265"/>
                      </a:cubicBezTo>
                      <a:cubicBezTo>
                        <a:pt x="1288" y="263"/>
                        <a:pt x="1274" y="220"/>
                        <a:pt x="1252" y="219"/>
                      </a:cubicBezTo>
                      <a:cubicBezTo>
                        <a:pt x="1252" y="219"/>
                        <a:pt x="1207" y="261"/>
                        <a:pt x="1178" y="264"/>
                      </a:cubicBezTo>
                      <a:cubicBezTo>
                        <a:pt x="1149" y="266"/>
                        <a:pt x="1107" y="236"/>
                        <a:pt x="1083" y="238"/>
                      </a:cubicBezTo>
                      <a:cubicBezTo>
                        <a:pt x="1057" y="239"/>
                        <a:pt x="1045" y="279"/>
                        <a:pt x="1024" y="277"/>
                      </a:cubicBezTo>
                      <a:cubicBezTo>
                        <a:pt x="1005" y="275"/>
                        <a:pt x="996" y="223"/>
                        <a:pt x="962" y="224"/>
                      </a:cubicBezTo>
                      <a:cubicBezTo>
                        <a:pt x="930" y="226"/>
                        <a:pt x="860" y="276"/>
                        <a:pt x="825" y="287"/>
                      </a:cubicBezTo>
                      <a:cubicBezTo>
                        <a:pt x="788" y="297"/>
                        <a:pt x="767" y="295"/>
                        <a:pt x="743" y="286"/>
                      </a:cubicBezTo>
                      <a:cubicBezTo>
                        <a:pt x="719" y="276"/>
                        <a:pt x="707" y="230"/>
                        <a:pt x="681" y="233"/>
                      </a:cubicBezTo>
                      <a:cubicBezTo>
                        <a:pt x="681" y="233"/>
                        <a:pt x="616" y="303"/>
                        <a:pt x="592" y="300"/>
                      </a:cubicBezTo>
                      <a:cubicBezTo>
                        <a:pt x="569" y="297"/>
                        <a:pt x="574" y="219"/>
                        <a:pt x="540" y="211"/>
                      </a:cubicBezTo>
                      <a:cubicBezTo>
                        <a:pt x="508" y="204"/>
                        <a:pt x="433" y="255"/>
                        <a:pt x="397" y="255"/>
                      </a:cubicBezTo>
                      <a:cubicBezTo>
                        <a:pt x="360" y="254"/>
                        <a:pt x="363" y="209"/>
                        <a:pt x="328" y="209"/>
                      </a:cubicBezTo>
                      <a:cubicBezTo>
                        <a:pt x="291" y="208"/>
                        <a:pt x="172" y="244"/>
                        <a:pt x="137" y="243"/>
                      </a:cubicBezTo>
                      <a:cubicBezTo>
                        <a:pt x="101" y="243"/>
                        <a:pt x="114" y="78"/>
                        <a:pt x="101" y="39"/>
                      </a:cubicBezTo>
                      <a:cubicBezTo>
                        <a:pt x="88" y="0"/>
                        <a:pt x="0" y="43"/>
                        <a:pt x="407" y="15"/>
                      </a:cubicBezTo>
                      <a:lnTo>
                        <a:pt x="2557" y="40"/>
                      </a:lnTo>
                      <a:cubicBezTo>
                        <a:pt x="2988" y="50"/>
                        <a:pt x="2869" y="40"/>
                        <a:pt x="2993" y="75"/>
                      </a:cubicBezTo>
                      <a:cubicBezTo>
                        <a:pt x="3117" y="110"/>
                        <a:pt x="3270" y="214"/>
                        <a:pt x="3299" y="249"/>
                      </a:cubicBezTo>
                      <a:cubicBezTo>
                        <a:pt x="3291" y="274"/>
                        <a:pt x="3203" y="294"/>
                        <a:pt x="3168" y="28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未知"/>
                <p:cNvSpPr/>
                <p:nvPr/>
              </p:nvSpPr>
              <p:spPr>
                <a:xfrm>
                  <a:off x="6288840" y="3622320"/>
                  <a:ext cx="2112480" cy="162720"/>
                </a:xfrm>
                <a:custGeom>
                  <a:avLst/>
                  <a:gdLst/>
                  <a:ahLst/>
                  <a:rect l="l" t="t" r="r" b="b"/>
                  <a:pathLst>
                    <a:path w="3142" h="277">
                      <a:moveTo>
                        <a:pt x="2943" y="249"/>
                      </a:moveTo>
                      <a:cubicBezTo>
                        <a:pt x="2908" y="241"/>
                        <a:pt x="2840" y="202"/>
                        <a:pt x="2803" y="202"/>
                      </a:cubicBezTo>
                      <a:cubicBezTo>
                        <a:pt x="2768" y="202"/>
                        <a:pt x="2754" y="246"/>
                        <a:pt x="2730" y="246"/>
                      </a:cubicBezTo>
                      <a:cubicBezTo>
                        <a:pt x="2707" y="246"/>
                        <a:pt x="2697" y="201"/>
                        <a:pt x="2662" y="200"/>
                      </a:cubicBezTo>
                      <a:cubicBezTo>
                        <a:pt x="2625" y="200"/>
                        <a:pt x="2553" y="244"/>
                        <a:pt x="2518" y="244"/>
                      </a:cubicBezTo>
                      <a:cubicBezTo>
                        <a:pt x="2481" y="243"/>
                        <a:pt x="2472" y="198"/>
                        <a:pt x="2448" y="198"/>
                      </a:cubicBezTo>
                      <a:cubicBezTo>
                        <a:pt x="2424" y="198"/>
                        <a:pt x="2399" y="242"/>
                        <a:pt x="2375" y="242"/>
                      </a:cubicBezTo>
                      <a:cubicBezTo>
                        <a:pt x="2351" y="242"/>
                        <a:pt x="2342" y="197"/>
                        <a:pt x="2305" y="196"/>
                      </a:cubicBezTo>
                      <a:cubicBezTo>
                        <a:pt x="2270" y="196"/>
                        <a:pt x="2198" y="240"/>
                        <a:pt x="2163" y="240"/>
                      </a:cubicBezTo>
                      <a:cubicBezTo>
                        <a:pt x="2126" y="239"/>
                        <a:pt x="2128" y="194"/>
                        <a:pt x="2093" y="194"/>
                      </a:cubicBezTo>
                      <a:cubicBezTo>
                        <a:pt x="2056" y="193"/>
                        <a:pt x="1995" y="238"/>
                        <a:pt x="1949" y="237"/>
                      </a:cubicBezTo>
                      <a:cubicBezTo>
                        <a:pt x="1902" y="237"/>
                        <a:pt x="1845" y="191"/>
                        <a:pt x="1808" y="191"/>
                      </a:cubicBezTo>
                      <a:cubicBezTo>
                        <a:pt x="1773" y="190"/>
                        <a:pt x="1759" y="235"/>
                        <a:pt x="1735" y="235"/>
                      </a:cubicBezTo>
                      <a:cubicBezTo>
                        <a:pt x="1713" y="235"/>
                        <a:pt x="1702" y="189"/>
                        <a:pt x="1667" y="189"/>
                      </a:cubicBezTo>
                      <a:cubicBezTo>
                        <a:pt x="1630" y="189"/>
                        <a:pt x="1558" y="233"/>
                        <a:pt x="1523" y="232"/>
                      </a:cubicBezTo>
                      <a:cubicBezTo>
                        <a:pt x="1486" y="232"/>
                        <a:pt x="1477" y="180"/>
                        <a:pt x="1453" y="187"/>
                      </a:cubicBezTo>
                      <a:cubicBezTo>
                        <a:pt x="1429" y="193"/>
                        <a:pt x="1420" y="274"/>
                        <a:pt x="1380" y="276"/>
                      </a:cubicBezTo>
                      <a:cubicBezTo>
                        <a:pt x="1341" y="277"/>
                        <a:pt x="1269" y="203"/>
                        <a:pt x="1222" y="196"/>
                      </a:cubicBezTo>
                      <a:cubicBezTo>
                        <a:pt x="1174" y="188"/>
                        <a:pt x="1129" y="230"/>
                        <a:pt x="1097" y="227"/>
                      </a:cubicBezTo>
                      <a:cubicBezTo>
                        <a:pt x="1063" y="225"/>
                        <a:pt x="1050" y="182"/>
                        <a:pt x="1028" y="182"/>
                      </a:cubicBezTo>
                      <a:cubicBezTo>
                        <a:pt x="1028" y="182"/>
                        <a:pt x="983" y="223"/>
                        <a:pt x="954" y="226"/>
                      </a:cubicBezTo>
                      <a:cubicBezTo>
                        <a:pt x="925" y="229"/>
                        <a:pt x="883" y="198"/>
                        <a:pt x="859" y="200"/>
                      </a:cubicBezTo>
                      <a:cubicBezTo>
                        <a:pt x="833" y="201"/>
                        <a:pt x="821" y="241"/>
                        <a:pt x="800" y="239"/>
                      </a:cubicBezTo>
                      <a:cubicBezTo>
                        <a:pt x="781" y="237"/>
                        <a:pt x="772" y="185"/>
                        <a:pt x="738" y="186"/>
                      </a:cubicBezTo>
                      <a:cubicBezTo>
                        <a:pt x="706" y="188"/>
                        <a:pt x="636" y="238"/>
                        <a:pt x="601" y="249"/>
                      </a:cubicBezTo>
                      <a:cubicBezTo>
                        <a:pt x="564" y="259"/>
                        <a:pt x="543" y="257"/>
                        <a:pt x="519" y="248"/>
                      </a:cubicBezTo>
                      <a:cubicBezTo>
                        <a:pt x="495" y="239"/>
                        <a:pt x="483" y="192"/>
                        <a:pt x="457" y="195"/>
                      </a:cubicBezTo>
                      <a:cubicBezTo>
                        <a:pt x="457" y="195"/>
                        <a:pt x="392" y="265"/>
                        <a:pt x="368" y="262"/>
                      </a:cubicBezTo>
                      <a:cubicBezTo>
                        <a:pt x="345" y="259"/>
                        <a:pt x="349" y="181"/>
                        <a:pt x="316" y="174"/>
                      </a:cubicBezTo>
                      <a:cubicBezTo>
                        <a:pt x="284" y="166"/>
                        <a:pt x="209" y="217"/>
                        <a:pt x="173" y="217"/>
                      </a:cubicBezTo>
                      <a:cubicBezTo>
                        <a:pt x="136" y="217"/>
                        <a:pt x="139" y="172"/>
                        <a:pt x="104" y="171"/>
                      </a:cubicBezTo>
                      <a:cubicBezTo>
                        <a:pt x="67" y="171"/>
                        <a:pt x="71" y="227"/>
                        <a:pt x="36" y="227"/>
                      </a:cubicBezTo>
                      <a:cubicBezTo>
                        <a:pt x="0" y="226"/>
                        <a:pt x="0" y="103"/>
                        <a:pt x="12" y="65"/>
                      </a:cubicBezTo>
                      <a:cubicBezTo>
                        <a:pt x="24" y="27"/>
                        <a:pt x="41" y="25"/>
                        <a:pt x="426" y="11"/>
                      </a:cubicBezTo>
                      <a:lnTo>
                        <a:pt x="2336" y="15"/>
                      </a:lnTo>
                      <a:cubicBezTo>
                        <a:pt x="2701" y="14"/>
                        <a:pt x="2529" y="0"/>
                        <a:pt x="2614" y="8"/>
                      </a:cubicBezTo>
                      <a:cubicBezTo>
                        <a:pt x="2699" y="16"/>
                        <a:pt x="2760" y="27"/>
                        <a:pt x="2848" y="62"/>
                      </a:cubicBezTo>
                      <a:cubicBezTo>
                        <a:pt x="2936" y="97"/>
                        <a:pt x="3126" y="187"/>
                        <a:pt x="3142" y="218"/>
                      </a:cubicBezTo>
                      <a:cubicBezTo>
                        <a:pt x="3134" y="242"/>
                        <a:pt x="2979" y="256"/>
                        <a:pt x="2943" y="2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未知"/>
                <p:cNvSpPr/>
                <p:nvPr/>
              </p:nvSpPr>
              <p:spPr>
                <a:xfrm>
                  <a:off x="6201720" y="3542400"/>
                  <a:ext cx="2082960" cy="175680"/>
                </a:xfrm>
                <a:custGeom>
                  <a:avLst/>
                  <a:gdLst/>
                  <a:ahLst/>
                  <a:rect l="l" t="t" r="r" b="b"/>
                  <a:pathLst>
                    <a:path w="3098" h="299">
                      <a:moveTo>
                        <a:pt x="2908" y="270"/>
                      </a:moveTo>
                      <a:cubicBezTo>
                        <a:pt x="2873" y="263"/>
                        <a:pt x="2805" y="224"/>
                        <a:pt x="2768" y="223"/>
                      </a:cubicBezTo>
                      <a:cubicBezTo>
                        <a:pt x="2733" y="223"/>
                        <a:pt x="2719" y="268"/>
                        <a:pt x="2695" y="268"/>
                      </a:cubicBezTo>
                      <a:cubicBezTo>
                        <a:pt x="2672" y="267"/>
                        <a:pt x="2662" y="222"/>
                        <a:pt x="2627" y="222"/>
                      </a:cubicBezTo>
                      <a:cubicBezTo>
                        <a:pt x="2590" y="221"/>
                        <a:pt x="2518" y="266"/>
                        <a:pt x="2483" y="265"/>
                      </a:cubicBezTo>
                      <a:cubicBezTo>
                        <a:pt x="2446" y="265"/>
                        <a:pt x="2437" y="220"/>
                        <a:pt x="2413" y="219"/>
                      </a:cubicBezTo>
                      <a:cubicBezTo>
                        <a:pt x="2389" y="219"/>
                        <a:pt x="2364" y="264"/>
                        <a:pt x="2340" y="264"/>
                      </a:cubicBezTo>
                      <a:cubicBezTo>
                        <a:pt x="2315" y="263"/>
                        <a:pt x="2307" y="218"/>
                        <a:pt x="2270" y="218"/>
                      </a:cubicBezTo>
                      <a:cubicBezTo>
                        <a:pt x="2235" y="217"/>
                        <a:pt x="2163" y="262"/>
                        <a:pt x="2127" y="261"/>
                      </a:cubicBezTo>
                      <a:cubicBezTo>
                        <a:pt x="2090" y="261"/>
                        <a:pt x="2093" y="216"/>
                        <a:pt x="2058" y="215"/>
                      </a:cubicBezTo>
                      <a:cubicBezTo>
                        <a:pt x="2021" y="215"/>
                        <a:pt x="1960" y="259"/>
                        <a:pt x="1914" y="259"/>
                      </a:cubicBezTo>
                      <a:cubicBezTo>
                        <a:pt x="1867" y="258"/>
                        <a:pt x="1810" y="212"/>
                        <a:pt x="1773" y="212"/>
                      </a:cubicBezTo>
                      <a:cubicBezTo>
                        <a:pt x="1738" y="212"/>
                        <a:pt x="1724" y="257"/>
                        <a:pt x="1700" y="256"/>
                      </a:cubicBezTo>
                      <a:cubicBezTo>
                        <a:pt x="1677" y="256"/>
                        <a:pt x="1667" y="211"/>
                        <a:pt x="1632" y="210"/>
                      </a:cubicBezTo>
                      <a:cubicBezTo>
                        <a:pt x="1595" y="210"/>
                        <a:pt x="1523" y="254"/>
                        <a:pt x="1488" y="254"/>
                      </a:cubicBezTo>
                      <a:cubicBezTo>
                        <a:pt x="1451" y="253"/>
                        <a:pt x="1442" y="201"/>
                        <a:pt x="1418" y="208"/>
                      </a:cubicBezTo>
                      <a:cubicBezTo>
                        <a:pt x="1394" y="215"/>
                        <a:pt x="1385" y="296"/>
                        <a:pt x="1345" y="297"/>
                      </a:cubicBezTo>
                      <a:cubicBezTo>
                        <a:pt x="1306" y="299"/>
                        <a:pt x="1233" y="225"/>
                        <a:pt x="1187" y="217"/>
                      </a:cubicBezTo>
                      <a:cubicBezTo>
                        <a:pt x="1139" y="210"/>
                        <a:pt x="1094" y="251"/>
                        <a:pt x="1062" y="249"/>
                      </a:cubicBezTo>
                      <a:cubicBezTo>
                        <a:pt x="1028" y="247"/>
                        <a:pt x="1015" y="203"/>
                        <a:pt x="992" y="203"/>
                      </a:cubicBezTo>
                      <a:cubicBezTo>
                        <a:pt x="992" y="203"/>
                        <a:pt x="948" y="245"/>
                        <a:pt x="919" y="247"/>
                      </a:cubicBezTo>
                      <a:cubicBezTo>
                        <a:pt x="890" y="250"/>
                        <a:pt x="848" y="219"/>
                        <a:pt x="824" y="221"/>
                      </a:cubicBezTo>
                      <a:cubicBezTo>
                        <a:pt x="798" y="223"/>
                        <a:pt x="786" y="263"/>
                        <a:pt x="765" y="261"/>
                      </a:cubicBezTo>
                      <a:cubicBezTo>
                        <a:pt x="745" y="258"/>
                        <a:pt x="737" y="206"/>
                        <a:pt x="703" y="208"/>
                      </a:cubicBezTo>
                      <a:cubicBezTo>
                        <a:pt x="671" y="209"/>
                        <a:pt x="601" y="260"/>
                        <a:pt x="565" y="270"/>
                      </a:cubicBezTo>
                      <a:cubicBezTo>
                        <a:pt x="528" y="281"/>
                        <a:pt x="508" y="279"/>
                        <a:pt x="483" y="269"/>
                      </a:cubicBezTo>
                      <a:cubicBezTo>
                        <a:pt x="459" y="260"/>
                        <a:pt x="448" y="214"/>
                        <a:pt x="422" y="217"/>
                      </a:cubicBezTo>
                      <a:cubicBezTo>
                        <a:pt x="422" y="217"/>
                        <a:pt x="357" y="287"/>
                        <a:pt x="332" y="284"/>
                      </a:cubicBezTo>
                      <a:cubicBezTo>
                        <a:pt x="310" y="280"/>
                        <a:pt x="314" y="202"/>
                        <a:pt x="280" y="195"/>
                      </a:cubicBezTo>
                      <a:cubicBezTo>
                        <a:pt x="248" y="188"/>
                        <a:pt x="193" y="271"/>
                        <a:pt x="158" y="270"/>
                      </a:cubicBezTo>
                      <a:cubicBezTo>
                        <a:pt x="121" y="270"/>
                        <a:pt x="139" y="85"/>
                        <a:pt x="134" y="48"/>
                      </a:cubicBezTo>
                      <a:cubicBezTo>
                        <a:pt x="129" y="11"/>
                        <a:pt x="0" y="3"/>
                        <a:pt x="308" y="0"/>
                      </a:cubicBezTo>
                      <a:lnTo>
                        <a:pt x="1983" y="31"/>
                      </a:lnTo>
                      <a:cubicBezTo>
                        <a:pt x="2313" y="36"/>
                        <a:pt x="2162" y="22"/>
                        <a:pt x="2291" y="31"/>
                      </a:cubicBezTo>
                      <a:cubicBezTo>
                        <a:pt x="2420" y="40"/>
                        <a:pt x="2622" y="46"/>
                        <a:pt x="2756" y="84"/>
                      </a:cubicBezTo>
                      <a:cubicBezTo>
                        <a:pt x="2890" y="122"/>
                        <a:pt x="3073" y="227"/>
                        <a:pt x="3098" y="258"/>
                      </a:cubicBezTo>
                      <a:cubicBezTo>
                        <a:pt x="3090" y="283"/>
                        <a:pt x="2944" y="277"/>
                        <a:pt x="2908" y="270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未知"/>
                <p:cNvSpPr/>
                <p:nvPr/>
              </p:nvSpPr>
              <p:spPr>
                <a:xfrm>
                  <a:off x="6204960" y="3521160"/>
                  <a:ext cx="1986840" cy="203760"/>
                </a:xfrm>
                <a:custGeom>
                  <a:avLst/>
                  <a:gdLst/>
                  <a:ahLst/>
                  <a:rect l="l" t="t" r="r" b="b"/>
                  <a:pathLst>
                    <a:path w="2955" h="347">
                      <a:moveTo>
                        <a:pt x="2841" y="261"/>
                      </a:moveTo>
                      <a:cubicBezTo>
                        <a:pt x="2806" y="253"/>
                        <a:pt x="2738" y="215"/>
                        <a:pt x="2701" y="214"/>
                      </a:cubicBezTo>
                      <a:cubicBezTo>
                        <a:pt x="2666" y="214"/>
                        <a:pt x="2652" y="259"/>
                        <a:pt x="2628" y="258"/>
                      </a:cubicBezTo>
                      <a:cubicBezTo>
                        <a:pt x="2605" y="258"/>
                        <a:pt x="2595" y="213"/>
                        <a:pt x="2560" y="212"/>
                      </a:cubicBezTo>
                      <a:cubicBezTo>
                        <a:pt x="2523" y="212"/>
                        <a:pt x="2451" y="256"/>
                        <a:pt x="2416" y="256"/>
                      </a:cubicBezTo>
                      <a:cubicBezTo>
                        <a:pt x="2379" y="255"/>
                        <a:pt x="2370" y="210"/>
                        <a:pt x="2346" y="210"/>
                      </a:cubicBezTo>
                      <a:cubicBezTo>
                        <a:pt x="2322" y="210"/>
                        <a:pt x="2297" y="254"/>
                        <a:pt x="2273" y="254"/>
                      </a:cubicBezTo>
                      <a:cubicBezTo>
                        <a:pt x="2249" y="254"/>
                        <a:pt x="2240" y="209"/>
                        <a:pt x="2203" y="208"/>
                      </a:cubicBezTo>
                      <a:cubicBezTo>
                        <a:pt x="2168" y="208"/>
                        <a:pt x="2096" y="252"/>
                        <a:pt x="2061" y="252"/>
                      </a:cubicBezTo>
                      <a:cubicBezTo>
                        <a:pt x="2024" y="251"/>
                        <a:pt x="2026" y="206"/>
                        <a:pt x="1991" y="206"/>
                      </a:cubicBezTo>
                      <a:cubicBezTo>
                        <a:pt x="1954" y="206"/>
                        <a:pt x="1893" y="250"/>
                        <a:pt x="1847" y="249"/>
                      </a:cubicBezTo>
                      <a:cubicBezTo>
                        <a:pt x="1800" y="249"/>
                        <a:pt x="1743" y="203"/>
                        <a:pt x="1706" y="203"/>
                      </a:cubicBezTo>
                      <a:cubicBezTo>
                        <a:pt x="1671" y="202"/>
                        <a:pt x="1657" y="247"/>
                        <a:pt x="1633" y="247"/>
                      </a:cubicBezTo>
                      <a:cubicBezTo>
                        <a:pt x="1611" y="247"/>
                        <a:pt x="1600" y="202"/>
                        <a:pt x="1565" y="201"/>
                      </a:cubicBezTo>
                      <a:cubicBezTo>
                        <a:pt x="1528" y="201"/>
                        <a:pt x="1456" y="245"/>
                        <a:pt x="1421" y="244"/>
                      </a:cubicBezTo>
                      <a:cubicBezTo>
                        <a:pt x="1384" y="244"/>
                        <a:pt x="1375" y="192"/>
                        <a:pt x="1351" y="199"/>
                      </a:cubicBezTo>
                      <a:cubicBezTo>
                        <a:pt x="1327" y="205"/>
                        <a:pt x="1318" y="286"/>
                        <a:pt x="1278" y="288"/>
                      </a:cubicBezTo>
                      <a:cubicBezTo>
                        <a:pt x="1239" y="289"/>
                        <a:pt x="1167" y="216"/>
                        <a:pt x="1120" y="208"/>
                      </a:cubicBezTo>
                      <a:cubicBezTo>
                        <a:pt x="1072" y="200"/>
                        <a:pt x="1027" y="242"/>
                        <a:pt x="995" y="240"/>
                      </a:cubicBezTo>
                      <a:cubicBezTo>
                        <a:pt x="961" y="237"/>
                        <a:pt x="948" y="194"/>
                        <a:pt x="925" y="194"/>
                      </a:cubicBezTo>
                      <a:cubicBezTo>
                        <a:pt x="925" y="194"/>
                        <a:pt x="881" y="235"/>
                        <a:pt x="852" y="238"/>
                      </a:cubicBezTo>
                      <a:cubicBezTo>
                        <a:pt x="823" y="241"/>
                        <a:pt x="781" y="210"/>
                        <a:pt x="757" y="212"/>
                      </a:cubicBezTo>
                      <a:cubicBezTo>
                        <a:pt x="731" y="214"/>
                        <a:pt x="719" y="253"/>
                        <a:pt x="698" y="251"/>
                      </a:cubicBezTo>
                      <a:cubicBezTo>
                        <a:pt x="679" y="249"/>
                        <a:pt x="670" y="197"/>
                        <a:pt x="636" y="198"/>
                      </a:cubicBezTo>
                      <a:cubicBezTo>
                        <a:pt x="604" y="200"/>
                        <a:pt x="534" y="250"/>
                        <a:pt x="499" y="261"/>
                      </a:cubicBezTo>
                      <a:cubicBezTo>
                        <a:pt x="462" y="271"/>
                        <a:pt x="441" y="269"/>
                        <a:pt x="417" y="260"/>
                      </a:cubicBezTo>
                      <a:cubicBezTo>
                        <a:pt x="393" y="251"/>
                        <a:pt x="381" y="205"/>
                        <a:pt x="355" y="207"/>
                      </a:cubicBezTo>
                      <a:cubicBezTo>
                        <a:pt x="355" y="207"/>
                        <a:pt x="290" y="278"/>
                        <a:pt x="266" y="274"/>
                      </a:cubicBezTo>
                      <a:cubicBezTo>
                        <a:pt x="243" y="271"/>
                        <a:pt x="247" y="193"/>
                        <a:pt x="214" y="186"/>
                      </a:cubicBezTo>
                      <a:cubicBezTo>
                        <a:pt x="197" y="190"/>
                        <a:pt x="193" y="280"/>
                        <a:pt x="183" y="300"/>
                      </a:cubicBezTo>
                      <a:cubicBezTo>
                        <a:pt x="173" y="320"/>
                        <a:pt x="163" y="347"/>
                        <a:pt x="153" y="306"/>
                      </a:cubicBezTo>
                      <a:cubicBezTo>
                        <a:pt x="116" y="306"/>
                        <a:pt x="118" y="90"/>
                        <a:pt x="123" y="54"/>
                      </a:cubicBezTo>
                      <a:cubicBezTo>
                        <a:pt x="128" y="18"/>
                        <a:pt x="0" y="9"/>
                        <a:pt x="279" y="0"/>
                      </a:cubicBezTo>
                      <a:lnTo>
                        <a:pt x="1816" y="28"/>
                      </a:lnTo>
                      <a:cubicBezTo>
                        <a:pt x="2147" y="33"/>
                        <a:pt x="2129" y="26"/>
                        <a:pt x="2266" y="33"/>
                      </a:cubicBezTo>
                      <a:cubicBezTo>
                        <a:pt x="2403" y="41"/>
                        <a:pt x="2516" y="43"/>
                        <a:pt x="2631" y="73"/>
                      </a:cubicBezTo>
                      <a:cubicBezTo>
                        <a:pt x="2746" y="103"/>
                        <a:pt x="2921" y="184"/>
                        <a:pt x="2955" y="216"/>
                      </a:cubicBezTo>
                      <a:cubicBezTo>
                        <a:pt x="2947" y="241"/>
                        <a:pt x="2877" y="268"/>
                        <a:pt x="2841" y="26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未知"/>
                <p:cNvSpPr/>
                <p:nvPr/>
              </p:nvSpPr>
              <p:spPr>
                <a:xfrm>
                  <a:off x="6136560" y="3490920"/>
                  <a:ext cx="2039760" cy="168840"/>
                </a:xfrm>
                <a:custGeom>
                  <a:avLst/>
                  <a:gdLst/>
                  <a:ahLst/>
                  <a:rect l="l" t="t" r="r" b="b"/>
                  <a:pathLst>
                    <a:path w="3034" h="287">
                      <a:moveTo>
                        <a:pt x="2781" y="126"/>
                      </a:moveTo>
                      <a:cubicBezTo>
                        <a:pt x="2835" y="150"/>
                        <a:pt x="3014" y="225"/>
                        <a:pt x="3021" y="246"/>
                      </a:cubicBezTo>
                      <a:cubicBezTo>
                        <a:pt x="3034" y="265"/>
                        <a:pt x="2903" y="249"/>
                        <a:pt x="2859" y="243"/>
                      </a:cubicBezTo>
                      <a:cubicBezTo>
                        <a:pt x="2822" y="243"/>
                        <a:pt x="2785" y="207"/>
                        <a:pt x="2755" y="208"/>
                      </a:cubicBezTo>
                      <a:cubicBezTo>
                        <a:pt x="2725" y="209"/>
                        <a:pt x="2706" y="252"/>
                        <a:pt x="2681" y="252"/>
                      </a:cubicBezTo>
                      <a:cubicBezTo>
                        <a:pt x="2657" y="252"/>
                        <a:pt x="2649" y="206"/>
                        <a:pt x="2612" y="206"/>
                      </a:cubicBezTo>
                      <a:cubicBezTo>
                        <a:pt x="2576" y="206"/>
                        <a:pt x="2505" y="250"/>
                        <a:pt x="2469" y="249"/>
                      </a:cubicBezTo>
                      <a:cubicBezTo>
                        <a:pt x="2432" y="249"/>
                        <a:pt x="2435" y="204"/>
                        <a:pt x="2400" y="204"/>
                      </a:cubicBezTo>
                      <a:cubicBezTo>
                        <a:pt x="2363" y="203"/>
                        <a:pt x="2302" y="247"/>
                        <a:pt x="2256" y="247"/>
                      </a:cubicBezTo>
                      <a:cubicBezTo>
                        <a:pt x="2209" y="246"/>
                        <a:pt x="2152" y="201"/>
                        <a:pt x="2115" y="200"/>
                      </a:cubicBezTo>
                      <a:cubicBezTo>
                        <a:pt x="2080" y="200"/>
                        <a:pt x="2066" y="245"/>
                        <a:pt x="2042" y="244"/>
                      </a:cubicBezTo>
                      <a:cubicBezTo>
                        <a:pt x="2019" y="244"/>
                        <a:pt x="2009" y="199"/>
                        <a:pt x="1974" y="199"/>
                      </a:cubicBezTo>
                      <a:cubicBezTo>
                        <a:pt x="1937" y="198"/>
                        <a:pt x="1865" y="242"/>
                        <a:pt x="1830" y="242"/>
                      </a:cubicBezTo>
                      <a:cubicBezTo>
                        <a:pt x="1793" y="242"/>
                        <a:pt x="1784" y="190"/>
                        <a:pt x="1760" y="196"/>
                      </a:cubicBezTo>
                      <a:cubicBezTo>
                        <a:pt x="1736" y="203"/>
                        <a:pt x="1727" y="284"/>
                        <a:pt x="1687" y="285"/>
                      </a:cubicBezTo>
                      <a:cubicBezTo>
                        <a:pt x="1648" y="287"/>
                        <a:pt x="1575" y="213"/>
                        <a:pt x="1529" y="206"/>
                      </a:cubicBezTo>
                      <a:cubicBezTo>
                        <a:pt x="1480" y="198"/>
                        <a:pt x="1436" y="240"/>
                        <a:pt x="1404" y="237"/>
                      </a:cubicBezTo>
                      <a:cubicBezTo>
                        <a:pt x="1370" y="235"/>
                        <a:pt x="1357" y="192"/>
                        <a:pt x="1334" y="191"/>
                      </a:cubicBezTo>
                      <a:cubicBezTo>
                        <a:pt x="1334" y="191"/>
                        <a:pt x="1290" y="233"/>
                        <a:pt x="1261" y="236"/>
                      </a:cubicBezTo>
                      <a:cubicBezTo>
                        <a:pt x="1232" y="238"/>
                        <a:pt x="1189" y="208"/>
                        <a:pt x="1165" y="209"/>
                      </a:cubicBezTo>
                      <a:cubicBezTo>
                        <a:pt x="1140" y="211"/>
                        <a:pt x="1127" y="251"/>
                        <a:pt x="1106" y="249"/>
                      </a:cubicBezTo>
                      <a:cubicBezTo>
                        <a:pt x="1087" y="247"/>
                        <a:pt x="1079" y="194"/>
                        <a:pt x="1045" y="196"/>
                      </a:cubicBezTo>
                      <a:cubicBezTo>
                        <a:pt x="1013" y="198"/>
                        <a:pt x="943" y="248"/>
                        <a:pt x="907" y="259"/>
                      </a:cubicBezTo>
                      <a:cubicBezTo>
                        <a:pt x="870" y="269"/>
                        <a:pt x="849" y="267"/>
                        <a:pt x="825" y="258"/>
                      </a:cubicBezTo>
                      <a:cubicBezTo>
                        <a:pt x="801" y="248"/>
                        <a:pt x="789" y="202"/>
                        <a:pt x="764" y="205"/>
                      </a:cubicBezTo>
                      <a:cubicBezTo>
                        <a:pt x="764" y="205"/>
                        <a:pt x="698" y="275"/>
                        <a:pt x="674" y="272"/>
                      </a:cubicBezTo>
                      <a:cubicBezTo>
                        <a:pt x="652" y="269"/>
                        <a:pt x="656" y="191"/>
                        <a:pt x="622" y="183"/>
                      </a:cubicBezTo>
                      <a:cubicBezTo>
                        <a:pt x="590" y="176"/>
                        <a:pt x="515" y="227"/>
                        <a:pt x="480" y="227"/>
                      </a:cubicBezTo>
                      <a:cubicBezTo>
                        <a:pt x="443" y="226"/>
                        <a:pt x="445" y="181"/>
                        <a:pt x="410" y="181"/>
                      </a:cubicBezTo>
                      <a:cubicBezTo>
                        <a:pt x="373" y="180"/>
                        <a:pt x="301" y="225"/>
                        <a:pt x="266" y="224"/>
                      </a:cubicBezTo>
                      <a:cubicBezTo>
                        <a:pt x="231" y="224"/>
                        <a:pt x="183" y="82"/>
                        <a:pt x="187" y="46"/>
                      </a:cubicBezTo>
                      <a:cubicBezTo>
                        <a:pt x="191" y="10"/>
                        <a:pt x="0" y="29"/>
                        <a:pt x="288" y="6"/>
                      </a:cubicBezTo>
                      <a:lnTo>
                        <a:pt x="1251" y="12"/>
                      </a:lnTo>
                      <a:cubicBezTo>
                        <a:pt x="1517" y="12"/>
                        <a:pt x="1707" y="7"/>
                        <a:pt x="1887" y="6"/>
                      </a:cubicBezTo>
                      <a:cubicBezTo>
                        <a:pt x="2067" y="5"/>
                        <a:pt x="2216" y="0"/>
                        <a:pt x="2331" y="6"/>
                      </a:cubicBezTo>
                      <a:cubicBezTo>
                        <a:pt x="2446" y="12"/>
                        <a:pt x="2502" y="22"/>
                        <a:pt x="2577" y="42"/>
                      </a:cubicBezTo>
                      <a:cubicBezTo>
                        <a:pt x="2695" y="84"/>
                        <a:pt x="2727" y="102"/>
                        <a:pt x="2781" y="126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未知"/>
                <p:cNvSpPr/>
                <p:nvPr/>
              </p:nvSpPr>
              <p:spPr>
                <a:xfrm>
                  <a:off x="6148440" y="3448080"/>
                  <a:ext cx="1886040" cy="182880"/>
                </a:xfrm>
                <a:custGeom>
                  <a:avLst/>
                  <a:gdLst/>
                  <a:ahLst/>
                  <a:rect l="l" t="t" r="r" b="b"/>
                  <a:pathLst>
                    <a:path w="2805" h="311">
                      <a:moveTo>
                        <a:pt x="2751" y="196"/>
                      </a:moveTo>
                      <a:cubicBezTo>
                        <a:pt x="2805" y="230"/>
                        <a:pt x="2698" y="261"/>
                        <a:pt x="2674" y="265"/>
                      </a:cubicBezTo>
                      <a:cubicBezTo>
                        <a:pt x="2652" y="264"/>
                        <a:pt x="2642" y="219"/>
                        <a:pt x="2606" y="219"/>
                      </a:cubicBezTo>
                      <a:cubicBezTo>
                        <a:pt x="2569" y="218"/>
                        <a:pt x="2498" y="263"/>
                        <a:pt x="2462" y="262"/>
                      </a:cubicBezTo>
                      <a:cubicBezTo>
                        <a:pt x="2425" y="262"/>
                        <a:pt x="2417" y="217"/>
                        <a:pt x="2392" y="216"/>
                      </a:cubicBezTo>
                      <a:cubicBezTo>
                        <a:pt x="2368" y="216"/>
                        <a:pt x="2343" y="261"/>
                        <a:pt x="2319" y="260"/>
                      </a:cubicBezTo>
                      <a:cubicBezTo>
                        <a:pt x="2295" y="260"/>
                        <a:pt x="2286" y="215"/>
                        <a:pt x="2249" y="215"/>
                      </a:cubicBezTo>
                      <a:cubicBezTo>
                        <a:pt x="2214" y="214"/>
                        <a:pt x="2142" y="258"/>
                        <a:pt x="2107" y="258"/>
                      </a:cubicBezTo>
                      <a:cubicBezTo>
                        <a:pt x="2070" y="258"/>
                        <a:pt x="2073" y="213"/>
                        <a:pt x="2037" y="212"/>
                      </a:cubicBezTo>
                      <a:cubicBezTo>
                        <a:pt x="2000" y="212"/>
                        <a:pt x="1940" y="256"/>
                        <a:pt x="1893" y="256"/>
                      </a:cubicBezTo>
                      <a:cubicBezTo>
                        <a:pt x="1847" y="255"/>
                        <a:pt x="1790" y="209"/>
                        <a:pt x="1753" y="209"/>
                      </a:cubicBezTo>
                      <a:cubicBezTo>
                        <a:pt x="1718" y="209"/>
                        <a:pt x="1704" y="253"/>
                        <a:pt x="1680" y="253"/>
                      </a:cubicBezTo>
                      <a:cubicBezTo>
                        <a:pt x="1657" y="253"/>
                        <a:pt x="1647" y="208"/>
                        <a:pt x="1612" y="207"/>
                      </a:cubicBezTo>
                      <a:cubicBezTo>
                        <a:pt x="1575" y="207"/>
                        <a:pt x="1503" y="251"/>
                        <a:pt x="1468" y="251"/>
                      </a:cubicBezTo>
                      <a:cubicBezTo>
                        <a:pt x="1431" y="250"/>
                        <a:pt x="1422" y="198"/>
                        <a:pt x="1398" y="205"/>
                      </a:cubicBezTo>
                      <a:cubicBezTo>
                        <a:pt x="1374" y="212"/>
                        <a:pt x="1365" y="293"/>
                        <a:pt x="1324" y="294"/>
                      </a:cubicBezTo>
                      <a:cubicBezTo>
                        <a:pt x="1286" y="296"/>
                        <a:pt x="1213" y="222"/>
                        <a:pt x="1166" y="214"/>
                      </a:cubicBezTo>
                      <a:cubicBezTo>
                        <a:pt x="1118" y="207"/>
                        <a:pt x="1074" y="248"/>
                        <a:pt x="1042" y="246"/>
                      </a:cubicBezTo>
                      <a:cubicBezTo>
                        <a:pt x="1008" y="243"/>
                        <a:pt x="994" y="200"/>
                        <a:pt x="972" y="200"/>
                      </a:cubicBezTo>
                      <a:cubicBezTo>
                        <a:pt x="972" y="200"/>
                        <a:pt x="928" y="242"/>
                        <a:pt x="899" y="244"/>
                      </a:cubicBezTo>
                      <a:cubicBezTo>
                        <a:pt x="870" y="247"/>
                        <a:pt x="827" y="216"/>
                        <a:pt x="803" y="218"/>
                      </a:cubicBezTo>
                      <a:cubicBezTo>
                        <a:pt x="778" y="220"/>
                        <a:pt x="765" y="260"/>
                        <a:pt x="744" y="257"/>
                      </a:cubicBezTo>
                      <a:cubicBezTo>
                        <a:pt x="725" y="255"/>
                        <a:pt x="716" y="203"/>
                        <a:pt x="683" y="205"/>
                      </a:cubicBezTo>
                      <a:cubicBezTo>
                        <a:pt x="651" y="206"/>
                        <a:pt x="580" y="257"/>
                        <a:pt x="545" y="267"/>
                      </a:cubicBezTo>
                      <a:cubicBezTo>
                        <a:pt x="508" y="278"/>
                        <a:pt x="487" y="276"/>
                        <a:pt x="463" y="266"/>
                      </a:cubicBezTo>
                      <a:cubicBezTo>
                        <a:pt x="439" y="257"/>
                        <a:pt x="427" y="211"/>
                        <a:pt x="402" y="214"/>
                      </a:cubicBezTo>
                      <a:cubicBezTo>
                        <a:pt x="402" y="214"/>
                        <a:pt x="336" y="284"/>
                        <a:pt x="312" y="281"/>
                      </a:cubicBezTo>
                      <a:cubicBezTo>
                        <a:pt x="290" y="277"/>
                        <a:pt x="294" y="199"/>
                        <a:pt x="260" y="192"/>
                      </a:cubicBezTo>
                      <a:cubicBezTo>
                        <a:pt x="228" y="185"/>
                        <a:pt x="264" y="311"/>
                        <a:pt x="207" y="282"/>
                      </a:cubicBezTo>
                      <a:cubicBezTo>
                        <a:pt x="150" y="253"/>
                        <a:pt x="0" y="36"/>
                        <a:pt x="207" y="0"/>
                      </a:cubicBezTo>
                      <a:lnTo>
                        <a:pt x="1358" y="20"/>
                      </a:lnTo>
                      <a:cubicBezTo>
                        <a:pt x="1643" y="23"/>
                        <a:pt x="1752" y="12"/>
                        <a:pt x="1917" y="19"/>
                      </a:cubicBezTo>
                      <a:cubicBezTo>
                        <a:pt x="2082" y="26"/>
                        <a:pt x="2210" y="35"/>
                        <a:pt x="2349" y="64"/>
                      </a:cubicBezTo>
                      <a:cubicBezTo>
                        <a:pt x="2488" y="93"/>
                        <a:pt x="2697" y="162"/>
                        <a:pt x="2751" y="19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未知"/>
                <p:cNvSpPr/>
                <p:nvPr/>
              </p:nvSpPr>
              <p:spPr>
                <a:xfrm>
                  <a:off x="6190920" y="3386880"/>
                  <a:ext cx="1792440" cy="162360"/>
                </a:xfrm>
                <a:custGeom>
                  <a:avLst/>
                  <a:gdLst/>
                  <a:ahLst/>
                  <a:rect l="l" t="t" r="r" b="b"/>
                  <a:pathLst>
                    <a:path w="2666" h="276">
                      <a:moveTo>
                        <a:pt x="0" y="42"/>
                      </a:moveTo>
                      <a:lnTo>
                        <a:pt x="903" y="5"/>
                      </a:lnTo>
                      <a:cubicBezTo>
                        <a:pt x="1123" y="0"/>
                        <a:pt x="1157" y="4"/>
                        <a:pt x="1321" y="10"/>
                      </a:cubicBezTo>
                      <a:cubicBezTo>
                        <a:pt x="1485" y="16"/>
                        <a:pt x="1678" y="5"/>
                        <a:pt x="1886" y="40"/>
                      </a:cubicBezTo>
                      <a:cubicBezTo>
                        <a:pt x="2094" y="76"/>
                        <a:pt x="2477" y="190"/>
                        <a:pt x="2572" y="224"/>
                      </a:cubicBezTo>
                      <a:cubicBezTo>
                        <a:pt x="2666" y="258"/>
                        <a:pt x="2488" y="249"/>
                        <a:pt x="2457" y="245"/>
                      </a:cubicBezTo>
                      <a:cubicBezTo>
                        <a:pt x="2435" y="244"/>
                        <a:pt x="2424" y="199"/>
                        <a:pt x="2389" y="199"/>
                      </a:cubicBezTo>
                      <a:cubicBezTo>
                        <a:pt x="2352" y="199"/>
                        <a:pt x="2280" y="243"/>
                        <a:pt x="2245" y="242"/>
                      </a:cubicBezTo>
                      <a:cubicBezTo>
                        <a:pt x="2208" y="242"/>
                        <a:pt x="2199" y="197"/>
                        <a:pt x="2175" y="197"/>
                      </a:cubicBezTo>
                      <a:cubicBezTo>
                        <a:pt x="2151" y="196"/>
                        <a:pt x="2126" y="241"/>
                        <a:pt x="2102" y="241"/>
                      </a:cubicBezTo>
                      <a:cubicBezTo>
                        <a:pt x="2078" y="240"/>
                        <a:pt x="2069" y="195"/>
                        <a:pt x="2032" y="195"/>
                      </a:cubicBezTo>
                      <a:cubicBezTo>
                        <a:pt x="1997" y="194"/>
                        <a:pt x="1925" y="239"/>
                        <a:pt x="1890" y="238"/>
                      </a:cubicBezTo>
                      <a:cubicBezTo>
                        <a:pt x="1853" y="238"/>
                        <a:pt x="1856" y="193"/>
                        <a:pt x="1820" y="192"/>
                      </a:cubicBezTo>
                      <a:cubicBezTo>
                        <a:pt x="1783" y="192"/>
                        <a:pt x="1723" y="236"/>
                        <a:pt x="1676" y="236"/>
                      </a:cubicBezTo>
                      <a:cubicBezTo>
                        <a:pt x="1630" y="235"/>
                        <a:pt x="1573" y="190"/>
                        <a:pt x="1536" y="189"/>
                      </a:cubicBezTo>
                      <a:cubicBezTo>
                        <a:pt x="1500" y="189"/>
                        <a:pt x="1487" y="234"/>
                        <a:pt x="1462" y="233"/>
                      </a:cubicBezTo>
                      <a:cubicBezTo>
                        <a:pt x="1440" y="233"/>
                        <a:pt x="1430" y="188"/>
                        <a:pt x="1394" y="188"/>
                      </a:cubicBezTo>
                      <a:cubicBezTo>
                        <a:pt x="1357" y="187"/>
                        <a:pt x="1286" y="231"/>
                        <a:pt x="1250" y="231"/>
                      </a:cubicBezTo>
                      <a:cubicBezTo>
                        <a:pt x="1213" y="231"/>
                        <a:pt x="1205" y="178"/>
                        <a:pt x="1181" y="185"/>
                      </a:cubicBezTo>
                      <a:cubicBezTo>
                        <a:pt x="1157" y="192"/>
                        <a:pt x="1148" y="273"/>
                        <a:pt x="1107" y="274"/>
                      </a:cubicBezTo>
                      <a:cubicBezTo>
                        <a:pt x="1069" y="276"/>
                        <a:pt x="996" y="202"/>
                        <a:pt x="949" y="194"/>
                      </a:cubicBezTo>
                      <a:cubicBezTo>
                        <a:pt x="901" y="187"/>
                        <a:pt x="857" y="228"/>
                        <a:pt x="825" y="226"/>
                      </a:cubicBezTo>
                      <a:cubicBezTo>
                        <a:pt x="791" y="224"/>
                        <a:pt x="777" y="181"/>
                        <a:pt x="755" y="180"/>
                      </a:cubicBezTo>
                      <a:cubicBezTo>
                        <a:pt x="755" y="180"/>
                        <a:pt x="711" y="222"/>
                        <a:pt x="682" y="224"/>
                      </a:cubicBezTo>
                      <a:cubicBezTo>
                        <a:pt x="653" y="227"/>
                        <a:pt x="610" y="197"/>
                        <a:pt x="586" y="198"/>
                      </a:cubicBezTo>
                      <a:cubicBezTo>
                        <a:pt x="560" y="200"/>
                        <a:pt x="548" y="240"/>
                        <a:pt x="527" y="238"/>
                      </a:cubicBezTo>
                      <a:cubicBezTo>
                        <a:pt x="508" y="235"/>
                        <a:pt x="499" y="183"/>
                        <a:pt x="466" y="185"/>
                      </a:cubicBezTo>
                      <a:cubicBezTo>
                        <a:pt x="433" y="187"/>
                        <a:pt x="363" y="237"/>
                        <a:pt x="328" y="247"/>
                      </a:cubicBezTo>
                      <a:cubicBezTo>
                        <a:pt x="291" y="258"/>
                        <a:pt x="270" y="256"/>
                        <a:pt x="246" y="246"/>
                      </a:cubicBezTo>
                      <a:cubicBezTo>
                        <a:pt x="222" y="237"/>
                        <a:pt x="210" y="191"/>
                        <a:pt x="184" y="194"/>
                      </a:cubicBezTo>
                      <a:cubicBezTo>
                        <a:pt x="184" y="194"/>
                        <a:pt x="110" y="250"/>
                        <a:pt x="95" y="261"/>
                      </a:cubicBezTo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未知"/>
                <p:cNvSpPr/>
                <p:nvPr/>
              </p:nvSpPr>
              <p:spPr>
                <a:xfrm>
                  <a:off x="6142320" y="3357720"/>
                  <a:ext cx="1691640" cy="158760"/>
                </a:xfrm>
                <a:custGeom>
                  <a:avLst/>
                  <a:gdLst/>
                  <a:ahLst/>
                  <a:rect l="l" t="t" r="r" b="b"/>
                  <a:pathLst>
                    <a:path w="2516" h="270">
                      <a:moveTo>
                        <a:pt x="0" y="20"/>
                      </a:moveTo>
                      <a:lnTo>
                        <a:pt x="753" y="0"/>
                      </a:lnTo>
                      <a:cubicBezTo>
                        <a:pt x="988" y="2"/>
                        <a:pt x="1208" y="15"/>
                        <a:pt x="1410" y="32"/>
                      </a:cubicBezTo>
                      <a:cubicBezTo>
                        <a:pt x="1612" y="49"/>
                        <a:pt x="1793" y="74"/>
                        <a:pt x="1968" y="104"/>
                      </a:cubicBezTo>
                      <a:cubicBezTo>
                        <a:pt x="2143" y="134"/>
                        <a:pt x="2404" y="190"/>
                        <a:pt x="2460" y="212"/>
                      </a:cubicBezTo>
                      <a:cubicBezTo>
                        <a:pt x="2516" y="234"/>
                        <a:pt x="2344" y="242"/>
                        <a:pt x="2307" y="239"/>
                      </a:cubicBezTo>
                      <a:cubicBezTo>
                        <a:pt x="2285" y="239"/>
                        <a:pt x="2275" y="194"/>
                        <a:pt x="2239" y="194"/>
                      </a:cubicBezTo>
                      <a:cubicBezTo>
                        <a:pt x="2202" y="193"/>
                        <a:pt x="2131" y="237"/>
                        <a:pt x="2095" y="237"/>
                      </a:cubicBezTo>
                      <a:cubicBezTo>
                        <a:pt x="2058" y="236"/>
                        <a:pt x="2050" y="191"/>
                        <a:pt x="2026" y="191"/>
                      </a:cubicBezTo>
                      <a:cubicBezTo>
                        <a:pt x="2001" y="191"/>
                        <a:pt x="1976" y="236"/>
                        <a:pt x="1952" y="235"/>
                      </a:cubicBezTo>
                      <a:cubicBezTo>
                        <a:pt x="1928" y="235"/>
                        <a:pt x="1920" y="190"/>
                        <a:pt x="1883" y="189"/>
                      </a:cubicBezTo>
                      <a:cubicBezTo>
                        <a:pt x="1847" y="189"/>
                        <a:pt x="1776" y="233"/>
                        <a:pt x="1740" y="233"/>
                      </a:cubicBezTo>
                      <a:cubicBezTo>
                        <a:pt x="1703" y="232"/>
                        <a:pt x="1706" y="187"/>
                        <a:pt x="1670" y="187"/>
                      </a:cubicBezTo>
                      <a:cubicBezTo>
                        <a:pt x="1634" y="187"/>
                        <a:pt x="1573" y="231"/>
                        <a:pt x="1526" y="230"/>
                      </a:cubicBezTo>
                      <a:cubicBezTo>
                        <a:pt x="1480" y="230"/>
                        <a:pt x="1423" y="184"/>
                        <a:pt x="1386" y="184"/>
                      </a:cubicBezTo>
                      <a:cubicBezTo>
                        <a:pt x="1351" y="183"/>
                        <a:pt x="1337" y="228"/>
                        <a:pt x="1313" y="228"/>
                      </a:cubicBezTo>
                      <a:cubicBezTo>
                        <a:pt x="1290" y="228"/>
                        <a:pt x="1280" y="183"/>
                        <a:pt x="1245" y="182"/>
                      </a:cubicBezTo>
                      <a:cubicBezTo>
                        <a:pt x="1208" y="182"/>
                        <a:pt x="1136" y="226"/>
                        <a:pt x="1101" y="226"/>
                      </a:cubicBezTo>
                      <a:cubicBezTo>
                        <a:pt x="1064" y="225"/>
                        <a:pt x="1055" y="173"/>
                        <a:pt x="1031" y="180"/>
                      </a:cubicBezTo>
                      <a:cubicBezTo>
                        <a:pt x="1007" y="186"/>
                        <a:pt x="998" y="267"/>
                        <a:pt x="958" y="269"/>
                      </a:cubicBezTo>
                      <a:cubicBezTo>
                        <a:pt x="919" y="270"/>
                        <a:pt x="846" y="197"/>
                        <a:pt x="800" y="189"/>
                      </a:cubicBezTo>
                      <a:cubicBezTo>
                        <a:pt x="751" y="182"/>
                        <a:pt x="707" y="223"/>
                        <a:pt x="676" y="221"/>
                      </a:cubicBezTo>
                      <a:cubicBezTo>
                        <a:pt x="642" y="218"/>
                        <a:pt x="628" y="175"/>
                        <a:pt x="605" y="175"/>
                      </a:cubicBezTo>
                      <a:cubicBezTo>
                        <a:pt x="605" y="175"/>
                        <a:pt x="562" y="216"/>
                        <a:pt x="533" y="219"/>
                      </a:cubicBezTo>
                      <a:cubicBezTo>
                        <a:pt x="503" y="222"/>
                        <a:pt x="461" y="191"/>
                        <a:pt x="437" y="193"/>
                      </a:cubicBezTo>
                      <a:cubicBezTo>
                        <a:pt x="411" y="195"/>
                        <a:pt x="399" y="234"/>
                        <a:pt x="378" y="232"/>
                      </a:cubicBezTo>
                      <a:cubicBezTo>
                        <a:pt x="358" y="230"/>
                        <a:pt x="350" y="178"/>
                        <a:pt x="316" y="180"/>
                      </a:cubicBezTo>
                      <a:cubicBezTo>
                        <a:pt x="284" y="181"/>
                        <a:pt x="257" y="208"/>
                        <a:pt x="228" y="218"/>
                      </a:cubicBezTo>
                      <a:cubicBezTo>
                        <a:pt x="205" y="226"/>
                        <a:pt x="190" y="227"/>
                        <a:pt x="180" y="23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未知"/>
            <p:cNvSpPr/>
            <p:nvPr/>
          </p:nvSpPr>
          <p:spPr>
            <a:xfrm>
              <a:off x="-36360" y="4057560"/>
              <a:ext cx="9180360" cy="2819520"/>
            </a:xfrm>
            <a:custGeom>
              <a:avLst/>
              <a:gdLst/>
              <a:ahLst/>
              <a:rect l="l" t="t" r="r" b="b"/>
              <a:pathLst>
                <a:path w="5785" h="1776">
                  <a:moveTo>
                    <a:pt x="61" y="144"/>
                  </a:moveTo>
                  <a:cubicBezTo>
                    <a:pt x="0" y="0"/>
                    <a:pt x="1342" y="148"/>
                    <a:pt x="1814" y="211"/>
                  </a:cubicBezTo>
                  <a:cubicBezTo>
                    <a:pt x="2304" y="278"/>
                    <a:pt x="2463" y="441"/>
                    <a:pt x="2893" y="523"/>
                  </a:cubicBezTo>
                  <a:cubicBezTo>
                    <a:pt x="3323" y="605"/>
                    <a:pt x="3911" y="655"/>
                    <a:pt x="4393" y="703"/>
                  </a:cubicBezTo>
                  <a:cubicBezTo>
                    <a:pt x="4875" y="751"/>
                    <a:pt x="5557" y="591"/>
                    <a:pt x="5785" y="811"/>
                  </a:cubicBezTo>
                  <a:lnTo>
                    <a:pt x="5773" y="1752"/>
                  </a:lnTo>
                  <a:lnTo>
                    <a:pt x="3565" y="1776"/>
                  </a:lnTo>
                  <a:lnTo>
                    <a:pt x="2177" y="1073"/>
                  </a:lnTo>
                  <a:lnTo>
                    <a:pt x="61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2197800" y="4292640"/>
              <a:ext cx="6931800" cy="2541600"/>
            </a:xfrm>
            <a:custGeom>
              <a:avLst/>
              <a:gdLst/>
              <a:ahLst/>
              <a:rect l="l" t="t" r="r" b="b"/>
              <a:pathLst>
                <a:path w="4368" h="1601">
                  <a:moveTo>
                    <a:pt x="0" y="326"/>
                  </a:moveTo>
                  <a:cubicBezTo>
                    <a:pt x="181" y="243"/>
                    <a:pt x="1442" y="208"/>
                    <a:pt x="1930" y="194"/>
                  </a:cubicBezTo>
                  <a:cubicBezTo>
                    <a:pt x="2316" y="186"/>
                    <a:pt x="2679" y="248"/>
                    <a:pt x="2928" y="240"/>
                  </a:cubicBezTo>
                  <a:cubicBezTo>
                    <a:pt x="3177" y="232"/>
                    <a:pt x="3177" y="149"/>
                    <a:pt x="3426" y="149"/>
                  </a:cubicBezTo>
                  <a:cubicBezTo>
                    <a:pt x="3675" y="149"/>
                    <a:pt x="4202" y="0"/>
                    <a:pt x="4368" y="242"/>
                  </a:cubicBezTo>
                  <a:lnTo>
                    <a:pt x="4356" y="1586"/>
                  </a:lnTo>
                  <a:lnTo>
                    <a:pt x="2156" y="1601"/>
                  </a:lnTo>
                  <a:lnTo>
                    <a:pt x="841" y="693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4183200" y="5330880"/>
              <a:ext cx="4979880" cy="1509480"/>
            </a:xfrm>
            <a:custGeom>
              <a:avLst/>
              <a:gdLst/>
              <a:ahLst/>
              <a:rect l="l" t="t" r="r" b="b"/>
              <a:pathLst>
                <a:path w="3138" h="951">
                  <a:moveTo>
                    <a:pt x="396" y="0"/>
                  </a:moveTo>
                  <a:cubicBezTo>
                    <a:pt x="396" y="0"/>
                    <a:pt x="768" y="48"/>
                    <a:pt x="1080" y="120"/>
                  </a:cubicBezTo>
                  <a:cubicBezTo>
                    <a:pt x="1384" y="194"/>
                    <a:pt x="1885" y="328"/>
                    <a:pt x="2220" y="444"/>
                  </a:cubicBezTo>
                  <a:cubicBezTo>
                    <a:pt x="2555" y="560"/>
                    <a:pt x="2939" y="731"/>
                    <a:pt x="3092" y="815"/>
                  </a:cubicBezTo>
                  <a:lnTo>
                    <a:pt x="3138" y="951"/>
                  </a:lnTo>
                  <a:lnTo>
                    <a:pt x="2292" y="948"/>
                  </a:lnTo>
                  <a:cubicBezTo>
                    <a:pt x="2045" y="894"/>
                    <a:pt x="1860" y="722"/>
                    <a:pt x="1656" y="624"/>
                  </a:cubicBezTo>
                  <a:cubicBezTo>
                    <a:pt x="1442" y="534"/>
                    <a:pt x="1346" y="466"/>
                    <a:pt x="1068" y="360"/>
                  </a:cubicBezTo>
                  <a:cubicBezTo>
                    <a:pt x="790" y="254"/>
                    <a:pt x="112" y="72"/>
                    <a:pt x="0" y="12"/>
                  </a:cubicBezTo>
                  <a:lnTo>
                    <a:pt x="396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4363920" y="5315040"/>
              <a:ext cx="4779720" cy="1562040"/>
            </a:xfrm>
            <a:custGeom>
              <a:avLst/>
              <a:gdLst/>
              <a:ahLst/>
              <a:rect l="l" t="t" r="r" b="b"/>
              <a:pathLst>
                <a:path w="3012" h="984">
                  <a:moveTo>
                    <a:pt x="396" y="0"/>
                  </a:moveTo>
                  <a:cubicBezTo>
                    <a:pt x="396" y="0"/>
                    <a:pt x="768" y="48"/>
                    <a:pt x="1080" y="120"/>
                  </a:cubicBezTo>
                  <a:cubicBezTo>
                    <a:pt x="1384" y="194"/>
                    <a:pt x="1885" y="328"/>
                    <a:pt x="2220" y="444"/>
                  </a:cubicBezTo>
                  <a:cubicBezTo>
                    <a:pt x="2555" y="560"/>
                    <a:pt x="2870" y="726"/>
                    <a:pt x="3012" y="816"/>
                  </a:cubicBezTo>
                  <a:lnTo>
                    <a:pt x="3012" y="984"/>
                  </a:lnTo>
                  <a:lnTo>
                    <a:pt x="2328" y="984"/>
                  </a:lnTo>
                  <a:cubicBezTo>
                    <a:pt x="2102" y="924"/>
                    <a:pt x="1866" y="728"/>
                    <a:pt x="1656" y="624"/>
                  </a:cubicBezTo>
                  <a:cubicBezTo>
                    <a:pt x="1442" y="534"/>
                    <a:pt x="1346" y="466"/>
                    <a:pt x="1068" y="360"/>
                  </a:cubicBezTo>
                  <a:cubicBezTo>
                    <a:pt x="790" y="254"/>
                    <a:pt x="112" y="72"/>
                    <a:pt x="0" y="12"/>
                  </a:cubicBezTo>
                  <a:lnTo>
                    <a:pt x="396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308960" y="3727440"/>
              <a:ext cx="4174920" cy="1655640"/>
              <a:chOff x="1308960" y="3727440"/>
              <a:chExt cx="4174920" cy="16556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1579320" y="4326480"/>
                <a:ext cx="849240" cy="1043640"/>
                <a:chOff x="1579320" y="4326480"/>
                <a:chExt cx="849240" cy="1043640"/>
              </a:xfrm>
            </p:grpSpPr>
            <p:sp>
              <p:nvSpPr>
                <p:cNvPr id="142" name="未知"/>
                <p:cNvSpPr/>
                <p:nvPr/>
              </p:nvSpPr>
              <p:spPr>
                <a:xfrm>
                  <a:off x="1579320" y="4326480"/>
                  <a:ext cx="849240" cy="1043640"/>
                </a:xfrm>
                <a:custGeom>
                  <a:avLst/>
                  <a:gdLst/>
                  <a:ahLst/>
                  <a:rect l="l" t="t" r="r" b="b"/>
                  <a:pathLst>
                    <a:path w="1140" h="2104">
                      <a:moveTo>
                        <a:pt x="5" y="48"/>
                      </a:moveTo>
                      <a:lnTo>
                        <a:pt x="1137" y="0"/>
                      </a:lnTo>
                      <a:lnTo>
                        <a:pt x="1140" y="2104"/>
                      </a:lnTo>
                      <a:lnTo>
                        <a:pt x="0" y="1900"/>
                      </a:lnTo>
                      <a:lnTo>
                        <a:pt x="5" y="4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79320" y="4457880"/>
                  <a:ext cx="844920" cy="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79320" y="4795560"/>
                  <a:ext cx="844920" cy="6732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424240" y="4457880"/>
                  <a:ext cx="0" cy="90036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未知"/>
                <p:cNvSpPr/>
                <p:nvPr/>
              </p:nvSpPr>
              <p:spPr>
                <a:xfrm>
                  <a:off x="1680480" y="4461840"/>
                  <a:ext cx="270000" cy="360000"/>
                </a:xfrm>
                <a:custGeom>
                  <a:avLst/>
                  <a:gdLst/>
                  <a:ahLst/>
                  <a:rect l="l" t="t" r="r" b="b"/>
                  <a:pathLst>
                    <a:path w="363" h="726">
                      <a:moveTo>
                        <a:pt x="0" y="0"/>
                      </a:moveTo>
                      <a:lnTo>
                        <a:pt x="363" y="0"/>
                      </a:lnTo>
                      <a:lnTo>
                        <a:pt x="363" y="726"/>
                      </a:lnTo>
                      <a:lnTo>
                        <a:pt x="0" y="68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未知"/>
                <p:cNvSpPr/>
                <p:nvPr/>
              </p:nvSpPr>
              <p:spPr>
                <a:xfrm>
                  <a:off x="1967400" y="4459320"/>
                  <a:ext cx="300960" cy="388800"/>
                </a:xfrm>
                <a:custGeom>
                  <a:avLst/>
                  <a:gdLst/>
                  <a:ahLst/>
                  <a:rect l="l" t="t" r="r" b="b"/>
                  <a:pathLst>
                    <a:path w="404" h="784">
                      <a:moveTo>
                        <a:pt x="0" y="0"/>
                      </a:moveTo>
                      <a:lnTo>
                        <a:pt x="404" y="8"/>
                      </a:lnTo>
                      <a:lnTo>
                        <a:pt x="404" y="784"/>
                      </a:lnTo>
                      <a:lnTo>
                        <a:pt x="0" y="7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413800" y="4317120"/>
                <a:ext cx="2838240" cy="1065960"/>
                <a:chOff x="2413800" y="4317120"/>
                <a:chExt cx="2838240" cy="1065960"/>
              </a:xfrm>
            </p:grpSpPr>
            <p:sp>
              <p:nvSpPr>
                <p:cNvPr id="149" name="未知"/>
                <p:cNvSpPr/>
                <p:nvPr/>
              </p:nvSpPr>
              <p:spPr>
                <a:xfrm>
                  <a:off x="2421720" y="4317120"/>
                  <a:ext cx="2824560" cy="1053720"/>
                </a:xfrm>
                <a:custGeom>
                  <a:avLst/>
                  <a:gdLst/>
                  <a:ahLst/>
                  <a:rect l="l" t="t" r="r" b="b"/>
                  <a:pathLst>
                    <a:path w="3792" h="2124">
                      <a:moveTo>
                        <a:pt x="0" y="2124"/>
                      </a:moveTo>
                      <a:lnTo>
                        <a:pt x="2" y="21"/>
                      </a:lnTo>
                      <a:lnTo>
                        <a:pt x="3792" y="0"/>
                      </a:lnTo>
                      <a:lnTo>
                        <a:pt x="3792" y="2112"/>
                      </a:lnTo>
                      <a:lnTo>
                        <a:pt x="0" y="212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422440" y="4460400"/>
                  <a:ext cx="1216440" cy="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424240" y="4865760"/>
                  <a:ext cx="1215000" cy="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794320" y="4460400"/>
                  <a:ext cx="303840" cy="4053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14000" y="4460400"/>
                  <a:ext cx="303840" cy="4053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631680" y="4460400"/>
                  <a:ext cx="0" cy="92268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未知"/>
                <p:cNvSpPr/>
                <p:nvPr/>
              </p:nvSpPr>
              <p:spPr>
                <a:xfrm>
                  <a:off x="2413800" y="5270400"/>
                  <a:ext cx="2838240" cy="22320"/>
                </a:xfrm>
                <a:custGeom>
                  <a:avLst/>
                  <a:gdLst/>
                  <a:ahLst/>
                  <a:rect l="l" t="t" r="r" b="b"/>
                  <a:pathLst>
                    <a:path w="2903" h="5">
                      <a:moveTo>
                        <a:pt x="0" y="0"/>
                      </a:moveTo>
                      <a:lnTo>
                        <a:pt x="2903" y="5"/>
                      </a:lnTo>
                    </a:path>
                  </a:pathLst>
                </a:custGeom>
                <a:noFill/>
                <a:ln w="38160">
                  <a:solidFill>
                    <a:srgbClr val="68452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39240" y="4454280"/>
                  <a:ext cx="236160" cy="83232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65680" y="4454280"/>
                  <a:ext cx="235800" cy="83232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069800" y="4453920"/>
                  <a:ext cx="236160" cy="83232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305960" y="4325400"/>
                  <a:ext cx="0" cy="134640"/>
                </a:xfrm>
                <a:prstGeom prst="line">
                  <a:avLst/>
                </a:prstGeom>
                <a:ln w="3816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303080" y="4730040"/>
                  <a:ext cx="946080" cy="0"/>
                </a:xfrm>
                <a:prstGeom prst="line">
                  <a:avLst/>
                </a:prstGeom>
                <a:ln w="57240">
                  <a:solidFill>
                    <a:srgbClr val="6845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524120" y="4460400"/>
                  <a:ext cx="168840" cy="877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693320" y="4438080"/>
                  <a:ext cx="439200" cy="9000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68452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308960" y="3727440"/>
                <a:ext cx="1284840" cy="715680"/>
                <a:chOff x="1308960" y="3727440"/>
                <a:chExt cx="1284840" cy="715680"/>
              </a:xfrm>
            </p:grpSpPr>
            <p:sp>
              <p:nvSpPr>
                <p:cNvPr id="164" name="未知"/>
                <p:cNvSpPr/>
                <p:nvPr/>
              </p:nvSpPr>
              <p:spPr>
                <a:xfrm>
                  <a:off x="1308960" y="4257360"/>
                  <a:ext cx="1167840" cy="185760"/>
                </a:xfrm>
                <a:custGeom>
                  <a:avLst/>
                  <a:gdLst/>
                  <a:ahLst/>
                  <a:rect l="l" t="t" r="r" b="b"/>
                  <a:pathLst>
                    <a:path w="1857" h="375">
                      <a:moveTo>
                        <a:pt x="37" y="336"/>
                      </a:moveTo>
                      <a:cubicBezTo>
                        <a:pt x="0" y="375"/>
                        <a:pt x="106" y="290"/>
                        <a:pt x="137" y="288"/>
                      </a:cubicBezTo>
                      <a:cubicBezTo>
                        <a:pt x="168" y="286"/>
                        <a:pt x="195" y="330"/>
                        <a:pt x="226" y="325"/>
                      </a:cubicBezTo>
                      <a:cubicBezTo>
                        <a:pt x="257" y="320"/>
                        <a:pt x="302" y="263"/>
                        <a:pt x="325" y="256"/>
                      </a:cubicBezTo>
                      <a:cubicBezTo>
                        <a:pt x="348" y="249"/>
                        <a:pt x="341" y="284"/>
                        <a:pt x="362" y="280"/>
                      </a:cubicBezTo>
                      <a:cubicBezTo>
                        <a:pt x="383" y="276"/>
                        <a:pt x="423" y="227"/>
                        <a:pt x="453" y="234"/>
                      </a:cubicBezTo>
                      <a:cubicBezTo>
                        <a:pt x="483" y="241"/>
                        <a:pt x="514" y="325"/>
                        <a:pt x="544" y="325"/>
                      </a:cubicBezTo>
                      <a:cubicBezTo>
                        <a:pt x="574" y="325"/>
                        <a:pt x="611" y="241"/>
                        <a:pt x="634" y="234"/>
                      </a:cubicBezTo>
                      <a:cubicBezTo>
                        <a:pt x="657" y="227"/>
                        <a:pt x="665" y="280"/>
                        <a:pt x="680" y="280"/>
                      </a:cubicBezTo>
                      <a:cubicBezTo>
                        <a:pt x="695" y="280"/>
                        <a:pt x="710" y="234"/>
                        <a:pt x="725" y="234"/>
                      </a:cubicBezTo>
                      <a:cubicBezTo>
                        <a:pt x="740" y="234"/>
                        <a:pt x="747" y="280"/>
                        <a:pt x="770" y="280"/>
                      </a:cubicBezTo>
                      <a:cubicBezTo>
                        <a:pt x="793" y="280"/>
                        <a:pt x="816" y="234"/>
                        <a:pt x="861" y="234"/>
                      </a:cubicBezTo>
                      <a:cubicBezTo>
                        <a:pt x="900" y="235"/>
                        <a:pt x="967" y="284"/>
                        <a:pt x="1005" y="284"/>
                      </a:cubicBezTo>
                      <a:cubicBezTo>
                        <a:pt x="1043" y="284"/>
                        <a:pt x="1044" y="235"/>
                        <a:pt x="1088" y="234"/>
                      </a:cubicBezTo>
                      <a:cubicBezTo>
                        <a:pt x="1132" y="233"/>
                        <a:pt x="1231" y="280"/>
                        <a:pt x="1269" y="280"/>
                      </a:cubicBezTo>
                      <a:cubicBezTo>
                        <a:pt x="1307" y="280"/>
                        <a:pt x="1292" y="234"/>
                        <a:pt x="1315" y="234"/>
                      </a:cubicBezTo>
                      <a:cubicBezTo>
                        <a:pt x="1338" y="234"/>
                        <a:pt x="1376" y="280"/>
                        <a:pt x="1406" y="280"/>
                      </a:cubicBezTo>
                      <a:cubicBezTo>
                        <a:pt x="1436" y="280"/>
                        <a:pt x="1471" y="231"/>
                        <a:pt x="1496" y="234"/>
                      </a:cubicBezTo>
                      <a:cubicBezTo>
                        <a:pt x="1496" y="234"/>
                        <a:pt x="1527" y="292"/>
                        <a:pt x="1557" y="300"/>
                      </a:cubicBezTo>
                      <a:cubicBezTo>
                        <a:pt x="1578" y="302"/>
                        <a:pt x="1600" y="249"/>
                        <a:pt x="1621" y="244"/>
                      </a:cubicBezTo>
                      <a:cubicBezTo>
                        <a:pt x="1642" y="239"/>
                        <a:pt x="1653" y="265"/>
                        <a:pt x="1685" y="272"/>
                      </a:cubicBezTo>
                      <a:cubicBezTo>
                        <a:pt x="1717" y="279"/>
                        <a:pt x="1802" y="297"/>
                        <a:pt x="1825" y="288"/>
                      </a:cubicBezTo>
                      <a:lnTo>
                        <a:pt x="1825" y="216"/>
                      </a:lnTo>
                      <a:lnTo>
                        <a:pt x="1857" y="0"/>
                      </a:lnTo>
                      <a:lnTo>
                        <a:pt x="357" y="52"/>
                      </a:lnTo>
                      <a:cubicBezTo>
                        <a:pt x="54" y="108"/>
                        <a:pt x="99" y="275"/>
                        <a:pt x="37" y="336"/>
                      </a:cubicBezTo>
                      <a:close/>
                    </a:path>
                  </a:pathLst>
                </a:custGeom>
                <a:solidFill>
                  <a:srgbClr val="ffdf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未知"/>
                <p:cNvSpPr/>
                <p:nvPr/>
              </p:nvSpPr>
              <p:spPr>
                <a:xfrm>
                  <a:off x="1332000" y="4223880"/>
                  <a:ext cx="1144800" cy="188280"/>
                </a:xfrm>
                <a:custGeom>
                  <a:avLst/>
                  <a:gdLst/>
                  <a:ahLst/>
                  <a:rect l="l" t="t" r="r" b="b"/>
                  <a:pathLst>
                    <a:path w="1820" h="380">
                      <a:moveTo>
                        <a:pt x="37" y="341"/>
                      </a:moveTo>
                      <a:cubicBezTo>
                        <a:pt x="0" y="380"/>
                        <a:pt x="106" y="295"/>
                        <a:pt x="137" y="293"/>
                      </a:cubicBezTo>
                      <a:cubicBezTo>
                        <a:pt x="168" y="291"/>
                        <a:pt x="195" y="335"/>
                        <a:pt x="226" y="330"/>
                      </a:cubicBezTo>
                      <a:cubicBezTo>
                        <a:pt x="257" y="325"/>
                        <a:pt x="302" y="268"/>
                        <a:pt x="325" y="261"/>
                      </a:cubicBezTo>
                      <a:cubicBezTo>
                        <a:pt x="348" y="254"/>
                        <a:pt x="341" y="289"/>
                        <a:pt x="362" y="285"/>
                      </a:cubicBezTo>
                      <a:cubicBezTo>
                        <a:pt x="383" y="281"/>
                        <a:pt x="423" y="232"/>
                        <a:pt x="453" y="239"/>
                      </a:cubicBezTo>
                      <a:cubicBezTo>
                        <a:pt x="483" y="246"/>
                        <a:pt x="514" y="330"/>
                        <a:pt x="544" y="330"/>
                      </a:cubicBezTo>
                      <a:cubicBezTo>
                        <a:pt x="574" y="330"/>
                        <a:pt x="611" y="246"/>
                        <a:pt x="634" y="239"/>
                      </a:cubicBezTo>
                      <a:cubicBezTo>
                        <a:pt x="657" y="232"/>
                        <a:pt x="665" y="285"/>
                        <a:pt x="680" y="285"/>
                      </a:cubicBezTo>
                      <a:cubicBezTo>
                        <a:pt x="695" y="285"/>
                        <a:pt x="710" y="239"/>
                        <a:pt x="725" y="239"/>
                      </a:cubicBezTo>
                      <a:cubicBezTo>
                        <a:pt x="740" y="239"/>
                        <a:pt x="747" y="285"/>
                        <a:pt x="770" y="285"/>
                      </a:cubicBezTo>
                      <a:cubicBezTo>
                        <a:pt x="793" y="285"/>
                        <a:pt x="816" y="239"/>
                        <a:pt x="861" y="239"/>
                      </a:cubicBezTo>
                      <a:cubicBezTo>
                        <a:pt x="900" y="240"/>
                        <a:pt x="967" y="289"/>
                        <a:pt x="1005" y="289"/>
                      </a:cubicBezTo>
                      <a:cubicBezTo>
                        <a:pt x="1043" y="289"/>
                        <a:pt x="1044" y="240"/>
                        <a:pt x="1088" y="239"/>
                      </a:cubicBezTo>
                      <a:cubicBezTo>
                        <a:pt x="1132" y="238"/>
                        <a:pt x="1231" y="285"/>
                        <a:pt x="1269" y="285"/>
                      </a:cubicBezTo>
                      <a:cubicBezTo>
                        <a:pt x="1307" y="285"/>
                        <a:pt x="1292" y="239"/>
                        <a:pt x="1315" y="239"/>
                      </a:cubicBezTo>
                      <a:cubicBezTo>
                        <a:pt x="1338" y="239"/>
                        <a:pt x="1376" y="285"/>
                        <a:pt x="1406" y="285"/>
                      </a:cubicBezTo>
                      <a:cubicBezTo>
                        <a:pt x="1436" y="285"/>
                        <a:pt x="1471" y="236"/>
                        <a:pt x="1496" y="239"/>
                      </a:cubicBezTo>
                      <a:cubicBezTo>
                        <a:pt x="1496" y="239"/>
                        <a:pt x="1527" y="297"/>
                        <a:pt x="1557" y="305"/>
                      </a:cubicBezTo>
                      <a:cubicBezTo>
                        <a:pt x="1578" y="307"/>
                        <a:pt x="1600" y="254"/>
                        <a:pt x="1621" y="249"/>
                      </a:cubicBezTo>
                      <a:cubicBezTo>
                        <a:pt x="1642" y="244"/>
                        <a:pt x="1653" y="270"/>
                        <a:pt x="1685" y="277"/>
                      </a:cubicBezTo>
                      <a:cubicBezTo>
                        <a:pt x="1717" y="284"/>
                        <a:pt x="1761" y="310"/>
                        <a:pt x="1776" y="300"/>
                      </a:cubicBezTo>
                      <a:lnTo>
                        <a:pt x="1800" y="216"/>
                      </a:lnTo>
                      <a:lnTo>
                        <a:pt x="1820" y="0"/>
                      </a:lnTo>
                      <a:lnTo>
                        <a:pt x="357" y="57"/>
                      </a:lnTo>
                      <a:cubicBezTo>
                        <a:pt x="60" y="114"/>
                        <a:pt x="99" y="280"/>
                        <a:pt x="37" y="34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未知"/>
                <p:cNvSpPr/>
                <p:nvPr/>
              </p:nvSpPr>
              <p:spPr>
                <a:xfrm>
                  <a:off x="1342080" y="4190400"/>
                  <a:ext cx="1144440" cy="188280"/>
                </a:xfrm>
                <a:custGeom>
                  <a:avLst/>
                  <a:gdLst/>
                  <a:ahLst/>
                  <a:rect l="l" t="t" r="r" b="b"/>
                  <a:pathLst>
                    <a:path w="1820" h="380">
                      <a:moveTo>
                        <a:pt x="37" y="341"/>
                      </a:moveTo>
                      <a:cubicBezTo>
                        <a:pt x="0" y="380"/>
                        <a:pt x="106" y="295"/>
                        <a:pt x="137" y="293"/>
                      </a:cubicBezTo>
                      <a:cubicBezTo>
                        <a:pt x="168" y="291"/>
                        <a:pt x="195" y="335"/>
                        <a:pt x="226" y="330"/>
                      </a:cubicBezTo>
                      <a:cubicBezTo>
                        <a:pt x="257" y="325"/>
                        <a:pt x="302" y="268"/>
                        <a:pt x="325" y="261"/>
                      </a:cubicBezTo>
                      <a:cubicBezTo>
                        <a:pt x="348" y="254"/>
                        <a:pt x="341" y="289"/>
                        <a:pt x="362" y="285"/>
                      </a:cubicBezTo>
                      <a:cubicBezTo>
                        <a:pt x="383" y="281"/>
                        <a:pt x="423" y="232"/>
                        <a:pt x="453" y="239"/>
                      </a:cubicBezTo>
                      <a:cubicBezTo>
                        <a:pt x="483" y="246"/>
                        <a:pt x="514" y="330"/>
                        <a:pt x="544" y="330"/>
                      </a:cubicBezTo>
                      <a:cubicBezTo>
                        <a:pt x="574" y="330"/>
                        <a:pt x="611" y="246"/>
                        <a:pt x="634" y="239"/>
                      </a:cubicBezTo>
                      <a:cubicBezTo>
                        <a:pt x="657" y="232"/>
                        <a:pt x="665" y="285"/>
                        <a:pt x="680" y="285"/>
                      </a:cubicBezTo>
                      <a:cubicBezTo>
                        <a:pt x="695" y="285"/>
                        <a:pt x="710" y="239"/>
                        <a:pt x="725" y="239"/>
                      </a:cubicBezTo>
                      <a:cubicBezTo>
                        <a:pt x="740" y="239"/>
                        <a:pt x="747" y="285"/>
                        <a:pt x="770" y="285"/>
                      </a:cubicBezTo>
                      <a:cubicBezTo>
                        <a:pt x="793" y="285"/>
                        <a:pt x="816" y="239"/>
                        <a:pt x="861" y="239"/>
                      </a:cubicBezTo>
                      <a:cubicBezTo>
                        <a:pt x="900" y="240"/>
                        <a:pt x="967" y="289"/>
                        <a:pt x="1005" y="289"/>
                      </a:cubicBezTo>
                      <a:cubicBezTo>
                        <a:pt x="1043" y="289"/>
                        <a:pt x="1044" y="240"/>
                        <a:pt x="1088" y="239"/>
                      </a:cubicBezTo>
                      <a:cubicBezTo>
                        <a:pt x="1132" y="238"/>
                        <a:pt x="1231" y="285"/>
                        <a:pt x="1269" y="285"/>
                      </a:cubicBezTo>
                      <a:cubicBezTo>
                        <a:pt x="1307" y="285"/>
                        <a:pt x="1292" y="239"/>
                        <a:pt x="1315" y="239"/>
                      </a:cubicBezTo>
                      <a:cubicBezTo>
                        <a:pt x="1338" y="239"/>
                        <a:pt x="1376" y="285"/>
                        <a:pt x="1406" y="285"/>
                      </a:cubicBezTo>
                      <a:cubicBezTo>
                        <a:pt x="1436" y="285"/>
                        <a:pt x="1471" y="236"/>
                        <a:pt x="1496" y="239"/>
                      </a:cubicBezTo>
                      <a:cubicBezTo>
                        <a:pt x="1496" y="239"/>
                        <a:pt x="1527" y="297"/>
                        <a:pt x="1557" y="305"/>
                      </a:cubicBezTo>
                      <a:cubicBezTo>
                        <a:pt x="1578" y="307"/>
                        <a:pt x="1600" y="254"/>
                        <a:pt x="1621" y="249"/>
                      </a:cubicBezTo>
                      <a:cubicBezTo>
                        <a:pt x="1642" y="244"/>
                        <a:pt x="1653" y="270"/>
                        <a:pt x="1685" y="277"/>
                      </a:cubicBezTo>
                      <a:cubicBezTo>
                        <a:pt x="1717" y="284"/>
                        <a:pt x="1761" y="310"/>
                        <a:pt x="1776" y="300"/>
                      </a:cubicBezTo>
                      <a:lnTo>
                        <a:pt x="1800" y="216"/>
                      </a:lnTo>
                      <a:lnTo>
                        <a:pt x="1820" y="0"/>
                      </a:lnTo>
                      <a:lnTo>
                        <a:pt x="357" y="57"/>
                      </a:lnTo>
                      <a:cubicBezTo>
                        <a:pt x="60" y="114"/>
                        <a:pt x="99" y="280"/>
                        <a:pt x="37" y="34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>
                  <a:off x="1365480" y="4140360"/>
                  <a:ext cx="1128960" cy="187200"/>
                </a:xfrm>
                <a:custGeom>
                  <a:avLst/>
                  <a:gdLst/>
                  <a:ahLst/>
                  <a:rect l="l" t="t" r="r" b="b"/>
                  <a:pathLst>
                    <a:path w="1795" h="378">
                      <a:moveTo>
                        <a:pt x="37" y="339"/>
                      </a:moveTo>
                      <a:cubicBezTo>
                        <a:pt x="0" y="378"/>
                        <a:pt x="106" y="293"/>
                        <a:pt x="137" y="291"/>
                      </a:cubicBezTo>
                      <a:cubicBezTo>
                        <a:pt x="168" y="289"/>
                        <a:pt x="195" y="333"/>
                        <a:pt x="226" y="328"/>
                      </a:cubicBezTo>
                      <a:cubicBezTo>
                        <a:pt x="257" y="323"/>
                        <a:pt x="302" y="266"/>
                        <a:pt x="325" y="259"/>
                      </a:cubicBezTo>
                      <a:cubicBezTo>
                        <a:pt x="348" y="252"/>
                        <a:pt x="341" y="287"/>
                        <a:pt x="362" y="283"/>
                      </a:cubicBezTo>
                      <a:cubicBezTo>
                        <a:pt x="383" y="279"/>
                        <a:pt x="423" y="230"/>
                        <a:pt x="453" y="237"/>
                      </a:cubicBezTo>
                      <a:cubicBezTo>
                        <a:pt x="483" y="244"/>
                        <a:pt x="514" y="328"/>
                        <a:pt x="544" y="328"/>
                      </a:cubicBezTo>
                      <a:cubicBezTo>
                        <a:pt x="574" y="328"/>
                        <a:pt x="611" y="244"/>
                        <a:pt x="634" y="237"/>
                      </a:cubicBezTo>
                      <a:cubicBezTo>
                        <a:pt x="657" y="230"/>
                        <a:pt x="665" y="283"/>
                        <a:pt x="680" y="283"/>
                      </a:cubicBezTo>
                      <a:cubicBezTo>
                        <a:pt x="695" y="283"/>
                        <a:pt x="710" y="237"/>
                        <a:pt x="725" y="237"/>
                      </a:cubicBezTo>
                      <a:cubicBezTo>
                        <a:pt x="740" y="237"/>
                        <a:pt x="747" y="283"/>
                        <a:pt x="770" y="283"/>
                      </a:cubicBezTo>
                      <a:cubicBezTo>
                        <a:pt x="793" y="283"/>
                        <a:pt x="816" y="237"/>
                        <a:pt x="861" y="237"/>
                      </a:cubicBezTo>
                      <a:cubicBezTo>
                        <a:pt x="900" y="238"/>
                        <a:pt x="967" y="287"/>
                        <a:pt x="1005" y="287"/>
                      </a:cubicBezTo>
                      <a:cubicBezTo>
                        <a:pt x="1043" y="287"/>
                        <a:pt x="1044" y="238"/>
                        <a:pt x="1088" y="237"/>
                      </a:cubicBezTo>
                      <a:cubicBezTo>
                        <a:pt x="1132" y="236"/>
                        <a:pt x="1231" y="283"/>
                        <a:pt x="1269" y="283"/>
                      </a:cubicBezTo>
                      <a:cubicBezTo>
                        <a:pt x="1307" y="283"/>
                        <a:pt x="1292" y="237"/>
                        <a:pt x="1315" y="237"/>
                      </a:cubicBezTo>
                      <a:cubicBezTo>
                        <a:pt x="1338" y="237"/>
                        <a:pt x="1376" y="283"/>
                        <a:pt x="1406" y="283"/>
                      </a:cubicBezTo>
                      <a:cubicBezTo>
                        <a:pt x="1436" y="283"/>
                        <a:pt x="1471" y="234"/>
                        <a:pt x="1496" y="237"/>
                      </a:cubicBezTo>
                      <a:cubicBezTo>
                        <a:pt x="1496" y="237"/>
                        <a:pt x="1527" y="295"/>
                        <a:pt x="1557" y="303"/>
                      </a:cubicBezTo>
                      <a:cubicBezTo>
                        <a:pt x="1578" y="305"/>
                        <a:pt x="1600" y="252"/>
                        <a:pt x="1621" y="247"/>
                      </a:cubicBezTo>
                      <a:cubicBezTo>
                        <a:pt x="1642" y="242"/>
                        <a:pt x="1653" y="268"/>
                        <a:pt x="1685" y="275"/>
                      </a:cubicBezTo>
                      <a:cubicBezTo>
                        <a:pt x="1717" y="282"/>
                        <a:pt x="1732" y="310"/>
                        <a:pt x="1751" y="300"/>
                      </a:cubicBezTo>
                      <a:lnTo>
                        <a:pt x="1771" y="212"/>
                      </a:lnTo>
                      <a:lnTo>
                        <a:pt x="1759" y="200"/>
                      </a:lnTo>
                      <a:lnTo>
                        <a:pt x="1795" y="0"/>
                      </a:lnTo>
                      <a:lnTo>
                        <a:pt x="357" y="55"/>
                      </a:lnTo>
                      <a:cubicBezTo>
                        <a:pt x="64" y="112"/>
                        <a:pt x="99" y="278"/>
                        <a:pt x="37" y="339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>
                  <a:off x="1381680" y="4120560"/>
                  <a:ext cx="1112400" cy="177840"/>
                </a:xfrm>
                <a:custGeom>
                  <a:avLst/>
                  <a:gdLst/>
                  <a:ahLst/>
                  <a:rect l="l" t="t" r="r" b="b"/>
                  <a:pathLst>
                    <a:path w="1769" h="359">
                      <a:moveTo>
                        <a:pt x="37" y="320"/>
                      </a:moveTo>
                      <a:cubicBezTo>
                        <a:pt x="0" y="359"/>
                        <a:pt x="97" y="290"/>
                        <a:pt x="128" y="288"/>
                      </a:cubicBezTo>
                      <a:cubicBezTo>
                        <a:pt x="159" y="286"/>
                        <a:pt x="186" y="330"/>
                        <a:pt x="217" y="325"/>
                      </a:cubicBezTo>
                      <a:cubicBezTo>
                        <a:pt x="248" y="320"/>
                        <a:pt x="293" y="263"/>
                        <a:pt x="316" y="256"/>
                      </a:cubicBezTo>
                      <a:cubicBezTo>
                        <a:pt x="339" y="249"/>
                        <a:pt x="332" y="284"/>
                        <a:pt x="353" y="280"/>
                      </a:cubicBezTo>
                      <a:cubicBezTo>
                        <a:pt x="374" y="276"/>
                        <a:pt x="414" y="227"/>
                        <a:pt x="444" y="234"/>
                      </a:cubicBezTo>
                      <a:cubicBezTo>
                        <a:pt x="474" y="241"/>
                        <a:pt x="505" y="325"/>
                        <a:pt x="535" y="325"/>
                      </a:cubicBezTo>
                      <a:cubicBezTo>
                        <a:pt x="565" y="325"/>
                        <a:pt x="602" y="241"/>
                        <a:pt x="625" y="234"/>
                      </a:cubicBezTo>
                      <a:cubicBezTo>
                        <a:pt x="648" y="227"/>
                        <a:pt x="656" y="280"/>
                        <a:pt x="671" y="280"/>
                      </a:cubicBezTo>
                      <a:cubicBezTo>
                        <a:pt x="686" y="280"/>
                        <a:pt x="701" y="234"/>
                        <a:pt x="716" y="234"/>
                      </a:cubicBezTo>
                      <a:cubicBezTo>
                        <a:pt x="731" y="234"/>
                        <a:pt x="738" y="280"/>
                        <a:pt x="761" y="280"/>
                      </a:cubicBezTo>
                      <a:cubicBezTo>
                        <a:pt x="784" y="280"/>
                        <a:pt x="807" y="234"/>
                        <a:pt x="852" y="234"/>
                      </a:cubicBezTo>
                      <a:cubicBezTo>
                        <a:pt x="891" y="235"/>
                        <a:pt x="958" y="284"/>
                        <a:pt x="996" y="284"/>
                      </a:cubicBezTo>
                      <a:cubicBezTo>
                        <a:pt x="1034" y="284"/>
                        <a:pt x="1035" y="235"/>
                        <a:pt x="1079" y="234"/>
                      </a:cubicBezTo>
                      <a:cubicBezTo>
                        <a:pt x="1123" y="233"/>
                        <a:pt x="1222" y="280"/>
                        <a:pt x="1260" y="280"/>
                      </a:cubicBezTo>
                      <a:cubicBezTo>
                        <a:pt x="1298" y="280"/>
                        <a:pt x="1283" y="234"/>
                        <a:pt x="1306" y="234"/>
                      </a:cubicBezTo>
                      <a:cubicBezTo>
                        <a:pt x="1329" y="234"/>
                        <a:pt x="1367" y="280"/>
                        <a:pt x="1397" y="280"/>
                      </a:cubicBezTo>
                      <a:cubicBezTo>
                        <a:pt x="1427" y="280"/>
                        <a:pt x="1462" y="231"/>
                        <a:pt x="1487" y="234"/>
                      </a:cubicBezTo>
                      <a:cubicBezTo>
                        <a:pt x="1487" y="234"/>
                        <a:pt x="1518" y="292"/>
                        <a:pt x="1548" y="300"/>
                      </a:cubicBezTo>
                      <a:cubicBezTo>
                        <a:pt x="1569" y="302"/>
                        <a:pt x="1591" y="249"/>
                        <a:pt x="1612" y="244"/>
                      </a:cubicBezTo>
                      <a:cubicBezTo>
                        <a:pt x="1633" y="239"/>
                        <a:pt x="1644" y="265"/>
                        <a:pt x="1676" y="272"/>
                      </a:cubicBezTo>
                      <a:cubicBezTo>
                        <a:pt x="1708" y="279"/>
                        <a:pt x="1726" y="345"/>
                        <a:pt x="1741" y="300"/>
                      </a:cubicBezTo>
                      <a:lnTo>
                        <a:pt x="1769" y="0"/>
                      </a:lnTo>
                      <a:lnTo>
                        <a:pt x="377" y="40"/>
                      </a:lnTo>
                      <a:cubicBezTo>
                        <a:pt x="88" y="93"/>
                        <a:pt x="110" y="258"/>
                        <a:pt x="37" y="3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未知"/>
                <p:cNvSpPr/>
                <p:nvPr/>
              </p:nvSpPr>
              <p:spPr>
                <a:xfrm>
                  <a:off x="1432800" y="4032720"/>
                  <a:ext cx="1074240" cy="191880"/>
                </a:xfrm>
                <a:custGeom>
                  <a:avLst/>
                  <a:gdLst/>
                  <a:ahLst/>
                  <a:rect l="l" t="t" r="r" b="b"/>
                  <a:pathLst>
                    <a:path w="1708" h="387">
                      <a:moveTo>
                        <a:pt x="37" y="348"/>
                      </a:moveTo>
                      <a:cubicBezTo>
                        <a:pt x="0" y="387"/>
                        <a:pt x="83" y="297"/>
                        <a:pt x="114" y="295"/>
                      </a:cubicBezTo>
                      <a:cubicBezTo>
                        <a:pt x="145" y="293"/>
                        <a:pt x="172" y="337"/>
                        <a:pt x="203" y="332"/>
                      </a:cubicBezTo>
                      <a:cubicBezTo>
                        <a:pt x="234" y="327"/>
                        <a:pt x="279" y="270"/>
                        <a:pt x="302" y="263"/>
                      </a:cubicBezTo>
                      <a:cubicBezTo>
                        <a:pt x="325" y="256"/>
                        <a:pt x="318" y="291"/>
                        <a:pt x="339" y="287"/>
                      </a:cubicBezTo>
                      <a:cubicBezTo>
                        <a:pt x="360" y="283"/>
                        <a:pt x="400" y="234"/>
                        <a:pt x="430" y="241"/>
                      </a:cubicBezTo>
                      <a:cubicBezTo>
                        <a:pt x="460" y="248"/>
                        <a:pt x="491" y="332"/>
                        <a:pt x="521" y="332"/>
                      </a:cubicBezTo>
                      <a:cubicBezTo>
                        <a:pt x="551" y="332"/>
                        <a:pt x="588" y="248"/>
                        <a:pt x="611" y="241"/>
                      </a:cubicBezTo>
                      <a:cubicBezTo>
                        <a:pt x="634" y="234"/>
                        <a:pt x="642" y="287"/>
                        <a:pt x="657" y="287"/>
                      </a:cubicBezTo>
                      <a:cubicBezTo>
                        <a:pt x="672" y="287"/>
                        <a:pt x="687" y="241"/>
                        <a:pt x="702" y="241"/>
                      </a:cubicBezTo>
                      <a:cubicBezTo>
                        <a:pt x="717" y="241"/>
                        <a:pt x="724" y="287"/>
                        <a:pt x="747" y="287"/>
                      </a:cubicBezTo>
                      <a:cubicBezTo>
                        <a:pt x="770" y="287"/>
                        <a:pt x="793" y="241"/>
                        <a:pt x="838" y="241"/>
                      </a:cubicBezTo>
                      <a:cubicBezTo>
                        <a:pt x="877" y="242"/>
                        <a:pt x="944" y="291"/>
                        <a:pt x="982" y="291"/>
                      </a:cubicBezTo>
                      <a:cubicBezTo>
                        <a:pt x="1020" y="291"/>
                        <a:pt x="1021" y="242"/>
                        <a:pt x="1065" y="241"/>
                      </a:cubicBezTo>
                      <a:cubicBezTo>
                        <a:pt x="1109" y="240"/>
                        <a:pt x="1208" y="287"/>
                        <a:pt x="1246" y="287"/>
                      </a:cubicBezTo>
                      <a:cubicBezTo>
                        <a:pt x="1284" y="287"/>
                        <a:pt x="1269" y="241"/>
                        <a:pt x="1292" y="241"/>
                      </a:cubicBezTo>
                      <a:cubicBezTo>
                        <a:pt x="1315" y="241"/>
                        <a:pt x="1353" y="287"/>
                        <a:pt x="1383" y="287"/>
                      </a:cubicBezTo>
                      <a:cubicBezTo>
                        <a:pt x="1413" y="287"/>
                        <a:pt x="1448" y="238"/>
                        <a:pt x="1473" y="241"/>
                      </a:cubicBezTo>
                      <a:cubicBezTo>
                        <a:pt x="1473" y="241"/>
                        <a:pt x="1504" y="299"/>
                        <a:pt x="1534" y="307"/>
                      </a:cubicBezTo>
                      <a:cubicBezTo>
                        <a:pt x="1555" y="309"/>
                        <a:pt x="1577" y="256"/>
                        <a:pt x="1598" y="251"/>
                      </a:cubicBezTo>
                      <a:cubicBezTo>
                        <a:pt x="1619" y="246"/>
                        <a:pt x="1630" y="272"/>
                        <a:pt x="1662" y="279"/>
                      </a:cubicBezTo>
                      <a:cubicBezTo>
                        <a:pt x="1694" y="286"/>
                        <a:pt x="1668" y="346"/>
                        <a:pt x="1676" y="300"/>
                      </a:cubicBezTo>
                      <a:lnTo>
                        <a:pt x="1708" y="0"/>
                      </a:lnTo>
                      <a:lnTo>
                        <a:pt x="568" y="28"/>
                      </a:lnTo>
                      <a:cubicBezTo>
                        <a:pt x="290" y="86"/>
                        <a:pt x="148" y="281"/>
                        <a:pt x="37" y="348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>
                  <a:off x="1495800" y="3983760"/>
                  <a:ext cx="1038960" cy="193680"/>
                </a:xfrm>
                <a:custGeom>
                  <a:avLst/>
                  <a:gdLst/>
                  <a:ahLst/>
                  <a:rect l="l" t="t" r="r" b="b"/>
                  <a:pathLst>
                    <a:path w="1652" h="391">
                      <a:moveTo>
                        <a:pt x="61" y="340"/>
                      </a:moveTo>
                      <a:cubicBezTo>
                        <a:pt x="0" y="391"/>
                        <a:pt x="119" y="382"/>
                        <a:pt x="150" y="377"/>
                      </a:cubicBezTo>
                      <a:cubicBezTo>
                        <a:pt x="181" y="372"/>
                        <a:pt x="226" y="315"/>
                        <a:pt x="249" y="308"/>
                      </a:cubicBezTo>
                      <a:cubicBezTo>
                        <a:pt x="272" y="301"/>
                        <a:pt x="265" y="336"/>
                        <a:pt x="286" y="332"/>
                      </a:cubicBezTo>
                      <a:cubicBezTo>
                        <a:pt x="307" y="328"/>
                        <a:pt x="347" y="279"/>
                        <a:pt x="377" y="286"/>
                      </a:cubicBezTo>
                      <a:cubicBezTo>
                        <a:pt x="407" y="293"/>
                        <a:pt x="438" y="377"/>
                        <a:pt x="468" y="377"/>
                      </a:cubicBezTo>
                      <a:cubicBezTo>
                        <a:pt x="498" y="377"/>
                        <a:pt x="535" y="293"/>
                        <a:pt x="558" y="286"/>
                      </a:cubicBezTo>
                      <a:cubicBezTo>
                        <a:pt x="581" y="279"/>
                        <a:pt x="589" y="332"/>
                        <a:pt x="604" y="332"/>
                      </a:cubicBezTo>
                      <a:cubicBezTo>
                        <a:pt x="619" y="332"/>
                        <a:pt x="634" y="286"/>
                        <a:pt x="649" y="286"/>
                      </a:cubicBezTo>
                      <a:cubicBezTo>
                        <a:pt x="664" y="286"/>
                        <a:pt x="671" y="332"/>
                        <a:pt x="694" y="332"/>
                      </a:cubicBezTo>
                      <a:cubicBezTo>
                        <a:pt x="717" y="332"/>
                        <a:pt x="740" y="286"/>
                        <a:pt x="785" y="286"/>
                      </a:cubicBezTo>
                      <a:cubicBezTo>
                        <a:pt x="824" y="287"/>
                        <a:pt x="891" y="336"/>
                        <a:pt x="929" y="336"/>
                      </a:cubicBezTo>
                      <a:cubicBezTo>
                        <a:pt x="967" y="336"/>
                        <a:pt x="968" y="287"/>
                        <a:pt x="1012" y="286"/>
                      </a:cubicBezTo>
                      <a:cubicBezTo>
                        <a:pt x="1056" y="285"/>
                        <a:pt x="1155" y="332"/>
                        <a:pt x="1193" y="332"/>
                      </a:cubicBezTo>
                      <a:cubicBezTo>
                        <a:pt x="1231" y="332"/>
                        <a:pt x="1216" y="286"/>
                        <a:pt x="1239" y="286"/>
                      </a:cubicBezTo>
                      <a:cubicBezTo>
                        <a:pt x="1262" y="286"/>
                        <a:pt x="1300" y="332"/>
                        <a:pt x="1330" y="332"/>
                      </a:cubicBezTo>
                      <a:cubicBezTo>
                        <a:pt x="1360" y="332"/>
                        <a:pt x="1395" y="283"/>
                        <a:pt x="1420" y="286"/>
                      </a:cubicBezTo>
                      <a:cubicBezTo>
                        <a:pt x="1420" y="286"/>
                        <a:pt x="1451" y="344"/>
                        <a:pt x="1481" y="352"/>
                      </a:cubicBezTo>
                      <a:cubicBezTo>
                        <a:pt x="1502" y="354"/>
                        <a:pt x="1524" y="301"/>
                        <a:pt x="1545" y="296"/>
                      </a:cubicBezTo>
                      <a:cubicBezTo>
                        <a:pt x="1566" y="291"/>
                        <a:pt x="1554" y="374"/>
                        <a:pt x="1572" y="332"/>
                      </a:cubicBezTo>
                      <a:cubicBezTo>
                        <a:pt x="1584" y="301"/>
                        <a:pt x="1613" y="195"/>
                        <a:pt x="1596" y="140"/>
                      </a:cubicBezTo>
                      <a:cubicBezTo>
                        <a:pt x="1579" y="85"/>
                        <a:pt x="1652" y="11"/>
                        <a:pt x="1472" y="0"/>
                      </a:cubicBezTo>
                      <a:lnTo>
                        <a:pt x="515" y="73"/>
                      </a:lnTo>
                      <a:cubicBezTo>
                        <a:pt x="280" y="130"/>
                        <a:pt x="122" y="289"/>
                        <a:pt x="61" y="34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>
                  <a:off x="1606320" y="3906360"/>
                  <a:ext cx="915480" cy="197280"/>
                </a:xfrm>
                <a:custGeom>
                  <a:avLst/>
                  <a:gdLst/>
                  <a:ahLst/>
                  <a:rect l="l" t="t" r="r" b="b"/>
                  <a:pathLst>
                    <a:path w="1456" h="398">
                      <a:moveTo>
                        <a:pt x="61" y="347"/>
                      </a:moveTo>
                      <a:cubicBezTo>
                        <a:pt x="0" y="398"/>
                        <a:pt x="119" y="389"/>
                        <a:pt x="150" y="384"/>
                      </a:cubicBezTo>
                      <a:cubicBezTo>
                        <a:pt x="181" y="379"/>
                        <a:pt x="226" y="322"/>
                        <a:pt x="249" y="315"/>
                      </a:cubicBezTo>
                      <a:cubicBezTo>
                        <a:pt x="272" y="308"/>
                        <a:pt x="265" y="343"/>
                        <a:pt x="286" y="339"/>
                      </a:cubicBezTo>
                      <a:cubicBezTo>
                        <a:pt x="307" y="335"/>
                        <a:pt x="347" y="286"/>
                        <a:pt x="377" y="293"/>
                      </a:cubicBezTo>
                      <a:cubicBezTo>
                        <a:pt x="407" y="300"/>
                        <a:pt x="438" y="384"/>
                        <a:pt x="468" y="384"/>
                      </a:cubicBezTo>
                      <a:cubicBezTo>
                        <a:pt x="498" y="384"/>
                        <a:pt x="535" y="300"/>
                        <a:pt x="558" y="293"/>
                      </a:cubicBezTo>
                      <a:cubicBezTo>
                        <a:pt x="581" y="286"/>
                        <a:pt x="589" y="339"/>
                        <a:pt x="604" y="339"/>
                      </a:cubicBezTo>
                      <a:cubicBezTo>
                        <a:pt x="619" y="339"/>
                        <a:pt x="634" y="293"/>
                        <a:pt x="649" y="293"/>
                      </a:cubicBezTo>
                      <a:cubicBezTo>
                        <a:pt x="664" y="293"/>
                        <a:pt x="671" y="339"/>
                        <a:pt x="694" y="339"/>
                      </a:cubicBezTo>
                      <a:cubicBezTo>
                        <a:pt x="717" y="339"/>
                        <a:pt x="740" y="293"/>
                        <a:pt x="785" y="293"/>
                      </a:cubicBezTo>
                      <a:cubicBezTo>
                        <a:pt x="824" y="294"/>
                        <a:pt x="891" y="343"/>
                        <a:pt x="929" y="343"/>
                      </a:cubicBezTo>
                      <a:cubicBezTo>
                        <a:pt x="967" y="343"/>
                        <a:pt x="968" y="294"/>
                        <a:pt x="1012" y="293"/>
                      </a:cubicBezTo>
                      <a:cubicBezTo>
                        <a:pt x="1056" y="292"/>
                        <a:pt x="1155" y="339"/>
                        <a:pt x="1193" y="339"/>
                      </a:cubicBezTo>
                      <a:cubicBezTo>
                        <a:pt x="1231" y="339"/>
                        <a:pt x="1216" y="293"/>
                        <a:pt x="1239" y="293"/>
                      </a:cubicBezTo>
                      <a:cubicBezTo>
                        <a:pt x="1262" y="293"/>
                        <a:pt x="1300" y="339"/>
                        <a:pt x="1330" y="339"/>
                      </a:cubicBezTo>
                      <a:cubicBezTo>
                        <a:pt x="1360" y="339"/>
                        <a:pt x="1388" y="346"/>
                        <a:pt x="1408" y="316"/>
                      </a:cubicBezTo>
                      <a:cubicBezTo>
                        <a:pt x="1424" y="284"/>
                        <a:pt x="1445" y="201"/>
                        <a:pt x="1428" y="148"/>
                      </a:cubicBezTo>
                      <a:cubicBezTo>
                        <a:pt x="1411" y="95"/>
                        <a:pt x="1456" y="11"/>
                        <a:pt x="1304" y="0"/>
                      </a:cubicBezTo>
                      <a:lnTo>
                        <a:pt x="515" y="80"/>
                      </a:lnTo>
                      <a:cubicBezTo>
                        <a:pt x="308" y="138"/>
                        <a:pt x="122" y="296"/>
                        <a:pt x="61" y="347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>
                  <a:off x="1663560" y="3866760"/>
                  <a:ext cx="902880" cy="203040"/>
                </a:xfrm>
                <a:custGeom>
                  <a:avLst/>
                  <a:gdLst/>
                  <a:ahLst/>
                  <a:rect l="l" t="t" r="r" b="b"/>
                  <a:pathLst>
                    <a:path w="1436" h="410">
                      <a:moveTo>
                        <a:pt x="44" y="364"/>
                      </a:moveTo>
                      <a:cubicBezTo>
                        <a:pt x="0" y="403"/>
                        <a:pt x="89" y="348"/>
                        <a:pt x="112" y="341"/>
                      </a:cubicBezTo>
                      <a:cubicBezTo>
                        <a:pt x="135" y="334"/>
                        <a:pt x="128" y="369"/>
                        <a:pt x="149" y="365"/>
                      </a:cubicBezTo>
                      <a:cubicBezTo>
                        <a:pt x="170" y="361"/>
                        <a:pt x="210" y="312"/>
                        <a:pt x="240" y="319"/>
                      </a:cubicBezTo>
                      <a:cubicBezTo>
                        <a:pt x="270" y="326"/>
                        <a:pt x="301" y="410"/>
                        <a:pt x="331" y="410"/>
                      </a:cubicBezTo>
                      <a:cubicBezTo>
                        <a:pt x="361" y="410"/>
                        <a:pt x="398" y="326"/>
                        <a:pt x="421" y="319"/>
                      </a:cubicBezTo>
                      <a:cubicBezTo>
                        <a:pt x="444" y="312"/>
                        <a:pt x="452" y="365"/>
                        <a:pt x="467" y="365"/>
                      </a:cubicBezTo>
                      <a:cubicBezTo>
                        <a:pt x="482" y="365"/>
                        <a:pt x="497" y="319"/>
                        <a:pt x="512" y="319"/>
                      </a:cubicBezTo>
                      <a:cubicBezTo>
                        <a:pt x="527" y="319"/>
                        <a:pt x="534" y="365"/>
                        <a:pt x="557" y="365"/>
                      </a:cubicBezTo>
                      <a:cubicBezTo>
                        <a:pt x="580" y="365"/>
                        <a:pt x="603" y="319"/>
                        <a:pt x="648" y="319"/>
                      </a:cubicBezTo>
                      <a:cubicBezTo>
                        <a:pt x="687" y="320"/>
                        <a:pt x="754" y="369"/>
                        <a:pt x="792" y="369"/>
                      </a:cubicBezTo>
                      <a:cubicBezTo>
                        <a:pt x="830" y="369"/>
                        <a:pt x="831" y="320"/>
                        <a:pt x="875" y="319"/>
                      </a:cubicBezTo>
                      <a:cubicBezTo>
                        <a:pt x="919" y="318"/>
                        <a:pt x="1018" y="365"/>
                        <a:pt x="1056" y="365"/>
                      </a:cubicBezTo>
                      <a:cubicBezTo>
                        <a:pt x="1094" y="365"/>
                        <a:pt x="1079" y="319"/>
                        <a:pt x="1102" y="319"/>
                      </a:cubicBezTo>
                      <a:cubicBezTo>
                        <a:pt x="1125" y="319"/>
                        <a:pt x="1163" y="365"/>
                        <a:pt x="1193" y="365"/>
                      </a:cubicBezTo>
                      <a:cubicBezTo>
                        <a:pt x="1223" y="365"/>
                        <a:pt x="1300" y="352"/>
                        <a:pt x="1325" y="320"/>
                      </a:cubicBezTo>
                      <a:cubicBezTo>
                        <a:pt x="1352" y="288"/>
                        <a:pt x="1364" y="225"/>
                        <a:pt x="1357" y="172"/>
                      </a:cubicBezTo>
                      <a:cubicBezTo>
                        <a:pt x="1350" y="119"/>
                        <a:pt x="1436" y="10"/>
                        <a:pt x="1285" y="0"/>
                      </a:cubicBezTo>
                      <a:lnTo>
                        <a:pt x="448" y="112"/>
                      </a:lnTo>
                      <a:cubicBezTo>
                        <a:pt x="241" y="173"/>
                        <a:pt x="128" y="312"/>
                        <a:pt x="44" y="36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>
                  <a:off x="1759680" y="3805200"/>
                  <a:ext cx="813240" cy="202320"/>
                </a:xfrm>
                <a:custGeom>
                  <a:avLst/>
                  <a:gdLst/>
                  <a:ahLst/>
                  <a:rect l="l" t="t" r="r" b="b"/>
                  <a:pathLst>
                    <a:path w="1293" h="408">
                      <a:moveTo>
                        <a:pt x="44" y="362"/>
                      </a:moveTo>
                      <a:cubicBezTo>
                        <a:pt x="0" y="401"/>
                        <a:pt x="89" y="346"/>
                        <a:pt x="112" y="339"/>
                      </a:cubicBezTo>
                      <a:cubicBezTo>
                        <a:pt x="135" y="332"/>
                        <a:pt x="128" y="367"/>
                        <a:pt x="149" y="363"/>
                      </a:cubicBezTo>
                      <a:cubicBezTo>
                        <a:pt x="170" y="359"/>
                        <a:pt x="210" y="310"/>
                        <a:pt x="240" y="317"/>
                      </a:cubicBezTo>
                      <a:cubicBezTo>
                        <a:pt x="270" y="324"/>
                        <a:pt x="301" y="408"/>
                        <a:pt x="331" y="408"/>
                      </a:cubicBezTo>
                      <a:cubicBezTo>
                        <a:pt x="361" y="408"/>
                        <a:pt x="398" y="324"/>
                        <a:pt x="421" y="317"/>
                      </a:cubicBezTo>
                      <a:cubicBezTo>
                        <a:pt x="444" y="310"/>
                        <a:pt x="452" y="363"/>
                        <a:pt x="467" y="363"/>
                      </a:cubicBezTo>
                      <a:cubicBezTo>
                        <a:pt x="482" y="363"/>
                        <a:pt x="497" y="317"/>
                        <a:pt x="512" y="317"/>
                      </a:cubicBezTo>
                      <a:cubicBezTo>
                        <a:pt x="527" y="317"/>
                        <a:pt x="534" y="363"/>
                        <a:pt x="557" y="363"/>
                      </a:cubicBezTo>
                      <a:cubicBezTo>
                        <a:pt x="580" y="363"/>
                        <a:pt x="603" y="317"/>
                        <a:pt x="648" y="317"/>
                      </a:cubicBezTo>
                      <a:cubicBezTo>
                        <a:pt x="687" y="318"/>
                        <a:pt x="754" y="367"/>
                        <a:pt x="792" y="367"/>
                      </a:cubicBezTo>
                      <a:cubicBezTo>
                        <a:pt x="830" y="367"/>
                        <a:pt x="831" y="318"/>
                        <a:pt x="875" y="317"/>
                      </a:cubicBezTo>
                      <a:cubicBezTo>
                        <a:pt x="919" y="316"/>
                        <a:pt x="1018" y="363"/>
                        <a:pt x="1056" y="363"/>
                      </a:cubicBezTo>
                      <a:cubicBezTo>
                        <a:pt x="1094" y="363"/>
                        <a:pt x="1079" y="317"/>
                        <a:pt x="1102" y="317"/>
                      </a:cubicBezTo>
                      <a:cubicBezTo>
                        <a:pt x="1125" y="317"/>
                        <a:pt x="1176" y="388"/>
                        <a:pt x="1193" y="363"/>
                      </a:cubicBezTo>
                      <a:cubicBezTo>
                        <a:pt x="1210" y="338"/>
                        <a:pt x="1216" y="224"/>
                        <a:pt x="1220" y="164"/>
                      </a:cubicBezTo>
                      <a:cubicBezTo>
                        <a:pt x="1215" y="104"/>
                        <a:pt x="1293" y="9"/>
                        <a:pt x="1164" y="0"/>
                      </a:cubicBezTo>
                      <a:lnTo>
                        <a:pt x="448" y="110"/>
                      </a:lnTo>
                      <a:cubicBezTo>
                        <a:pt x="261" y="170"/>
                        <a:pt x="128" y="310"/>
                        <a:pt x="44" y="362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未知"/>
                <p:cNvSpPr/>
                <p:nvPr/>
              </p:nvSpPr>
              <p:spPr>
                <a:xfrm>
                  <a:off x="1863000" y="3727440"/>
                  <a:ext cx="730800" cy="228960"/>
                </a:xfrm>
                <a:custGeom>
                  <a:avLst/>
                  <a:gdLst/>
                  <a:ahLst/>
                  <a:rect l="l" t="t" r="r" b="b"/>
                  <a:pathLst>
                    <a:path w="1162" h="462">
                      <a:moveTo>
                        <a:pt x="44" y="389"/>
                      </a:moveTo>
                      <a:cubicBezTo>
                        <a:pt x="0" y="428"/>
                        <a:pt x="89" y="373"/>
                        <a:pt x="112" y="366"/>
                      </a:cubicBezTo>
                      <a:cubicBezTo>
                        <a:pt x="135" y="359"/>
                        <a:pt x="128" y="394"/>
                        <a:pt x="149" y="390"/>
                      </a:cubicBezTo>
                      <a:cubicBezTo>
                        <a:pt x="170" y="386"/>
                        <a:pt x="210" y="337"/>
                        <a:pt x="240" y="344"/>
                      </a:cubicBezTo>
                      <a:cubicBezTo>
                        <a:pt x="270" y="351"/>
                        <a:pt x="301" y="435"/>
                        <a:pt x="331" y="435"/>
                      </a:cubicBezTo>
                      <a:cubicBezTo>
                        <a:pt x="361" y="435"/>
                        <a:pt x="398" y="351"/>
                        <a:pt x="421" y="344"/>
                      </a:cubicBezTo>
                      <a:cubicBezTo>
                        <a:pt x="444" y="337"/>
                        <a:pt x="452" y="390"/>
                        <a:pt x="467" y="390"/>
                      </a:cubicBezTo>
                      <a:cubicBezTo>
                        <a:pt x="482" y="390"/>
                        <a:pt x="497" y="344"/>
                        <a:pt x="512" y="344"/>
                      </a:cubicBezTo>
                      <a:cubicBezTo>
                        <a:pt x="527" y="344"/>
                        <a:pt x="534" y="390"/>
                        <a:pt x="557" y="390"/>
                      </a:cubicBezTo>
                      <a:cubicBezTo>
                        <a:pt x="580" y="390"/>
                        <a:pt x="603" y="344"/>
                        <a:pt x="648" y="344"/>
                      </a:cubicBezTo>
                      <a:cubicBezTo>
                        <a:pt x="687" y="345"/>
                        <a:pt x="754" y="394"/>
                        <a:pt x="792" y="394"/>
                      </a:cubicBezTo>
                      <a:cubicBezTo>
                        <a:pt x="830" y="394"/>
                        <a:pt x="831" y="345"/>
                        <a:pt x="875" y="344"/>
                      </a:cubicBezTo>
                      <a:cubicBezTo>
                        <a:pt x="919" y="343"/>
                        <a:pt x="984" y="462"/>
                        <a:pt x="1032" y="409"/>
                      </a:cubicBezTo>
                      <a:cubicBezTo>
                        <a:pt x="1073" y="383"/>
                        <a:pt x="1057" y="241"/>
                        <a:pt x="1068" y="177"/>
                      </a:cubicBezTo>
                      <a:cubicBezTo>
                        <a:pt x="1077" y="113"/>
                        <a:pt x="1086" y="50"/>
                        <a:pt x="1084" y="25"/>
                      </a:cubicBezTo>
                      <a:cubicBezTo>
                        <a:pt x="1082" y="0"/>
                        <a:pt x="1162" y="10"/>
                        <a:pt x="1056" y="29"/>
                      </a:cubicBezTo>
                      <a:lnTo>
                        <a:pt x="448" y="137"/>
                      </a:lnTo>
                      <a:cubicBezTo>
                        <a:pt x="279" y="197"/>
                        <a:pt x="128" y="337"/>
                        <a:pt x="44" y="38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未知"/>
                <p:cNvSpPr/>
                <p:nvPr/>
              </p:nvSpPr>
              <p:spPr>
                <a:xfrm>
                  <a:off x="1985040" y="3740760"/>
                  <a:ext cx="573120" cy="127440"/>
                </a:xfrm>
                <a:custGeom>
                  <a:avLst/>
                  <a:gdLst/>
                  <a:ahLst/>
                  <a:rect l="l" t="t" r="r" b="b"/>
                  <a:pathLst>
                    <a:path w="911" h="257">
                      <a:moveTo>
                        <a:pt x="270" y="108"/>
                      </a:moveTo>
                      <a:cubicBezTo>
                        <a:pt x="228" y="128"/>
                        <a:pt x="43" y="210"/>
                        <a:pt x="19" y="232"/>
                      </a:cubicBezTo>
                      <a:cubicBezTo>
                        <a:pt x="0" y="257"/>
                        <a:pt x="92" y="245"/>
                        <a:pt x="124" y="239"/>
                      </a:cubicBezTo>
                      <a:cubicBezTo>
                        <a:pt x="156" y="233"/>
                        <a:pt x="191" y="197"/>
                        <a:pt x="214" y="193"/>
                      </a:cubicBezTo>
                      <a:cubicBezTo>
                        <a:pt x="237" y="189"/>
                        <a:pt x="245" y="216"/>
                        <a:pt x="260" y="216"/>
                      </a:cubicBezTo>
                      <a:cubicBezTo>
                        <a:pt x="275" y="216"/>
                        <a:pt x="290" y="193"/>
                        <a:pt x="305" y="193"/>
                      </a:cubicBezTo>
                      <a:cubicBezTo>
                        <a:pt x="320" y="193"/>
                        <a:pt x="327" y="216"/>
                        <a:pt x="350" y="216"/>
                      </a:cubicBezTo>
                      <a:cubicBezTo>
                        <a:pt x="373" y="216"/>
                        <a:pt x="396" y="193"/>
                        <a:pt x="441" y="193"/>
                      </a:cubicBezTo>
                      <a:cubicBezTo>
                        <a:pt x="480" y="193"/>
                        <a:pt x="547" y="218"/>
                        <a:pt x="585" y="218"/>
                      </a:cubicBezTo>
                      <a:cubicBezTo>
                        <a:pt x="623" y="218"/>
                        <a:pt x="624" y="193"/>
                        <a:pt x="668" y="193"/>
                      </a:cubicBezTo>
                      <a:cubicBezTo>
                        <a:pt x="712" y="192"/>
                        <a:pt x="822" y="231"/>
                        <a:pt x="870" y="204"/>
                      </a:cubicBezTo>
                      <a:cubicBezTo>
                        <a:pt x="911" y="191"/>
                        <a:pt x="889" y="42"/>
                        <a:pt x="894" y="0"/>
                      </a:cubicBezTo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329200" y="3741120"/>
                <a:ext cx="3154680" cy="689400"/>
                <a:chOff x="2329200" y="3741120"/>
                <a:chExt cx="3154680" cy="689400"/>
              </a:xfrm>
            </p:grpSpPr>
            <p:sp>
              <p:nvSpPr>
                <p:cNvPr id="177" name="未知"/>
                <p:cNvSpPr/>
                <p:nvPr/>
              </p:nvSpPr>
              <p:spPr>
                <a:xfrm>
                  <a:off x="2437920" y="4226760"/>
                  <a:ext cx="3045960" cy="203760"/>
                </a:xfrm>
                <a:custGeom>
                  <a:avLst/>
                  <a:gdLst/>
                  <a:ahLst/>
                  <a:rect l="l" t="t" r="r" b="b"/>
                  <a:pathLst>
                    <a:path w="4089" h="411">
                      <a:moveTo>
                        <a:pt x="4013" y="372"/>
                      </a:moveTo>
                      <a:cubicBezTo>
                        <a:pt x="4089" y="411"/>
                        <a:pt x="3870" y="326"/>
                        <a:pt x="3806" y="324"/>
                      </a:cubicBezTo>
                      <a:cubicBezTo>
                        <a:pt x="3742" y="322"/>
                        <a:pt x="3686" y="366"/>
                        <a:pt x="3622" y="361"/>
                      </a:cubicBezTo>
                      <a:cubicBezTo>
                        <a:pt x="3558" y="356"/>
                        <a:pt x="3465" y="298"/>
                        <a:pt x="3418" y="291"/>
                      </a:cubicBezTo>
                      <a:cubicBezTo>
                        <a:pt x="3370" y="284"/>
                        <a:pt x="3385" y="320"/>
                        <a:pt x="3341" y="315"/>
                      </a:cubicBezTo>
                      <a:cubicBezTo>
                        <a:pt x="3298" y="311"/>
                        <a:pt x="3215" y="262"/>
                        <a:pt x="3153" y="269"/>
                      </a:cubicBezTo>
                      <a:cubicBezTo>
                        <a:pt x="3092" y="276"/>
                        <a:pt x="3028" y="361"/>
                        <a:pt x="2966" y="361"/>
                      </a:cubicBezTo>
                      <a:cubicBezTo>
                        <a:pt x="2904" y="361"/>
                        <a:pt x="2827" y="276"/>
                        <a:pt x="2780" y="269"/>
                      </a:cubicBezTo>
                      <a:cubicBezTo>
                        <a:pt x="2732" y="262"/>
                        <a:pt x="2716" y="315"/>
                        <a:pt x="2685" y="315"/>
                      </a:cubicBezTo>
                      <a:cubicBezTo>
                        <a:pt x="2654" y="315"/>
                        <a:pt x="2623" y="269"/>
                        <a:pt x="2592" y="269"/>
                      </a:cubicBezTo>
                      <a:cubicBezTo>
                        <a:pt x="2561" y="269"/>
                        <a:pt x="2546" y="315"/>
                        <a:pt x="2499" y="315"/>
                      </a:cubicBezTo>
                      <a:cubicBezTo>
                        <a:pt x="2451" y="315"/>
                        <a:pt x="2404" y="269"/>
                        <a:pt x="2311" y="269"/>
                      </a:cubicBezTo>
                      <a:cubicBezTo>
                        <a:pt x="2230" y="270"/>
                        <a:pt x="2092" y="320"/>
                        <a:pt x="2014" y="320"/>
                      </a:cubicBezTo>
                      <a:cubicBezTo>
                        <a:pt x="1935" y="320"/>
                        <a:pt x="1933" y="270"/>
                        <a:pt x="1842" y="269"/>
                      </a:cubicBezTo>
                      <a:cubicBezTo>
                        <a:pt x="1751" y="268"/>
                        <a:pt x="1547" y="315"/>
                        <a:pt x="1468" y="315"/>
                      </a:cubicBezTo>
                      <a:cubicBezTo>
                        <a:pt x="1390" y="315"/>
                        <a:pt x="1421" y="269"/>
                        <a:pt x="1373" y="269"/>
                      </a:cubicBezTo>
                      <a:cubicBezTo>
                        <a:pt x="1326" y="269"/>
                        <a:pt x="1247" y="315"/>
                        <a:pt x="1185" y="315"/>
                      </a:cubicBezTo>
                      <a:cubicBezTo>
                        <a:pt x="1123" y="315"/>
                        <a:pt x="1071" y="272"/>
                        <a:pt x="1006" y="265"/>
                      </a:cubicBezTo>
                      <a:cubicBezTo>
                        <a:pt x="941" y="258"/>
                        <a:pt x="867" y="263"/>
                        <a:pt x="795" y="274"/>
                      </a:cubicBezTo>
                      <a:cubicBezTo>
                        <a:pt x="751" y="276"/>
                        <a:pt x="620" y="334"/>
                        <a:pt x="576" y="329"/>
                      </a:cubicBezTo>
                      <a:cubicBezTo>
                        <a:pt x="533" y="324"/>
                        <a:pt x="368" y="267"/>
                        <a:pt x="302" y="274"/>
                      </a:cubicBezTo>
                      <a:cubicBezTo>
                        <a:pt x="236" y="281"/>
                        <a:pt x="101" y="360"/>
                        <a:pt x="0" y="347"/>
                      </a:cubicBezTo>
                      <a:lnTo>
                        <a:pt x="0" y="228"/>
                      </a:lnTo>
                      <a:lnTo>
                        <a:pt x="27" y="0"/>
                      </a:lnTo>
                      <a:lnTo>
                        <a:pt x="3352" y="86"/>
                      </a:lnTo>
                      <a:cubicBezTo>
                        <a:pt x="4016" y="148"/>
                        <a:pt x="3885" y="310"/>
                        <a:pt x="4013" y="372"/>
                      </a:cubicBezTo>
                      <a:close/>
                    </a:path>
                  </a:pathLst>
                </a:custGeom>
                <a:solidFill>
                  <a:srgbClr val="ffdf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>
                  <a:off x="2431080" y="4189320"/>
                  <a:ext cx="2987280" cy="218520"/>
                </a:xfrm>
                <a:custGeom>
                  <a:avLst/>
                  <a:gdLst/>
                  <a:ahLst/>
                  <a:rect l="l" t="t" r="r" b="b"/>
                  <a:pathLst>
                    <a:path w="4010" h="441">
                      <a:moveTo>
                        <a:pt x="3934" y="333"/>
                      </a:moveTo>
                      <a:cubicBezTo>
                        <a:pt x="4010" y="372"/>
                        <a:pt x="3603" y="298"/>
                        <a:pt x="3539" y="296"/>
                      </a:cubicBezTo>
                      <a:cubicBezTo>
                        <a:pt x="3475" y="294"/>
                        <a:pt x="3419" y="338"/>
                        <a:pt x="3355" y="333"/>
                      </a:cubicBezTo>
                      <a:cubicBezTo>
                        <a:pt x="3291" y="328"/>
                        <a:pt x="3198" y="270"/>
                        <a:pt x="3151" y="263"/>
                      </a:cubicBezTo>
                      <a:cubicBezTo>
                        <a:pt x="3103" y="256"/>
                        <a:pt x="3118" y="292"/>
                        <a:pt x="3074" y="288"/>
                      </a:cubicBezTo>
                      <a:cubicBezTo>
                        <a:pt x="3031" y="283"/>
                        <a:pt x="2948" y="234"/>
                        <a:pt x="2886" y="241"/>
                      </a:cubicBezTo>
                      <a:cubicBezTo>
                        <a:pt x="2824" y="248"/>
                        <a:pt x="2760" y="333"/>
                        <a:pt x="2698" y="333"/>
                      </a:cubicBezTo>
                      <a:cubicBezTo>
                        <a:pt x="2636" y="333"/>
                        <a:pt x="2560" y="248"/>
                        <a:pt x="2513" y="241"/>
                      </a:cubicBezTo>
                      <a:cubicBezTo>
                        <a:pt x="2465" y="234"/>
                        <a:pt x="2449" y="288"/>
                        <a:pt x="2418" y="288"/>
                      </a:cubicBezTo>
                      <a:cubicBezTo>
                        <a:pt x="2387" y="288"/>
                        <a:pt x="2356" y="241"/>
                        <a:pt x="2325" y="241"/>
                      </a:cubicBezTo>
                      <a:cubicBezTo>
                        <a:pt x="2294" y="241"/>
                        <a:pt x="2279" y="288"/>
                        <a:pt x="2232" y="288"/>
                      </a:cubicBezTo>
                      <a:cubicBezTo>
                        <a:pt x="2184" y="288"/>
                        <a:pt x="2137" y="241"/>
                        <a:pt x="2044" y="241"/>
                      </a:cubicBezTo>
                      <a:cubicBezTo>
                        <a:pt x="1963" y="242"/>
                        <a:pt x="1825" y="292"/>
                        <a:pt x="1746" y="292"/>
                      </a:cubicBezTo>
                      <a:cubicBezTo>
                        <a:pt x="1668" y="292"/>
                        <a:pt x="1666" y="242"/>
                        <a:pt x="1575" y="241"/>
                      </a:cubicBezTo>
                      <a:cubicBezTo>
                        <a:pt x="1484" y="240"/>
                        <a:pt x="1280" y="288"/>
                        <a:pt x="1201" y="288"/>
                      </a:cubicBezTo>
                      <a:cubicBezTo>
                        <a:pt x="1123" y="288"/>
                        <a:pt x="1154" y="241"/>
                        <a:pt x="1106" y="241"/>
                      </a:cubicBezTo>
                      <a:cubicBezTo>
                        <a:pt x="1059" y="241"/>
                        <a:pt x="980" y="288"/>
                        <a:pt x="918" y="288"/>
                      </a:cubicBezTo>
                      <a:cubicBezTo>
                        <a:pt x="856" y="288"/>
                        <a:pt x="784" y="238"/>
                        <a:pt x="732" y="241"/>
                      </a:cubicBezTo>
                      <a:cubicBezTo>
                        <a:pt x="732" y="241"/>
                        <a:pt x="668" y="300"/>
                        <a:pt x="606" y="308"/>
                      </a:cubicBezTo>
                      <a:cubicBezTo>
                        <a:pt x="563" y="310"/>
                        <a:pt x="517" y="256"/>
                        <a:pt x="474" y="251"/>
                      </a:cubicBezTo>
                      <a:cubicBezTo>
                        <a:pt x="431" y="246"/>
                        <a:pt x="408" y="272"/>
                        <a:pt x="342" y="279"/>
                      </a:cubicBezTo>
                      <a:cubicBezTo>
                        <a:pt x="276" y="286"/>
                        <a:pt x="52" y="441"/>
                        <a:pt x="0" y="430"/>
                      </a:cubicBezTo>
                      <a:lnTo>
                        <a:pt x="9" y="220"/>
                      </a:lnTo>
                      <a:lnTo>
                        <a:pt x="28" y="0"/>
                      </a:lnTo>
                      <a:lnTo>
                        <a:pt x="3328" y="75"/>
                      </a:lnTo>
                      <a:cubicBezTo>
                        <a:pt x="3979" y="131"/>
                        <a:pt x="3808" y="279"/>
                        <a:pt x="3934" y="333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未知"/>
                <p:cNvSpPr/>
                <p:nvPr/>
              </p:nvSpPr>
              <p:spPr>
                <a:xfrm>
                  <a:off x="2396160" y="4167720"/>
                  <a:ext cx="2945880" cy="175320"/>
                </a:xfrm>
                <a:custGeom>
                  <a:avLst/>
                  <a:gdLst/>
                  <a:ahLst/>
                  <a:rect l="l" t="t" r="r" b="b"/>
                  <a:pathLst>
                    <a:path w="3955" h="354">
                      <a:moveTo>
                        <a:pt x="3915" y="293"/>
                      </a:moveTo>
                      <a:cubicBezTo>
                        <a:pt x="3955" y="331"/>
                        <a:pt x="3558" y="286"/>
                        <a:pt x="3494" y="284"/>
                      </a:cubicBezTo>
                      <a:cubicBezTo>
                        <a:pt x="3430" y="282"/>
                        <a:pt x="3374" y="326"/>
                        <a:pt x="3310" y="321"/>
                      </a:cubicBezTo>
                      <a:cubicBezTo>
                        <a:pt x="3246" y="316"/>
                        <a:pt x="3153" y="259"/>
                        <a:pt x="3106" y="252"/>
                      </a:cubicBezTo>
                      <a:cubicBezTo>
                        <a:pt x="3058" y="245"/>
                        <a:pt x="3073" y="280"/>
                        <a:pt x="3029" y="276"/>
                      </a:cubicBezTo>
                      <a:cubicBezTo>
                        <a:pt x="2986" y="272"/>
                        <a:pt x="2903" y="223"/>
                        <a:pt x="2841" y="230"/>
                      </a:cubicBezTo>
                      <a:cubicBezTo>
                        <a:pt x="2779" y="237"/>
                        <a:pt x="2715" y="321"/>
                        <a:pt x="2653" y="321"/>
                      </a:cubicBezTo>
                      <a:cubicBezTo>
                        <a:pt x="2591" y="321"/>
                        <a:pt x="2515" y="237"/>
                        <a:pt x="2468" y="230"/>
                      </a:cubicBezTo>
                      <a:cubicBezTo>
                        <a:pt x="2420" y="223"/>
                        <a:pt x="2404" y="276"/>
                        <a:pt x="2373" y="276"/>
                      </a:cubicBezTo>
                      <a:cubicBezTo>
                        <a:pt x="2342" y="276"/>
                        <a:pt x="2311" y="230"/>
                        <a:pt x="2280" y="230"/>
                      </a:cubicBezTo>
                      <a:cubicBezTo>
                        <a:pt x="2249" y="230"/>
                        <a:pt x="2234" y="276"/>
                        <a:pt x="2187" y="276"/>
                      </a:cubicBezTo>
                      <a:cubicBezTo>
                        <a:pt x="2139" y="276"/>
                        <a:pt x="2092" y="230"/>
                        <a:pt x="1999" y="230"/>
                      </a:cubicBezTo>
                      <a:cubicBezTo>
                        <a:pt x="1918" y="231"/>
                        <a:pt x="1780" y="280"/>
                        <a:pt x="1701" y="280"/>
                      </a:cubicBezTo>
                      <a:cubicBezTo>
                        <a:pt x="1623" y="280"/>
                        <a:pt x="1621" y="231"/>
                        <a:pt x="1530" y="230"/>
                      </a:cubicBezTo>
                      <a:cubicBezTo>
                        <a:pt x="1439" y="229"/>
                        <a:pt x="1235" y="276"/>
                        <a:pt x="1156" y="276"/>
                      </a:cubicBezTo>
                      <a:cubicBezTo>
                        <a:pt x="1078" y="276"/>
                        <a:pt x="1109" y="230"/>
                        <a:pt x="1061" y="230"/>
                      </a:cubicBezTo>
                      <a:cubicBezTo>
                        <a:pt x="1014" y="230"/>
                        <a:pt x="935" y="276"/>
                        <a:pt x="873" y="276"/>
                      </a:cubicBezTo>
                      <a:cubicBezTo>
                        <a:pt x="811" y="276"/>
                        <a:pt x="739" y="227"/>
                        <a:pt x="687" y="230"/>
                      </a:cubicBezTo>
                      <a:cubicBezTo>
                        <a:pt x="687" y="230"/>
                        <a:pt x="623" y="288"/>
                        <a:pt x="561" y="296"/>
                      </a:cubicBezTo>
                      <a:cubicBezTo>
                        <a:pt x="518" y="298"/>
                        <a:pt x="472" y="245"/>
                        <a:pt x="429" y="240"/>
                      </a:cubicBezTo>
                      <a:cubicBezTo>
                        <a:pt x="386" y="235"/>
                        <a:pt x="363" y="261"/>
                        <a:pt x="297" y="268"/>
                      </a:cubicBezTo>
                      <a:cubicBezTo>
                        <a:pt x="231" y="275"/>
                        <a:pt x="48" y="354"/>
                        <a:pt x="0" y="344"/>
                      </a:cubicBezTo>
                      <a:lnTo>
                        <a:pt x="18" y="210"/>
                      </a:lnTo>
                      <a:lnTo>
                        <a:pt x="63" y="0"/>
                      </a:lnTo>
                      <a:lnTo>
                        <a:pt x="3291" y="23"/>
                      </a:lnTo>
                      <a:cubicBezTo>
                        <a:pt x="3933" y="72"/>
                        <a:pt x="3785" y="237"/>
                        <a:pt x="3915" y="29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>
                  <a:off x="2430360" y="4122720"/>
                  <a:ext cx="2876040" cy="178200"/>
                </a:xfrm>
                <a:custGeom>
                  <a:avLst/>
                  <a:gdLst/>
                  <a:ahLst/>
                  <a:rect l="l" t="t" r="r" b="b"/>
                  <a:pathLst>
                    <a:path w="3861" h="359">
                      <a:moveTo>
                        <a:pt x="3785" y="293"/>
                      </a:moveTo>
                      <a:cubicBezTo>
                        <a:pt x="3861" y="332"/>
                        <a:pt x="3497" y="307"/>
                        <a:pt x="3433" y="305"/>
                      </a:cubicBezTo>
                      <a:cubicBezTo>
                        <a:pt x="3369" y="303"/>
                        <a:pt x="3313" y="347"/>
                        <a:pt x="3249" y="342"/>
                      </a:cubicBezTo>
                      <a:cubicBezTo>
                        <a:pt x="3185" y="337"/>
                        <a:pt x="3092" y="279"/>
                        <a:pt x="3045" y="272"/>
                      </a:cubicBezTo>
                      <a:cubicBezTo>
                        <a:pt x="2997" y="265"/>
                        <a:pt x="3012" y="301"/>
                        <a:pt x="2968" y="296"/>
                      </a:cubicBezTo>
                      <a:cubicBezTo>
                        <a:pt x="2925" y="292"/>
                        <a:pt x="2842" y="243"/>
                        <a:pt x="2780" y="250"/>
                      </a:cubicBezTo>
                      <a:cubicBezTo>
                        <a:pt x="2719" y="257"/>
                        <a:pt x="2654" y="342"/>
                        <a:pt x="2593" y="342"/>
                      </a:cubicBezTo>
                      <a:cubicBezTo>
                        <a:pt x="2531" y="342"/>
                        <a:pt x="2454" y="257"/>
                        <a:pt x="2407" y="250"/>
                      </a:cubicBezTo>
                      <a:cubicBezTo>
                        <a:pt x="2359" y="243"/>
                        <a:pt x="2343" y="296"/>
                        <a:pt x="2312" y="296"/>
                      </a:cubicBezTo>
                      <a:cubicBezTo>
                        <a:pt x="2281" y="296"/>
                        <a:pt x="2250" y="250"/>
                        <a:pt x="2219" y="250"/>
                      </a:cubicBezTo>
                      <a:cubicBezTo>
                        <a:pt x="2188" y="250"/>
                        <a:pt x="2173" y="296"/>
                        <a:pt x="2126" y="296"/>
                      </a:cubicBezTo>
                      <a:cubicBezTo>
                        <a:pt x="2078" y="296"/>
                        <a:pt x="2031" y="250"/>
                        <a:pt x="1938" y="250"/>
                      </a:cubicBezTo>
                      <a:cubicBezTo>
                        <a:pt x="1857" y="251"/>
                        <a:pt x="1719" y="301"/>
                        <a:pt x="1640" y="301"/>
                      </a:cubicBezTo>
                      <a:cubicBezTo>
                        <a:pt x="1562" y="301"/>
                        <a:pt x="1560" y="251"/>
                        <a:pt x="1469" y="250"/>
                      </a:cubicBezTo>
                      <a:cubicBezTo>
                        <a:pt x="1378" y="249"/>
                        <a:pt x="1174" y="296"/>
                        <a:pt x="1095" y="296"/>
                      </a:cubicBezTo>
                      <a:cubicBezTo>
                        <a:pt x="1017" y="296"/>
                        <a:pt x="1048" y="250"/>
                        <a:pt x="1000" y="250"/>
                      </a:cubicBezTo>
                      <a:cubicBezTo>
                        <a:pt x="953" y="250"/>
                        <a:pt x="874" y="296"/>
                        <a:pt x="812" y="296"/>
                      </a:cubicBezTo>
                      <a:cubicBezTo>
                        <a:pt x="750" y="296"/>
                        <a:pt x="678" y="247"/>
                        <a:pt x="626" y="250"/>
                      </a:cubicBezTo>
                      <a:cubicBezTo>
                        <a:pt x="626" y="250"/>
                        <a:pt x="562" y="309"/>
                        <a:pt x="501" y="317"/>
                      </a:cubicBezTo>
                      <a:cubicBezTo>
                        <a:pt x="457" y="319"/>
                        <a:pt x="412" y="265"/>
                        <a:pt x="368" y="260"/>
                      </a:cubicBezTo>
                      <a:cubicBezTo>
                        <a:pt x="325" y="255"/>
                        <a:pt x="302" y="281"/>
                        <a:pt x="236" y="288"/>
                      </a:cubicBezTo>
                      <a:cubicBezTo>
                        <a:pt x="170" y="295"/>
                        <a:pt x="33" y="359"/>
                        <a:pt x="0" y="311"/>
                      </a:cubicBezTo>
                      <a:lnTo>
                        <a:pt x="37" y="0"/>
                      </a:lnTo>
                      <a:lnTo>
                        <a:pt x="3179" y="29"/>
                      </a:lnTo>
                      <a:cubicBezTo>
                        <a:pt x="3804" y="78"/>
                        <a:pt x="3659" y="238"/>
                        <a:pt x="3785" y="293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未知"/>
                <p:cNvSpPr/>
                <p:nvPr/>
              </p:nvSpPr>
              <p:spPr>
                <a:xfrm>
                  <a:off x="2437920" y="4111560"/>
                  <a:ext cx="2814840" cy="168120"/>
                </a:xfrm>
                <a:custGeom>
                  <a:avLst/>
                  <a:gdLst/>
                  <a:ahLst/>
                  <a:rect l="l" t="t" r="r" b="b"/>
                  <a:pathLst>
                    <a:path w="3779" h="339">
                      <a:moveTo>
                        <a:pt x="3703" y="244"/>
                      </a:moveTo>
                      <a:cubicBezTo>
                        <a:pt x="3779" y="283"/>
                        <a:pt x="3471" y="286"/>
                        <a:pt x="3407" y="284"/>
                      </a:cubicBezTo>
                      <a:cubicBezTo>
                        <a:pt x="3343" y="282"/>
                        <a:pt x="3287" y="326"/>
                        <a:pt x="3223" y="321"/>
                      </a:cubicBezTo>
                      <a:cubicBezTo>
                        <a:pt x="3159" y="316"/>
                        <a:pt x="3066" y="258"/>
                        <a:pt x="3018" y="251"/>
                      </a:cubicBezTo>
                      <a:cubicBezTo>
                        <a:pt x="2971" y="244"/>
                        <a:pt x="2985" y="280"/>
                        <a:pt x="2942" y="276"/>
                      </a:cubicBezTo>
                      <a:cubicBezTo>
                        <a:pt x="2899" y="272"/>
                        <a:pt x="2816" y="222"/>
                        <a:pt x="2754" y="229"/>
                      </a:cubicBezTo>
                      <a:cubicBezTo>
                        <a:pt x="2692" y="236"/>
                        <a:pt x="2628" y="321"/>
                        <a:pt x="2566" y="321"/>
                      </a:cubicBezTo>
                      <a:cubicBezTo>
                        <a:pt x="2504" y="321"/>
                        <a:pt x="2428" y="236"/>
                        <a:pt x="2380" y="229"/>
                      </a:cubicBezTo>
                      <a:cubicBezTo>
                        <a:pt x="2333" y="222"/>
                        <a:pt x="2316" y="276"/>
                        <a:pt x="2285" y="276"/>
                      </a:cubicBezTo>
                      <a:cubicBezTo>
                        <a:pt x="2254" y="276"/>
                        <a:pt x="2223" y="229"/>
                        <a:pt x="2192" y="229"/>
                      </a:cubicBezTo>
                      <a:cubicBezTo>
                        <a:pt x="2161" y="229"/>
                        <a:pt x="2147" y="276"/>
                        <a:pt x="2100" y="276"/>
                      </a:cubicBezTo>
                      <a:cubicBezTo>
                        <a:pt x="2052" y="276"/>
                        <a:pt x="2005" y="229"/>
                        <a:pt x="1912" y="229"/>
                      </a:cubicBezTo>
                      <a:cubicBezTo>
                        <a:pt x="1831" y="230"/>
                        <a:pt x="1693" y="280"/>
                        <a:pt x="1614" y="280"/>
                      </a:cubicBezTo>
                      <a:cubicBezTo>
                        <a:pt x="1536" y="280"/>
                        <a:pt x="1534" y="230"/>
                        <a:pt x="1443" y="229"/>
                      </a:cubicBezTo>
                      <a:cubicBezTo>
                        <a:pt x="1352" y="228"/>
                        <a:pt x="1148" y="276"/>
                        <a:pt x="1069" y="276"/>
                      </a:cubicBezTo>
                      <a:cubicBezTo>
                        <a:pt x="991" y="276"/>
                        <a:pt x="1022" y="229"/>
                        <a:pt x="974" y="229"/>
                      </a:cubicBezTo>
                      <a:cubicBezTo>
                        <a:pt x="927" y="229"/>
                        <a:pt x="848" y="276"/>
                        <a:pt x="786" y="276"/>
                      </a:cubicBezTo>
                      <a:cubicBezTo>
                        <a:pt x="724" y="276"/>
                        <a:pt x="652" y="226"/>
                        <a:pt x="600" y="229"/>
                      </a:cubicBezTo>
                      <a:cubicBezTo>
                        <a:pt x="600" y="229"/>
                        <a:pt x="536" y="288"/>
                        <a:pt x="474" y="296"/>
                      </a:cubicBezTo>
                      <a:cubicBezTo>
                        <a:pt x="431" y="298"/>
                        <a:pt x="386" y="244"/>
                        <a:pt x="342" y="239"/>
                      </a:cubicBezTo>
                      <a:cubicBezTo>
                        <a:pt x="299" y="234"/>
                        <a:pt x="276" y="260"/>
                        <a:pt x="210" y="268"/>
                      </a:cubicBezTo>
                      <a:cubicBezTo>
                        <a:pt x="144" y="275"/>
                        <a:pt x="32" y="339"/>
                        <a:pt x="0" y="293"/>
                      </a:cubicBezTo>
                      <a:lnTo>
                        <a:pt x="37" y="0"/>
                      </a:lnTo>
                      <a:lnTo>
                        <a:pt x="3157" y="10"/>
                      </a:lnTo>
                      <a:cubicBezTo>
                        <a:pt x="3768" y="51"/>
                        <a:pt x="3589" y="195"/>
                        <a:pt x="3703" y="2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未知"/>
                <p:cNvSpPr/>
                <p:nvPr/>
              </p:nvSpPr>
              <p:spPr>
                <a:xfrm>
                  <a:off x="2430360" y="4032720"/>
                  <a:ext cx="2801520" cy="178200"/>
                </a:xfrm>
                <a:custGeom>
                  <a:avLst/>
                  <a:gdLst/>
                  <a:ahLst/>
                  <a:rect l="l" t="t" r="r" b="b"/>
                  <a:pathLst>
                    <a:path w="3761" h="360">
                      <a:moveTo>
                        <a:pt x="3635" y="283"/>
                      </a:moveTo>
                      <a:cubicBezTo>
                        <a:pt x="3761" y="334"/>
                        <a:pt x="3181" y="360"/>
                        <a:pt x="3117" y="355"/>
                      </a:cubicBezTo>
                      <a:cubicBezTo>
                        <a:pt x="3053" y="350"/>
                        <a:pt x="2960" y="292"/>
                        <a:pt x="2912" y="285"/>
                      </a:cubicBezTo>
                      <a:cubicBezTo>
                        <a:pt x="2865" y="278"/>
                        <a:pt x="2879" y="314"/>
                        <a:pt x="2836" y="309"/>
                      </a:cubicBezTo>
                      <a:cubicBezTo>
                        <a:pt x="2793" y="305"/>
                        <a:pt x="2710" y="256"/>
                        <a:pt x="2648" y="263"/>
                      </a:cubicBezTo>
                      <a:cubicBezTo>
                        <a:pt x="2586" y="270"/>
                        <a:pt x="2522" y="355"/>
                        <a:pt x="2460" y="355"/>
                      </a:cubicBezTo>
                      <a:cubicBezTo>
                        <a:pt x="2398" y="355"/>
                        <a:pt x="2322" y="270"/>
                        <a:pt x="2274" y="263"/>
                      </a:cubicBezTo>
                      <a:cubicBezTo>
                        <a:pt x="2227" y="256"/>
                        <a:pt x="2210" y="309"/>
                        <a:pt x="2179" y="309"/>
                      </a:cubicBezTo>
                      <a:cubicBezTo>
                        <a:pt x="2148" y="309"/>
                        <a:pt x="2117" y="263"/>
                        <a:pt x="2086" y="263"/>
                      </a:cubicBezTo>
                      <a:cubicBezTo>
                        <a:pt x="2055" y="263"/>
                        <a:pt x="2041" y="309"/>
                        <a:pt x="1993" y="309"/>
                      </a:cubicBezTo>
                      <a:cubicBezTo>
                        <a:pt x="1946" y="309"/>
                        <a:pt x="1898" y="263"/>
                        <a:pt x="1806" y="263"/>
                      </a:cubicBezTo>
                      <a:cubicBezTo>
                        <a:pt x="1725" y="264"/>
                        <a:pt x="1587" y="314"/>
                        <a:pt x="1508" y="314"/>
                      </a:cubicBezTo>
                      <a:cubicBezTo>
                        <a:pt x="1430" y="314"/>
                        <a:pt x="1428" y="264"/>
                        <a:pt x="1337" y="263"/>
                      </a:cubicBezTo>
                      <a:cubicBezTo>
                        <a:pt x="1246" y="262"/>
                        <a:pt x="1041" y="309"/>
                        <a:pt x="963" y="309"/>
                      </a:cubicBezTo>
                      <a:cubicBezTo>
                        <a:pt x="885" y="309"/>
                        <a:pt x="916" y="263"/>
                        <a:pt x="868" y="263"/>
                      </a:cubicBezTo>
                      <a:cubicBezTo>
                        <a:pt x="821" y="263"/>
                        <a:pt x="742" y="309"/>
                        <a:pt x="680" y="309"/>
                      </a:cubicBezTo>
                      <a:cubicBezTo>
                        <a:pt x="618" y="309"/>
                        <a:pt x="546" y="260"/>
                        <a:pt x="494" y="263"/>
                      </a:cubicBezTo>
                      <a:cubicBezTo>
                        <a:pt x="494" y="263"/>
                        <a:pt x="430" y="322"/>
                        <a:pt x="368" y="330"/>
                      </a:cubicBezTo>
                      <a:cubicBezTo>
                        <a:pt x="325" y="332"/>
                        <a:pt x="285" y="274"/>
                        <a:pt x="236" y="273"/>
                      </a:cubicBezTo>
                      <a:cubicBezTo>
                        <a:pt x="187" y="272"/>
                        <a:pt x="38" y="352"/>
                        <a:pt x="0" y="310"/>
                      </a:cubicBezTo>
                      <a:lnTo>
                        <a:pt x="37" y="0"/>
                      </a:lnTo>
                      <a:lnTo>
                        <a:pt x="2669" y="31"/>
                      </a:lnTo>
                      <a:cubicBezTo>
                        <a:pt x="3204" y="38"/>
                        <a:pt x="3084" y="1"/>
                        <a:pt x="3245" y="43"/>
                      </a:cubicBezTo>
                      <a:cubicBezTo>
                        <a:pt x="3406" y="85"/>
                        <a:pt x="3554" y="233"/>
                        <a:pt x="3635" y="283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未知"/>
                <p:cNvSpPr/>
                <p:nvPr/>
              </p:nvSpPr>
              <p:spPr>
                <a:xfrm>
                  <a:off x="2329200" y="3948840"/>
                  <a:ext cx="2820960" cy="228600"/>
                </a:xfrm>
                <a:custGeom>
                  <a:avLst/>
                  <a:gdLst/>
                  <a:ahLst/>
                  <a:rect l="l" t="t" r="r" b="b"/>
                  <a:pathLst>
                    <a:path w="3787" h="461">
                      <a:moveTo>
                        <a:pt x="3673" y="353"/>
                      </a:moveTo>
                      <a:cubicBezTo>
                        <a:pt x="3787" y="461"/>
                        <a:pt x="3260" y="452"/>
                        <a:pt x="3196" y="447"/>
                      </a:cubicBezTo>
                      <a:cubicBezTo>
                        <a:pt x="3132" y="442"/>
                        <a:pt x="3039" y="385"/>
                        <a:pt x="2992" y="378"/>
                      </a:cubicBezTo>
                      <a:cubicBezTo>
                        <a:pt x="2944" y="371"/>
                        <a:pt x="2959" y="406"/>
                        <a:pt x="2915" y="402"/>
                      </a:cubicBezTo>
                      <a:cubicBezTo>
                        <a:pt x="2872" y="398"/>
                        <a:pt x="2789" y="349"/>
                        <a:pt x="2727" y="356"/>
                      </a:cubicBezTo>
                      <a:cubicBezTo>
                        <a:pt x="2665" y="363"/>
                        <a:pt x="2601" y="447"/>
                        <a:pt x="2539" y="447"/>
                      </a:cubicBezTo>
                      <a:cubicBezTo>
                        <a:pt x="2477" y="447"/>
                        <a:pt x="2401" y="363"/>
                        <a:pt x="2354" y="356"/>
                      </a:cubicBezTo>
                      <a:cubicBezTo>
                        <a:pt x="2306" y="349"/>
                        <a:pt x="2289" y="402"/>
                        <a:pt x="2259" y="402"/>
                      </a:cubicBezTo>
                      <a:cubicBezTo>
                        <a:pt x="2228" y="402"/>
                        <a:pt x="2197" y="356"/>
                        <a:pt x="2166" y="356"/>
                      </a:cubicBezTo>
                      <a:cubicBezTo>
                        <a:pt x="2135" y="356"/>
                        <a:pt x="2120" y="402"/>
                        <a:pt x="2073" y="402"/>
                      </a:cubicBezTo>
                      <a:cubicBezTo>
                        <a:pt x="2025" y="402"/>
                        <a:pt x="1978" y="356"/>
                        <a:pt x="1885" y="356"/>
                      </a:cubicBezTo>
                      <a:cubicBezTo>
                        <a:pt x="1804" y="357"/>
                        <a:pt x="1666" y="406"/>
                        <a:pt x="1587" y="406"/>
                      </a:cubicBezTo>
                      <a:cubicBezTo>
                        <a:pt x="1509" y="406"/>
                        <a:pt x="1507" y="357"/>
                        <a:pt x="1416" y="356"/>
                      </a:cubicBezTo>
                      <a:cubicBezTo>
                        <a:pt x="1325" y="355"/>
                        <a:pt x="1120" y="402"/>
                        <a:pt x="1042" y="402"/>
                      </a:cubicBezTo>
                      <a:cubicBezTo>
                        <a:pt x="964" y="402"/>
                        <a:pt x="995" y="356"/>
                        <a:pt x="947" y="356"/>
                      </a:cubicBezTo>
                      <a:cubicBezTo>
                        <a:pt x="899" y="356"/>
                        <a:pt x="821" y="402"/>
                        <a:pt x="759" y="402"/>
                      </a:cubicBezTo>
                      <a:cubicBezTo>
                        <a:pt x="697" y="402"/>
                        <a:pt x="625" y="353"/>
                        <a:pt x="573" y="356"/>
                      </a:cubicBezTo>
                      <a:cubicBezTo>
                        <a:pt x="573" y="356"/>
                        <a:pt x="509" y="414"/>
                        <a:pt x="447" y="422"/>
                      </a:cubicBezTo>
                      <a:cubicBezTo>
                        <a:pt x="404" y="424"/>
                        <a:pt x="358" y="371"/>
                        <a:pt x="315" y="366"/>
                      </a:cubicBezTo>
                      <a:cubicBezTo>
                        <a:pt x="272" y="361"/>
                        <a:pt x="242" y="446"/>
                        <a:pt x="205" y="404"/>
                      </a:cubicBezTo>
                      <a:cubicBezTo>
                        <a:pt x="180" y="373"/>
                        <a:pt x="189" y="112"/>
                        <a:pt x="232" y="56"/>
                      </a:cubicBezTo>
                      <a:cubicBezTo>
                        <a:pt x="275" y="0"/>
                        <a:pt x="0" y="65"/>
                        <a:pt x="466" y="69"/>
                      </a:cubicBezTo>
                      <a:lnTo>
                        <a:pt x="3031" y="83"/>
                      </a:lnTo>
                      <a:cubicBezTo>
                        <a:pt x="3565" y="130"/>
                        <a:pt x="3559" y="245"/>
                        <a:pt x="3673" y="35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未知"/>
                <p:cNvSpPr/>
                <p:nvPr/>
              </p:nvSpPr>
              <p:spPr>
                <a:xfrm>
                  <a:off x="2388600" y="3852720"/>
                  <a:ext cx="2678040" cy="234000"/>
                </a:xfrm>
                <a:custGeom>
                  <a:avLst/>
                  <a:gdLst/>
                  <a:ahLst/>
                  <a:rect l="l" t="t" r="r" b="b"/>
                  <a:pathLst>
                    <a:path w="3595" h="472">
                      <a:moveTo>
                        <a:pt x="3469" y="412"/>
                      </a:moveTo>
                      <a:cubicBezTo>
                        <a:pt x="3595" y="463"/>
                        <a:pt x="2905" y="472"/>
                        <a:pt x="2841" y="467"/>
                      </a:cubicBezTo>
                      <a:cubicBezTo>
                        <a:pt x="2777" y="462"/>
                        <a:pt x="2684" y="405"/>
                        <a:pt x="2637" y="398"/>
                      </a:cubicBezTo>
                      <a:cubicBezTo>
                        <a:pt x="2589" y="391"/>
                        <a:pt x="2604" y="426"/>
                        <a:pt x="2560" y="422"/>
                      </a:cubicBezTo>
                      <a:cubicBezTo>
                        <a:pt x="2517" y="418"/>
                        <a:pt x="2434" y="368"/>
                        <a:pt x="2372" y="375"/>
                      </a:cubicBezTo>
                      <a:cubicBezTo>
                        <a:pt x="2310" y="383"/>
                        <a:pt x="2246" y="467"/>
                        <a:pt x="2184" y="467"/>
                      </a:cubicBezTo>
                      <a:cubicBezTo>
                        <a:pt x="2123" y="467"/>
                        <a:pt x="2046" y="383"/>
                        <a:pt x="1999" y="375"/>
                      </a:cubicBezTo>
                      <a:cubicBezTo>
                        <a:pt x="1951" y="368"/>
                        <a:pt x="1935" y="422"/>
                        <a:pt x="1904" y="422"/>
                      </a:cubicBezTo>
                      <a:cubicBezTo>
                        <a:pt x="1873" y="422"/>
                        <a:pt x="1842" y="375"/>
                        <a:pt x="1811" y="375"/>
                      </a:cubicBezTo>
                      <a:cubicBezTo>
                        <a:pt x="1780" y="375"/>
                        <a:pt x="1765" y="422"/>
                        <a:pt x="1718" y="422"/>
                      </a:cubicBezTo>
                      <a:cubicBezTo>
                        <a:pt x="1670" y="422"/>
                        <a:pt x="1623" y="375"/>
                        <a:pt x="1530" y="375"/>
                      </a:cubicBezTo>
                      <a:cubicBezTo>
                        <a:pt x="1449" y="376"/>
                        <a:pt x="1311" y="426"/>
                        <a:pt x="1232" y="426"/>
                      </a:cubicBezTo>
                      <a:cubicBezTo>
                        <a:pt x="1154" y="426"/>
                        <a:pt x="1152" y="376"/>
                        <a:pt x="1061" y="375"/>
                      </a:cubicBezTo>
                      <a:cubicBezTo>
                        <a:pt x="970" y="374"/>
                        <a:pt x="766" y="422"/>
                        <a:pt x="687" y="422"/>
                      </a:cubicBezTo>
                      <a:cubicBezTo>
                        <a:pt x="609" y="422"/>
                        <a:pt x="640" y="375"/>
                        <a:pt x="592" y="375"/>
                      </a:cubicBezTo>
                      <a:cubicBezTo>
                        <a:pt x="545" y="375"/>
                        <a:pt x="466" y="422"/>
                        <a:pt x="404" y="422"/>
                      </a:cubicBezTo>
                      <a:cubicBezTo>
                        <a:pt x="342" y="422"/>
                        <a:pt x="133" y="464"/>
                        <a:pt x="99" y="432"/>
                      </a:cubicBezTo>
                      <a:cubicBezTo>
                        <a:pt x="56" y="371"/>
                        <a:pt x="85" y="116"/>
                        <a:pt x="145" y="58"/>
                      </a:cubicBezTo>
                      <a:cubicBezTo>
                        <a:pt x="205" y="0"/>
                        <a:pt x="0" y="67"/>
                        <a:pt x="458" y="81"/>
                      </a:cubicBezTo>
                      <a:lnTo>
                        <a:pt x="2893" y="142"/>
                      </a:lnTo>
                      <a:cubicBezTo>
                        <a:pt x="3395" y="197"/>
                        <a:pt x="3349" y="356"/>
                        <a:pt x="3469" y="412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未知"/>
                <p:cNvSpPr/>
                <p:nvPr/>
              </p:nvSpPr>
              <p:spPr>
                <a:xfrm>
                  <a:off x="2351160" y="3835080"/>
                  <a:ext cx="2613240" cy="215640"/>
                </a:xfrm>
                <a:custGeom>
                  <a:avLst/>
                  <a:gdLst/>
                  <a:ahLst/>
                  <a:rect l="l" t="t" r="r" b="b"/>
                  <a:pathLst>
                    <a:path w="3508" h="435">
                      <a:moveTo>
                        <a:pt x="3417" y="351"/>
                      </a:moveTo>
                      <a:cubicBezTo>
                        <a:pt x="3508" y="390"/>
                        <a:pt x="2834" y="373"/>
                        <a:pt x="2787" y="366"/>
                      </a:cubicBezTo>
                      <a:cubicBezTo>
                        <a:pt x="2739" y="359"/>
                        <a:pt x="2754" y="394"/>
                        <a:pt x="2710" y="390"/>
                      </a:cubicBezTo>
                      <a:cubicBezTo>
                        <a:pt x="2667" y="386"/>
                        <a:pt x="2584" y="337"/>
                        <a:pt x="2522" y="344"/>
                      </a:cubicBezTo>
                      <a:cubicBezTo>
                        <a:pt x="2461" y="351"/>
                        <a:pt x="2397" y="435"/>
                        <a:pt x="2335" y="435"/>
                      </a:cubicBezTo>
                      <a:cubicBezTo>
                        <a:pt x="2273" y="435"/>
                        <a:pt x="2196" y="351"/>
                        <a:pt x="2149" y="344"/>
                      </a:cubicBezTo>
                      <a:cubicBezTo>
                        <a:pt x="2101" y="337"/>
                        <a:pt x="2085" y="390"/>
                        <a:pt x="2054" y="390"/>
                      </a:cubicBezTo>
                      <a:cubicBezTo>
                        <a:pt x="2023" y="390"/>
                        <a:pt x="1992" y="344"/>
                        <a:pt x="1961" y="344"/>
                      </a:cubicBezTo>
                      <a:cubicBezTo>
                        <a:pt x="1930" y="344"/>
                        <a:pt x="1915" y="390"/>
                        <a:pt x="1868" y="390"/>
                      </a:cubicBezTo>
                      <a:cubicBezTo>
                        <a:pt x="1820" y="390"/>
                        <a:pt x="1773" y="344"/>
                        <a:pt x="1680" y="344"/>
                      </a:cubicBezTo>
                      <a:cubicBezTo>
                        <a:pt x="1600" y="345"/>
                        <a:pt x="1461" y="394"/>
                        <a:pt x="1383" y="394"/>
                      </a:cubicBezTo>
                      <a:cubicBezTo>
                        <a:pt x="1304" y="394"/>
                        <a:pt x="1302" y="345"/>
                        <a:pt x="1211" y="344"/>
                      </a:cubicBezTo>
                      <a:cubicBezTo>
                        <a:pt x="1120" y="343"/>
                        <a:pt x="916" y="390"/>
                        <a:pt x="838" y="390"/>
                      </a:cubicBezTo>
                      <a:cubicBezTo>
                        <a:pt x="759" y="390"/>
                        <a:pt x="790" y="344"/>
                        <a:pt x="743" y="344"/>
                      </a:cubicBezTo>
                      <a:cubicBezTo>
                        <a:pt x="695" y="344"/>
                        <a:pt x="617" y="390"/>
                        <a:pt x="555" y="390"/>
                      </a:cubicBezTo>
                      <a:cubicBezTo>
                        <a:pt x="493" y="390"/>
                        <a:pt x="191" y="405"/>
                        <a:pt x="135" y="373"/>
                      </a:cubicBezTo>
                      <a:cubicBezTo>
                        <a:pt x="79" y="321"/>
                        <a:pt x="164" y="137"/>
                        <a:pt x="216" y="76"/>
                      </a:cubicBezTo>
                      <a:cubicBezTo>
                        <a:pt x="268" y="15"/>
                        <a:pt x="0" y="0"/>
                        <a:pt x="446" y="7"/>
                      </a:cubicBezTo>
                      <a:lnTo>
                        <a:pt x="2895" y="117"/>
                      </a:lnTo>
                      <a:cubicBezTo>
                        <a:pt x="3390" y="174"/>
                        <a:pt x="3308" y="302"/>
                        <a:pt x="3417" y="35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未知"/>
                <p:cNvSpPr/>
                <p:nvPr/>
              </p:nvSpPr>
              <p:spPr>
                <a:xfrm>
                  <a:off x="2430360" y="3771720"/>
                  <a:ext cx="2471400" cy="228240"/>
                </a:xfrm>
                <a:custGeom>
                  <a:avLst/>
                  <a:gdLst/>
                  <a:ahLst/>
                  <a:rect l="l" t="t" r="r" b="b"/>
                  <a:pathLst>
                    <a:path w="3318" h="460">
                      <a:moveTo>
                        <a:pt x="3227" y="383"/>
                      </a:moveTo>
                      <a:cubicBezTo>
                        <a:pt x="3318" y="422"/>
                        <a:pt x="2392" y="398"/>
                        <a:pt x="2345" y="391"/>
                      </a:cubicBezTo>
                      <a:cubicBezTo>
                        <a:pt x="2297" y="384"/>
                        <a:pt x="2312" y="419"/>
                        <a:pt x="2268" y="415"/>
                      </a:cubicBezTo>
                      <a:cubicBezTo>
                        <a:pt x="2225" y="411"/>
                        <a:pt x="2142" y="362"/>
                        <a:pt x="2080" y="369"/>
                      </a:cubicBezTo>
                      <a:cubicBezTo>
                        <a:pt x="2018" y="376"/>
                        <a:pt x="1954" y="460"/>
                        <a:pt x="1892" y="460"/>
                      </a:cubicBezTo>
                      <a:cubicBezTo>
                        <a:pt x="1831" y="460"/>
                        <a:pt x="1754" y="376"/>
                        <a:pt x="1707" y="369"/>
                      </a:cubicBezTo>
                      <a:cubicBezTo>
                        <a:pt x="1659" y="362"/>
                        <a:pt x="1643" y="415"/>
                        <a:pt x="1612" y="415"/>
                      </a:cubicBezTo>
                      <a:cubicBezTo>
                        <a:pt x="1581" y="415"/>
                        <a:pt x="1550" y="369"/>
                        <a:pt x="1519" y="369"/>
                      </a:cubicBezTo>
                      <a:cubicBezTo>
                        <a:pt x="1488" y="369"/>
                        <a:pt x="1473" y="415"/>
                        <a:pt x="1426" y="415"/>
                      </a:cubicBezTo>
                      <a:cubicBezTo>
                        <a:pt x="1378" y="415"/>
                        <a:pt x="1331" y="369"/>
                        <a:pt x="1238" y="369"/>
                      </a:cubicBezTo>
                      <a:cubicBezTo>
                        <a:pt x="1157" y="370"/>
                        <a:pt x="1019" y="419"/>
                        <a:pt x="941" y="419"/>
                      </a:cubicBezTo>
                      <a:cubicBezTo>
                        <a:pt x="862" y="419"/>
                        <a:pt x="860" y="370"/>
                        <a:pt x="769" y="369"/>
                      </a:cubicBezTo>
                      <a:cubicBezTo>
                        <a:pt x="678" y="368"/>
                        <a:pt x="474" y="415"/>
                        <a:pt x="395" y="415"/>
                      </a:cubicBezTo>
                      <a:cubicBezTo>
                        <a:pt x="317" y="415"/>
                        <a:pt x="348" y="369"/>
                        <a:pt x="300" y="369"/>
                      </a:cubicBezTo>
                      <a:cubicBezTo>
                        <a:pt x="253" y="369"/>
                        <a:pt x="71" y="442"/>
                        <a:pt x="35" y="417"/>
                      </a:cubicBezTo>
                      <a:cubicBezTo>
                        <a:pt x="0" y="392"/>
                        <a:pt x="60" y="122"/>
                        <a:pt x="136" y="61"/>
                      </a:cubicBezTo>
                      <a:cubicBezTo>
                        <a:pt x="212" y="0"/>
                        <a:pt x="65" y="33"/>
                        <a:pt x="492" y="51"/>
                      </a:cubicBezTo>
                      <a:lnTo>
                        <a:pt x="2699" y="167"/>
                      </a:lnTo>
                      <a:cubicBezTo>
                        <a:pt x="3155" y="222"/>
                        <a:pt x="3117" y="338"/>
                        <a:pt x="3227" y="383"/>
                      </a:cubicBez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未知"/>
                <p:cNvSpPr/>
                <p:nvPr/>
              </p:nvSpPr>
              <p:spPr>
                <a:xfrm>
                  <a:off x="2396160" y="3762720"/>
                  <a:ext cx="2412000" cy="212760"/>
                </a:xfrm>
                <a:custGeom>
                  <a:avLst/>
                  <a:gdLst/>
                  <a:ahLst/>
                  <a:rect l="l" t="t" r="r" b="b"/>
                  <a:pathLst>
                    <a:path w="3238" h="429">
                      <a:moveTo>
                        <a:pt x="3147" y="299"/>
                      </a:moveTo>
                      <a:cubicBezTo>
                        <a:pt x="3238" y="338"/>
                        <a:pt x="2082" y="320"/>
                        <a:pt x="2035" y="313"/>
                      </a:cubicBezTo>
                      <a:cubicBezTo>
                        <a:pt x="1987" y="306"/>
                        <a:pt x="2002" y="341"/>
                        <a:pt x="1958" y="337"/>
                      </a:cubicBezTo>
                      <a:cubicBezTo>
                        <a:pt x="1915" y="333"/>
                        <a:pt x="1832" y="283"/>
                        <a:pt x="1770" y="290"/>
                      </a:cubicBezTo>
                      <a:cubicBezTo>
                        <a:pt x="1708" y="298"/>
                        <a:pt x="1644" y="382"/>
                        <a:pt x="1582" y="382"/>
                      </a:cubicBezTo>
                      <a:cubicBezTo>
                        <a:pt x="1520" y="382"/>
                        <a:pt x="1444" y="298"/>
                        <a:pt x="1396" y="290"/>
                      </a:cubicBezTo>
                      <a:cubicBezTo>
                        <a:pt x="1349" y="283"/>
                        <a:pt x="1332" y="337"/>
                        <a:pt x="1301" y="337"/>
                      </a:cubicBezTo>
                      <a:cubicBezTo>
                        <a:pt x="1270" y="337"/>
                        <a:pt x="1239" y="290"/>
                        <a:pt x="1209" y="290"/>
                      </a:cubicBezTo>
                      <a:cubicBezTo>
                        <a:pt x="1178" y="290"/>
                        <a:pt x="1163" y="337"/>
                        <a:pt x="1116" y="337"/>
                      </a:cubicBezTo>
                      <a:cubicBezTo>
                        <a:pt x="1068" y="337"/>
                        <a:pt x="1021" y="290"/>
                        <a:pt x="928" y="290"/>
                      </a:cubicBezTo>
                      <a:cubicBezTo>
                        <a:pt x="847" y="291"/>
                        <a:pt x="709" y="341"/>
                        <a:pt x="630" y="341"/>
                      </a:cubicBezTo>
                      <a:cubicBezTo>
                        <a:pt x="552" y="341"/>
                        <a:pt x="550" y="291"/>
                        <a:pt x="459" y="290"/>
                      </a:cubicBezTo>
                      <a:cubicBezTo>
                        <a:pt x="368" y="289"/>
                        <a:pt x="184" y="429"/>
                        <a:pt x="85" y="376"/>
                      </a:cubicBezTo>
                      <a:cubicBezTo>
                        <a:pt x="0" y="350"/>
                        <a:pt x="118" y="112"/>
                        <a:pt x="158" y="56"/>
                      </a:cubicBezTo>
                      <a:cubicBezTo>
                        <a:pt x="198" y="0"/>
                        <a:pt x="201" y="43"/>
                        <a:pt x="323" y="37"/>
                      </a:cubicBezTo>
                      <a:cubicBezTo>
                        <a:pt x="445" y="31"/>
                        <a:pt x="483" y="5"/>
                        <a:pt x="890" y="19"/>
                      </a:cubicBezTo>
                      <a:lnTo>
                        <a:pt x="2763" y="119"/>
                      </a:lnTo>
                      <a:cubicBezTo>
                        <a:pt x="3139" y="166"/>
                        <a:pt x="3067" y="262"/>
                        <a:pt x="3147" y="29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未知"/>
                <p:cNvSpPr/>
                <p:nvPr/>
              </p:nvSpPr>
              <p:spPr>
                <a:xfrm>
                  <a:off x="2442240" y="3741120"/>
                  <a:ext cx="2290680" cy="158400"/>
                </a:xfrm>
                <a:custGeom>
                  <a:avLst/>
                  <a:gdLst/>
                  <a:ahLst/>
                  <a:rect l="l" t="t" r="r" b="b"/>
                  <a:pathLst>
                    <a:path w="3075" h="320">
                      <a:moveTo>
                        <a:pt x="2707" y="121"/>
                      </a:moveTo>
                      <a:cubicBezTo>
                        <a:pt x="2761" y="148"/>
                        <a:pt x="3075" y="266"/>
                        <a:pt x="3031" y="295"/>
                      </a:cubicBezTo>
                      <a:cubicBezTo>
                        <a:pt x="3070" y="320"/>
                        <a:pt x="2510" y="299"/>
                        <a:pt x="2444" y="293"/>
                      </a:cubicBezTo>
                      <a:cubicBezTo>
                        <a:pt x="2378" y="287"/>
                        <a:pt x="2282" y="315"/>
                        <a:pt x="2234" y="311"/>
                      </a:cubicBezTo>
                      <a:cubicBezTo>
                        <a:pt x="2187" y="307"/>
                        <a:pt x="1881" y="211"/>
                        <a:pt x="1850" y="211"/>
                      </a:cubicBezTo>
                      <a:cubicBezTo>
                        <a:pt x="1819" y="211"/>
                        <a:pt x="1625" y="238"/>
                        <a:pt x="1594" y="238"/>
                      </a:cubicBezTo>
                      <a:cubicBezTo>
                        <a:pt x="1563" y="238"/>
                        <a:pt x="1395" y="128"/>
                        <a:pt x="1347" y="128"/>
                      </a:cubicBezTo>
                      <a:cubicBezTo>
                        <a:pt x="1300" y="128"/>
                        <a:pt x="1129" y="220"/>
                        <a:pt x="1036" y="220"/>
                      </a:cubicBezTo>
                      <a:cubicBezTo>
                        <a:pt x="956" y="220"/>
                        <a:pt x="841" y="138"/>
                        <a:pt x="762" y="138"/>
                      </a:cubicBezTo>
                      <a:cubicBezTo>
                        <a:pt x="684" y="138"/>
                        <a:pt x="661" y="229"/>
                        <a:pt x="570" y="229"/>
                      </a:cubicBezTo>
                      <a:cubicBezTo>
                        <a:pt x="479" y="228"/>
                        <a:pt x="184" y="201"/>
                        <a:pt x="85" y="174"/>
                      </a:cubicBezTo>
                      <a:cubicBezTo>
                        <a:pt x="0" y="161"/>
                        <a:pt x="122" y="36"/>
                        <a:pt x="131" y="0"/>
                      </a:cubicBezTo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-94680" y="4997520"/>
              <a:ext cx="1603440" cy="568440"/>
              <a:chOff x="-94680" y="4997520"/>
              <a:chExt cx="1603440" cy="5684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179360" y="5029200"/>
                <a:ext cx="329400" cy="481320"/>
                <a:chOff x="1179360" y="5029200"/>
                <a:chExt cx="329400" cy="48132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1179360" y="5050080"/>
                  <a:ext cx="194040" cy="439560"/>
                  <a:chOff x="1179360" y="5050080"/>
                  <a:chExt cx="194040" cy="439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13400">
                    <a:off x="1240560" y="50508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310800">
                    <a:off x="1258200" y="50533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198080" y="5065200"/>
                  <a:ext cx="234720" cy="439200"/>
                  <a:chOff x="1198080" y="5065200"/>
                  <a:chExt cx="234720" cy="439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921400">
                    <a:off x="1263240" y="50677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0219400">
                    <a:off x="1279800" y="50619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304280" y="5070960"/>
                  <a:ext cx="131400" cy="439560"/>
                  <a:chOff x="1304280" y="5070960"/>
                  <a:chExt cx="131400" cy="4395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22600">
                    <a:off x="1317960" y="50752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120600">
                    <a:off x="1335240" y="50734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322640" y="5029200"/>
                  <a:ext cx="186120" cy="439200"/>
                  <a:chOff x="1322640" y="5029200"/>
                  <a:chExt cx="186120" cy="4392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946800">
                    <a:off x="1379880" y="5030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244200">
                    <a:off x="1397160" y="50324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949680" y="4997520"/>
                <a:ext cx="336960" cy="499320"/>
                <a:chOff x="949680" y="4997520"/>
                <a:chExt cx="336960" cy="49932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1017720" y="5050800"/>
                  <a:ext cx="135000" cy="439560"/>
                  <a:chOff x="1017720" y="5050800"/>
                  <a:chExt cx="135000" cy="439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7200">
                    <a:off x="1031760" y="50551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21085200">
                    <a:off x="1049040" y="50533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949680" y="5072040"/>
                  <a:ext cx="316440" cy="422640"/>
                  <a:chOff x="949680" y="5072040"/>
                  <a:chExt cx="316440" cy="422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20095200">
                    <a:off x="1057320" y="5066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19393200">
                    <a:off x="1071720" y="50569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1051560" y="5056920"/>
                  <a:ext cx="226800" cy="439920"/>
                  <a:chOff x="1051560" y="5056920"/>
                  <a:chExt cx="226800" cy="439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20996400">
                    <a:off x="1112400" y="50605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20294400">
                    <a:off x="1129320" y="50544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1143720" y="4997520"/>
                  <a:ext cx="142920" cy="439560"/>
                  <a:chOff x="1143720" y="4997520"/>
                  <a:chExt cx="142920" cy="439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20600">
                    <a:off x="1161720" y="50025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21018600">
                    <a:off x="1179360" y="50000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758880" y="5013360"/>
                <a:ext cx="336960" cy="499320"/>
                <a:chOff x="758880" y="5013360"/>
                <a:chExt cx="336960" cy="49932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826920" y="5066640"/>
                  <a:ext cx="135000" cy="439560"/>
                  <a:chOff x="826920" y="5066640"/>
                  <a:chExt cx="135000" cy="4395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187200">
                    <a:off x="840960" y="50709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21085200">
                    <a:off x="858240" y="50691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58880" y="5087880"/>
                  <a:ext cx="316440" cy="422640"/>
                  <a:chOff x="758880" y="5087880"/>
                  <a:chExt cx="316440" cy="42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20095200">
                    <a:off x="866520" y="50824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9393200">
                    <a:off x="880920" y="50727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860760" y="5072760"/>
                  <a:ext cx="226800" cy="439920"/>
                  <a:chOff x="860760" y="5072760"/>
                  <a:chExt cx="226800" cy="4399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20996400">
                    <a:off x="921600" y="50763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20294400">
                    <a:off x="938520" y="50702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2920" y="5013360"/>
                  <a:ext cx="142920" cy="439560"/>
                  <a:chOff x="952920" y="5013360"/>
                  <a:chExt cx="142920" cy="439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20600">
                    <a:off x="970920" y="50184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rot="21018600">
                    <a:off x="988560" y="50158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"/>
              <p:cNvGrpSpPr/>
              <p:nvPr/>
            </p:nvGrpSpPr>
            <p:grpSpPr>
              <a:xfrm>
                <a:off x="603360" y="5020920"/>
                <a:ext cx="329400" cy="481320"/>
                <a:chOff x="603360" y="5020920"/>
                <a:chExt cx="329400" cy="48132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603360" y="5041800"/>
                  <a:ext cx="194040" cy="439560"/>
                  <a:chOff x="603360" y="5041800"/>
                  <a:chExt cx="194040" cy="4395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1013400">
                    <a:off x="664560" y="50425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310800">
                    <a:off x="682200" y="50450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622080" y="5056920"/>
                  <a:ext cx="234720" cy="439200"/>
                  <a:chOff x="622080" y="5056920"/>
                  <a:chExt cx="234720" cy="4392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20921400">
                    <a:off x="687240" y="50594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20219400">
                    <a:off x="703800" y="50536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28280" y="5062680"/>
                  <a:ext cx="131400" cy="439560"/>
                  <a:chOff x="728280" y="5062680"/>
                  <a:chExt cx="131400" cy="4395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222600">
                    <a:off x="741960" y="50670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21120600">
                    <a:off x="759240" y="50652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46640" y="5020920"/>
                  <a:ext cx="186120" cy="439200"/>
                  <a:chOff x="746640" y="5020920"/>
                  <a:chExt cx="186120" cy="4392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946800">
                    <a:off x="803880" y="50223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H="1" rot="244200">
                    <a:off x="821160" y="50241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447840" y="5037120"/>
                <a:ext cx="329400" cy="481320"/>
                <a:chOff x="447840" y="5037120"/>
                <a:chExt cx="329400" cy="48132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47840" y="5058000"/>
                  <a:ext cx="194040" cy="439560"/>
                  <a:chOff x="447840" y="5058000"/>
                  <a:chExt cx="194040" cy="43956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rot="1013400">
                    <a:off x="509040" y="50587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310800">
                    <a:off x="526680" y="50612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466560" y="5073120"/>
                  <a:ext cx="234720" cy="439200"/>
                  <a:chOff x="466560" y="5073120"/>
                  <a:chExt cx="234720" cy="43920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rot="20921400">
                    <a:off x="531720" y="5075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rot="20219400">
                    <a:off x="548280" y="50698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572760" y="5078880"/>
                  <a:ext cx="131400" cy="439560"/>
                  <a:chOff x="572760" y="5078880"/>
                  <a:chExt cx="131400" cy="4395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rot="222600">
                    <a:off x="586440" y="50832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21120600">
                    <a:off x="603720" y="50814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591120" y="5037120"/>
                  <a:ext cx="186120" cy="439200"/>
                  <a:chOff x="591120" y="5037120"/>
                  <a:chExt cx="186120" cy="43920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946800">
                    <a:off x="648360" y="50385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rot="244200">
                    <a:off x="665640" y="50403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" name=""/>
              <p:cNvGrpSpPr/>
              <p:nvPr/>
            </p:nvGrpSpPr>
            <p:grpSpPr>
              <a:xfrm>
                <a:off x="254160" y="5014800"/>
                <a:ext cx="329400" cy="481320"/>
                <a:chOff x="254160" y="5014800"/>
                <a:chExt cx="329400" cy="48132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254160" y="5035680"/>
                  <a:ext cx="194040" cy="439560"/>
                  <a:chOff x="254160" y="5035680"/>
                  <a:chExt cx="194040" cy="43956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rot="1013400">
                    <a:off x="315360" y="503640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310800">
                    <a:off x="333000" y="50389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72880" y="5050800"/>
                  <a:ext cx="234720" cy="439200"/>
                  <a:chOff x="272880" y="5050800"/>
                  <a:chExt cx="234720" cy="439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rot="20921400">
                    <a:off x="338040" y="50533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0219400">
                    <a:off x="354600" y="50475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379080" y="5056560"/>
                  <a:ext cx="131400" cy="439560"/>
                  <a:chOff x="379080" y="5056560"/>
                  <a:chExt cx="131400" cy="4395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222600">
                    <a:off x="392760" y="50608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21120600">
                    <a:off x="410040" y="50590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397440" y="5014800"/>
                  <a:ext cx="186120" cy="439200"/>
                  <a:chOff x="397440" y="5014800"/>
                  <a:chExt cx="186120" cy="4392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946800">
                    <a:off x="454680" y="50162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244200">
                    <a:off x="471960" y="50180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-94680" y="5084640"/>
                <a:ext cx="329400" cy="481320"/>
                <a:chOff x="-94680" y="5084640"/>
                <a:chExt cx="329400" cy="48132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-94680" y="5105520"/>
                  <a:ext cx="194040" cy="439560"/>
                  <a:chOff x="-94680" y="5105520"/>
                  <a:chExt cx="194040" cy="43956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1013400">
                    <a:off x="-33120" y="51062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rot="310800">
                    <a:off x="-15480" y="51087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-75600" y="5120640"/>
                  <a:ext cx="234720" cy="439200"/>
                  <a:chOff x="-75600" y="5120640"/>
                  <a:chExt cx="234720" cy="4392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rot="20921400">
                    <a:off x="-10080" y="51231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20219400">
                    <a:off x="6120" y="51174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30240" y="5126400"/>
                  <a:ext cx="131400" cy="439560"/>
                  <a:chOff x="30240" y="5126400"/>
                  <a:chExt cx="131400" cy="4395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rot="222600">
                    <a:off x="43920" y="51307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rot="21120600">
                    <a:off x="61200" y="51289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48600" y="5084640"/>
                  <a:ext cx="186120" cy="439200"/>
                  <a:chOff x="48600" y="5084640"/>
                  <a:chExt cx="186120" cy="4392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rot="946800">
                    <a:off x="105840" y="50860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244200">
                    <a:off x="123120" y="50878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" name=""/>
              <p:cNvGrpSpPr/>
              <p:nvPr/>
            </p:nvGrpSpPr>
            <p:grpSpPr>
              <a:xfrm>
                <a:off x="28440" y="5072040"/>
                <a:ext cx="328320" cy="481320"/>
                <a:chOff x="28440" y="5072040"/>
                <a:chExt cx="328320" cy="481320"/>
              </a:xfrm>
            </p:grpSpPr>
            <p:grpSp>
              <p:nvGrpSpPr>
                <p:cNvPr id="282" name=""/>
                <p:cNvGrpSpPr/>
                <p:nvPr/>
              </p:nvGrpSpPr>
              <p:grpSpPr>
                <a:xfrm>
                  <a:off x="163800" y="5092920"/>
                  <a:ext cx="192960" cy="439560"/>
                  <a:chOff x="163800" y="5092920"/>
                  <a:chExt cx="192960" cy="4395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flipH="1" rot="20586600">
                    <a:off x="224640" y="5093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21289200">
                    <a:off x="207720" y="509616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104040" y="5108040"/>
                  <a:ext cx="235080" cy="438840"/>
                  <a:chOff x="104040" y="5108040"/>
                  <a:chExt cx="235080" cy="4388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H="1" rot="678600">
                    <a:off x="202320" y="51105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380600">
                    <a:off x="186120" y="51048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01520" y="5113800"/>
                  <a:ext cx="131760" cy="439560"/>
                  <a:chOff x="101520" y="5113800"/>
                  <a:chExt cx="131760" cy="4395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rot="21377400">
                    <a:off x="147960" y="511812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479400">
                    <a:off x="130680" y="51163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28440" y="5072040"/>
                  <a:ext cx="187200" cy="439200"/>
                  <a:chOff x="28440" y="5072040"/>
                  <a:chExt cx="187200" cy="4392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flipH="1" rot="20653200">
                    <a:off x="86400" y="5073480"/>
                    <a:ext cx="7128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21355800">
                    <a:off x="68040" y="50752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1099800" y="5011560"/>
                <a:ext cx="328320" cy="481320"/>
                <a:chOff x="1099800" y="5011560"/>
                <a:chExt cx="328320" cy="48132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1235160" y="5032440"/>
                  <a:ext cx="192960" cy="439560"/>
                  <a:chOff x="1235160" y="5032440"/>
                  <a:chExt cx="192960" cy="43956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H="1" rot="20586600">
                    <a:off x="1296000" y="503316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21289200">
                    <a:off x="1279080" y="503568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1175400" y="5047560"/>
                  <a:ext cx="235080" cy="438840"/>
                  <a:chOff x="1175400" y="5047560"/>
                  <a:chExt cx="235080" cy="43884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rot="678600">
                    <a:off x="1273680" y="505008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rot="1380600">
                    <a:off x="1257480" y="504432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1172880" y="5053320"/>
                  <a:ext cx="131760" cy="439560"/>
                  <a:chOff x="1172880" y="5053320"/>
                  <a:chExt cx="131760" cy="439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H="1" rot="21377400">
                    <a:off x="1219320" y="5057640"/>
                    <a:ext cx="7092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rot="479400">
                    <a:off x="1202040" y="505584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1099800" y="5011560"/>
                  <a:ext cx="187200" cy="439200"/>
                  <a:chOff x="1099800" y="5011560"/>
                  <a:chExt cx="187200" cy="4392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 rot="20653200">
                    <a:off x="1157760" y="5013000"/>
                    <a:ext cx="71280" cy="43344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21355800">
                    <a:off x="1139400" y="5014800"/>
                    <a:ext cx="70920" cy="4338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7" name=""/>
            <p:cNvGrpSpPr/>
            <p:nvPr/>
          </p:nvGrpSpPr>
          <p:grpSpPr>
            <a:xfrm>
              <a:off x="76320" y="5079960"/>
              <a:ext cx="329400" cy="481320"/>
              <a:chOff x="76320" y="5079960"/>
              <a:chExt cx="329400" cy="4813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76320" y="5100840"/>
                <a:ext cx="194040" cy="439560"/>
                <a:chOff x="76320" y="5100840"/>
                <a:chExt cx="194040" cy="439560"/>
              </a:xfrm>
            </p:grpSpPr>
            <p:sp>
              <p:nvSpPr>
                <p:cNvPr id="309" name=""/>
                <p:cNvSpPr/>
                <p:nvPr/>
              </p:nvSpPr>
              <p:spPr>
                <a:xfrm rot="1013400">
                  <a:off x="137520" y="5101560"/>
                  <a:ext cx="70920" cy="43344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rot="310800">
                  <a:off x="155160" y="5104080"/>
                  <a:ext cx="70920" cy="43380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3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95040" y="5115960"/>
                <a:ext cx="234720" cy="439200"/>
                <a:chOff x="95040" y="5115960"/>
                <a:chExt cx="234720" cy="439200"/>
              </a:xfrm>
            </p:grpSpPr>
            <p:sp>
              <p:nvSpPr>
                <p:cNvPr id="312" name=""/>
                <p:cNvSpPr/>
                <p:nvPr/>
              </p:nvSpPr>
              <p:spPr>
                <a:xfrm rot="20921400">
                  <a:off x="160200" y="5118480"/>
                  <a:ext cx="70920" cy="43344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rot="20219400">
                  <a:off x="176760" y="5112720"/>
                  <a:ext cx="70920" cy="43380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3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01240" y="5121720"/>
                <a:ext cx="131400" cy="439560"/>
                <a:chOff x="201240" y="5121720"/>
                <a:chExt cx="131400" cy="439560"/>
              </a:xfrm>
            </p:grpSpPr>
            <p:sp>
              <p:nvSpPr>
                <p:cNvPr id="315" name=""/>
                <p:cNvSpPr/>
                <p:nvPr/>
              </p:nvSpPr>
              <p:spPr>
                <a:xfrm rot="222600">
                  <a:off x="214920" y="5126040"/>
                  <a:ext cx="70920" cy="43344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rot="21120600">
                  <a:off x="232200" y="5124240"/>
                  <a:ext cx="70920" cy="43380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3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19600" y="5079960"/>
                <a:ext cx="186120" cy="439200"/>
                <a:chOff x="219600" y="5079960"/>
                <a:chExt cx="186120" cy="439200"/>
              </a:xfrm>
            </p:grpSpPr>
            <p:sp>
              <p:nvSpPr>
                <p:cNvPr id="318" name=""/>
                <p:cNvSpPr/>
                <p:nvPr/>
              </p:nvSpPr>
              <p:spPr>
                <a:xfrm rot="946800">
                  <a:off x="276840" y="5081400"/>
                  <a:ext cx="70920" cy="43344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57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rot="244200">
                  <a:off x="294120" y="5083200"/>
                  <a:ext cx="70920" cy="433800"/>
                </a:xfrm>
                <a:prstGeom prst="lightningBolt">
                  <a:avLst/>
                </a:prstGeom>
                <a:gradFill rotWithShape="0">
                  <a:gsLst>
                    <a:gs pos="0">
                      <a:srgbClr val="684522"/>
                    </a:gs>
                    <a:gs pos="50000">
                      <a:srgbClr val="ffcc00"/>
                    </a:gs>
                    <a:gs pos="100000">
                      <a:srgbClr val="684522"/>
                    </a:gs>
                  </a:gsLst>
                  <a:lin ang="1032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1253880" y="4213800"/>
              <a:ext cx="919080" cy="1362600"/>
              <a:chOff x="1253880" y="4213800"/>
              <a:chExt cx="919080" cy="13626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400760" y="4866840"/>
                <a:ext cx="383040" cy="397080"/>
                <a:chOff x="1400760" y="4866840"/>
                <a:chExt cx="383040" cy="397080"/>
              </a:xfrm>
            </p:grpSpPr>
            <p:sp>
              <p:nvSpPr>
                <p:cNvPr id="322" name="未知"/>
                <p:cNvSpPr/>
                <p:nvPr/>
              </p:nvSpPr>
              <p:spPr>
                <a:xfrm rot="21040800">
                  <a:off x="1426680" y="4891320"/>
                  <a:ext cx="330840" cy="3481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 rot="21040800">
                  <a:off x="1418760" y="4918320"/>
                  <a:ext cx="219600" cy="165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 rot="21040800">
                  <a:off x="1461600" y="5107680"/>
                  <a:ext cx="193680" cy="327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 rot="21040800">
                  <a:off x="1667880" y="5066640"/>
                  <a:ext cx="91080" cy="939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413720" y="4213800"/>
                <a:ext cx="567720" cy="1362600"/>
                <a:chOff x="1413720" y="4213800"/>
                <a:chExt cx="567720" cy="1362600"/>
              </a:xfrm>
            </p:grpSpPr>
            <p:sp>
              <p:nvSpPr>
                <p:cNvPr id="327" name="未知"/>
                <p:cNvSpPr/>
                <p:nvPr/>
              </p:nvSpPr>
              <p:spPr>
                <a:xfrm rot="20695200">
                  <a:off x="1585440" y="4219560"/>
                  <a:ext cx="223920" cy="135072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 rot="20695200">
                  <a:off x="1489320" y="4419360"/>
                  <a:ext cx="72000" cy="1742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 rot="20695200">
                  <a:off x="1519560" y="4278240"/>
                  <a:ext cx="63000" cy="21888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 rot="20695200">
                  <a:off x="1593360" y="4256280"/>
                  <a:ext cx="82440" cy="34956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未知"/>
                <p:cNvSpPr/>
                <p:nvPr/>
              </p:nvSpPr>
              <p:spPr>
                <a:xfrm rot="20695200">
                  <a:off x="1655280" y="4477680"/>
                  <a:ext cx="71640" cy="18720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736280" y="4528440"/>
                <a:ext cx="436680" cy="611640"/>
                <a:chOff x="1736280" y="4528440"/>
                <a:chExt cx="436680" cy="611640"/>
              </a:xfrm>
            </p:grpSpPr>
            <p:sp>
              <p:nvSpPr>
                <p:cNvPr id="333" name="未知"/>
                <p:cNvSpPr/>
                <p:nvPr/>
              </p:nvSpPr>
              <p:spPr>
                <a:xfrm flipH="1" rot="21104400">
                  <a:off x="1774080" y="4551120"/>
                  <a:ext cx="359280" cy="5659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 flipH="1" rot="21104400">
                  <a:off x="1874160" y="4572360"/>
                  <a:ext cx="238320" cy="2692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未知"/>
                <p:cNvSpPr/>
                <p:nvPr/>
              </p:nvSpPr>
              <p:spPr>
                <a:xfrm flipH="1" rot="21104400">
                  <a:off x="1907640" y="4885560"/>
                  <a:ext cx="210240" cy="5328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未知"/>
                <p:cNvSpPr/>
                <p:nvPr/>
              </p:nvSpPr>
              <p:spPr>
                <a:xfrm flipH="1" rot="21104400">
                  <a:off x="1800000" y="4883760"/>
                  <a:ext cx="99000" cy="153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253880" y="4578120"/>
                <a:ext cx="466560" cy="557640"/>
                <a:chOff x="1253880" y="4578120"/>
                <a:chExt cx="466560" cy="557640"/>
              </a:xfrm>
            </p:grpSpPr>
            <p:sp>
              <p:nvSpPr>
                <p:cNvPr id="338" name="未知"/>
                <p:cNvSpPr/>
                <p:nvPr/>
              </p:nvSpPr>
              <p:spPr>
                <a:xfrm rot="20695200">
                  <a:off x="1310400" y="4615560"/>
                  <a:ext cx="353160" cy="48240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 rot="20695200">
                  <a:off x="1335960" y="4874400"/>
                  <a:ext cx="220320" cy="15048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未知"/>
                <p:cNvSpPr/>
                <p:nvPr/>
              </p:nvSpPr>
              <p:spPr>
                <a:xfrm rot="20695200">
                  <a:off x="1324440" y="4683960"/>
                  <a:ext cx="91800" cy="9540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未知"/>
                <p:cNvSpPr/>
                <p:nvPr/>
              </p:nvSpPr>
              <p:spPr>
                <a:xfrm rot="20695200">
                  <a:off x="1432800" y="4682520"/>
                  <a:ext cx="162360" cy="2286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未知"/>
                <p:cNvSpPr/>
                <p:nvPr/>
              </p:nvSpPr>
              <p:spPr>
                <a:xfrm rot="20695200">
                  <a:off x="1509120" y="4597200"/>
                  <a:ext cx="136800" cy="36576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1676520" y="3833640"/>
              <a:ext cx="749520" cy="1719720"/>
              <a:chOff x="1676520" y="3833640"/>
              <a:chExt cx="749520" cy="171972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1677240" y="4606560"/>
                <a:ext cx="355680" cy="489240"/>
                <a:chOff x="1677240" y="4606560"/>
                <a:chExt cx="355680" cy="489240"/>
              </a:xfrm>
            </p:grpSpPr>
            <p:sp>
              <p:nvSpPr>
                <p:cNvPr id="345" name="未知"/>
                <p:cNvSpPr/>
                <p:nvPr/>
              </p:nvSpPr>
              <p:spPr>
                <a:xfrm rot="785400">
                  <a:off x="1723320" y="4630320"/>
                  <a:ext cx="262800" cy="44100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未知"/>
                <p:cNvSpPr/>
                <p:nvPr/>
              </p:nvSpPr>
              <p:spPr>
                <a:xfrm rot="785400">
                  <a:off x="1748160" y="4645800"/>
                  <a:ext cx="174240" cy="2098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未知"/>
                <p:cNvSpPr/>
                <p:nvPr/>
              </p:nvSpPr>
              <p:spPr>
                <a:xfrm rot="785400">
                  <a:off x="1729800" y="4887000"/>
                  <a:ext cx="153720" cy="4140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未知"/>
                <p:cNvSpPr/>
                <p:nvPr/>
              </p:nvSpPr>
              <p:spPr>
                <a:xfrm rot="785400">
                  <a:off x="1885680" y="4894920"/>
                  <a:ext cx="72360" cy="1191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794600" y="3833640"/>
                <a:ext cx="395280" cy="1719720"/>
                <a:chOff x="1794600" y="3833640"/>
                <a:chExt cx="395280" cy="1719720"/>
              </a:xfrm>
            </p:grpSpPr>
            <p:sp>
              <p:nvSpPr>
                <p:cNvPr id="350" name="未知"/>
                <p:cNvSpPr/>
                <p:nvPr/>
              </p:nvSpPr>
              <p:spPr>
                <a:xfrm rot="440400">
                  <a:off x="1902960" y="3837960"/>
                  <a:ext cx="178200" cy="171108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未知"/>
                <p:cNvSpPr/>
                <p:nvPr/>
              </p:nvSpPr>
              <p:spPr>
                <a:xfrm rot="440400">
                  <a:off x="1980000" y="4049280"/>
                  <a:ext cx="57600" cy="2210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未知"/>
                <p:cNvSpPr/>
                <p:nvPr/>
              </p:nvSpPr>
              <p:spPr>
                <a:xfrm rot="440400">
                  <a:off x="2045160" y="3890880"/>
                  <a:ext cx="50040" cy="27720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未知"/>
                <p:cNvSpPr/>
                <p:nvPr/>
              </p:nvSpPr>
              <p:spPr>
                <a:xfrm rot="440400">
                  <a:off x="2081880" y="3894840"/>
                  <a:ext cx="65520" cy="44280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未知"/>
                <p:cNvSpPr/>
                <p:nvPr/>
              </p:nvSpPr>
              <p:spPr>
                <a:xfrm rot="440400">
                  <a:off x="2076120" y="418824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1973520" y="4348080"/>
                <a:ext cx="452520" cy="765000"/>
                <a:chOff x="1973520" y="4348080"/>
                <a:chExt cx="452520" cy="765000"/>
              </a:xfrm>
            </p:grpSpPr>
            <p:sp>
              <p:nvSpPr>
                <p:cNvPr id="356" name="未知"/>
                <p:cNvSpPr/>
                <p:nvPr/>
              </p:nvSpPr>
              <p:spPr>
                <a:xfrm flipH="1" rot="849000">
                  <a:off x="2056320" y="4371840"/>
                  <a:ext cx="285840" cy="71676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未知"/>
                <p:cNvSpPr/>
                <p:nvPr/>
              </p:nvSpPr>
              <p:spPr>
                <a:xfrm flipH="1" rot="849000">
                  <a:off x="2184840" y="4424040"/>
                  <a:ext cx="189720" cy="3412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未知"/>
                <p:cNvSpPr/>
                <p:nvPr/>
              </p:nvSpPr>
              <p:spPr>
                <a:xfrm flipH="1" rot="849000">
                  <a:off x="2124360" y="4811040"/>
                  <a:ext cx="167400" cy="6732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未知"/>
                <p:cNvSpPr/>
                <p:nvPr/>
              </p:nvSpPr>
              <p:spPr>
                <a:xfrm flipH="1" rot="849000">
                  <a:off x="2031840" y="4745160"/>
                  <a:ext cx="78480" cy="19368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76520" y="4237920"/>
                <a:ext cx="356760" cy="642240"/>
                <a:chOff x="1676520" y="4237920"/>
                <a:chExt cx="356760" cy="642240"/>
              </a:xfrm>
            </p:grpSpPr>
            <p:sp>
              <p:nvSpPr>
                <p:cNvPr id="361" name="未知"/>
                <p:cNvSpPr/>
                <p:nvPr/>
              </p:nvSpPr>
              <p:spPr>
                <a:xfrm rot="440400">
                  <a:off x="1714320" y="4253040"/>
                  <a:ext cx="280800" cy="61128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未知"/>
                <p:cNvSpPr/>
                <p:nvPr/>
              </p:nvSpPr>
              <p:spPr>
                <a:xfrm rot="440400">
                  <a:off x="1704240" y="4556160"/>
                  <a:ext cx="175320" cy="19044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未知"/>
                <p:cNvSpPr/>
                <p:nvPr/>
              </p:nvSpPr>
              <p:spPr>
                <a:xfrm rot="440400">
                  <a:off x="1779120" y="4300560"/>
                  <a:ext cx="73080" cy="12096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未知"/>
                <p:cNvSpPr/>
                <p:nvPr/>
              </p:nvSpPr>
              <p:spPr>
                <a:xfrm rot="440400">
                  <a:off x="1831320" y="4354560"/>
                  <a:ext cx="129240" cy="2898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未知"/>
                <p:cNvSpPr/>
                <p:nvPr/>
              </p:nvSpPr>
              <p:spPr>
                <a:xfrm rot="440400">
                  <a:off x="1892880" y="4274640"/>
                  <a:ext cx="108720" cy="46368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未知"/>
            <p:cNvSpPr/>
            <p:nvPr/>
          </p:nvSpPr>
          <p:spPr>
            <a:xfrm>
              <a:off x="-33120" y="5300640"/>
              <a:ext cx="8061480" cy="1576440"/>
            </a:xfrm>
            <a:custGeom>
              <a:avLst/>
              <a:gdLst/>
              <a:ahLst/>
              <a:rect l="l" t="t" r="r" b="b"/>
              <a:pathLst>
                <a:path w="5080" h="993">
                  <a:moveTo>
                    <a:pt x="0" y="75"/>
                  </a:moveTo>
                  <a:cubicBezTo>
                    <a:pt x="0" y="75"/>
                    <a:pt x="975" y="51"/>
                    <a:pt x="1343" y="41"/>
                  </a:cubicBezTo>
                  <a:cubicBezTo>
                    <a:pt x="1711" y="31"/>
                    <a:pt x="1957" y="15"/>
                    <a:pt x="2207" y="17"/>
                  </a:cubicBezTo>
                  <a:cubicBezTo>
                    <a:pt x="2457" y="19"/>
                    <a:pt x="2578" y="0"/>
                    <a:pt x="2843" y="53"/>
                  </a:cubicBezTo>
                  <a:cubicBezTo>
                    <a:pt x="3118" y="108"/>
                    <a:pt x="3589" y="253"/>
                    <a:pt x="3856" y="347"/>
                  </a:cubicBezTo>
                  <a:cubicBezTo>
                    <a:pt x="4123" y="441"/>
                    <a:pt x="4241" y="513"/>
                    <a:pt x="4445" y="619"/>
                  </a:cubicBezTo>
                  <a:cubicBezTo>
                    <a:pt x="4649" y="725"/>
                    <a:pt x="4974" y="906"/>
                    <a:pt x="5080" y="982"/>
                  </a:cubicBezTo>
                  <a:lnTo>
                    <a:pt x="5076" y="993"/>
                  </a:lnTo>
                  <a:lnTo>
                    <a:pt x="0" y="98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8172720" y="2708280"/>
              <a:ext cx="896760" cy="1422360"/>
              <a:chOff x="8172720" y="2708280"/>
              <a:chExt cx="896760" cy="14223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8217000" y="3363840"/>
                <a:ext cx="385560" cy="399960"/>
                <a:chOff x="8217000" y="3363840"/>
                <a:chExt cx="385560" cy="399960"/>
              </a:xfrm>
            </p:grpSpPr>
            <p:sp>
              <p:nvSpPr>
                <p:cNvPr id="369" name="未知"/>
                <p:cNvSpPr/>
                <p:nvPr/>
              </p:nvSpPr>
              <p:spPr>
                <a:xfrm rot="345000">
                  <a:off x="8234280" y="3380400"/>
                  <a:ext cx="350640" cy="36684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未知"/>
                <p:cNvSpPr/>
                <p:nvPr/>
              </p:nvSpPr>
              <p:spPr>
                <a:xfrm rot="345000">
                  <a:off x="8245800" y="3393360"/>
                  <a:ext cx="232560" cy="174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未知"/>
                <p:cNvSpPr/>
                <p:nvPr/>
              </p:nvSpPr>
              <p:spPr>
                <a:xfrm rot="345000">
                  <a:off x="8256240" y="3597120"/>
                  <a:ext cx="205200" cy="345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未知"/>
                <p:cNvSpPr/>
                <p:nvPr/>
              </p:nvSpPr>
              <p:spPr>
                <a:xfrm rot="345000">
                  <a:off x="8472600" y="3596760"/>
                  <a:ext cx="96480" cy="99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8445960" y="2708280"/>
                <a:ext cx="239400" cy="1422360"/>
                <a:chOff x="8445960" y="2708280"/>
                <a:chExt cx="239400" cy="1422360"/>
              </a:xfrm>
            </p:grpSpPr>
            <p:sp>
              <p:nvSpPr>
                <p:cNvPr id="374" name="未知"/>
                <p:cNvSpPr/>
                <p:nvPr/>
              </p:nvSpPr>
              <p:spPr>
                <a:xfrm>
                  <a:off x="8445960" y="2708280"/>
                  <a:ext cx="237240" cy="142236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未知"/>
                <p:cNvSpPr/>
                <p:nvPr/>
              </p:nvSpPr>
              <p:spPr>
                <a:xfrm>
                  <a:off x="8457480" y="2885760"/>
                  <a:ext cx="76680" cy="18360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未知"/>
                <p:cNvSpPr/>
                <p:nvPr/>
              </p:nvSpPr>
              <p:spPr>
                <a:xfrm>
                  <a:off x="8521200" y="2748600"/>
                  <a:ext cx="66960" cy="23040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未知"/>
                <p:cNvSpPr/>
                <p:nvPr/>
              </p:nvSpPr>
              <p:spPr>
                <a:xfrm>
                  <a:off x="8584560" y="2746800"/>
                  <a:ext cx="87480" cy="36792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未知"/>
                <p:cNvSpPr/>
                <p:nvPr/>
              </p:nvSpPr>
              <p:spPr>
                <a:xfrm>
                  <a:off x="8609400" y="2990160"/>
                  <a:ext cx="75960" cy="19728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8619840" y="3109320"/>
                <a:ext cx="449640" cy="637200"/>
                <a:chOff x="8619840" y="3109320"/>
                <a:chExt cx="449640" cy="637200"/>
              </a:xfrm>
            </p:grpSpPr>
            <p:sp>
              <p:nvSpPr>
                <p:cNvPr id="380" name="未知"/>
                <p:cNvSpPr/>
                <p:nvPr/>
              </p:nvSpPr>
              <p:spPr>
                <a:xfrm flipH="1" rot="409200">
                  <a:off x="8653320" y="3129840"/>
                  <a:ext cx="381600" cy="59616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 flipH="1" rot="409200">
                  <a:off x="8793000" y="3167640"/>
                  <a:ext cx="253080" cy="28332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未知"/>
                <p:cNvSpPr/>
                <p:nvPr/>
              </p:nvSpPr>
              <p:spPr>
                <a:xfrm flipH="1" rot="409200">
                  <a:off x="8770680" y="3494880"/>
                  <a:ext cx="223200" cy="561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未知"/>
                <p:cNvSpPr/>
                <p:nvPr/>
              </p:nvSpPr>
              <p:spPr>
                <a:xfrm flipH="1" rot="409200">
                  <a:off x="8649720" y="3446640"/>
                  <a:ext cx="104760" cy="16092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8172720" y="3069000"/>
                <a:ext cx="374760" cy="507960"/>
                <a:chOff x="8172720" y="3069000"/>
                <a:chExt cx="374760" cy="507960"/>
              </a:xfrm>
            </p:grpSpPr>
            <p:sp>
              <p:nvSpPr>
                <p:cNvPr id="385" name="未知"/>
                <p:cNvSpPr/>
                <p:nvPr/>
              </p:nvSpPr>
              <p:spPr>
                <a:xfrm>
                  <a:off x="8172720" y="3069000"/>
                  <a:ext cx="374760" cy="50796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未知"/>
                <p:cNvSpPr/>
                <p:nvPr/>
              </p:nvSpPr>
              <p:spPr>
                <a:xfrm>
                  <a:off x="8175600" y="3327120"/>
                  <a:ext cx="234000" cy="15840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未知"/>
                <p:cNvSpPr/>
                <p:nvPr/>
              </p:nvSpPr>
              <p:spPr>
                <a:xfrm>
                  <a:off x="8226000" y="3113640"/>
                  <a:ext cx="97560" cy="10044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未知"/>
                <p:cNvSpPr/>
                <p:nvPr/>
              </p:nvSpPr>
              <p:spPr>
                <a:xfrm>
                  <a:off x="8318520" y="3149280"/>
                  <a:ext cx="172440" cy="24084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未知"/>
                <p:cNvSpPr/>
                <p:nvPr/>
              </p:nvSpPr>
              <p:spPr>
                <a:xfrm>
                  <a:off x="8401680" y="3077640"/>
                  <a:ext cx="145080" cy="38520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8388720" y="2924280"/>
              <a:ext cx="896760" cy="1422360"/>
              <a:chOff x="8388720" y="2924280"/>
              <a:chExt cx="896760" cy="142236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8433000" y="3579840"/>
                <a:ext cx="385560" cy="399960"/>
                <a:chOff x="8433000" y="3579840"/>
                <a:chExt cx="385560" cy="399960"/>
              </a:xfrm>
            </p:grpSpPr>
            <p:sp>
              <p:nvSpPr>
                <p:cNvPr id="392" name="未知"/>
                <p:cNvSpPr/>
                <p:nvPr/>
              </p:nvSpPr>
              <p:spPr>
                <a:xfrm rot="345000">
                  <a:off x="8450280" y="3596400"/>
                  <a:ext cx="350640" cy="36684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未知"/>
                <p:cNvSpPr/>
                <p:nvPr/>
              </p:nvSpPr>
              <p:spPr>
                <a:xfrm rot="345000">
                  <a:off x="8461800" y="3609360"/>
                  <a:ext cx="232560" cy="174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未知"/>
                <p:cNvSpPr/>
                <p:nvPr/>
              </p:nvSpPr>
              <p:spPr>
                <a:xfrm rot="345000">
                  <a:off x="8472240" y="3813120"/>
                  <a:ext cx="205200" cy="345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未知"/>
                <p:cNvSpPr/>
                <p:nvPr/>
              </p:nvSpPr>
              <p:spPr>
                <a:xfrm rot="345000">
                  <a:off x="8688600" y="3812760"/>
                  <a:ext cx="96480" cy="99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8661960" y="2924280"/>
                <a:ext cx="239400" cy="1422360"/>
                <a:chOff x="8661960" y="2924280"/>
                <a:chExt cx="239400" cy="1422360"/>
              </a:xfrm>
            </p:grpSpPr>
            <p:sp>
              <p:nvSpPr>
                <p:cNvPr id="397" name="未知"/>
                <p:cNvSpPr/>
                <p:nvPr/>
              </p:nvSpPr>
              <p:spPr>
                <a:xfrm>
                  <a:off x="8661960" y="2924280"/>
                  <a:ext cx="237240" cy="142236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未知"/>
                <p:cNvSpPr/>
                <p:nvPr/>
              </p:nvSpPr>
              <p:spPr>
                <a:xfrm>
                  <a:off x="8673480" y="3101760"/>
                  <a:ext cx="76680" cy="18360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未知"/>
                <p:cNvSpPr/>
                <p:nvPr/>
              </p:nvSpPr>
              <p:spPr>
                <a:xfrm>
                  <a:off x="8737200" y="2964600"/>
                  <a:ext cx="66960" cy="23040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未知"/>
                <p:cNvSpPr/>
                <p:nvPr/>
              </p:nvSpPr>
              <p:spPr>
                <a:xfrm>
                  <a:off x="8800560" y="2962800"/>
                  <a:ext cx="87480" cy="36792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未知"/>
                <p:cNvSpPr/>
                <p:nvPr/>
              </p:nvSpPr>
              <p:spPr>
                <a:xfrm>
                  <a:off x="8825400" y="3206160"/>
                  <a:ext cx="75960" cy="19728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8835840" y="3325320"/>
                <a:ext cx="449640" cy="637200"/>
                <a:chOff x="8835840" y="3325320"/>
                <a:chExt cx="449640" cy="637200"/>
              </a:xfrm>
            </p:grpSpPr>
            <p:sp>
              <p:nvSpPr>
                <p:cNvPr id="403" name="未知"/>
                <p:cNvSpPr/>
                <p:nvPr/>
              </p:nvSpPr>
              <p:spPr>
                <a:xfrm flipH="1" rot="409200">
                  <a:off x="8869320" y="3345840"/>
                  <a:ext cx="381600" cy="59616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未知"/>
                <p:cNvSpPr/>
                <p:nvPr/>
              </p:nvSpPr>
              <p:spPr>
                <a:xfrm flipH="1" rot="409200">
                  <a:off x="9009000" y="3383640"/>
                  <a:ext cx="253080" cy="28332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未知"/>
                <p:cNvSpPr/>
                <p:nvPr/>
              </p:nvSpPr>
              <p:spPr>
                <a:xfrm flipH="1" rot="409200">
                  <a:off x="8986680" y="3710880"/>
                  <a:ext cx="223200" cy="561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未知"/>
                <p:cNvSpPr/>
                <p:nvPr/>
              </p:nvSpPr>
              <p:spPr>
                <a:xfrm flipH="1" rot="409200">
                  <a:off x="8865720" y="3662640"/>
                  <a:ext cx="104760" cy="16092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8388720" y="3285000"/>
                <a:ext cx="374760" cy="507960"/>
                <a:chOff x="8388720" y="3285000"/>
                <a:chExt cx="374760" cy="507960"/>
              </a:xfrm>
            </p:grpSpPr>
            <p:sp>
              <p:nvSpPr>
                <p:cNvPr id="408" name="未知"/>
                <p:cNvSpPr/>
                <p:nvPr/>
              </p:nvSpPr>
              <p:spPr>
                <a:xfrm>
                  <a:off x="8388720" y="3285000"/>
                  <a:ext cx="374760" cy="50796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未知"/>
                <p:cNvSpPr/>
                <p:nvPr/>
              </p:nvSpPr>
              <p:spPr>
                <a:xfrm>
                  <a:off x="8391600" y="3543120"/>
                  <a:ext cx="234000" cy="15840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未知"/>
                <p:cNvSpPr/>
                <p:nvPr/>
              </p:nvSpPr>
              <p:spPr>
                <a:xfrm>
                  <a:off x="8442000" y="3329640"/>
                  <a:ext cx="97560" cy="10044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未知"/>
                <p:cNvSpPr/>
                <p:nvPr/>
              </p:nvSpPr>
              <p:spPr>
                <a:xfrm>
                  <a:off x="8534520" y="3365280"/>
                  <a:ext cx="172440" cy="24084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未知"/>
                <p:cNvSpPr/>
                <p:nvPr/>
              </p:nvSpPr>
              <p:spPr>
                <a:xfrm>
                  <a:off x="8617680" y="3293640"/>
                  <a:ext cx="145080" cy="38520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614160" y="2706840"/>
              <a:ext cx="1282680" cy="1785960"/>
              <a:chOff x="614160" y="2706840"/>
              <a:chExt cx="1282680" cy="178596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731520" y="3229560"/>
                <a:ext cx="551880" cy="456480"/>
                <a:chOff x="731520" y="3229560"/>
                <a:chExt cx="551880" cy="456480"/>
              </a:xfrm>
            </p:grpSpPr>
            <p:sp>
              <p:nvSpPr>
                <p:cNvPr id="415" name="未知"/>
                <p:cNvSpPr/>
                <p:nvPr/>
              </p:nvSpPr>
              <p:spPr>
                <a:xfrm>
                  <a:off x="731520" y="3229560"/>
                  <a:ext cx="551880" cy="45648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未知"/>
                <p:cNvSpPr/>
                <p:nvPr/>
              </p:nvSpPr>
              <p:spPr>
                <a:xfrm>
                  <a:off x="736920" y="3252600"/>
                  <a:ext cx="366120" cy="2170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未知"/>
                <p:cNvSpPr/>
                <p:nvPr/>
              </p:nvSpPr>
              <p:spPr>
                <a:xfrm>
                  <a:off x="774720" y="3505320"/>
                  <a:ext cx="322920" cy="4284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未知"/>
                <p:cNvSpPr/>
                <p:nvPr/>
              </p:nvSpPr>
              <p:spPr>
                <a:xfrm>
                  <a:off x="1118520" y="3485160"/>
                  <a:ext cx="151920" cy="12348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185480" y="2706840"/>
                <a:ext cx="198360" cy="1785960"/>
                <a:chOff x="1185480" y="2706840"/>
                <a:chExt cx="198360" cy="1785960"/>
              </a:xfrm>
            </p:grpSpPr>
            <p:sp>
              <p:nvSpPr>
                <p:cNvPr id="420" name="未知"/>
                <p:cNvSpPr/>
                <p:nvPr/>
              </p:nvSpPr>
              <p:spPr>
                <a:xfrm>
                  <a:off x="1185480" y="2706840"/>
                  <a:ext cx="196560" cy="178596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未知"/>
                <p:cNvSpPr/>
                <p:nvPr/>
              </p:nvSpPr>
              <p:spPr>
                <a:xfrm>
                  <a:off x="1194840" y="2929680"/>
                  <a:ext cx="63360" cy="23040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未知"/>
                <p:cNvSpPr/>
                <p:nvPr/>
              </p:nvSpPr>
              <p:spPr>
                <a:xfrm>
                  <a:off x="1247760" y="2757600"/>
                  <a:ext cx="55440" cy="28908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未知"/>
                <p:cNvSpPr/>
                <p:nvPr/>
              </p:nvSpPr>
              <p:spPr>
                <a:xfrm>
                  <a:off x="1300320" y="2755080"/>
                  <a:ext cx="72360" cy="46224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未知"/>
                <p:cNvSpPr/>
                <p:nvPr/>
              </p:nvSpPr>
              <p:spPr>
                <a:xfrm>
                  <a:off x="1321200" y="3060720"/>
                  <a:ext cx="62640" cy="24768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1332000" y="2835360"/>
                <a:ext cx="402120" cy="780120"/>
                <a:chOff x="1332000" y="2835360"/>
                <a:chExt cx="402120" cy="780120"/>
              </a:xfrm>
            </p:grpSpPr>
            <p:sp>
              <p:nvSpPr>
                <p:cNvPr id="426" name="未知"/>
                <p:cNvSpPr/>
                <p:nvPr/>
              </p:nvSpPr>
              <p:spPr>
                <a:xfrm flipH="1" rot="409200">
                  <a:off x="1374840" y="2851200"/>
                  <a:ext cx="315360" cy="74808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未知"/>
                <p:cNvSpPr/>
                <p:nvPr/>
              </p:nvSpPr>
              <p:spPr>
                <a:xfrm flipH="1" rot="409200">
                  <a:off x="1497240" y="2896560"/>
                  <a:ext cx="209160" cy="3556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未知"/>
                <p:cNvSpPr/>
                <p:nvPr/>
              </p:nvSpPr>
              <p:spPr>
                <a:xfrm flipH="1" rot="409200">
                  <a:off x="1467720" y="3307320"/>
                  <a:ext cx="184680" cy="705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未知"/>
                <p:cNvSpPr/>
                <p:nvPr/>
              </p:nvSpPr>
              <p:spPr>
                <a:xfrm flipH="1" rot="409200">
                  <a:off x="1365840" y="3256200"/>
                  <a:ext cx="86760" cy="20232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52120" y="2941200"/>
                <a:ext cx="428760" cy="740520"/>
                <a:chOff x="852120" y="2941200"/>
                <a:chExt cx="428760" cy="740520"/>
              </a:xfrm>
            </p:grpSpPr>
            <p:sp>
              <p:nvSpPr>
                <p:cNvPr id="431" name="未知"/>
                <p:cNvSpPr/>
                <p:nvPr/>
              </p:nvSpPr>
              <p:spPr>
                <a:xfrm>
                  <a:off x="852120" y="2941200"/>
                  <a:ext cx="428760" cy="74052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未知"/>
                <p:cNvSpPr/>
                <p:nvPr/>
              </p:nvSpPr>
              <p:spPr>
                <a:xfrm>
                  <a:off x="855360" y="3317400"/>
                  <a:ext cx="267480" cy="23076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未知"/>
                <p:cNvSpPr/>
                <p:nvPr/>
              </p:nvSpPr>
              <p:spPr>
                <a:xfrm>
                  <a:off x="913320" y="3006360"/>
                  <a:ext cx="111600" cy="14652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未知"/>
                <p:cNvSpPr/>
                <p:nvPr/>
              </p:nvSpPr>
              <p:spPr>
                <a:xfrm>
                  <a:off x="1018800" y="3058560"/>
                  <a:ext cx="197280" cy="3510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未知"/>
                <p:cNvSpPr/>
                <p:nvPr/>
              </p:nvSpPr>
              <p:spPr>
                <a:xfrm>
                  <a:off x="1113840" y="2953800"/>
                  <a:ext cx="165960" cy="56160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1282680" y="3277440"/>
                <a:ext cx="614160" cy="442440"/>
                <a:chOff x="1282680" y="3277440"/>
                <a:chExt cx="614160" cy="442440"/>
              </a:xfrm>
            </p:grpSpPr>
            <p:sp>
              <p:nvSpPr>
                <p:cNvPr id="437" name="未知"/>
                <p:cNvSpPr/>
                <p:nvPr/>
              </p:nvSpPr>
              <p:spPr>
                <a:xfrm flipH="1" rot="21168600">
                  <a:off x="1303920" y="3311640"/>
                  <a:ext cx="571680" cy="37368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未知"/>
                <p:cNvSpPr/>
                <p:nvPr/>
              </p:nvSpPr>
              <p:spPr>
                <a:xfrm flipH="1" rot="21168600">
                  <a:off x="1478880" y="3319560"/>
                  <a:ext cx="379080" cy="17784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未知"/>
                <p:cNvSpPr/>
                <p:nvPr/>
              </p:nvSpPr>
              <p:spPr>
                <a:xfrm flipH="1" rot="21168600">
                  <a:off x="1502280" y="3527640"/>
                  <a:ext cx="334440" cy="3564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未知"/>
                <p:cNvSpPr/>
                <p:nvPr/>
              </p:nvSpPr>
              <p:spPr>
                <a:xfrm flipH="1" rot="21168600">
                  <a:off x="1326960" y="3544560"/>
                  <a:ext cx="157320" cy="1008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4160" y="3381120"/>
                <a:ext cx="714600" cy="437400"/>
                <a:chOff x="614160" y="3381120"/>
                <a:chExt cx="714600" cy="437400"/>
              </a:xfrm>
            </p:grpSpPr>
            <p:sp>
              <p:nvSpPr>
                <p:cNvPr id="442" name="未知"/>
                <p:cNvSpPr/>
                <p:nvPr/>
              </p:nvSpPr>
              <p:spPr>
                <a:xfrm>
                  <a:off x="614160" y="3381120"/>
                  <a:ext cx="714600" cy="43740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未知"/>
                <p:cNvSpPr/>
                <p:nvPr/>
              </p:nvSpPr>
              <p:spPr>
                <a:xfrm>
                  <a:off x="619920" y="3603240"/>
                  <a:ext cx="445680" cy="13644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未知"/>
                <p:cNvSpPr/>
                <p:nvPr/>
              </p:nvSpPr>
              <p:spPr>
                <a:xfrm>
                  <a:off x="716040" y="3419640"/>
                  <a:ext cx="186120" cy="8640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未知"/>
                <p:cNvSpPr/>
                <p:nvPr/>
              </p:nvSpPr>
              <p:spPr>
                <a:xfrm>
                  <a:off x="892080" y="3450240"/>
                  <a:ext cx="328680" cy="20736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未知"/>
                <p:cNvSpPr/>
                <p:nvPr/>
              </p:nvSpPr>
              <p:spPr>
                <a:xfrm>
                  <a:off x="1050480" y="3388320"/>
                  <a:ext cx="276480" cy="33192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8280" y="3156840"/>
              <a:ext cx="1036800" cy="1371240"/>
              <a:chOff x="548280" y="3156840"/>
              <a:chExt cx="1036800" cy="137124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703080" y="3816000"/>
                <a:ext cx="431280" cy="405000"/>
                <a:chOff x="703080" y="3816000"/>
                <a:chExt cx="431280" cy="405000"/>
              </a:xfrm>
            </p:grpSpPr>
            <p:sp>
              <p:nvSpPr>
                <p:cNvPr id="449" name="未知"/>
                <p:cNvSpPr/>
                <p:nvPr/>
              </p:nvSpPr>
              <p:spPr>
                <a:xfrm rot="21040800">
                  <a:off x="728640" y="3844440"/>
                  <a:ext cx="379800" cy="3481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未知"/>
                <p:cNvSpPr/>
                <p:nvPr/>
              </p:nvSpPr>
              <p:spPr>
                <a:xfrm rot="21040800">
                  <a:off x="720720" y="3872520"/>
                  <a:ext cx="252000" cy="165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未知"/>
                <p:cNvSpPr/>
                <p:nvPr/>
              </p:nvSpPr>
              <p:spPr>
                <a:xfrm rot="21040800">
                  <a:off x="767520" y="4061880"/>
                  <a:ext cx="222120" cy="327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未知"/>
                <p:cNvSpPr/>
                <p:nvPr/>
              </p:nvSpPr>
              <p:spPr>
                <a:xfrm rot="21040800">
                  <a:off x="1004040" y="4017240"/>
                  <a:ext cx="104400" cy="939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44840" y="3156840"/>
                <a:ext cx="600120" cy="1371240"/>
                <a:chOff x="744840" y="3156840"/>
                <a:chExt cx="600120" cy="1371240"/>
              </a:xfrm>
            </p:grpSpPr>
            <p:sp>
              <p:nvSpPr>
                <p:cNvPr id="454" name="未知"/>
                <p:cNvSpPr/>
                <p:nvPr/>
              </p:nvSpPr>
              <p:spPr>
                <a:xfrm rot="20695200">
                  <a:off x="915840" y="3166920"/>
                  <a:ext cx="257400" cy="135072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未知"/>
                <p:cNvSpPr/>
                <p:nvPr/>
              </p:nvSpPr>
              <p:spPr>
                <a:xfrm rot="20695200">
                  <a:off x="821520" y="3369240"/>
                  <a:ext cx="83160" cy="1742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未知"/>
                <p:cNvSpPr/>
                <p:nvPr/>
              </p:nvSpPr>
              <p:spPr>
                <a:xfrm rot="20695200">
                  <a:off x="860760" y="3226320"/>
                  <a:ext cx="72720" cy="21888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未知"/>
                <p:cNvSpPr/>
                <p:nvPr/>
              </p:nvSpPr>
              <p:spPr>
                <a:xfrm rot="20695200">
                  <a:off x="942840" y="3201480"/>
                  <a:ext cx="94680" cy="34956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未知"/>
                <p:cNvSpPr/>
                <p:nvPr/>
              </p:nvSpPr>
              <p:spPr>
                <a:xfrm rot="20695200">
                  <a:off x="1008720" y="3422160"/>
                  <a:ext cx="82080" cy="18720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095120" y="3461760"/>
                <a:ext cx="489960" cy="619560"/>
                <a:chOff x="1095120" y="3461760"/>
                <a:chExt cx="489960" cy="619560"/>
              </a:xfrm>
            </p:grpSpPr>
            <p:sp>
              <p:nvSpPr>
                <p:cNvPr id="460" name="未知"/>
                <p:cNvSpPr/>
                <p:nvPr/>
              </p:nvSpPr>
              <p:spPr>
                <a:xfrm flipH="1" rot="21104400">
                  <a:off x="1133280" y="3488400"/>
                  <a:ext cx="412920" cy="5659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未知"/>
                <p:cNvSpPr/>
                <p:nvPr/>
              </p:nvSpPr>
              <p:spPr>
                <a:xfrm flipH="1" rot="21104400">
                  <a:off x="1250280" y="3508560"/>
                  <a:ext cx="273960" cy="26892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未知"/>
                <p:cNvSpPr/>
                <p:nvPr/>
              </p:nvSpPr>
              <p:spPr>
                <a:xfrm flipH="1" rot="21104400">
                  <a:off x="1283400" y="3821400"/>
                  <a:ext cx="241560" cy="5328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未知"/>
                <p:cNvSpPr/>
                <p:nvPr/>
              </p:nvSpPr>
              <p:spPr>
                <a:xfrm flipH="1" rot="21104400">
                  <a:off x="1159920" y="3823920"/>
                  <a:ext cx="113760" cy="153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48280" y="3526200"/>
                <a:ext cx="517320" cy="571320"/>
                <a:chOff x="548280" y="3526200"/>
                <a:chExt cx="517320" cy="571320"/>
              </a:xfrm>
            </p:grpSpPr>
            <p:sp>
              <p:nvSpPr>
                <p:cNvPr id="465" name="未知"/>
                <p:cNvSpPr/>
                <p:nvPr/>
              </p:nvSpPr>
              <p:spPr>
                <a:xfrm rot="20695200">
                  <a:off x="603720" y="3570480"/>
                  <a:ext cx="405720" cy="48240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未知"/>
                <p:cNvSpPr/>
                <p:nvPr/>
              </p:nvSpPr>
              <p:spPr>
                <a:xfrm rot="20695200">
                  <a:off x="630360" y="3831840"/>
                  <a:ext cx="253080" cy="15048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未知"/>
                <p:cNvSpPr/>
                <p:nvPr/>
              </p:nvSpPr>
              <p:spPr>
                <a:xfrm rot="20695200">
                  <a:off x="625680" y="3642120"/>
                  <a:ext cx="105480" cy="9540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未知"/>
                <p:cNvSpPr/>
                <p:nvPr/>
              </p:nvSpPr>
              <p:spPr>
                <a:xfrm rot="20695200">
                  <a:off x="746640" y="3635640"/>
                  <a:ext cx="186480" cy="2286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未知"/>
                <p:cNvSpPr/>
                <p:nvPr/>
              </p:nvSpPr>
              <p:spPr>
                <a:xfrm rot="20695200">
                  <a:off x="834120" y="3547800"/>
                  <a:ext cx="156960" cy="36576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1875960" y="5186520"/>
              <a:ext cx="496440" cy="202320"/>
              <a:chOff x="1875960" y="5186520"/>
              <a:chExt cx="496440" cy="20232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1875960" y="5260320"/>
                <a:ext cx="496440" cy="128520"/>
                <a:chOff x="1875960" y="5260320"/>
                <a:chExt cx="496440" cy="128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875960" y="5368320"/>
                  <a:ext cx="496440" cy="2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5400"/>
                    </a:gs>
                    <a:gs pos="100000">
                      <a:srgbClr val="462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75960" y="5272560"/>
                  <a:ext cx="495000" cy="10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300"/>
                    </a:gs>
                    <a:gs pos="50000">
                      <a:srgbClr val="a85400"/>
                    </a:gs>
                    <a:gs pos="100000">
                      <a:srgbClr val="4623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875960" y="5260320"/>
                  <a:ext cx="496440" cy="2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2300"/>
                    </a:gs>
                    <a:gs pos="100000">
                      <a:srgbClr val="a85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930320" y="5186520"/>
                <a:ext cx="385920" cy="87840"/>
                <a:chOff x="1930320" y="5186520"/>
                <a:chExt cx="385920" cy="878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930320" y="5260320"/>
                  <a:ext cx="385920" cy="1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5400"/>
                    </a:gs>
                    <a:gs pos="100000">
                      <a:srgbClr val="462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930320" y="5194800"/>
                  <a:ext cx="384840" cy="7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300"/>
                    </a:gs>
                    <a:gs pos="50000">
                      <a:srgbClr val="a85400"/>
                    </a:gs>
                    <a:gs pos="100000">
                      <a:srgbClr val="4623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930320" y="5186520"/>
                  <a:ext cx="385920" cy="14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2300"/>
                    </a:gs>
                    <a:gs pos="100000">
                      <a:srgbClr val="a85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2243880" y="5145120"/>
              <a:ext cx="496440" cy="274680"/>
              <a:chOff x="2243880" y="5145120"/>
              <a:chExt cx="496440" cy="2746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2243880" y="5245200"/>
                <a:ext cx="496440" cy="174600"/>
                <a:chOff x="2243880" y="5245200"/>
                <a:chExt cx="496440" cy="1746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243880" y="5391720"/>
                  <a:ext cx="496440" cy="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5400"/>
                    </a:gs>
                    <a:gs pos="100000">
                      <a:srgbClr val="462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243880" y="5261760"/>
                  <a:ext cx="495000" cy="145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300"/>
                    </a:gs>
                    <a:gs pos="50000">
                      <a:srgbClr val="a85400"/>
                    </a:gs>
                    <a:gs pos="100000">
                      <a:srgbClr val="4623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243880" y="5245200"/>
                  <a:ext cx="496440" cy="2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2300"/>
                    </a:gs>
                    <a:gs pos="100000">
                      <a:srgbClr val="a85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2298240" y="5145120"/>
                <a:ext cx="385920" cy="118800"/>
                <a:chOff x="2298240" y="5145120"/>
                <a:chExt cx="385920" cy="1188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2298240" y="5244840"/>
                  <a:ext cx="385920" cy="1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5400"/>
                    </a:gs>
                    <a:gs pos="100000">
                      <a:srgbClr val="462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298240" y="5156280"/>
                  <a:ext cx="384840" cy="98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300"/>
                    </a:gs>
                    <a:gs pos="50000">
                      <a:srgbClr val="a85400"/>
                    </a:gs>
                    <a:gs pos="100000">
                      <a:srgbClr val="4623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298240" y="5145120"/>
                  <a:ext cx="385920" cy="1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2300"/>
                    </a:gs>
                    <a:gs pos="100000">
                      <a:srgbClr val="a854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200200" y="4133880"/>
              <a:ext cx="793080" cy="1127880"/>
              <a:chOff x="5200200" y="4133880"/>
              <a:chExt cx="793080" cy="1127880"/>
            </a:xfrm>
          </p:grpSpPr>
          <p:sp>
            <p:nvSpPr>
              <p:cNvPr id="489" name="未知"/>
              <p:cNvSpPr/>
              <p:nvPr/>
            </p:nvSpPr>
            <p:spPr>
              <a:xfrm rot="20938800">
                <a:off x="5242320" y="4986720"/>
                <a:ext cx="617400" cy="21780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200200" y="4133880"/>
                <a:ext cx="793080" cy="1025280"/>
                <a:chOff x="5200200" y="4133880"/>
                <a:chExt cx="793080" cy="102528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5230800" y="4531680"/>
                  <a:ext cx="626040" cy="627480"/>
                  <a:chOff x="5230800" y="4531680"/>
                  <a:chExt cx="626040" cy="627480"/>
                </a:xfrm>
              </p:grpSpPr>
              <p:sp>
                <p:nvSpPr>
                  <p:cNvPr id="492" name="未知"/>
                  <p:cNvSpPr/>
                  <p:nvPr/>
                </p:nvSpPr>
                <p:spPr>
                  <a:xfrm rot="20938800">
                    <a:off x="5273280" y="4657320"/>
                    <a:ext cx="31896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未知"/>
                  <p:cNvSpPr/>
                  <p:nvPr/>
                </p:nvSpPr>
                <p:spPr>
                  <a:xfrm flipH="1" rot="20675400">
                    <a:off x="5506200" y="4559760"/>
                    <a:ext cx="284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445000" y="4575600"/>
                  <a:ext cx="548280" cy="535680"/>
                  <a:chOff x="5445000" y="4575600"/>
                  <a:chExt cx="548280" cy="535680"/>
                </a:xfrm>
              </p:grpSpPr>
              <p:sp>
                <p:nvSpPr>
                  <p:cNvPr id="495" name="未知"/>
                  <p:cNvSpPr/>
                  <p:nvPr/>
                </p:nvSpPr>
                <p:spPr>
                  <a:xfrm rot="191400">
                    <a:off x="5457960" y="4620240"/>
                    <a:ext cx="31896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未知"/>
                  <p:cNvSpPr/>
                  <p:nvPr/>
                </p:nvSpPr>
                <p:spPr>
                  <a:xfrm flipH="1" rot="21528000">
                    <a:off x="5702760" y="4578480"/>
                    <a:ext cx="28476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" name="未知"/>
                <p:cNvSpPr/>
                <p:nvPr/>
              </p:nvSpPr>
              <p:spPr>
                <a:xfrm rot="582600">
                  <a:off x="5279400" y="4150080"/>
                  <a:ext cx="274680" cy="9637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8" name="未知"/>
            <p:cNvSpPr/>
            <p:nvPr/>
          </p:nvSpPr>
          <p:spPr>
            <a:xfrm>
              <a:off x="5379480" y="6453360"/>
              <a:ext cx="699840" cy="288720"/>
            </a:xfrm>
            <a:custGeom>
              <a:avLst/>
              <a:gdLst/>
              <a:ahLst/>
              <a:rect l="l" t="t" r="r" b="b"/>
              <a:pathLst>
                <a:path w="601" h="305">
                  <a:moveTo>
                    <a:pt x="151" y="0"/>
                  </a:moveTo>
                  <a:cubicBezTo>
                    <a:pt x="113" y="0"/>
                    <a:pt x="46" y="14"/>
                    <a:pt x="46" y="14"/>
                  </a:cubicBezTo>
                  <a:cubicBezTo>
                    <a:pt x="46" y="14"/>
                    <a:pt x="0" y="104"/>
                    <a:pt x="0" y="104"/>
                  </a:cubicBezTo>
                  <a:cubicBezTo>
                    <a:pt x="0" y="104"/>
                    <a:pt x="46" y="240"/>
                    <a:pt x="46" y="240"/>
                  </a:cubicBezTo>
                  <a:cubicBezTo>
                    <a:pt x="46" y="240"/>
                    <a:pt x="182" y="286"/>
                    <a:pt x="182" y="286"/>
                  </a:cubicBezTo>
                  <a:cubicBezTo>
                    <a:pt x="182" y="286"/>
                    <a:pt x="384" y="305"/>
                    <a:pt x="454" y="286"/>
                  </a:cubicBezTo>
                  <a:cubicBezTo>
                    <a:pt x="524" y="267"/>
                    <a:pt x="601" y="169"/>
                    <a:pt x="601" y="169"/>
                  </a:cubicBezTo>
                  <a:cubicBezTo>
                    <a:pt x="601" y="169"/>
                    <a:pt x="577" y="132"/>
                    <a:pt x="545" y="104"/>
                  </a:cubicBezTo>
                  <a:cubicBezTo>
                    <a:pt x="513" y="76"/>
                    <a:pt x="454" y="104"/>
                    <a:pt x="454" y="104"/>
                  </a:cubicBezTo>
                  <a:cubicBezTo>
                    <a:pt x="454" y="104"/>
                    <a:pt x="363" y="59"/>
                    <a:pt x="363" y="59"/>
                  </a:cubicBezTo>
                  <a:cubicBezTo>
                    <a:pt x="363" y="59"/>
                    <a:pt x="307" y="24"/>
                    <a:pt x="272" y="14"/>
                  </a:cubicBezTo>
                  <a:cubicBezTo>
                    <a:pt x="237" y="4"/>
                    <a:pt x="189" y="0"/>
                    <a:pt x="15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969696">
                    <a:alpha val="2117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301000" y="5731920"/>
              <a:ext cx="1003320" cy="1072800"/>
              <a:chOff x="5301000" y="5731920"/>
              <a:chExt cx="1003320" cy="107280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5307480" y="5731920"/>
                <a:ext cx="996840" cy="1072800"/>
                <a:chOff x="5307480" y="5731920"/>
                <a:chExt cx="996840" cy="107280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5593680" y="5938200"/>
                  <a:ext cx="710640" cy="695520"/>
                  <a:chOff x="5593680" y="5938200"/>
                  <a:chExt cx="710640" cy="695520"/>
                </a:xfrm>
              </p:grpSpPr>
              <p:sp>
                <p:nvSpPr>
                  <p:cNvPr id="502" name="未知"/>
                  <p:cNvSpPr/>
                  <p:nvPr/>
                </p:nvSpPr>
                <p:spPr>
                  <a:xfrm>
                    <a:off x="5593680" y="6030720"/>
                    <a:ext cx="401400" cy="601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未知"/>
                  <p:cNvSpPr/>
                  <p:nvPr/>
                </p:nvSpPr>
                <p:spPr>
                  <a:xfrm flipH="1" rot="21336600">
                    <a:off x="5920920" y="5950800"/>
                    <a:ext cx="35820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5307480" y="5731920"/>
                  <a:ext cx="961920" cy="1072800"/>
                  <a:chOff x="5307480" y="5731920"/>
                  <a:chExt cx="961920" cy="1072800"/>
                </a:xfrm>
              </p:grpSpPr>
              <p:sp>
                <p:nvSpPr>
                  <p:cNvPr id="505" name="未知"/>
                  <p:cNvSpPr/>
                  <p:nvPr/>
                </p:nvSpPr>
                <p:spPr>
                  <a:xfrm rot="20090400">
                    <a:off x="5450760" y="5990760"/>
                    <a:ext cx="401400" cy="765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未知"/>
                  <p:cNvSpPr/>
                  <p:nvPr/>
                </p:nvSpPr>
                <p:spPr>
                  <a:xfrm flipH="1" rot="19827000">
                    <a:off x="5723640" y="5764680"/>
                    <a:ext cx="358200" cy="85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7" name="未知"/>
              <p:cNvSpPr/>
              <p:nvPr/>
            </p:nvSpPr>
            <p:spPr>
              <a:xfrm rot="237000">
                <a:off x="5328720" y="5824440"/>
                <a:ext cx="376200" cy="820800"/>
              </a:xfrm>
              <a:custGeom>
                <a:avLst/>
                <a:gdLst/>
                <a:ahLst/>
                <a:rect l="l" t="t" r="r" b="b"/>
                <a:pathLst>
                  <a:path w="443" h="790">
                    <a:moveTo>
                      <a:pt x="314" y="661"/>
                    </a:moveTo>
                    <a:cubicBezTo>
                      <a:pt x="294" y="633"/>
                      <a:pt x="291" y="592"/>
                      <a:pt x="254" y="569"/>
                    </a:cubicBezTo>
                    <a:cubicBezTo>
                      <a:pt x="217" y="546"/>
                      <a:pt x="62" y="486"/>
                      <a:pt x="55" y="476"/>
                    </a:cubicBezTo>
                    <a:cubicBezTo>
                      <a:pt x="48" y="466"/>
                      <a:pt x="194" y="519"/>
                      <a:pt x="214" y="509"/>
                    </a:cubicBezTo>
                    <a:cubicBezTo>
                      <a:pt x="234" y="499"/>
                      <a:pt x="212" y="445"/>
                      <a:pt x="178" y="417"/>
                    </a:cubicBezTo>
                    <a:cubicBezTo>
                      <a:pt x="144" y="389"/>
                      <a:pt x="14" y="349"/>
                      <a:pt x="10" y="340"/>
                    </a:cubicBezTo>
                    <a:cubicBezTo>
                      <a:pt x="6" y="331"/>
                      <a:pt x="134" y="372"/>
                      <a:pt x="154" y="365"/>
                    </a:cubicBezTo>
                    <a:cubicBezTo>
                      <a:pt x="174" y="358"/>
                      <a:pt x="146" y="316"/>
                      <a:pt x="130" y="297"/>
                    </a:cubicBezTo>
                    <a:cubicBezTo>
                      <a:pt x="114" y="278"/>
                      <a:pt x="75" y="264"/>
                      <a:pt x="55" y="249"/>
                    </a:cubicBezTo>
                    <a:cubicBezTo>
                      <a:pt x="35" y="234"/>
                      <a:pt x="0" y="205"/>
                      <a:pt x="10" y="204"/>
                    </a:cubicBezTo>
                    <a:cubicBezTo>
                      <a:pt x="20" y="203"/>
                      <a:pt x="103" y="275"/>
                      <a:pt x="118" y="245"/>
                    </a:cubicBezTo>
                    <a:cubicBezTo>
                      <a:pt x="133" y="215"/>
                      <a:pt x="83" y="0"/>
                      <a:pt x="101" y="22"/>
                    </a:cubicBezTo>
                    <a:cubicBezTo>
                      <a:pt x="119" y="44"/>
                      <a:pt x="202" y="355"/>
                      <a:pt x="226" y="377"/>
                    </a:cubicBezTo>
                    <a:cubicBezTo>
                      <a:pt x="250" y="399"/>
                      <a:pt x="240" y="144"/>
                      <a:pt x="246" y="157"/>
                    </a:cubicBezTo>
                    <a:cubicBezTo>
                      <a:pt x="255" y="171"/>
                      <a:pt x="265" y="396"/>
                      <a:pt x="278" y="461"/>
                    </a:cubicBezTo>
                    <a:cubicBezTo>
                      <a:pt x="292" y="531"/>
                      <a:pt x="306" y="561"/>
                      <a:pt x="322" y="549"/>
                    </a:cubicBezTo>
                    <a:cubicBezTo>
                      <a:pt x="338" y="537"/>
                      <a:pt x="318" y="326"/>
                      <a:pt x="328" y="340"/>
                    </a:cubicBezTo>
                    <a:cubicBezTo>
                      <a:pt x="338" y="354"/>
                      <a:pt x="364" y="573"/>
                      <a:pt x="382" y="633"/>
                    </a:cubicBezTo>
                    <a:cubicBezTo>
                      <a:pt x="400" y="693"/>
                      <a:pt x="428" y="680"/>
                      <a:pt x="434" y="697"/>
                    </a:cubicBezTo>
                    <a:cubicBezTo>
                      <a:pt x="440" y="714"/>
                      <a:pt x="443" y="720"/>
                      <a:pt x="438" y="733"/>
                    </a:cubicBezTo>
                    <a:cubicBezTo>
                      <a:pt x="433" y="746"/>
                      <a:pt x="423" y="790"/>
                      <a:pt x="406" y="777"/>
                    </a:cubicBezTo>
                    <a:cubicBezTo>
                      <a:pt x="389" y="764"/>
                      <a:pt x="334" y="689"/>
                      <a:pt x="314" y="66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5c00"/>
                  </a:gs>
                  <a:gs pos="100000">
                    <a:srgbClr val="ffe67d"/>
                  </a:gs>
                </a:gsLst>
                <a:lin ang="786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3503880" y="5684400"/>
              <a:ext cx="560520" cy="561960"/>
              <a:chOff x="3503880" y="5684400"/>
              <a:chExt cx="560520" cy="561960"/>
            </a:xfrm>
          </p:grpSpPr>
          <p:sp>
            <p:nvSpPr>
              <p:cNvPr id="509" name="未知"/>
              <p:cNvSpPr/>
              <p:nvPr/>
            </p:nvSpPr>
            <p:spPr>
              <a:xfrm>
                <a:off x="3503880" y="6156000"/>
                <a:ext cx="421920" cy="9036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3516120" y="5684400"/>
                <a:ext cx="548280" cy="549720"/>
                <a:chOff x="3516120" y="5684400"/>
                <a:chExt cx="548280" cy="549720"/>
              </a:xfrm>
            </p:grpSpPr>
            <p:sp>
              <p:nvSpPr>
                <p:cNvPr id="511" name="未知"/>
                <p:cNvSpPr/>
                <p:nvPr/>
              </p:nvSpPr>
              <p:spPr>
                <a:xfrm>
                  <a:off x="3516120" y="5749200"/>
                  <a:ext cx="318960" cy="47520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未知"/>
                <p:cNvSpPr/>
                <p:nvPr/>
              </p:nvSpPr>
              <p:spPr>
                <a:xfrm flipH="1" rot="21336600">
                  <a:off x="3759480" y="5694480"/>
                  <a:ext cx="284760" cy="52920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78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"/>
            <p:cNvGrpSpPr/>
            <p:nvPr/>
          </p:nvGrpSpPr>
          <p:grpSpPr>
            <a:xfrm>
              <a:off x="1300320" y="5408640"/>
              <a:ext cx="863280" cy="1089000"/>
              <a:chOff x="1300320" y="5408640"/>
              <a:chExt cx="863280" cy="1089000"/>
            </a:xfrm>
          </p:grpSpPr>
          <p:sp>
            <p:nvSpPr>
              <p:cNvPr id="514" name="未知"/>
              <p:cNvSpPr/>
              <p:nvPr/>
            </p:nvSpPr>
            <p:spPr>
              <a:xfrm>
                <a:off x="1334520" y="6279840"/>
                <a:ext cx="617040" cy="21780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1300320" y="5408640"/>
                <a:ext cx="863280" cy="1073520"/>
                <a:chOff x="1300320" y="5408640"/>
                <a:chExt cx="863280" cy="107352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1405440" y="5866560"/>
                  <a:ext cx="546480" cy="550080"/>
                  <a:chOff x="1405440" y="5866560"/>
                  <a:chExt cx="546480" cy="550080"/>
                </a:xfrm>
              </p:grpSpPr>
              <p:sp>
                <p:nvSpPr>
                  <p:cNvPr id="517" name="未知"/>
                  <p:cNvSpPr/>
                  <p:nvPr/>
                </p:nvSpPr>
                <p:spPr>
                  <a:xfrm>
                    <a:off x="1405440" y="5931360"/>
                    <a:ext cx="31860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未知"/>
                  <p:cNvSpPr/>
                  <p:nvPr/>
                </p:nvSpPr>
                <p:spPr>
                  <a:xfrm flipH="1" rot="21336600">
                    <a:off x="1647360" y="5876280"/>
                    <a:ext cx="284400" cy="529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1540440" y="5898600"/>
                  <a:ext cx="623160" cy="583560"/>
                  <a:chOff x="1540440" y="5898600"/>
                  <a:chExt cx="623160" cy="583560"/>
                </a:xfrm>
              </p:grpSpPr>
              <p:sp>
                <p:nvSpPr>
                  <p:cNvPr id="520" name="未知"/>
                  <p:cNvSpPr/>
                  <p:nvPr/>
                </p:nvSpPr>
                <p:spPr>
                  <a:xfrm rot="852600">
                    <a:off x="1593720" y="5930280"/>
                    <a:ext cx="31860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未知"/>
                  <p:cNvSpPr/>
                  <p:nvPr/>
                </p:nvSpPr>
                <p:spPr>
                  <a:xfrm flipH="1" rot="588600">
                    <a:off x="1835640" y="5931720"/>
                    <a:ext cx="284400" cy="529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2" name="未知"/>
                <p:cNvSpPr/>
                <p:nvPr/>
              </p:nvSpPr>
              <p:spPr>
                <a:xfrm rot="1243800">
                  <a:off x="1461960" y="5425920"/>
                  <a:ext cx="274320" cy="9637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"/>
            <p:cNvGrpSpPr/>
            <p:nvPr/>
          </p:nvGrpSpPr>
          <p:grpSpPr>
            <a:xfrm>
              <a:off x="5559480" y="4072320"/>
              <a:ext cx="819360" cy="1116000"/>
              <a:chOff x="5559480" y="4072320"/>
              <a:chExt cx="819360" cy="1116000"/>
            </a:xfrm>
          </p:grpSpPr>
          <p:sp>
            <p:nvSpPr>
              <p:cNvPr id="524" name="未知"/>
              <p:cNvSpPr/>
              <p:nvPr/>
            </p:nvSpPr>
            <p:spPr>
              <a:xfrm rot="21223800">
                <a:off x="5599440" y="4937400"/>
                <a:ext cx="617040" cy="21780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5559480" y="4072320"/>
                <a:ext cx="819360" cy="1019880"/>
                <a:chOff x="5559480" y="4072320"/>
                <a:chExt cx="819360" cy="101988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5622120" y="4497840"/>
                  <a:ext cx="594360" cy="592560"/>
                  <a:chOff x="5622120" y="4497840"/>
                  <a:chExt cx="594360" cy="592560"/>
                </a:xfrm>
              </p:grpSpPr>
              <p:sp>
                <p:nvSpPr>
                  <p:cNvPr id="527" name="未知"/>
                  <p:cNvSpPr/>
                  <p:nvPr/>
                </p:nvSpPr>
                <p:spPr>
                  <a:xfrm rot="21223800">
                    <a:off x="5646960" y="4598640"/>
                    <a:ext cx="31860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未知"/>
                  <p:cNvSpPr/>
                  <p:nvPr/>
                </p:nvSpPr>
                <p:spPr>
                  <a:xfrm flipH="1" rot="20960400">
                    <a:off x="5885280" y="4519440"/>
                    <a:ext cx="284400" cy="529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5803200" y="4545720"/>
                  <a:ext cx="575640" cy="546480"/>
                  <a:chOff x="5803200" y="4545720"/>
                  <a:chExt cx="575640" cy="546480"/>
                </a:xfrm>
              </p:grpSpPr>
              <p:sp>
                <p:nvSpPr>
                  <p:cNvPr id="530" name="未知"/>
                  <p:cNvSpPr/>
                  <p:nvPr/>
                </p:nvSpPr>
                <p:spPr>
                  <a:xfrm rot="476400">
                    <a:off x="5834160" y="4577040"/>
                    <a:ext cx="31860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未知"/>
                  <p:cNvSpPr/>
                  <p:nvPr/>
                </p:nvSpPr>
                <p:spPr>
                  <a:xfrm flipH="1" rot="212400">
                    <a:off x="6077880" y="4554000"/>
                    <a:ext cx="284400" cy="529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2" name="未知"/>
                <p:cNvSpPr/>
                <p:nvPr/>
              </p:nvSpPr>
              <p:spPr>
                <a:xfrm rot="867600">
                  <a:off x="5675040" y="4091040"/>
                  <a:ext cx="274320" cy="9637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"/>
            <p:cNvGrpSpPr/>
            <p:nvPr/>
          </p:nvGrpSpPr>
          <p:grpSpPr>
            <a:xfrm>
              <a:off x="8458560" y="4248720"/>
              <a:ext cx="834840" cy="846000"/>
              <a:chOff x="8458560" y="4248720"/>
              <a:chExt cx="834840" cy="846000"/>
            </a:xfrm>
          </p:grpSpPr>
          <p:sp>
            <p:nvSpPr>
              <p:cNvPr id="534" name="未知"/>
              <p:cNvSpPr/>
              <p:nvPr/>
            </p:nvSpPr>
            <p:spPr>
              <a:xfrm rot="19298400">
                <a:off x="8642520" y="4780080"/>
                <a:ext cx="567720" cy="15516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8458560" y="4248720"/>
                <a:ext cx="834840" cy="754920"/>
                <a:chOff x="8458560" y="4248720"/>
                <a:chExt cx="834840" cy="75492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8553240" y="4407840"/>
                  <a:ext cx="595080" cy="595800"/>
                  <a:chOff x="8553240" y="4407840"/>
                  <a:chExt cx="595080" cy="595800"/>
                </a:xfrm>
              </p:grpSpPr>
              <p:sp>
                <p:nvSpPr>
                  <p:cNvPr id="537" name="未知"/>
                  <p:cNvSpPr/>
                  <p:nvPr/>
                </p:nvSpPr>
                <p:spPr>
                  <a:xfrm rot="19298400">
                    <a:off x="8626680" y="4610160"/>
                    <a:ext cx="2934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未知"/>
                  <p:cNvSpPr/>
                  <p:nvPr/>
                </p:nvSpPr>
                <p:spPr>
                  <a:xfrm flipH="1" rot="19034400">
                    <a:off x="8792640" y="4446360"/>
                    <a:ext cx="26172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8703360" y="4334760"/>
                  <a:ext cx="590040" cy="546120"/>
                  <a:chOff x="8703360" y="4334760"/>
                  <a:chExt cx="590040" cy="546120"/>
                </a:xfrm>
              </p:grpSpPr>
              <p:sp>
                <p:nvSpPr>
                  <p:cNvPr id="540" name="未知"/>
                  <p:cNvSpPr/>
                  <p:nvPr/>
                </p:nvSpPr>
                <p:spPr>
                  <a:xfrm rot="20150400">
                    <a:off x="8759520" y="4496760"/>
                    <a:ext cx="2934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未知"/>
                  <p:cNvSpPr/>
                  <p:nvPr/>
                </p:nvSpPr>
                <p:spPr>
                  <a:xfrm flipH="1" rot="19887000">
                    <a:off x="8957160" y="4374360"/>
                    <a:ext cx="26172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未知"/>
                <p:cNvSpPr/>
                <p:nvPr/>
              </p:nvSpPr>
              <p:spPr>
                <a:xfrm rot="20542200">
                  <a:off x="8556480" y="4270320"/>
                  <a:ext cx="252360" cy="6865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8497800" y="4092480"/>
              <a:ext cx="800640" cy="842400"/>
              <a:chOff x="8497800" y="4092480"/>
              <a:chExt cx="800640" cy="842400"/>
            </a:xfrm>
          </p:grpSpPr>
          <p:sp>
            <p:nvSpPr>
              <p:cNvPr id="544" name="未知"/>
              <p:cNvSpPr/>
              <p:nvPr/>
            </p:nvSpPr>
            <p:spPr>
              <a:xfrm flipH="1" rot="21095400">
                <a:off x="8721720" y="4720680"/>
                <a:ext cx="567720" cy="155160"/>
              </a:xfrm>
              <a:custGeom>
                <a:avLst/>
                <a:gdLst/>
                <a:ahLst/>
                <a:rect l="l" t="t" r="r" b="b"/>
                <a:pathLst>
                  <a:path w="601" h="305">
                    <a:moveTo>
                      <a:pt x="151" y="0"/>
                    </a:moveTo>
                    <a:cubicBezTo>
                      <a:pt x="113" y="0"/>
                      <a:pt x="46" y="14"/>
                      <a:pt x="46" y="14"/>
                    </a:cubicBezTo>
                    <a:cubicBezTo>
                      <a:pt x="46" y="14"/>
                      <a:pt x="0" y="104"/>
                      <a:pt x="0" y="104"/>
                    </a:cubicBezTo>
                    <a:cubicBezTo>
                      <a:pt x="0" y="104"/>
                      <a:pt x="46" y="240"/>
                      <a:pt x="46" y="240"/>
                    </a:cubicBezTo>
                    <a:cubicBezTo>
                      <a:pt x="46" y="240"/>
                      <a:pt x="182" y="286"/>
                      <a:pt x="182" y="286"/>
                    </a:cubicBezTo>
                    <a:cubicBezTo>
                      <a:pt x="182" y="286"/>
                      <a:pt x="384" y="305"/>
                      <a:pt x="454" y="286"/>
                    </a:cubicBezTo>
                    <a:cubicBezTo>
                      <a:pt x="524" y="267"/>
                      <a:pt x="601" y="169"/>
                      <a:pt x="601" y="169"/>
                    </a:cubicBezTo>
                    <a:cubicBezTo>
                      <a:pt x="601" y="169"/>
                      <a:pt x="577" y="132"/>
                      <a:pt x="545" y="104"/>
                    </a:cubicBezTo>
                    <a:cubicBezTo>
                      <a:pt x="513" y="76"/>
                      <a:pt x="454" y="104"/>
                      <a:pt x="454" y="104"/>
                    </a:cubicBezTo>
                    <a:cubicBezTo>
                      <a:pt x="454" y="104"/>
                      <a:pt x="363" y="59"/>
                      <a:pt x="363" y="59"/>
                    </a:cubicBezTo>
                    <a:cubicBezTo>
                      <a:pt x="363" y="59"/>
                      <a:pt x="307" y="24"/>
                      <a:pt x="272" y="14"/>
                    </a:cubicBezTo>
                    <a:cubicBezTo>
                      <a:pt x="237" y="4"/>
                      <a:pt x="189" y="0"/>
                      <a:pt x="15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969696">
                      <a:alpha val="2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8497800" y="4092480"/>
                <a:ext cx="775080" cy="842400"/>
                <a:chOff x="8497800" y="4092480"/>
                <a:chExt cx="775080" cy="84240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8702280" y="4443840"/>
                  <a:ext cx="522000" cy="397440"/>
                  <a:chOff x="8702280" y="4443840"/>
                  <a:chExt cx="522000" cy="397440"/>
                </a:xfrm>
              </p:grpSpPr>
              <p:sp>
                <p:nvSpPr>
                  <p:cNvPr id="547" name="未知"/>
                  <p:cNvSpPr/>
                  <p:nvPr/>
                </p:nvSpPr>
                <p:spPr>
                  <a:xfrm flipH="1" rot="21095400">
                    <a:off x="8907480" y="4463280"/>
                    <a:ext cx="2934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未知"/>
                  <p:cNvSpPr/>
                  <p:nvPr/>
                </p:nvSpPr>
                <p:spPr>
                  <a:xfrm rot="21358800">
                    <a:off x="8714880" y="4455360"/>
                    <a:ext cx="26172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8497800" y="4439520"/>
                  <a:ext cx="583200" cy="495360"/>
                  <a:chOff x="8497800" y="4439520"/>
                  <a:chExt cx="583200" cy="495360"/>
                </a:xfrm>
              </p:grpSpPr>
              <p:sp>
                <p:nvSpPr>
                  <p:cNvPr id="550" name="未知"/>
                  <p:cNvSpPr/>
                  <p:nvPr/>
                </p:nvSpPr>
                <p:spPr>
                  <a:xfrm flipH="1" rot="20242800">
                    <a:off x="8733600" y="4482720"/>
                    <a:ext cx="293400" cy="33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未知"/>
                  <p:cNvSpPr/>
                  <p:nvPr/>
                </p:nvSpPr>
                <p:spPr>
                  <a:xfrm rot="20506200">
                    <a:off x="8550000" y="4525560"/>
                    <a:ext cx="261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790">
                        <a:moveTo>
                          <a:pt x="314" y="661"/>
                        </a:moveTo>
                        <a:cubicBezTo>
                          <a:pt x="294" y="633"/>
                          <a:pt x="291" y="592"/>
                          <a:pt x="254" y="569"/>
                        </a:cubicBezTo>
                        <a:cubicBezTo>
                          <a:pt x="217" y="546"/>
                          <a:pt x="62" y="486"/>
                          <a:pt x="55" y="476"/>
                        </a:cubicBezTo>
                        <a:cubicBezTo>
                          <a:pt x="48" y="466"/>
                          <a:pt x="194" y="519"/>
                          <a:pt x="214" y="509"/>
                        </a:cubicBezTo>
                        <a:cubicBezTo>
                          <a:pt x="234" y="499"/>
                          <a:pt x="212" y="445"/>
                          <a:pt x="178" y="417"/>
                        </a:cubicBezTo>
                        <a:cubicBezTo>
                          <a:pt x="144" y="389"/>
                          <a:pt x="14" y="349"/>
                          <a:pt x="10" y="340"/>
                        </a:cubicBezTo>
                        <a:cubicBezTo>
                          <a:pt x="6" y="331"/>
                          <a:pt x="134" y="372"/>
                          <a:pt x="154" y="365"/>
                        </a:cubicBezTo>
                        <a:cubicBezTo>
                          <a:pt x="174" y="358"/>
                          <a:pt x="146" y="316"/>
                          <a:pt x="130" y="297"/>
                        </a:cubicBezTo>
                        <a:cubicBezTo>
                          <a:pt x="114" y="278"/>
                          <a:pt x="75" y="264"/>
                          <a:pt x="55" y="249"/>
                        </a:cubicBezTo>
                        <a:cubicBezTo>
                          <a:pt x="35" y="234"/>
                          <a:pt x="0" y="205"/>
                          <a:pt x="10" y="204"/>
                        </a:cubicBezTo>
                        <a:cubicBezTo>
                          <a:pt x="20" y="203"/>
                          <a:pt x="103" y="275"/>
                          <a:pt x="118" y="245"/>
                        </a:cubicBezTo>
                        <a:cubicBezTo>
                          <a:pt x="133" y="215"/>
                          <a:pt x="83" y="0"/>
                          <a:pt x="101" y="22"/>
                        </a:cubicBezTo>
                        <a:cubicBezTo>
                          <a:pt x="119" y="44"/>
                          <a:pt x="202" y="355"/>
                          <a:pt x="226" y="377"/>
                        </a:cubicBezTo>
                        <a:cubicBezTo>
                          <a:pt x="250" y="399"/>
                          <a:pt x="240" y="144"/>
                          <a:pt x="246" y="157"/>
                        </a:cubicBezTo>
                        <a:cubicBezTo>
                          <a:pt x="255" y="171"/>
                          <a:pt x="265" y="396"/>
                          <a:pt x="278" y="461"/>
                        </a:cubicBezTo>
                        <a:cubicBezTo>
                          <a:pt x="292" y="531"/>
                          <a:pt x="306" y="561"/>
                          <a:pt x="322" y="549"/>
                        </a:cubicBezTo>
                        <a:cubicBezTo>
                          <a:pt x="338" y="537"/>
                          <a:pt x="318" y="326"/>
                          <a:pt x="328" y="340"/>
                        </a:cubicBezTo>
                        <a:cubicBezTo>
                          <a:pt x="338" y="354"/>
                          <a:pt x="364" y="573"/>
                          <a:pt x="382" y="633"/>
                        </a:cubicBezTo>
                        <a:cubicBezTo>
                          <a:pt x="400" y="693"/>
                          <a:pt x="428" y="680"/>
                          <a:pt x="434" y="697"/>
                        </a:cubicBezTo>
                        <a:cubicBezTo>
                          <a:pt x="440" y="714"/>
                          <a:pt x="443" y="720"/>
                          <a:pt x="438" y="733"/>
                        </a:cubicBezTo>
                        <a:cubicBezTo>
                          <a:pt x="433" y="746"/>
                          <a:pt x="423" y="790"/>
                          <a:pt x="406" y="777"/>
                        </a:cubicBezTo>
                        <a:cubicBezTo>
                          <a:pt x="389" y="764"/>
                          <a:pt x="334" y="689"/>
                          <a:pt x="314" y="66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5c00"/>
                      </a:gs>
                      <a:gs pos="100000">
                        <a:srgbClr val="ffe67d"/>
                      </a:gs>
                    </a:gsLst>
                    <a:lin ang="7836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未知"/>
                <p:cNvSpPr/>
                <p:nvPr/>
              </p:nvSpPr>
              <p:spPr>
                <a:xfrm flipH="1" rot="19851000">
                  <a:off x="8868960" y="4110480"/>
                  <a:ext cx="252360" cy="686520"/>
                </a:xfrm>
                <a:custGeom>
                  <a:avLst/>
                  <a:gdLst/>
                  <a:ahLst/>
                  <a:rect l="l" t="t" r="r" b="b"/>
                  <a:pathLst>
                    <a:path w="443" h="790">
                      <a:moveTo>
                        <a:pt x="314" y="661"/>
                      </a:moveTo>
                      <a:cubicBezTo>
                        <a:pt x="294" y="633"/>
                        <a:pt x="291" y="592"/>
                        <a:pt x="254" y="569"/>
                      </a:cubicBezTo>
                      <a:cubicBezTo>
                        <a:pt x="217" y="546"/>
                        <a:pt x="62" y="486"/>
                        <a:pt x="55" y="476"/>
                      </a:cubicBezTo>
                      <a:cubicBezTo>
                        <a:pt x="48" y="466"/>
                        <a:pt x="194" y="519"/>
                        <a:pt x="214" y="509"/>
                      </a:cubicBezTo>
                      <a:cubicBezTo>
                        <a:pt x="234" y="499"/>
                        <a:pt x="212" y="445"/>
                        <a:pt x="178" y="417"/>
                      </a:cubicBezTo>
                      <a:cubicBezTo>
                        <a:pt x="144" y="389"/>
                        <a:pt x="14" y="349"/>
                        <a:pt x="10" y="340"/>
                      </a:cubicBezTo>
                      <a:cubicBezTo>
                        <a:pt x="6" y="331"/>
                        <a:pt x="134" y="372"/>
                        <a:pt x="154" y="365"/>
                      </a:cubicBezTo>
                      <a:cubicBezTo>
                        <a:pt x="174" y="358"/>
                        <a:pt x="146" y="316"/>
                        <a:pt x="130" y="297"/>
                      </a:cubicBezTo>
                      <a:cubicBezTo>
                        <a:pt x="114" y="278"/>
                        <a:pt x="75" y="264"/>
                        <a:pt x="55" y="249"/>
                      </a:cubicBezTo>
                      <a:cubicBezTo>
                        <a:pt x="35" y="234"/>
                        <a:pt x="0" y="205"/>
                        <a:pt x="10" y="204"/>
                      </a:cubicBezTo>
                      <a:cubicBezTo>
                        <a:pt x="20" y="203"/>
                        <a:pt x="103" y="275"/>
                        <a:pt x="118" y="245"/>
                      </a:cubicBezTo>
                      <a:cubicBezTo>
                        <a:pt x="133" y="215"/>
                        <a:pt x="83" y="0"/>
                        <a:pt x="101" y="22"/>
                      </a:cubicBezTo>
                      <a:cubicBezTo>
                        <a:pt x="119" y="44"/>
                        <a:pt x="202" y="355"/>
                        <a:pt x="226" y="377"/>
                      </a:cubicBezTo>
                      <a:cubicBezTo>
                        <a:pt x="250" y="399"/>
                        <a:pt x="240" y="144"/>
                        <a:pt x="246" y="157"/>
                      </a:cubicBezTo>
                      <a:cubicBezTo>
                        <a:pt x="255" y="171"/>
                        <a:pt x="265" y="396"/>
                        <a:pt x="278" y="461"/>
                      </a:cubicBezTo>
                      <a:cubicBezTo>
                        <a:pt x="292" y="531"/>
                        <a:pt x="306" y="561"/>
                        <a:pt x="322" y="549"/>
                      </a:cubicBezTo>
                      <a:cubicBezTo>
                        <a:pt x="338" y="537"/>
                        <a:pt x="318" y="326"/>
                        <a:pt x="328" y="340"/>
                      </a:cubicBezTo>
                      <a:cubicBezTo>
                        <a:pt x="338" y="354"/>
                        <a:pt x="364" y="573"/>
                        <a:pt x="382" y="633"/>
                      </a:cubicBezTo>
                      <a:cubicBezTo>
                        <a:pt x="400" y="693"/>
                        <a:pt x="428" y="680"/>
                        <a:pt x="434" y="697"/>
                      </a:cubicBezTo>
                      <a:cubicBezTo>
                        <a:pt x="440" y="714"/>
                        <a:pt x="443" y="720"/>
                        <a:pt x="438" y="733"/>
                      </a:cubicBezTo>
                      <a:cubicBezTo>
                        <a:pt x="433" y="746"/>
                        <a:pt x="423" y="790"/>
                        <a:pt x="406" y="777"/>
                      </a:cubicBezTo>
                      <a:cubicBezTo>
                        <a:pt x="389" y="764"/>
                        <a:pt x="334" y="689"/>
                        <a:pt x="314" y="66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a5c00"/>
                    </a:gs>
                    <a:gs pos="100000">
                      <a:srgbClr val="ffe67d"/>
                    </a:gs>
                  </a:gsLst>
                  <a:lin ang="6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7779960" y="4150440"/>
              <a:ext cx="1036800" cy="1371600"/>
              <a:chOff x="7779960" y="4150440"/>
              <a:chExt cx="1036800" cy="137160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7934760" y="4809600"/>
                <a:ext cx="431280" cy="405360"/>
                <a:chOff x="7934760" y="4809600"/>
                <a:chExt cx="431280" cy="405360"/>
              </a:xfrm>
            </p:grpSpPr>
            <p:sp>
              <p:nvSpPr>
                <p:cNvPr id="555" name="未知"/>
                <p:cNvSpPr/>
                <p:nvPr/>
              </p:nvSpPr>
              <p:spPr>
                <a:xfrm rot="21040800">
                  <a:off x="7960320" y="4838040"/>
                  <a:ext cx="379800" cy="34848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未知"/>
                <p:cNvSpPr/>
                <p:nvPr/>
              </p:nvSpPr>
              <p:spPr>
                <a:xfrm rot="21040800">
                  <a:off x="7952400" y="4866120"/>
                  <a:ext cx="252000" cy="16560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未知"/>
                <p:cNvSpPr/>
                <p:nvPr/>
              </p:nvSpPr>
              <p:spPr>
                <a:xfrm rot="21040800">
                  <a:off x="7999200" y="5055840"/>
                  <a:ext cx="222120" cy="3276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未知"/>
                <p:cNvSpPr/>
                <p:nvPr/>
              </p:nvSpPr>
              <p:spPr>
                <a:xfrm rot="21040800">
                  <a:off x="8236080" y="5011200"/>
                  <a:ext cx="104400" cy="939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7976520" y="4150440"/>
                <a:ext cx="600120" cy="1371600"/>
                <a:chOff x="7976520" y="4150440"/>
                <a:chExt cx="600120" cy="1371600"/>
              </a:xfrm>
            </p:grpSpPr>
            <p:sp>
              <p:nvSpPr>
                <p:cNvPr id="560" name="未知"/>
                <p:cNvSpPr/>
                <p:nvPr/>
              </p:nvSpPr>
              <p:spPr>
                <a:xfrm rot="20695200">
                  <a:off x="8147520" y="4160520"/>
                  <a:ext cx="257400" cy="135108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未知"/>
                <p:cNvSpPr/>
                <p:nvPr/>
              </p:nvSpPr>
              <p:spPr>
                <a:xfrm rot="20695200">
                  <a:off x="8053200" y="4362840"/>
                  <a:ext cx="83160" cy="1742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未知"/>
                <p:cNvSpPr/>
                <p:nvPr/>
              </p:nvSpPr>
              <p:spPr>
                <a:xfrm rot="20695200">
                  <a:off x="8092440" y="4219920"/>
                  <a:ext cx="72720" cy="21888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未知"/>
                <p:cNvSpPr/>
                <p:nvPr/>
              </p:nvSpPr>
              <p:spPr>
                <a:xfrm rot="20695200">
                  <a:off x="8174520" y="4195080"/>
                  <a:ext cx="94680" cy="34956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未知"/>
                <p:cNvSpPr/>
                <p:nvPr/>
              </p:nvSpPr>
              <p:spPr>
                <a:xfrm rot="20695200">
                  <a:off x="8240400" y="4416120"/>
                  <a:ext cx="82080" cy="18720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8326800" y="4455360"/>
                <a:ext cx="489960" cy="619560"/>
                <a:chOff x="8326800" y="4455360"/>
                <a:chExt cx="489960" cy="619560"/>
              </a:xfrm>
            </p:grpSpPr>
            <p:sp>
              <p:nvSpPr>
                <p:cNvPr id="566" name="未知"/>
                <p:cNvSpPr/>
                <p:nvPr/>
              </p:nvSpPr>
              <p:spPr>
                <a:xfrm flipH="1" rot="21104400">
                  <a:off x="8364960" y="4482000"/>
                  <a:ext cx="412920" cy="5659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未知"/>
                <p:cNvSpPr/>
                <p:nvPr/>
              </p:nvSpPr>
              <p:spPr>
                <a:xfrm flipH="1" rot="21104400">
                  <a:off x="8481960" y="4502160"/>
                  <a:ext cx="273960" cy="26892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未知"/>
                <p:cNvSpPr/>
                <p:nvPr/>
              </p:nvSpPr>
              <p:spPr>
                <a:xfrm flipH="1" rot="21104400">
                  <a:off x="8515080" y="4815000"/>
                  <a:ext cx="241560" cy="5328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未知"/>
                <p:cNvSpPr/>
                <p:nvPr/>
              </p:nvSpPr>
              <p:spPr>
                <a:xfrm flipH="1" rot="21104400">
                  <a:off x="8391600" y="4817520"/>
                  <a:ext cx="113760" cy="15300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7779960" y="4519800"/>
                <a:ext cx="517320" cy="571320"/>
                <a:chOff x="7779960" y="4519800"/>
                <a:chExt cx="517320" cy="571320"/>
              </a:xfrm>
            </p:grpSpPr>
            <p:sp>
              <p:nvSpPr>
                <p:cNvPr id="571" name="未知"/>
                <p:cNvSpPr/>
                <p:nvPr/>
              </p:nvSpPr>
              <p:spPr>
                <a:xfrm rot="20695200">
                  <a:off x="7835400" y="4564080"/>
                  <a:ext cx="405720" cy="48240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未知"/>
                <p:cNvSpPr/>
                <p:nvPr/>
              </p:nvSpPr>
              <p:spPr>
                <a:xfrm rot="20695200">
                  <a:off x="7862040" y="4825440"/>
                  <a:ext cx="253080" cy="15048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未知"/>
                <p:cNvSpPr/>
                <p:nvPr/>
              </p:nvSpPr>
              <p:spPr>
                <a:xfrm rot="20695200">
                  <a:off x="7857360" y="4635720"/>
                  <a:ext cx="105480" cy="9540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未知"/>
                <p:cNvSpPr/>
                <p:nvPr/>
              </p:nvSpPr>
              <p:spPr>
                <a:xfrm rot="20695200">
                  <a:off x="7978320" y="4629240"/>
                  <a:ext cx="186480" cy="2286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 rot="20695200">
                  <a:off x="8065800" y="4541400"/>
                  <a:ext cx="156960" cy="36576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6" name=""/>
            <p:cNvGrpSpPr/>
            <p:nvPr/>
          </p:nvGrpSpPr>
          <p:grpSpPr>
            <a:xfrm>
              <a:off x="8229240" y="3758400"/>
              <a:ext cx="730800" cy="1720440"/>
              <a:chOff x="8229240" y="3758400"/>
              <a:chExt cx="730800" cy="172044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8237880" y="4540680"/>
                <a:ext cx="339840" cy="482400"/>
                <a:chOff x="8237880" y="4540680"/>
                <a:chExt cx="339840" cy="482400"/>
              </a:xfrm>
            </p:grpSpPr>
            <p:sp>
              <p:nvSpPr>
                <p:cNvPr id="578" name="未知"/>
                <p:cNvSpPr/>
                <p:nvPr/>
              </p:nvSpPr>
              <p:spPr>
                <a:xfrm rot="640800">
                  <a:off x="8276400" y="4560840"/>
                  <a:ext cx="262800" cy="44136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未知"/>
                <p:cNvSpPr/>
                <p:nvPr/>
              </p:nvSpPr>
              <p:spPr>
                <a:xfrm rot="640800">
                  <a:off x="8296560" y="4577040"/>
                  <a:ext cx="174240" cy="2098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未知"/>
                <p:cNvSpPr/>
                <p:nvPr/>
              </p:nvSpPr>
              <p:spPr>
                <a:xfrm rot="640800">
                  <a:off x="8285040" y="4820040"/>
                  <a:ext cx="153720" cy="4140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未知"/>
                <p:cNvSpPr/>
                <p:nvPr/>
              </p:nvSpPr>
              <p:spPr>
                <a:xfrm rot="640800">
                  <a:off x="8443080" y="4822560"/>
                  <a:ext cx="72360" cy="11916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8376120" y="3758400"/>
                <a:ext cx="324360" cy="1720440"/>
                <a:chOff x="8376120" y="3758400"/>
                <a:chExt cx="324360" cy="1720440"/>
              </a:xfrm>
            </p:grpSpPr>
            <p:sp>
              <p:nvSpPr>
                <p:cNvPr id="583" name="未知"/>
                <p:cNvSpPr/>
                <p:nvPr/>
              </p:nvSpPr>
              <p:spPr>
                <a:xfrm rot="295200">
                  <a:off x="8449200" y="3762720"/>
                  <a:ext cx="178200" cy="1711440"/>
                </a:xfrm>
                <a:custGeom>
                  <a:avLst/>
                  <a:gdLst/>
                  <a:ahLst/>
                  <a:rect l="l" t="t" r="r" b="b"/>
                  <a:pathLst>
                    <a:path w="1999" h="4389">
                      <a:moveTo>
                        <a:pt x="636" y="4389"/>
                      </a:moveTo>
                      <a:cubicBezTo>
                        <a:pt x="487" y="4090"/>
                        <a:pt x="776" y="3065"/>
                        <a:pt x="785" y="2596"/>
                      </a:cubicBezTo>
                      <a:cubicBezTo>
                        <a:pt x="794" y="2127"/>
                        <a:pt x="810" y="1924"/>
                        <a:pt x="689" y="1576"/>
                      </a:cubicBezTo>
                      <a:cubicBezTo>
                        <a:pt x="568" y="1228"/>
                        <a:pt x="14" y="582"/>
                        <a:pt x="1" y="488"/>
                      </a:cubicBezTo>
                      <a:cubicBezTo>
                        <a:pt x="0" y="390"/>
                        <a:pt x="583" y="1055"/>
                        <a:pt x="681" y="987"/>
                      </a:cubicBezTo>
                      <a:cubicBezTo>
                        <a:pt x="779" y="919"/>
                        <a:pt x="547" y="134"/>
                        <a:pt x="590" y="80"/>
                      </a:cubicBezTo>
                      <a:cubicBezTo>
                        <a:pt x="633" y="26"/>
                        <a:pt x="835" y="664"/>
                        <a:pt x="941" y="664"/>
                      </a:cubicBezTo>
                      <a:cubicBezTo>
                        <a:pt x="1047" y="664"/>
                        <a:pt x="1185" y="0"/>
                        <a:pt x="1225" y="80"/>
                      </a:cubicBezTo>
                      <a:cubicBezTo>
                        <a:pt x="1265" y="160"/>
                        <a:pt x="1068" y="1137"/>
                        <a:pt x="1181" y="1144"/>
                      </a:cubicBezTo>
                      <a:cubicBezTo>
                        <a:pt x="1294" y="1151"/>
                        <a:pt x="1868" y="98"/>
                        <a:pt x="1906" y="125"/>
                      </a:cubicBezTo>
                      <a:cubicBezTo>
                        <a:pt x="1906" y="125"/>
                        <a:pt x="1397" y="1180"/>
                        <a:pt x="1407" y="1305"/>
                      </a:cubicBezTo>
                      <a:cubicBezTo>
                        <a:pt x="1417" y="1430"/>
                        <a:pt x="1575" y="1140"/>
                        <a:pt x="1673" y="1072"/>
                      </a:cubicBezTo>
                      <a:cubicBezTo>
                        <a:pt x="1771" y="1004"/>
                        <a:pt x="1999" y="809"/>
                        <a:pt x="1997" y="897"/>
                      </a:cubicBezTo>
                      <a:cubicBezTo>
                        <a:pt x="1995" y="985"/>
                        <a:pt x="1685" y="1336"/>
                        <a:pt x="1661" y="1600"/>
                      </a:cubicBezTo>
                      <a:cubicBezTo>
                        <a:pt x="1637" y="1864"/>
                        <a:pt x="1845" y="3921"/>
                        <a:pt x="1679" y="4389"/>
                      </a:cubicBezTo>
                      <a:lnTo>
                        <a:pt x="636" y="438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未知"/>
                <p:cNvSpPr/>
                <p:nvPr/>
              </p:nvSpPr>
              <p:spPr>
                <a:xfrm rot="295200">
                  <a:off x="8503560" y="3973680"/>
                  <a:ext cx="57600" cy="221040"/>
                </a:xfrm>
                <a:custGeom>
                  <a:avLst/>
                  <a:gdLst/>
                  <a:ahLst/>
                  <a:rect l="l" t="t" r="r" b="b"/>
                  <a:pathLst>
                    <a:path w="806" h="567">
                      <a:moveTo>
                        <a:pt x="734" y="567"/>
                      </a:moveTo>
                      <a:cubicBezTo>
                        <a:pt x="679" y="567"/>
                        <a:pt x="583" y="525"/>
                        <a:pt x="461" y="431"/>
                      </a:cubicBezTo>
                      <a:lnTo>
                        <a:pt x="0" y="0"/>
                      </a:lnTo>
                      <a:cubicBezTo>
                        <a:pt x="32" y="1"/>
                        <a:pt x="592" y="412"/>
                        <a:pt x="652" y="436"/>
                      </a:cubicBezTo>
                      <a:cubicBezTo>
                        <a:pt x="784" y="508"/>
                        <a:pt x="752" y="308"/>
                        <a:pt x="792" y="432"/>
                      </a:cubicBezTo>
                      <a:cubicBezTo>
                        <a:pt x="806" y="454"/>
                        <a:pt x="789" y="567"/>
                        <a:pt x="734" y="56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未知"/>
                <p:cNvSpPr/>
                <p:nvPr/>
              </p:nvSpPr>
              <p:spPr>
                <a:xfrm rot="295200">
                  <a:off x="8562960" y="3813120"/>
                  <a:ext cx="50040" cy="277200"/>
                </a:xfrm>
                <a:custGeom>
                  <a:avLst/>
                  <a:gdLst/>
                  <a:ahLst/>
                  <a:rect l="l" t="t" r="r" b="b"/>
                  <a:pathLst>
                    <a:path w="705" h="711">
                      <a:moveTo>
                        <a:pt x="0" y="3"/>
                      </a:moveTo>
                      <a:cubicBezTo>
                        <a:pt x="0" y="33"/>
                        <a:pt x="149" y="432"/>
                        <a:pt x="206" y="545"/>
                      </a:cubicBezTo>
                      <a:cubicBezTo>
                        <a:pt x="263" y="658"/>
                        <a:pt x="312" y="658"/>
                        <a:pt x="342" y="681"/>
                      </a:cubicBezTo>
                      <a:cubicBezTo>
                        <a:pt x="372" y="704"/>
                        <a:pt x="357" y="711"/>
                        <a:pt x="387" y="681"/>
                      </a:cubicBezTo>
                      <a:cubicBezTo>
                        <a:pt x="417" y="651"/>
                        <a:pt x="470" y="612"/>
                        <a:pt x="523" y="499"/>
                      </a:cubicBezTo>
                      <a:cubicBezTo>
                        <a:pt x="576" y="386"/>
                        <a:pt x="682" y="75"/>
                        <a:pt x="705" y="0"/>
                      </a:cubicBezTo>
                      <a:lnTo>
                        <a:pt x="659" y="46"/>
                      </a:lnTo>
                      <a:cubicBezTo>
                        <a:pt x="621" y="121"/>
                        <a:pt x="523" y="371"/>
                        <a:pt x="478" y="454"/>
                      </a:cubicBezTo>
                      <a:cubicBezTo>
                        <a:pt x="433" y="537"/>
                        <a:pt x="415" y="536"/>
                        <a:pt x="387" y="545"/>
                      </a:cubicBezTo>
                      <a:cubicBezTo>
                        <a:pt x="359" y="554"/>
                        <a:pt x="334" y="533"/>
                        <a:pt x="304" y="503"/>
                      </a:cubicBezTo>
                      <a:cubicBezTo>
                        <a:pt x="274" y="473"/>
                        <a:pt x="257" y="446"/>
                        <a:pt x="206" y="363"/>
                      </a:cubicBezTo>
                      <a:cubicBezTo>
                        <a:pt x="155" y="280"/>
                        <a:pt x="43" y="78"/>
                        <a:pt x="0" y="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未知"/>
                <p:cNvSpPr/>
                <p:nvPr/>
              </p:nvSpPr>
              <p:spPr>
                <a:xfrm rot="295200">
                  <a:off x="8603280" y="3815280"/>
                  <a:ext cx="65520" cy="442800"/>
                </a:xfrm>
                <a:custGeom>
                  <a:avLst/>
                  <a:gdLst/>
                  <a:ahLst/>
                  <a:rect l="l" t="t" r="r" b="b"/>
                  <a:pathLst>
                    <a:path w="919" h="1136">
                      <a:moveTo>
                        <a:pt x="73" y="1113"/>
                      </a:moveTo>
                      <a:cubicBezTo>
                        <a:pt x="118" y="1090"/>
                        <a:pt x="136" y="1102"/>
                        <a:pt x="276" y="918"/>
                      </a:cubicBezTo>
                      <a:cubicBezTo>
                        <a:pt x="416" y="734"/>
                        <a:pt x="919" y="20"/>
                        <a:pt x="911" y="10"/>
                      </a:cubicBezTo>
                      <a:cubicBezTo>
                        <a:pt x="903" y="0"/>
                        <a:pt x="275" y="804"/>
                        <a:pt x="225" y="857"/>
                      </a:cubicBezTo>
                      <a:cubicBezTo>
                        <a:pt x="175" y="910"/>
                        <a:pt x="159" y="958"/>
                        <a:pt x="105" y="993"/>
                      </a:cubicBezTo>
                      <a:cubicBezTo>
                        <a:pt x="51" y="1028"/>
                        <a:pt x="8" y="1037"/>
                        <a:pt x="4" y="1054"/>
                      </a:cubicBezTo>
                      <a:cubicBezTo>
                        <a:pt x="0" y="1071"/>
                        <a:pt x="28" y="1136"/>
                        <a:pt x="73" y="111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未知"/>
                <p:cNvSpPr/>
                <p:nvPr/>
              </p:nvSpPr>
              <p:spPr>
                <a:xfrm rot="295200">
                  <a:off x="8605800" y="410868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798" h="609">
                      <a:moveTo>
                        <a:pt x="65" y="594"/>
                      </a:moveTo>
                      <a:cubicBezTo>
                        <a:pt x="103" y="579"/>
                        <a:pt x="188" y="467"/>
                        <a:pt x="241" y="417"/>
                      </a:cubicBezTo>
                      <a:cubicBezTo>
                        <a:pt x="294" y="367"/>
                        <a:pt x="302" y="354"/>
                        <a:pt x="385" y="294"/>
                      </a:cubicBezTo>
                      <a:cubicBezTo>
                        <a:pt x="468" y="234"/>
                        <a:pt x="680" y="103"/>
                        <a:pt x="739" y="55"/>
                      </a:cubicBezTo>
                      <a:cubicBezTo>
                        <a:pt x="798" y="7"/>
                        <a:pt x="775" y="0"/>
                        <a:pt x="739" y="9"/>
                      </a:cubicBezTo>
                      <a:cubicBezTo>
                        <a:pt x="703" y="18"/>
                        <a:pt x="589" y="73"/>
                        <a:pt x="521" y="110"/>
                      </a:cubicBezTo>
                      <a:cubicBezTo>
                        <a:pt x="453" y="147"/>
                        <a:pt x="395" y="186"/>
                        <a:pt x="333" y="230"/>
                      </a:cubicBezTo>
                      <a:cubicBezTo>
                        <a:pt x="271" y="274"/>
                        <a:pt x="203" y="326"/>
                        <a:pt x="150" y="372"/>
                      </a:cubicBezTo>
                      <a:cubicBezTo>
                        <a:pt x="97" y="418"/>
                        <a:pt x="28" y="471"/>
                        <a:pt x="14" y="508"/>
                      </a:cubicBezTo>
                      <a:cubicBezTo>
                        <a:pt x="0" y="545"/>
                        <a:pt x="27" y="609"/>
                        <a:pt x="65" y="59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8534520" y="4266720"/>
                <a:ext cx="425520" cy="760320"/>
                <a:chOff x="8534520" y="4266720"/>
                <a:chExt cx="425520" cy="760320"/>
              </a:xfrm>
            </p:grpSpPr>
            <p:sp>
              <p:nvSpPr>
                <p:cNvPr id="589" name="未知"/>
                <p:cNvSpPr/>
                <p:nvPr/>
              </p:nvSpPr>
              <p:spPr>
                <a:xfrm flipH="1" rot="704400">
                  <a:off x="8604360" y="4288320"/>
                  <a:ext cx="285840" cy="717120"/>
                </a:xfrm>
                <a:custGeom>
                  <a:avLst/>
                  <a:gdLst/>
                  <a:ahLst/>
                  <a:rect l="l" t="t" r="r" b="b"/>
                  <a:pathLst>
                    <a:path w="1881" h="2012">
                      <a:moveTo>
                        <a:pt x="1587" y="1769"/>
                      </a:moveTo>
                      <a:cubicBezTo>
                        <a:pt x="1490" y="1676"/>
                        <a:pt x="1466" y="1511"/>
                        <a:pt x="1224" y="1451"/>
                      </a:cubicBezTo>
                      <a:cubicBezTo>
                        <a:pt x="982" y="1391"/>
                        <a:pt x="151" y="1436"/>
                        <a:pt x="136" y="1406"/>
                      </a:cubicBezTo>
                      <a:cubicBezTo>
                        <a:pt x="121" y="1376"/>
                        <a:pt x="957" y="1364"/>
                        <a:pt x="1134" y="1270"/>
                      </a:cubicBezTo>
                      <a:cubicBezTo>
                        <a:pt x="1311" y="1176"/>
                        <a:pt x="16" y="181"/>
                        <a:pt x="0" y="91"/>
                      </a:cubicBezTo>
                      <a:cubicBezTo>
                        <a:pt x="1344" y="1007"/>
                        <a:pt x="1101" y="992"/>
                        <a:pt x="1041" y="728"/>
                      </a:cubicBezTo>
                      <a:cubicBezTo>
                        <a:pt x="1041" y="724"/>
                        <a:pt x="1059" y="849"/>
                        <a:pt x="1029" y="728"/>
                      </a:cubicBezTo>
                      <a:lnTo>
                        <a:pt x="862" y="0"/>
                      </a:lnTo>
                      <a:lnTo>
                        <a:pt x="1406" y="1179"/>
                      </a:lnTo>
                      <a:cubicBezTo>
                        <a:pt x="1565" y="1443"/>
                        <a:pt x="1747" y="1448"/>
                        <a:pt x="1814" y="1587"/>
                      </a:cubicBezTo>
                      <a:cubicBezTo>
                        <a:pt x="1881" y="1726"/>
                        <a:pt x="1847" y="1982"/>
                        <a:pt x="1809" y="2012"/>
                      </a:cubicBezTo>
                      <a:lnTo>
                        <a:pt x="1587" y="1769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未知"/>
                <p:cNvSpPr/>
                <p:nvPr/>
              </p:nvSpPr>
              <p:spPr>
                <a:xfrm flipH="1" rot="704400">
                  <a:off x="8726760" y="4336920"/>
                  <a:ext cx="189720" cy="341280"/>
                </a:xfrm>
                <a:custGeom>
                  <a:avLst/>
                  <a:gdLst/>
                  <a:ahLst/>
                  <a:rect l="l" t="t" r="r" b="b"/>
                  <a:pathLst>
                    <a:path w="1248" h="957">
                      <a:moveTo>
                        <a:pt x="1023" y="815"/>
                      </a:moveTo>
                      <a:cubicBezTo>
                        <a:pt x="846" y="673"/>
                        <a:pt x="0" y="14"/>
                        <a:pt x="8" y="7"/>
                      </a:cubicBezTo>
                      <a:cubicBezTo>
                        <a:pt x="16" y="0"/>
                        <a:pt x="889" y="633"/>
                        <a:pt x="1071" y="774"/>
                      </a:cubicBezTo>
                      <a:cubicBezTo>
                        <a:pt x="1248" y="909"/>
                        <a:pt x="1131" y="884"/>
                        <a:pt x="1102" y="854"/>
                      </a:cubicBezTo>
                      <a:cubicBezTo>
                        <a:pt x="1102" y="868"/>
                        <a:pt x="1042" y="834"/>
                        <a:pt x="1068" y="860"/>
                      </a:cubicBezTo>
                      <a:cubicBezTo>
                        <a:pt x="1055" y="854"/>
                        <a:pt x="1200" y="957"/>
                        <a:pt x="1023" y="8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未知"/>
                <p:cNvSpPr/>
                <p:nvPr/>
              </p:nvSpPr>
              <p:spPr>
                <a:xfrm flipH="1" rot="704400">
                  <a:off x="8677080" y="4726800"/>
                  <a:ext cx="167400" cy="67320"/>
                </a:xfrm>
                <a:custGeom>
                  <a:avLst/>
                  <a:gdLst/>
                  <a:ahLst/>
                  <a:rect l="l" t="t" r="r" b="b"/>
                  <a:pathLst>
                    <a:path w="1101" h="190">
                      <a:moveTo>
                        <a:pt x="952" y="54"/>
                      </a:moveTo>
                      <a:cubicBezTo>
                        <a:pt x="914" y="69"/>
                        <a:pt x="975" y="76"/>
                        <a:pt x="816" y="99"/>
                      </a:cubicBezTo>
                      <a:cubicBezTo>
                        <a:pt x="657" y="122"/>
                        <a:pt x="0" y="182"/>
                        <a:pt x="0" y="190"/>
                      </a:cubicBezTo>
                      <a:cubicBezTo>
                        <a:pt x="0" y="190"/>
                        <a:pt x="638" y="158"/>
                        <a:pt x="816" y="145"/>
                      </a:cubicBezTo>
                      <a:cubicBezTo>
                        <a:pt x="759" y="154"/>
                        <a:pt x="1069" y="112"/>
                        <a:pt x="1069" y="112"/>
                      </a:cubicBezTo>
                      <a:cubicBezTo>
                        <a:pt x="1069" y="112"/>
                        <a:pt x="1101" y="108"/>
                        <a:pt x="1088" y="54"/>
                      </a:cubicBezTo>
                      <a:cubicBezTo>
                        <a:pt x="1075" y="0"/>
                        <a:pt x="1043" y="9"/>
                        <a:pt x="1043" y="9"/>
                      </a:cubicBezTo>
                      <a:cubicBezTo>
                        <a:pt x="1043" y="9"/>
                        <a:pt x="990" y="39"/>
                        <a:pt x="952" y="5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未知"/>
                <p:cNvSpPr/>
                <p:nvPr/>
              </p:nvSpPr>
              <p:spPr>
                <a:xfrm flipH="1" rot="704400">
                  <a:off x="8584920" y="4666680"/>
                  <a:ext cx="78480" cy="193680"/>
                </a:xfrm>
                <a:custGeom>
                  <a:avLst/>
                  <a:gdLst/>
                  <a:ahLst/>
                  <a:rect l="l" t="t" r="r" b="b"/>
                  <a:pathLst>
                    <a:path w="518" h="544">
                      <a:moveTo>
                        <a:pt x="499" y="544"/>
                      </a:moveTo>
                      <a:cubicBezTo>
                        <a:pt x="499" y="544"/>
                        <a:pt x="378" y="491"/>
                        <a:pt x="318" y="453"/>
                      </a:cubicBezTo>
                      <a:cubicBezTo>
                        <a:pt x="258" y="415"/>
                        <a:pt x="189" y="377"/>
                        <a:pt x="136" y="317"/>
                      </a:cubicBezTo>
                      <a:cubicBezTo>
                        <a:pt x="83" y="257"/>
                        <a:pt x="15" y="144"/>
                        <a:pt x="0" y="91"/>
                      </a:cubicBezTo>
                      <a:cubicBezTo>
                        <a:pt x="0" y="91"/>
                        <a:pt x="29" y="2"/>
                        <a:pt x="45" y="0"/>
                      </a:cubicBezTo>
                      <a:cubicBezTo>
                        <a:pt x="88" y="6"/>
                        <a:pt x="68" y="44"/>
                        <a:pt x="98" y="82"/>
                      </a:cubicBezTo>
                      <a:cubicBezTo>
                        <a:pt x="128" y="120"/>
                        <a:pt x="174" y="182"/>
                        <a:pt x="227" y="227"/>
                      </a:cubicBezTo>
                      <a:cubicBezTo>
                        <a:pt x="280" y="272"/>
                        <a:pt x="363" y="325"/>
                        <a:pt x="408" y="363"/>
                      </a:cubicBezTo>
                      <a:cubicBezTo>
                        <a:pt x="453" y="397"/>
                        <a:pt x="478" y="386"/>
                        <a:pt x="498" y="430"/>
                      </a:cubicBezTo>
                      <a:cubicBezTo>
                        <a:pt x="518" y="474"/>
                        <a:pt x="499" y="544"/>
                        <a:pt x="499" y="54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8229240" y="4173120"/>
                <a:ext cx="332280" cy="633240"/>
                <a:chOff x="8229240" y="4173120"/>
                <a:chExt cx="332280" cy="633240"/>
              </a:xfrm>
            </p:grpSpPr>
            <p:sp>
              <p:nvSpPr>
                <p:cNvPr id="594" name="未知"/>
                <p:cNvSpPr/>
                <p:nvPr/>
              </p:nvSpPr>
              <p:spPr>
                <a:xfrm rot="295200">
                  <a:off x="8254800" y="4183920"/>
                  <a:ext cx="280800" cy="611280"/>
                </a:xfrm>
                <a:custGeom>
                  <a:avLst/>
                  <a:gdLst/>
                  <a:ahLst/>
                  <a:rect l="l" t="t" r="r" b="b"/>
                  <a:pathLst>
                    <a:path w="2898" h="2239">
                      <a:moveTo>
                        <a:pt x="2263" y="1695"/>
                      </a:moveTo>
                      <a:cubicBezTo>
                        <a:pt x="2127" y="1567"/>
                        <a:pt x="2125" y="1538"/>
                        <a:pt x="1993" y="1472"/>
                      </a:cubicBezTo>
                      <a:cubicBezTo>
                        <a:pt x="1861" y="1406"/>
                        <a:pt x="122" y="1890"/>
                        <a:pt x="61" y="1844"/>
                      </a:cubicBezTo>
                      <a:cubicBezTo>
                        <a:pt x="0" y="1798"/>
                        <a:pt x="1562" y="1436"/>
                        <a:pt x="1628" y="1196"/>
                      </a:cubicBezTo>
                      <a:cubicBezTo>
                        <a:pt x="1699" y="1057"/>
                        <a:pt x="493" y="511"/>
                        <a:pt x="457" y="403"/>
                      </a:cubicBezTo>
                      <a:cubicBezTo>
                        <a:pt x="421" y="295"/>
                        <a:pt x="439" y="235"/>
                        <a:pt x="445" y="211"/>
                      </a:cubicBezTo>
                      <a:cubicBezTo>
                        <a:pt x="456" y="186"/>
                        <a:pt x="409" y="195"/>
                        <a:pt x="523" y="253"/>
                      </a:cubicBezTo>
                      <a:cubicBezTo>
                        <a:pt x="637" y="311"/>
                        <a:pt x="1075" y="565"/>
                        <a:pt x="1129" y="561"/>
                      </a:cubicBezTo>
                      <a:cubicBezTo>
                        <a:pt x="1183" y="557"/>
                        <a:pt x="1023" y="198"/>
                        <a:pt x="1038" y="198"/>
                      </a:cubicBezTo>
                      <a:cubicBezTo>
                        <a:pt x="1061" y="200"/>
                        <a:pt x="1198" y="486"/>
                        <a:pt x="1267" y="572"/>
                      </a:cubicBezTo>
                      <a:cubicBezTo>
                        <a:pt x="1340" y="663"/>
                        <a:pt x="1281" y="615"/>
                        <a:pt x="1453" y="716"/>
                      </a:cubicBezTo>
                      <a:cubicBezTo>
                        <a:pt x="1625" y="817"/>
                        <a:pt x="2247" y="1272"/>
                        <a:pt x="2299" y="1178"/>
                      </a:cubicBezTo>
                      <a:cubicBezTo>
                        <a:pt x="2352" y="1079"/>
                        <a:pt x="1820" y="304"/>
                        <a:pt x="1764" y="152"/>
                      </a:cubicBezTo>
                      <a:cubicBezTo>
                        <a:pt x="1708" y="0"/>
                        <a:pt x="1789" y="54"/>
                        <a:pt x="1963" y="266"/>
                      </a:cubicBezTo>
                      <a:cubicBezTo>
                        <a:pt x="2137" y="478"/>
                        <a:pt x="2763" y="1392"/>
                        <a:pt x="2807" y="1423"/>
                      </a:cubicBezTo>
                      <a:cubicBezTo>
                        <a:pt x="2851" y="1454"/>
                        <a:pt x="2898" y="2194"/>
                        <a:pt x="2807" y="2239"/>
                      </a:cubicBezTo>
                      <a:lnTo>
                        <a:pt x="2263" y="1695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未知"/>
                <p:cNvSpPr/>
                <p:nvPr/>
              </p:nvSpPr>
              <p:spPr>
                <a:xfrm rot="295200">
                  <a:off x="8248680" y="4489920"/>
                  <a:ext cx="175320" cy="190440"/>
                </a:xfrm>
                <a:custGeom>
                  <a:avLst/>
                  <a:gdLst/>
                  <a:ahLst/>
                  <a:rect l="l" t="t" r="r" b="b"/>
                  <a:pathLst>
                    <a:path w="1808" h="698">
                      <a:moveTo>
                        <a:pt x="1597" y="38"/>
                      </a:moveTo>
                      <a:cubicBezTo>
                        <a:pt x="1657" y="0"/>
                        <a:pt x="1658" y="23"/>
                        <a:pt x="1688" y="38"/>
                      </a:cubicBezTo>
                      <a:cubicBezTo>
                        <a:pt x="1718" y="53"/>
                        <a:pt x="1808" y="91"/>
                        <a:pt x="1778" y="128"/>
                      </a:cubicBezTo>
                      <a:cubicBezTo>
                        <a:pt x="1748" y="165"/>
                        <a:pt x="1786" y="173"/>
                        <a:pt x="1506" y="264"/>
                      </a:cubicBezTo>
                      <a:cubicBezTo>
                        <a:pt x="1226" y="355"/>
                        <a:pt x="60" y="698"/>
                        <a:pt x="30" y="698"/>
                      </a:cubicBezTo>
                      <a:cubicBezTo>
                        <a:pt x="0" y="698"/>
                        <a:pt x="1076" y="370"/>
                        <a:pt x="1325" y="264"/>
                      </a:cubicBezTo>
                      <a:cubicBezTo>
                        <a:pt x="1574" y="158"/>
                        <a:pt x="1540" y="85"/>
                        <a:pt x="1597" y="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未知"/>
                <p:cNvSpPr/>
                <p:nvPr/>
              </p:nvSpPr>
              <p:spPr>
                <a:xfrm rot="295200">
                  <a:off x="8311680" y="4233240"/>
                  <a:ext cx="73080" cy="120960"/>
                </a:xfrm>
                <a:custGeom>
                  <a:avLst/>
                  <a:gdLst/>
                  <a:ahLst/>
                  <a:rect l="l" t="t" r="r" b="b"/>
                  <a:pathLst>
                    <a:path w="755" h="443">
                      <a:moveTo>
                        <a:pt x="687" y="443"/>
                      </a:moveTo>
                      <a:cubicBezTo>
                        <a:pt x="626" y="420"/>
                        <a:pt x="473" y="324"/>
                        <a:pt x="369" y="261"/>
                      </a:cubicBezTo>
                      <a:cubicBezTo>
                        <a:pt x="265" y="198"/>
                        <a:pt x="112" y="108"/>
                        <a:pt x="60" y="66"/>
                      </a:cubicBezTo>
                      <a:cubicBezTo>
                        <a:pt x="8" y="24"/>
                        <a:pt x="0" y="0"/>
                        <a:pt x="54" y="6"/>
                      </a:cubicBezTo>
                      <a:cubicBezTo>
                        <a:pt x="143" y="46"/>
                        <a:pt x="483" y="249"/>
                        <a:pt x="596" y="307"/>
                      </a:cubicBezTo>
                      <a:cubicBezTo>
                        <a:pt x="709" y="365"/>
                        <a:pt x="709" y="337"/>
                        <a:pt x="732" y="352"/>
                      </a:cubicBezTo>
                      <a:cubicBezTo>
                        <a:pt x="755" y="367"/>
                        <a:pt x="739" y="382"/>
                        <a:pt x="732" y="397"/>
                      </a:cubicBezTo>
                      <a:cubicBezTo>
                        <a:pt x="725" y="412"/>
                        <a:pt x="696" y="434"/>
                        <a:pt x="687" y="4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未知"/>
                <p:cNvSpPr/>
                <p:nvPr/>
              </p:nvSpPr>
              <p:spPr>
                <a:xfrm rot="295200">
                  <a:off x="8369280" y="4283640"/>
                  <a:ext cx="129240" cy="289800"/>
                </a:xfrm>
                <a:custGeom>
                  <a:avLst/>
                  <a:gdLst/>
                  <a:ahLst/>
                  <a:rect l="l" t="t" r="r" b="b"/>
                  <a:pathLst>
                    <a:path w="1333" h="1061">
                      <a:moveTo>
                        <a:pt x="1186" y="915"/>
                      </a:moveTo>
                      <a:cubicBezTo>
                        <a:pt x="1177" y="899"/>
                        <a:pt x="1333" y="1061"/>
                        <a:pt x="1186" y="960"/>
                      </a:cubicBezTo>
                      <a:cubicBezTo>
                        <a:pt x="1039" y="859"/>
                        <a:pt x="255" y="429"/>
                        <a:pt x="143" y="325"/>
                      </a:cubicBezTo>
                      <a:cubicBezTo>
                        <a:pt x="31" y="221"/>
                        <a:pt x="0" y="14"/>
                        <a:pt x="7" y="7"/>
                      </a:cubicBezTo>
                      <a:cubicBezTo>
                        <a:pt x="14" y="0"/>
                        <a:pt x="105" y="200"/>
                        <a:pt x="188" y="280"/>
                      </a:cubicBezTo>
                      <a:cubicBezTo>
                        <a:pt x="271" y="356"/>
                        <a:pt x="427" y="407"/>
                        <a:pt x="505" y="485"/>
                      </a:cubicBezTo>
                      <a:cubicBezTo>
                        <a:pt x="611" y="553"/>
                        <a:pt x="719" y="621"/>
                        <a:pt x="817" y="677"/>
                      </a:cubicBezTo>
                      <a:cubicBezTo>
                        <a:pt x="915" y="733"/>
                        <a:pt x="1035" y="800"/>
                        <a:pt x="1096" y="824"/>
                      </a:cubicBezTo>
                      <a:cubicBezTo>
                        <a:pt x="1157" y="848"/>
                        <a:pt x="1163" y="817"/>
                        <a:pt x="1186" y="824"/>
                      </a:cubicBezTo>
                      <a:cubicBezTo>
                        <a:pt x="1209" y="831"/>
                        <a:pt x="1232" y="854"/>
                        <a:pt x="1232" y="869"/>
                      </a:cubicBezTo>
                      <a:cubicBezTo>
                        <a:pt x="1232" y="884"/>
                        <a:pt x="1195" y="931"/>
                        <a:pt x="1186" y="9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未知"/>
                <p:cNvSpPr/>
                <p:nvPr/>
              </p:nvSpPr>
              <p:spPr>
                <a:xfrm rot="295200">
                  <a:off x="8431560" y="4201560"/>
                  <a:ext cx="108720" cy="463680"/>
                </a:xfrm>
                <a:custGeom>
                  <a:avLst/>
                  <a:gdLst/>
                  <a:ahLst/>
                  <a:rect l="l" t="t" r="r" b="b"/>
                  <a:pathLst>
                    <a:path w="1122" h="1698">
                      <a:moveTo>
                        <a:pt x="906" y="1232"/>
                      </a:moveTo>
                      <a:cubicBezTo>
                        <a:pt x="930" y="1266"/>
                        <a:pt x="1016" y="1342"/>
                        <a:pt x="1042" y="1413"/>
                      </a:cubicBezTo>
                      <a:cubicBezTo>
                        <a:pt x="1042" y="1413"/>
                        <a:pt x="1122" y="1698"/>
                        <a:pt x="1062" y="1660"/>
                      </a:cubicBezTo>
                      <a:cubicBezTo>
                        <a:pt x="1002" y="1622"/>
                        <a:pt x="853" y="1436"/>
                        <a:pt x="679" y="1186"/>
                      </a:cubicBezTo>
                      <a:cubicBezTo>
                        <a:pt x="505" y="936"/>
                        <a:pt x="142" y="332"/>
                        <a:pt x="44" y="143"/>
                      </a:cubicBezTo>
                      <a:cubicBezTo>
                        <a:pt x="44" y="143"/>
                        <a:pt x="0" y="58"/>
                        <a:pt x="66" y="58"/>
                      </a:cubicBezTo>
                      <a:cubicBezTo>
                        <a:pt x="132" y="58"/>
                        <a:pt x="22" y="0"/>
                        <a:pt x="162" y="196"/>
                      </a:cubicBezTo>
                      <a:cubicBezTo>
                        <a:pt x="132" y="146"/>
                        <a:pt x="882" y="1198"/>
                        <a:pt x="906" y="123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9" name=""/>
            <p:cNvGrpSpPr/>
            <p:nvPr/>
          </p:nvGrpSpPr>
          <p:grpSpPr>
            <a:xfrm>
              <a:off x="7457400" y="4731480"/>
              <a:ext cx="1852920" cy="1269720"/>
              <a:chOff x="7457400" y="4731480"/>
              <a:chExt cx="1852920" cy="12697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8797320" y="4731480"/>
                <a:ext cx="513000" cy="869040"/>
                <a:chOff x="8797320" y="4731480"/>
                <a:chExt cx="513000" cy="869040"/>
              </a:xfrm>
            </p:grpSpPr>
            <p:grpSp>
              <p:nvGrpSpPr>
                <p:cNvPr id="601" name=""/>
                <p:cNvGrpSpPr/>
                <p:nvPr/>
              </p:nvGrpSpPr>
              <p:grpSpPr>
                <a:xfrm>
                  <a:off x="8938800" y="4800240"/>
                  <a:ext cx="176760" cy="778320"/>
                  <a:chOff x="8938800" y="4800240"/>
                  <a:chExt cx="176760" cy="77832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 rot="257400">
                    <a:off x="8969040" y="48042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 rot="21155400">
                    <a:off x="8987760" y="480168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8797320" y="4843440"/>
                  <a:ext cx="513000" cy="737640"/>
                  <a:chOff x="8797320" y="4843440"/>
                  <a:chExt cx="513000" cy="7376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20165400">
                    <a:off x="8999280" y="48261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 rot="19463400">
                    <a:off x="9014400" y="48150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8945640" y="4825800"/>
                  <a:ext cx="344520" cy="774720"/>
                  <a:chOff x="8945640" y="4825800"/>
                  <a:chExt cx="344520" cy="7747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rot="21066600">
                    <a:off x="9060840" y="48268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 rot="20364600">
                    <a:off x="9078480" y="48200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9072360" y="4731480"/>
                  <a:ext cx="191520" cy="778320"/>
                  <a:chOff x="9072360" y="4731480"/>
                  <a:chExt cx="191520" cy="77832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rot="190800">
                    <a:off x="9109800" y="47358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 rot="21088200">
                    <a:off x="9128880" y="47329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3" name=""/>
              <p:cNvGrpSpPr/>
              <p:nvPr/>
            </p:nvGrpSpPr>
            <p:grpSpPr>
              <a:xfrm>
                <a:off x="8511840" y="4748400"/>
                <a:ext cx="636840" cy="874800"/>
                <a:chOff x="8511840" y="4748400"/>
                <a:chExt cx="636840" cy="8748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8625600" y="4848120"/>
                  <a:ext cx="351720" cy="775080"/>
                  <a:chOff x="8625600" y="4848120"/>
                  <a:chExt cx="351720" cy="7750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21031200">
                    <a:off x="8744400" y="48492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 rot="20329200">
                    <a:off x="8762400" y="484236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8511840" y="4920120"/>
                  <a:ext cx="636840" cy="658800"/>
                  <a:chOff x="8511840" y="4920120"/>
                  <a:chExt cx="636840" cy="6588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rot="19339200">
                    <a:off x="8778960" y="48632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18637200">
                    <a:off x="8790840" y="48488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8643960" y="4864680"/>
                  <a:ext cx="500040" cy="742320"/>
                  <a:chOff x="8643960" y="4864680"/>
                  <a:chExt cx="500040" cy="7423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rot="20240400">
                    <a:off x="8839080" y="48495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19538400">
                    <a:off x="8854560" y="48384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8739000" y="4748400"/>
                  <a:ext cx="364680" cy="773280"/>
                  <a:chOff x="8739000" y="4748400"/>
                  <a:chExt cx="364680" cy="7732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rot="20964600">
                    <a:off x="8865000" y="47487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rot="20262600">
                    <a:off x="8881920" y="47419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6" name=""/>
              <p:cNvGrpSpPr/>
              <p:nvPr/>
            </p:nvGrpSpPr>
            <p:grpSpPr>
              <a:xfrm>
                <a:off x="8314200" y="4821480"/>
                <a:ext cx="636840" cy="874440"/>
                <a:chOff x="8314200" y="4821480"/>
                <a:chExt cx="636840" cy="87444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8427960" y="4920840"/>
                  <a:ext cx="351720" cy="775080"/>
                  <a:chOff x="8427960" y="4920840"/>
                  <a:chExt cx="351720" cy="77508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rot="21031200">
                    <a:off x="8546760" y="49219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rot="20329200">
                    <a:off x="8564760" y="491544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8314200" y="4993200"/>
                  <a:ext cx="636840" cy="658800"/>
                  <a:chOff x="8314200" y="4993200"/>
                  <a:chExt cx="636840" cy="65880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rot="19339200">
                    <a:off x="8581320" y="49363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rot="18637200">
                    <a:off x="8593200" y="49215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8446320" y="4937400"/>
                  <a:ext cx="500040" cy="742320"/>
                  <a:chOff x="8446320" y="4937400"/>
                  <a:chExt cx="500040" cy="74232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 rot="20240400">
                    <a:off x="8641440" y="49222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 rot="19538400">
                    <a:off x="8656920" y="49114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8541360" y="4821480"/>
                  <a:ext cx="364680" cy="773280"/>
                  <a:chOff x="8541360" y="4821480"/>
                  <a:chExt cx="364680" cy="77328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rot="20964600">
                    <a:off x="8667360" y="48218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rot="20262600">
                    <a:off x="8684280" y="48146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9" name=""/>
              <p:cNvGrpSpPr/>
              <p:nvPr/>
            </p:nvGrpSpPr>
            <p:grpSpPr>
              <a:xfrm>
                <a:off x="8178480" y="4854600"/>
                <a:ext cx="513000" cy="869400"/>
                <a:chOff x="8178480" y="4854600"/>
                <a:chExt cx="513000" cy="86940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8319240" y="4923360"/>
                  <a:ext cx="177120" cy="779400"/>
                  <a:chOff x="8319240" y="4923360"/>
                  <a:chExt cx="177120" cy="77940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57400">
                    <a:off x="8350200" y="4927680"/>
                    <a:ext cx="77760" cy="77328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 rot="21155400">
                    <a:off x="8368920" y="4924800"/>
                    <a:ext cx="77760" cy="77328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8178480" y="4966560"/>
                  <a:ext cx="513000" cy="738000"/>
                  <a:chOff x="8178480" y="4966560"/>
                  <a:chExt cx="513000" cy="7380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rot="20165400">
                    <a:off x="8380440" y="494928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9463400">
                    <a:off x="8395560" y="49381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8327160" y="4948920"/>
                  <a:ext cx="344520" cy="775080"/>
                  <a:chOff x="8327160" y="4948920"/>
                  <a:chExt cx="344520" cy="77508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rot="21066600">
                    <a:off x="8442360" y="49500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20364600">
                    <a:off x="8460000" y="49435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8453520" y="4854600"/>
                  <a:ext cx="191520" cy="778680"/>
                  <a:chOff x="8453520" y="4854600"/>
                  <a:chExt cx="191520" cy="77868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rot="190800">
                    <a:off x="8491320" y="48589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21088200">
                    <a:off x="8510040" y="485604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2" name=""/>
              <p:cNvGrpSpPr/>
              <p:nvPr/>
            </p:nvGrpSpPr>
            <p:grpSpPr>
              <a:xfrm>
                <a:off x="8018640" y="4919760"/>
                <a:ext cx="513000" cy="869040"/>
                <a:chOff x="8018640" y="4919760"/>
                <a:chExt cx="513000" cy="869040"/>
              </a:xfrm>
            </p:grpSpPr>
            <p:grpSp>
              <p:nvGrpSpPr>
                <p:cNvPr id="653" name=""/>
                <p:cNvGrpSpPr/>
                <p:nvPr/>
              </p:nvGrpSpPr>
              <p:grpSpPr>
                <a:xfrm>
                  <a:off x="8160120" y="4988520"/>
                  <a:ext cx="176760" cy="778320"/>
                  <a:chOff x="8160120" y="4988520"/>
                  <a:chExt cx="176760" cy="77832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rot="257400">
                    <a:off x="8190360" y="499248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 rot="21155400">
                    <a:off x="8209080" y="498996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8018640" y="5031720"/>
                  <a:ext cx="513000" cy="737640"/>
                  <a:chOff x="8018640" y="5031720"/>
                  <a:chExt cx="513000" cy="73764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20165400">
                    <a:off x="8220600" y="50144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 rot="19463400">
                    <a:off x="8235720" y="50032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"/>
                <p:cNvGrpSpPr/>
                <p:nvPr/>
              </p:nvGrpSpPr>
              <p:grpSpPr>
                <a:xfrm>
                  <a:off x="8167320" y="5014080"/>
                  <a:ext cx="344520" cy="774720"/>
                  <a:chOff x="8167320" y="5014080"/>
                  <a:chExt cx="344520" cy="77472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 rot="21066600">
                    <a:off x="8282520" y="50151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rot="20364600">
                    <a:off x="8300160" y="50086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"/>
                <p:cNvGrpSpPr/>
                <p:nvPr/>
              </p:nvGrpSpPr>
              <p:grpSpPr>
                <a:xfrm>
                  <a:off x="8293680" y="4919760"/>
                  <a:ext cx="191520" cy="778320"/>
                  <a:chOff x="8293680" y="4919760"/>
                  <a:chExt cx="191520" cy="77832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 rot="190800">
                    <a:off x="8331480" y="49240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rot="21088200">
                    <a:off x="8350200" y="49212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5" name=""/>
              <p:cNvGrpSpPr/>
              <p:nvPr/>
            </p:nvGrpSpPr>
            <p:grpSpPr>
              <a:xfrm>
                <a:off x="7803000" y="4927680"/>
                <a:ext cx="513000" cy="869040"/>
                <a:chOff x="7803000" y="4927680"/>
                <a:chExt cx="513000" cy="86904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7944480" y="4996080"/>
                  <a:ext cx="176760" cy="778680"/>
                  <a:chOff x="7944480" y="4996080"/>
                  <a:chExt cx="176760" cy="77868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 rot="257400">
                    <a:off x="7974720" y="50004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 rot="21155400">
                    <a:off x="7993440" y="49975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7803000" y="5039280"/>
                  <a:ext cx="513000" cy="737640"/>
                  <a:chOff x="7803000" y="5039280"/>
                  <a:chExt cx="513000" cy="73764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rot="20165400">
                    <a:off x="8004960" y="50220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 rot="19463400">
                    <a:off x="8020080" y="50108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7951680" y="5022000"/>
                  <a:ext cx="344520" cy="774720"/>
                  <a:chOff x="7951680" y="5022000"/>
                  <a:chExt cx="344520" cy="77472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rot="21066600">
                    <a:off x="8066880" y="50230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 rot="20364600">
                    <a:off x="8084520" y="50162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8078040" y="4927680"/>
                  <a:ext cx="191520" cy="777960"/>
                  <a:chOff x="8078040" y="4927680"/>
                  <a:chExt cx="191520" cy="77796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rot="190800">
                    <a:off x="8115840" y="49316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rot="21088200">
                    <a:off x="8134560" y="49291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8" name=""/>
              <p:cNvGrpSpPr/>
              <p:nvPr/>
            </p:nvGrpSpPr>
            <p:grpSpPr>
              <a:xfrm>
                <a:off x="7457400" y="5132160"/>
                <a:ext cx="513000" cy="869040"/>
                <a:chOff x="7457400" y="5132160"/>
                <a:chExt cx="513000" cy="86904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7598880" y="5200560"/>
                  <a:ext cx="176760" cy="778680"/>
                  <a:chOff x="7598880" y="5200560"/>
                  <a:chExt cx="176760" cy="77868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rot="257400">
                    <a:off x="7629120" y="520488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rot="21155400">
                    <a:off x="7647840" y="52020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7457400" y="5244120"/>
                  <a:ext cx="513000" cy="737640"/>
                  <a:chOff x="7457400" y="5244120"/>
                  <a:chExt cx="513000" cy="73764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 rot="20165400">
                    <a:off x="7659360" y="52268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rot="19463400">
                    <a:off x="7674480" y="52156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7606080" y="5226480"/>
                  <a:ext cx="344520" cy="774720"/>
                  <a:chOff x="7606080" y="5226480"/>
                  <a:chExt cx="344520" cy="77472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rot="21066600">
                    <a:off x="7721280" y="52275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 rot="20364600">
                    <a:off x="7738920" y="52207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7732440" y="5132160"/>
                  <a:ext cx="191520" cy="777960"/>
                  <a:chOff x="7732440" y="5132160"/>
                  <a:chExt cx="191520" cy="77796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rot="190800">
                    <a:off x="7770240" y="51361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rot="21088200">
                    <a:off x="7788960" y="51336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7564320" y="5130000"/>
                <a:ext cx="598320" cy="826920"/>
                <a:chOff x="7564320" y="5130000"/>
                <a:chExt cx="598320" cy="82692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7714800" y="5133960"/>
                  <a:ext cx="447840" cy="759240"/>
                  <a:chOff x="7714800" y="5133960"/>
                  <a:chExt cx="447840" cy="75924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H="1" rot="19830600">
                    <a:off x="7899480" y="51217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20532600">
                    <a:off x="7881840" y="512712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7794000" y="5150160"/>
                  <a:ext cx="216000" cy="776880"/>
                  <a:chOff x="7794000" y="5150160"/>
                  <a:chExt cx="216000" cy="77688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H="1" rot="21522600">
                    <a:off x="7881480" y="51541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624600">
                    <a:off x="7863120" y="51505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7719480" y="5181120"/>
                  <a:ext cx="291600" cy="775800"/>
                  <a:chOff x="7719480" y="5181120"/>
                  <a:chExt cx="291600" cy="77580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 flipH="1" rot="20621400">
                    <a:off x="7826400" y="51811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21323400">
                    <a:off x="7806960" y="518256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7564320" y="5130000"/>
                  <a:ext cx="435600" cy="762120"/>
                  <a:chOff x="7564320" y="5130000"/>
                  <a:chExt cx="435600" cy="76212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flipH="1" rot="19897200">
                    <a:off x="7743240" y="51192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20599800">
                    <a:off x="7724880" y="512460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4" name=""/>
              <p:cNvGrpSpPr/>
              <p:nvPr/>
            </p:nvGrpSpPr>
            <p:grpSpPr>
              <a:xfrm>
                <a:off x="8686080" y="4768920"/>
                <a:ext cx="598320" cy="826920"/>
                <a:chOff x="8686080" y="4768920"/>
                <a:chExt cx="598320" cy="82692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8836560" y="4773240"/>
                  <a:ext cx="447840" cy="759240"/>
                  <a:chOff x="8836560" y="4773240"/>
                  <a:chExt cx="447840" cy="75924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rot="19830600">
                    <a:off x="9021240" y="476064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20532600">
                    <a:off x="9003240" y="4766400"/>
                    <a:ext cx="77760" cy="77256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8915760" y="4789080"/>
                  <a:ext cx="216000" cy="776880"/>
                  <a:chOff x="8915760" y="4789080"/>
                  <a:chExt cx="216000" cy="77688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H="1" rot="21522600">
                    <a:off x="9003240" y="47930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rot="624600">
                    <a:off x="8984880" y="47894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8840880" y="4820040"/>
                  <a:ext cx="291600" cy="775800"/>
                  <a:chOff x="8840880" y="4820040"/>
                  <a:chExt cx="291600" cy="77580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 flipH="1" rot="20621400">
                    <a:off x="8947800" y="482004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rot="21323400">
                    <a:off x="8928720" y="48214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8686080" y="4768920"/>
                  <a:ext cx="435600" cy="762120"/>
                  <a:chOff x="8686080" y="4768920"/>
                  <a:chExt cx="435600" cy="76212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 flipH="1" rot="19897200">
                    <a:off x="8865000" y="475848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578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rot="20599800">
                    <a:off x="8846640" y="4763520"/>
                    <a:ext cx="77760" cy="772200"/>
                  </a:xfrm>
                  <a:prstGeom prst="lightningBolt">
                    <a:avLst/>
                  </a:prstGeom>
                  <a:gradFill rotWithShape="0">
                    <a:gsLst>
                      <a:gs pos="0">
                        <a:srgbClr val="684522"/>
                      </a:gs>
                      <a:gs pos="50000">
                        <a:srgbClr val="ffcc00"/>
                      </a:gs>
                      <a:gs pos="100000">
                        <a:srgbClr val="684522"/>
                      </a:gs>
                    </a:gsLst>
                    <a:lin ang="103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17" name=""/>
            <p:cNvSpPr/>
            <p:nvPr/>
          </p:nvSpPr>
          <p:spPr>
            <a:xfrm>
              <a:off x="1027080" y="428760"/>
              <a:ext cx="5038200" cy="1150920"/>
            </a:xfrm>
            <a:prstGeom prst="cloudCallout">
              <a:avLst>
                <a:gd name="adj1" fmla="val -67263"/>
                <a:gd name="adj2" fmla="val 14273"/>
              </a:avLst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ffffff">
                    <a:alpha val="1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72044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6:14:01Z</dcterms:created>
  <dc:creator>微软用户</dc:creator>
  <dc:description/>
  <dc:language>en-US</dc:language>
  <cp:lastModifiedBy>yang</cp:lastModifiedBy>
  <cp:lastPrinted>1899-12-30T00:00:00Z</cp:lastPrinted>
  <dcterms:modified xsi:type="dcterms:W3CDTF">2014-05-18T06:51:0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