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A057-1CB4-4E9B-920A-F473DCA13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CB46-5EB3-491F-8475-3654FA171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14C5-DDC5-4898-BD01-C4B2B42D5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444E-2975-4971-A674-CC37D31C3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D1D8-6227-47AF-8F62-5C2A1F31E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07F6-4C51-4317-9706-EC98E260A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6152-9658-4E83-AEC7-15F632247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12DA9-49CD-48F8-A1C7-78A38F9DA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ED19-918B-4482-AD80-6EC484547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4A7B-8B24-4CEC-9EDD-822D5F295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AE9C-81FC-49C5-9BAA-DB99FE4D5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F0D1-B5FF-4412-BE17-2F46119C6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6E9FF0F-7971-4CC8-AAF7-7E51F740852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31680" y="0"/>
            <a:ext cx="917568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207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800" y="2595240"/>
            <a:ext cx="4577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9800" y="2595240"/>
            <a:ext cx="4577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8360" y="3676320"/>
            <a:ext cx="4578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72920" y="64548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7380-1E7F-40B4-AA0A-1AD592ADFE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9800" y="2595240"/>
            <a:ext cx="4577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3676320"/>
            <a:ext cx="4578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31240" y="627372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333333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33333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33333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33333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7222-1385-4205-B320-937FB07E8A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cp:lastPrinted>1899-12-30T00:00:00Z</cp:lastPrinted>
  <dcterms:modified xsi:type="dcterms:W3CDTF">2014-05-22T08:23:12Z</dcterms:modified>
  <cp:revision>1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