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7286760" y="36360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7286760" y="36360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564000" y="3573360"/>
            <a:ext cx="5037120" cy="11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356000" y="4870440"/>
            <a:ext cx="341640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386120" y="6453360"/>
            <a:ext cx="172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203640" y="3716280"/>
            <a:ext cx="5796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788480" y="4869000"/>
            <a:ext cx="502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6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600" spc="-1" strike="noStrike">
                <a:solidFill>
                  <a:srgbClr val="ffffff"/>
                </a:solidFill>
                <a:latin typeface="华文新魏"/>
                <a:ea typeface="华文新魏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6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00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00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00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/>
  <dc:description/>
  <dc:language>en-US</dc:language>
  <cp:lastModifiedBy>小田</cp:lastModifiedBy>
  <cp:lastPrinted>1899-12-30T00:00:00Z</cp:lastPrinted>
  <dcterms:modified xsi:type="dcterms:W3CDTF">2014-05-23T12:41:23Z</dcterms:modified>
  <cp:revision>5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