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086-CFF4-4ECC-96DB-596E04C6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C8B-FA98-443F-BFDC-1A87A849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5FC-F8FC-4C1A-AE41-716E58B3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51452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23640"/>
            <a:ext cx="264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E2D-0609-4B72-AA77-076131C2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846-18B6-48D0-8345-76FFCFAC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BC6-6424-43B6-A534-A6D6CAB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FA1-9EF3-441A-9998-2575F7FD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84D-EABA-4158-AD8F-EF984907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6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7E9-82A5-4767-8A45-D40C092B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D23-8D10-43FC-A35D-D1A5FBD3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2364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903-24FB-43B8-9800-5D3C889F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14520"/>
            <a:ext cx="40158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23640"/>
            <a:ext cx="822960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C1E2-1AF5-4600-966C-FE0F68D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1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91440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13"/>
            <p:cNvSpPr/>
            <p:nvPr/>
          </p:nvSpPr>
          <p:spPr>
            <a:xfrm>
              <a:off x="0" y="228600"/>
              <a:ext cx="9144000" cy="6400800"/>
            </a:xfrm>
            <a:prstGeom prst="rect">
              <a:avLst/>
            </a:prstGeom>
            <a:solidFill>
              <a:srgbClr val="809580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4"/>
            <p:cNvSpPr/>
            <p:nvPr/>
          </p:nvSpPr>
          <p:spPr>
            <a:xfrm>
              <a:off x="0" y="1371600"/>
              <a:ext cx="9144000" cy="50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51452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2" marL="1143000" indent="-22860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3" marL="1600200" indent="-228600">
              <a:spcBef>
                <a:spcPts val="700"/>
              </a:spcBef>
              <a:buClr>
                <a:srgbClr val="52404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4" marL="2057400" indent="-228600">
              <a:spcBef>
                <a:spcPts val="700"/>
              </a:spcBef>
              <a:buClr>
                <a:srgbClr val="52404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9E1C-E236-49B7-9D54-3A2DEDF35108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928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392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A78-15EB-4781-BE31-AD400DD5205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47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名称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姓名 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教师 </a:t>
            </a:r>
            <a:r>
              <a:rPr b="0" lang="en-US" sz="1600" spc="-1" strike="noStrike">
                <a:solidFill>
                  <a:srgbClr val="ffffff"/>
                </a:solidFill>
                <a:latin typeface="Cambria"/>
              </a:rPr>
              <a:t>| </a:t>
            </a:r>
            <a:r>
              <a:rPr b="0" lang="zh-CN" sz="1600" spc="-1" strike="noStrike">
                <a:solidFill>
                  <a:srgbClr val="ffffff"/>
                </a:solidFill>
                <a:latin typeface="Cambria"/>
              </a:rPr>
              <a:t>您的年级</a:t>
            </a:r>
            <a:endParaRPr b="0" lang="en-US" sz="16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5" name=""/>
          <p:cNvSpPr/>
          <p:nvPr/>
        </p:nvSpPr>
        <p:spPr>
          <a:xfrm>
            <a:off x="324360" y="6454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旅游业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中可能吸引其他国家的游客的旅游景点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91" name=""/>
          <p:cNvSpPr/>
          <p:nvPr/>
        </p:nvSpPr>
        <p:spPr>
          <a:xfrm>
            <a:off x="1961640" y="6165720"/>
            <a:ext cx="3710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0" spc="-1" strike="noStrike" u="sng">
                <a:solidFill>
                  <a:srgbClr val="e47e7e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8EF-15D4-41CF-A5AA-E0E4EBD01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位置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位于哪个洲以及有哪些邻国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F99-6B00-45EA-838D-96C709E16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地理特征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指出位于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或相邻地区的任何重要河流、湖泊、海洋、山脉和其他地理特征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F5A-0CD9-4953-9A19-84EECE2E46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气候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全年的典型天气模式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699-EBCF-48C2-B965-8DA9A6CEA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环境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描述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所特有的一些动植物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68" name=""/>
          <p:cNvSpPr/>
          <p:nvPr/>
        </p:nvSpPr>
        <p:spPr>
          <a:xfrm>
            <a:off x="324360" y="6022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EB4-6A73-4457-91EC-1A42B0A4F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63080" cy="6858000"/>
            <a:chOff x="0" y="0"/>
            <a:chExt cx="9163080" cy="6858000"/>
          </a:xfrm>
        </p:grpSpPr>
        <p:pic>
          <p:nvPicPr>
            <p:cNvPr id="70" name="Rectangle 6" descr=""/>
            <p:cNvPicPr/>
            <p:nvPr/>
          </p:nvPicPr>
          <p:blipFill>
            <a:blip r:embed="rId1"/>
            <a:stretch/>
          </p:blipFill>
          <p:spPr>
            <a:xfrm>
              <a:off x="1080" y="457200"/>
              <a:ext cx="914436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7"/>
            <p:cNvSpPr/>
            <p:nvPr/>
          </p:nvSpPr>
          <p:spPr>
            <a:xfrm>
              <a:off x="1080" y="0"/>
              <a:ext cx="9144360" cy="6858000"/>
            </a:xfrm>
            <a:prstGeom prst="rect">
              <a:avLst/>
            </a:prstGeom>
            <a:solidFill>
              <a:srgbClr val="9ab39a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0" y="0"/>
              <a:ext cx="9144360" cy="228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1080" y="1981080"/>
              <a:ext cx="9144360" cy="609480"/>
            </a:xfrm>
            <a:prstGeom prst="rect">
              <a:avLst/>
            </a:prstGeom>
            <a:solidFill>
              <a:srgbClr val="676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5040" y="2590920"/>
              <a:ext cx="9144360" cy="457200"/>
            </a:xfrm>
            <a:prstGeom prst="rect">
              <a:avLst/>
            </a:prstGeom>
            <a:solidFill>
              <a:srgbClr val="52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>
              <a:off x="18720" y="0"/>
              <a:ext cx="9144360" cy="198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264384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9D3-AFD6-44C1-B56E-0C25B38346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风俗传统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庆祝的重要风俗传统。包含有关庆祝者和庆祝时间的信息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政府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如何制定和更改法律。介绍国家领导人的选举方法。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E86E-DE66-478E-B402-BA35DAD4F8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您所在国家</a:t>
            </a:r>
            <a:r>
              <a:rPr b="0" lang="en-US" sz="3600" spc="-1" strike="noStrike">
                <a:solidFill>
                  <a:srgbClr val="ffffff"/>
                </a:solidFill>
                <a:latin typeface="Cambria"/>
              </a:rPr>
              <a:t>/</a:t>
            </a:r>
            <a:r>
              <a:rPr b="0" lang="zh-CN" sz="3600" spc="-1" strike="noStrike">
                <a:solidFill>
                  <a:srgbClr val="ffffff"/>
                </a:solidFill>
                <a:latin typeface="Cambria"/>
              </a:rPr>
              <a:t>地区的经济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介绍您所在国家</a:t>
            </a:r>
            <a:r>
              <a:rPr b="0" lang="en-US" sz="2800" spc="-1" strike="noStrike">
                <a:solidFill>
                  <a:srgbClr val="524040"/>
                </a:solidFill>
                <a:latin typeface="Cambria"/>
              </a:rPr>
              <a:t>/</a:t>
            </a:r>
            <a:r>
              <a:rPr b="0" lang="zh-CN" sz="2800" spc="-1" strike="noStrike">
                <a:solidFill>
                  <a:srgbClr val="524040"/>
                </a:solidFill>
                <a:latin typeface="Cambria"/>
              </a:rPr>
              <a:t>地区生产或提供的货物和服务。用户通常如何为自己及其家人提供所需品？</a:t>
            </a: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4040"/>
              </a:buClr>
              <a:buFont typeface="Arial"/>
              <a:buChar char="•"/>
            </a:pPr>
            <a:endParaRPr b="0" lang="en-US" sz="2800" spc="-1" strike="noStrike">
              <a:solidFill>
                <a:srgbClr val="524040"/>
              </a:solidFill>
              <a:latin typeface="Cambria"/>
            </a:endParaRPr>
          </a:p>
        </p:txBody>
      </p:sp>
      <p:sp>
        <p:nvSpPr>
          <p:cNvPr id="87" name=""/>
          <p:cNvSpPr/>
          <p:nvPr/>
        </p:nvSpPr>
        <p:spPr>
          <a:xfrm>
            <a:off x="324360" y="6022800"/>
            <a:ext cx="1343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607-2699-4ECE-AC09-54FED5AF1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49:00Z</dcterms:created>
  <dc:creator>Administrator</dc:creator>
  <dc:description/>
  <dc:language>en-US</dc:language>
  <cp:lastModifiedBy/>
  <cp:lastPrinted>1899-12-30T00:00:00Z</cp:lastPrinted>
  <dcterms:modified xsi:type="dcterms:W3CDTF">2014-05-24T09:17:0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1659602052</vt:lpwstr>
  </property>
</Properties>
</file>