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86407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043A3-99E0-48BB-94DA-2958639A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720396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7280" y="3852000"/>
            <a:ext cx="720396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BDAAD-9D2C-4E14-8480-6D560A44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08720" y="173844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7280" y="385200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08720" y="385200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952C5-F958-4E8B-A847-63C4BCE1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231948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53040" y="1738440"/>
            <a:ext cx="231948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88800" y="1738440"/>
            <a:ext cx="231948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7280" y="3852000"/>
            <a:ext cx="231948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53040" y="3852000"/>
            <a:ext cx="231948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88800" y="3852000"/>
            <a:ext cx="231948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9DE97-F961-4743-938B-A7BE3756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C6356-2474-46A2-BF78-FED054A1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7280" y="1738440"/>
            <a:ext cx="720396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63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459BE-E054-4424-B545-D97AD0D2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720396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ECB8F-DC96-4088-B8D5-7437F49E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351540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8720" y="1738440"/>
            <a:ext cx="351540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1FBF6-6900-409E-BAD4-09A94716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92FF9-6408-4B4B-B2FE-83AF247C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53960" y="547200"/>
            <a:ext cx="65232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63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69077-FD48-4C68-85B5-D945048E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8720" y="1738440"/>
            <a:ext cx="351540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7280" y="385200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6A546-6582-4FE8-A97F-CE3A8FB5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7280" y="1738440"/>
            <a:ext cx="720396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63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A1A1A-E8C8-40AC-A2D5-AD165E93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351540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8720" y="173844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08720" y="385200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D15F5-03AB-4504-A0CB-42397548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08720" y="173844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7280" y="3852000"/>
            <a:ext cx="720396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330D0-B052-4889-B9A2-B40C4D13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720396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7280" y="3852000"/>
            <a:ext cx="720396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C43B8-0D48-4D2C-9950-FA29E74C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08720" y="173844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7280" y="385200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08720" y="385200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C633C-3E47-4FEF-8FFE-A8086A4A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231948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53040" y="1738440"/>
            <a:ext cx="231948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788800" y="1738440"/>
            <a:ext cx="231948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7280" y="3852000"/>
            <a:ext cx="231948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53040" y="3852000"/>
            <a:ext cx="231948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788800" y="3852000"/>
            <a:ext cx="231948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5068B-7A02-4507-B8FA-D37AD23F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720396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C124B-D543-4C08-9145-513B0FDA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351540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8720" y="1738440"/>
            <a:ext cx="351540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9642E-2957-4230-A655-FD928A25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0EA60-19A0-4757-B34C-37943574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53960" y="547200"/>
            <a:ext cx="65232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63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1F92B-6D9D-4E25-A090-E926AB93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8720" y="1738440"/>
            <a:ext cx="351540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7280" y="385200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7C69C-9059-44F8-9416-6A054DB1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351540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8720" y="173844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08720" y="385200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E9B26-AD46-42E7-B400-959A1278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08720" y="173844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7280" y="3852000"/>
            <a:ext cx="720396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452EC-18E3-434E-9970-F22B05EE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632800" cy="64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8632800" cy="6472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0"/>
            <a:ext cx="8632800" cy="6472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906" y="0"/>
                </a:moveTo>
                <a:lnTo>
                  <a:pt x="18996" y="95"/>
                </a:lnTo>
                <a:lnTo>
                  <a:pt x="19095" y="192"/>
                </a:lnTo>
                <a:lnTo>
                  <a:pt x="19194" y="300"/>
                </a:lnTo>
                <a:lnTo>
                  <a:pt x="19284" y="396"/>
                </a:lnTo>
                <a:lnTo>
                  <a:pt x="19383" y="504"/>
                </a:lnTo>
                <a:lnTo>
                  <a:pt x="19474" y="612"/>
                </a:lnTo>
                <a:lnTo>
                  <a:pt x="19564" y="720"/>
                </a:lnTo>
                <a:lnTo>
                  <a:pt x="19654" y="828"/>
                </a:lnTo>
                <a:lnTo>
                  <a:pt x="19744" y="937"/>
                </a:lnTo>
                <a:lnTo>
                  <a:pt x="19843" y="1056"/>
                </a:lnTo>
                <a:lnTo>
                  <a:pt x="19924" y="1153"/>
                </a:lnTo>
                <a:lnTo>
                  <a:pt x="20014" y="1273"/>
                </a:lnTo>
                <a:lnTo>
                  <a:pt x="20104" y="1381"/>
                </a:lnTo>
                <a:lnTo>
                  <a:pt x="20185" y="1513"/>
                </a:lnTo>
                <a:lnTo>
                  <a:pt x="20275" y="1621"/>
                </a:lnTo>
                <a:lnTo>
                  <a:pt x="20356" y="1729"/>
                </a:lnTo>
                <a:lnTo>
                  <a:pt x="20446" y="1861"/>
                </a:lnTo>
                <a:lnTo>
                  <a:pt x="20527" y="1969"/>
                </a:lnTo>
                <a:lnTo>
                  <a:pt x="20608" y="2102"/>
                </a:lnTo>
                <a:lnTo>
                  <a:pt x="20690" y="2210"/>
                </a:lnTo>
                <a:lnTo>
                  <a:pt x="20762" y="2330"/>
                </a:lnTo>
                <a:lnTo>
                  <a:pt x="20852" y="2462"/>
                </a:lnTo>
                <a:lnTo>
                  <a:pt x="20924" y="2582"/>
                </a:lnTo>
                <a:lnTo>
                  <a:pt x="21005" y="2714"/>
                </a:lnTo>
                <a:lnTo>
                  <a:pt x="21077" y="2835"/>
                </a:lnTo>
                <a:lnTo>
                  <a:pt x="21158" y="2955"/>
                </a:lnTo>
                <a:lnTo>
                  <a:pt x="21230" y="3099"/>
                </a:lnTo>
                <a:lnTo>
                  <a:pt x="21311" y="3219"/>
                </a:lnTo>
                <a:lnTo>
                  <a:pt x="21374" y="3339"/>
                </a:lnTo>
                <a:lnTo>
                  <a:pt x="21455" y="3483"/>
                </a:lnTo>
                <a:lnTo>
                  <a:pt x="21527" y="3615"/>
                </a:lnTo>
                <a:lnTo>
                  <a:pt x="21600" y="3735"/>
                </a:lnTo>
                <a:lnTo>
                  <a:pt x="21600" y="21600"/>
                </a:lnTo>
                <a:lnTo>
                  <a:pt x="0" y="21600"/>
                </a:lnTo>
                <a:lnTo>
                  <a:pt x="0" y="4180"/>
                </a:lnTo>
                <a:lnTo>
                  <a:pt x="71" y="4036"/>
                </a:lnTo>
                <a:lnTo>
                  <a:pt x="144" y="3892"/>
                </a:lnTo>
                <a:lnTo>
                  <a:pt x="225" y="3735"/>
                </a:lnTo>
                <a:lnTo>
                  <a:pt x="296" y="3591"/>
                </a:lnTo>
                <a:lnTo>
                  <a:pt x="378" y="3447"/>
                </a:lnTo>
                <a:lnTo>
                  <a:pt x="459" y="3303"/>
                </a:lnTo>
                <a:lnTo>
                  <a:pt x="531" y="3159"/>
                </a:lnTo>
                <a:lnTo>
                  <a:pt x="621" y="3015"/>
                </a:lnTo>
                <a:lnTo>
                  <a:pt x="702" y="2882"/>
                </a:lnTo>
                <a:lnTo>
                  <a:pt x="792" y="2738"/>
                </a:lnTo>
                <a:lnTo>
                  <a:pt x="873" y="2594"/>
                </a:lnTo>
                <a:lnTo>
                  <a:pt x="963" y="2462"/>
                </a:lnTo>
                <a:lnTo>
                  <a:pt x="1044" y="2318"/>
                </a:lnTo>
                <a:lnTo>
                  <a:pt x="1143" y="2186"/>
                </a:lnTo>
                <a:lnTo>
                  <a:pt x="1224" y="2066"/>
                </a:lnTo>
                <a:lnTo>
                  <a:pt x="1315" y="1921"/>
                </a:lnTo>
                <a:lnTo>
                  <a:pt x="1413" y="1801"/>
                </a:lnTo>
                <a:lnTo>
                  <a:pt x="1504" y="1669"/>
                </a:lnTo>
                <a:lnTo>
                  <a:pt x="1594" y="1537"/>
                </a:lnTo>
                <a:lnTo>
                  <a:pt x="1693" y="1417"/>
                </a:lnTo>
                <a:lnTo>
                  <a:pt x="1783" y="1285"/>
                </a:lnTo>
                <a:lnTo>
                  <a:pt x="1891" y="1165"/>
                </a:lnTo>
                <a:lnTo>
                  <a:pt x="1981" y="1045"/>
                </a:lnTo>
                <a:lnTo>
                  <a:pt x="2080" y="912"/>
                </a:lnTo>
                <a:lnTo>
                  <a:pt x="2188" y="792"/>
                </a:lnTo>
                <a:lnTo>
                  <a:pt x="2278" y="684"/>
                </a:lnTo>
                <a:lnTo>
                  <a:pt x="2386" y="552"/>
                </a:lnTo>
                <a:lnTo>
                  <a:pt x="2494" y="444"/>
                </a:lnTo>
                <a:lnTo>
                  <a:pt x="2593" y="324"/>
                </a:lnTo>
                <a:lnTo>
                  <a:pt x="2693" y="216"/>
                </a:lnTo>
                <a:lnTo>
                  <a:pt x="2801" y="95"/>
                </a:lnTo>
                <a:lnTo>
                  <a:pt x="2909" y="0"/>
                </a:lnTo>
                <a:lnTo>
                  <a:pt x="18906" y="0"/>
                </a:lnTo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未知"/>
          <p:cNvSpPr/>
          <p:nvPr/>
        </p:nvSpPr>
        <p:spPr>
          <a:xfrm>
            <a:off x="173160" y="0"/>
            <a:ext cx="8459640" cy="6472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90" y="0"/>
                </a:moveTo>
                <a:lnTo>
                  <a:pt x="17546" y="95"/>
                </a:lnTo>
                <a:lnTo>
                  <a:pt x="17702" y="204"/>
                </a:lnTo>
                <a:lnTo>
                  <a:pt x="17849" y="300"/>
                </a:lnTo>
                <a:lnTo>
                  <a:pt x="18005" y="420"/>
                </a:lnTo>
                <a:lnTo>
                  <a:pt x="18153" y="528"/>
                </a:lnTo>
                <a:lnTo>
                  <a:pt x="18300" y="660"/>
                </a:lnTo>
                <a:lnTo>
                  <a:pt x="18447" y="768"/>
                </a:lnTo>
                <a:lnTo>
                  <a:pt x="18584" y="900"/>
                </a:lnTo>
                <a:lnTo>
                  <a:pt x="18732" y="1021"/>
                </a:lnTo>
                <a:lnTo>
                  <a:pt x="18870" y="1141"/>
                </a:lnTo>
                <a:lnTo>
                  <a:pt x="19007" y="1285"/>
                </a:lnTo>
                <a:lnTo>
                  <a:pt x="19154" y="1405"/>
                </a:lnTo>
                <a:lnTo>
                  <a:pt x="19292" y="1537"/>
                </a:lnTo>
                <a:lnTo>
                  <a:pt x="19430" y="1681"/>
                </a:lnTo>
                <a:lnTo>
                  <a:pt x="19568" y="1825"/>
                </a:lnTo>
                <a:lnTo>
                  <a:pt x="19697" y="1958"/>
                </a:lnTo>
                <a:lnTo>
                  <a:pt x="19825" y="2114"/>
                </a:lnTo>
                <a:lnTo>
                  <a:pt x="19954" y="2258"/>
                </a:lnTo>
                <a:lnTo>
                  <a:pt x="20092" y="2402"/>
                </a:lnTo>
                <a:lnTo>
                  <a:pt x="20211" y="2546"/>
                </a:lnTo>
                <a:lnTo>
                  <a:pt x="20340" y="2714"/>
                </a:lnTo>
                <a:lnTo>
                  <a:pt x="20459" y="2871"/>
                </a:lnTo>
                <a:lnTo>
                  <a:pt x="20579" y="3027"/>
                </a:lnTo>
                <a:lnTo>
                  <a:pt x="20708" y="3183"/>
                </a:lnTo>
                <a:lnTo>
                  <a:pt x="20818" y="3339"/>
                </a:lnTo>
                <a:lnTo>
                  <a:pt x="20938" y="3519"/>
                </a:lnTo>
                <a:lnTo>
                  <a:pt x="21048" y="3687"/>
                </a:lnTo>
                <a:lnTo>
                  <a:pt x="21167" y="3844"/>
                </a:lnTo>
                <a:lnTo>
                  <a:pt x="21269" y="4024"/>
                </a:lnTo>
                <a:lnTo>
                  <a:pt x="21379" y="4192"/>
                </a:lnTo>
                <a:lnTo>
                  <a:pt x="21489" y="4372"/>
                </a:lnTo>
                <a:lnTo>
                  <a:pt x="21600" y="4540"/>
                </a:lnTo>
                <a:lnTo>
                  <a:pt x="21600" y="21600"/>
                </a:lnTo>
                <a:lnTo>
                  <a:pt x="1497" y="21600"/>
                </a:lnTo>
                <a:lnTo>
                  <a:pt x="1415" y="21383"/>
                </a:lnTo>
                <a:lnTo>
                  <a:pt x="1323" y="21167"/>
                </a:lnTo>
                <a:lnTo>
                  <a:pt x="1240" y="20951"/>
                </a:lnTo>
                <a:lnTo>
                  <a:pt x="1157" y="20734"/>
                </a:lnTo>
                <a:lnTo>
                  <a:pt x="1084" y="20506"/>
                </a:lnTo>
                <a:lnTo>
                  <a:pt x="1001" y="20290"/>
                </a:lnTo>
                <a:lnTo>
                  <a:pt x="928" y="20073"/>
                </a:lnTo>
                <a:lnTo>
                  <a:pt x="854" y="19845"/>
                </a:lnTo>
                <a:lnTo>
                  <a:pt x="790" y="19617"/>
                </a:lnTo>
                <a:lnTo>
                  <a:pt x="726" y="19389"/>
                </a:lnTo>
                <a:lnTo>
                  <a:pt x="661" y="19161"/>
                </a:lnTo>
                <a:lnTo>
                  <a:pt x="597" y="18932"/>
                </a:lnTo>
                <a:lnTo>
                  <a:pt x="542" y="18692"/>
                </a:lnTo>
                <a:lnTo>
                  <a:pt x="487" y="18464"/>
                </a:lnTo>
                <a:lnTo>
                  <a:pt x="431" y="18236"/>
                </a:lnTo>
                <a:lnTo>
                  <a:pt x="385" y="17995"/>
                </a:lnTo>
                <a:lnTo>
                  <a:pt x="339" y="17755"/>
                </a:lnTo>
                <a:lnTo>
                  <a:pt x="293" y="17503"/>
                </a:lnTo>
                <a:lnTo>
                  <a:pt x="257" y="17262"/>
                </a:lnTo>
                <a:lnTo>
                  <a:pt x="211" y="17034"/>
                </a:lnTo>
                <a:lnTo>
                  <a:pt x="183" y="16782"/>
                </a:lnTo>
                <a:lnTo>
                  <a:pt x="146" y="16530"/>
                </a:lnTo>
                <a:lnTo>
                  <a:pt x="119" y="16289"/>
                </a:lnTo>
                <a:lnTo>
                  <a:pt x="91" y="16049"/>
                </a:lnTo>
                <a:lnTo>
                  <a:pt x="64" y="15797"/>
                </a:lnTo>
                <a:lnTo>
                  <a:pt x="45" y="15545"/>
                </a:lnTo>
                <a:lnTo>
                  <a:pt x="36" y="15280"/>
                </a:lnTo>
                <a:lnTo>
                  <a:pt x="18" y="15040"/>
                </a:lnTo>
                <a:lnTo>
                  <a:pt x="8" y="14788"/>
                </a:lnTo>
                <a:lnTo>
                  <a:pt x="0" y="14524"/>
                </a:lnTo>
                <a:lnTo>
                  <a:pt x="0" y="14271"/>
                </a:lnTo>
                <a:lnTo>
                  <a:pt x="0" y="14019"/>
                </a:lnTo>
                <a:lnTo>
                  <a:pt x="0" y="13442"/>
                </a:lnTo>
                <a:lnTo>
                  <a:pt x="27" y="12878"/>
                </a:lnTo>
                <a:lnTo>
                  <a:pt x="64" y="12313"/>
                </a:lnTo>
                <a:lnTo>
                  <a:pt x="119" y="11760"/>
                </a:lnTo>
                <a:lnTo>
                  <a:pt x="192" y="11208"/>
                </a:lnTo>
                <a:lnTo>
                  <a:pt x="266" y="10667"/>
                </a:lnTo>
                <a:lnTo>
                  <a:pt x="358" y="10139"/>
                </a:lnTo>
                <a:lnTo>
                  <a:pt x="477" y="9598"/>
                </a:lnTo>
                <a:lnTo>
                  <a:pt x="606" y="9081"/>
                </a:lnTo>
                <a:lnTo>
                  <a:pt x="744" y="8577"/>
                </a:lnTo>
                <a:lnTo>
                  <a:pt x="891" y="8060"/>
                </a:lnTo>
                <a:lnTo>
                  <a:pt x="1056" y="7568"/>
                </a:lnTo>
                <a:lnTo>
                  <a:pt x="1240" y="7087"/>
                </a:lnTo>
                <a:lnTo>
                  <a:pt x="1433" y="6595"/>
                </a:lnTo>
                <a:lnTo>
                  <a:pt x="1626" y="6138"/>
                </a:lnTo>
                <a:lnTo>
                  <a:pt x="1838" y="5682"/>
                </a:lnTo>
                <a:lnTo>
                  <a:pt x="2067" y="5225"/>
                </a:lnTo>
                <a:lnTo>
                  <a:pt x="2306" y="4793"/>
                </a:lnTo>
                <a:lnTo>
                  <a:pt x="2545" y="4360"/>
                </a:lnTo>
                <a:lnTo>
                  <a:pt x="2812" y="3940"/>
                </a:lnTo>
                <a:lnTo>
                  <a:pt x="3079" y="3543"/>
                </a:lnTo>
                <a:lnTo>
                  <a:pt x="3354" y="3147"/>
                </a:lnTo>
                <a:lnTo>
                  <a:pt x="3639" y="2774"/>
                </a:lnTo>
                <a:lnTo>
                  <a:pt x="3942" y="2414"/>
                </a:lnTo>
                <a:lnTo>
                  <a:pt x="4246" y="2066"/>
                </a:lnTo>
                <a:lnTo>
                  <a:pt x="4558" y="1717"/>
                </a:lnTo>
                <a:lnTo>
                  <a:pt x="4889" y="1393"/>
                </a:lnTo>
                <a:lnTo>
                  <a:pt x="5229" y="1092"/>
                </a:lnTo>
                <a:lnTo>
                  <a:pt x="5569" y="792"/>
                </a:lnTo>
                <a:lnTo>
                  <a:pt x="5919" y="504"/>
                </a:lnTo>
                <a:lnTo>
                  <a:pt x="6277" y="252"/>
                </a:lnTo>
                <a:lnTo>
                  <a:pt x="6645" y="0"/>
                </a:lnTo>
                <a:lnTo>
                  <a:pt x="1739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未知"/>
          <p:cNvSpPr/>
          <p:nvPr/>
        </p:nvSpPr>
        <p:spPr>
          <a:xfrm>
            <a:off x="190440" y="0"/>
            <a:ext cx="8442360" cy="6472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34" y="0"/>
                </a:moveTo>
                <a:lnTo>
                  <a:pt x="14811" y="84"/>
                </a:lnTo>
                <a:lnTo>
                  <a:pt x="15078" y="179"/>
                </a:lnTo>
                <a:lnTo>
                  <a:pt x="15345" y="288"/>
                </a:lnTo>
                <a:lnTo>
                  <a:pt x="15603" y="396"/>
                </a:lnTo>
                <a:lnTo>
                  <a:pt x="15870" y="516"/>
                </a:lnTo>
                <a:lnTo>
                  <a:pt x="16128" y="648"/>
                </a:lnTo>
                <a:lnTo>
                  <a:pt x="16386" y="780"/>
                </a:lnTo>
                <a:lnTo>
                  <a:pt x="16644" y="924"/>
                </a:lnTo>
                <a:lnTo>
                  <a:pt x="16893" y="1092"/>
                </a:lnTo>
                <a:lnTo>
                  <a:pt x="17141" y="1249"/>
                </a:lnTo>
                <a:lnTo>
                  <a:pt x="17381" y="1405"/>
                </a:lnTo>
                <a:lnTo>
                  <a:pt x="17620" y="1585"/>
                </a:lnTo>
                <a:lnTo>
                  <a:pt x="17860" y="1765"/>
                </a:lnTo>
                <a:lnTo>
                  <a:pt x="18090" y="1945"/>
                </a:lnTo>
                <a:lnTo>
                  <a:pt x="18320" y="2138"/>
                </a:lnTo>
                <a:lnTo>
                  <a:pt x="18541" y="2342"/>
                </a:lnTo>
                <a:lnTo>
                  <a:pt x="18772" y="2546"/>
                </a:lnTo>
                <a:lnTo>
                  <a:pt x="18992" y="2762"/>
                </a:lnTo>
                <a:lnTo>
                  <a:pt x="19195" y="2991"/>
                </a:lnTo>
                <a:lnTo>
                  <a:pt x="19416" y="3219"/>
                </a:lnTo>
                <a:lnTo>
                  <a:pt x="19619" y="3447"/>
                </a:lnTo>
                <a:lnTo>
                  <a:pt x="19822" y="3687"/>
                </a:lnTo>
                <a:lnTo>
                  <a:pt x="20015" y="3940"/>
                </a:lnTo>
                <a:lnTo>
                  <a:pt x="20218" y="4180"/>
                </a:lnTo>
                <a:lnTo>
                  <a:pt x="20402" y="4444"/>
                </a:lnTo>
                <a:lnTo>
                  <a:pt x="20586" y="4709"/>
                </a:lnTo>
                <a:lnTo>
                  <a:pt x="20761" y="4961"/>
                </a:lnTo>
                <a:lnTo>
                  <a:pt x="20936" y="5237"/>
                </a:lnTo>
                <a:lnTo>
                  <a:pt x="21111" y="5525"/>
                </a:lnTo>
                <a:lnTo>
                  <a:pt x="21277" y="5802"/>
                </a:lnTo>
                <a:lnTo>
                  <a:pt x="21443" y="6090"/>
                </a:lnTo>
                <a:lnTo>
                  <a:pt x="21600" y="6378"/>
                </a:lnTo>
                <a:lnTo>
                  <a:pt x="21600" y="21600"/>
                </a:lnTo>
                <a:lnTo>
                  <a:pt x="1160" y="21600"/>
                </a:lnTo>
                <a:lnTo>
                  <a:pt x="1095" y="21407"/>
                </a:lnTo>
                <a:lnTo>
                  <a:pt x="1022" y="21215"/>
                </a:lnTo>
                <a:lnTo>
                  <a:pt x="957" y="21023"/>
                </a:lnTo>
                <a:lnTo>
                  <a:pt x="893" y="20831"/>
                </a:lnTo>
                <a:lnTo>
                  <a:pt x="828" y="20638"/>
                </a:lnTo>
                <a:lnTo>
                  <a:pt x="773" y="20434"/>
                </a:lnTo>
                <a:lnTo>
                  <a:pt x="718" y="20242"/>
                </a:lnTo>
                <a:lnTo>
                  <a:pt x="663" y="20038"/>
                </a:lnTo>
                <a:lnTo>
                  <a:pt x="607" y="19845"/>
                </a:lnTo>
                <a:lnTo>
                  <a:pt x="552" y="19641"/>
                </a:lnTo>
                <a:lnTo>
                  <a:pt x="515" y="19437"/>
                </a:lnTo>
                <a:lnTo>
                  <a:pt x="460" y="19233"/>
                </a:lnTo>
                <a:lnTo>
                  <a:pt x="414" y="19028"/>
                </a:lnTo>
                <a:lnTo>
                  <a:pt x="368" y="18824"/>
                </a:lnTo>
                <a:lnTo>
                  <a:pt x="340" y="18620"/>
                </a:lnTo>
                <a:lnTo>
                  <a:pt x="294" y="18404"/>
                </a:lnTo>
                <a:lnTo>
                  <a:pt x="257" y="18199"/>
                </a:lnTo>
                <a:lnTo>
                  <a:pt x="220" y="17983"/>
                </a:lnTo>
                <a:lnTo>
                  <a:pt x="202" y="17779"/>
                </a:lnTo>
                <a:lnTo>
                  <a:pt x="165" y="17563"/>
                </a:lnTo>
                <a:lnTo>
                  <a:pt x="138" y="17346"/>
                </a:lnTo>
                <a:lnTo>
                  <a:pt x="110" y="17130"/>
                </a:lnTo>
                <a:lnTo>
                  <a:pt x="91" y="16914"/>
                </a:lnTo>
                <a:lnTo>
                  <a:pt x="64" y="16698"/>
                </a:lnTo>
                <a:lnTo>
                  <a:pt x="45" y="16482"/>
                </a:lnTo>
                <a:lnTo>
                  <a:pt x="36" y="16265"/>
                </a:lnTo>
                <a:lnTo>
                  <a:pt x="27" y="16049"/>
                </a:lnTo>
                <a:lnTo>
                  <a:pt x="18" y="15833"/>
                </a:lnTo>
                <a:lnTo>
                  <a:pt x="8" y="15617"/>
                </a:lnTo>
                <a:lnTo>
                  <a:pt x="0" y="15388"/>
                </a:lnTo>
                <a:lnTo>
                  <a:pt x="0" y="15160"/>
                </a:lnTo>
                <a:lnTo>
                  <a:pt x="0" y="14944"/>
                </a:lnTo>
                <a:lnTo>
                  <a:pt x="8" y="14259"/>
                </a:lnTo>
                <a:lnTo>
                  <a:pt x="36" y="13598"/>
                </a:lnTo>
                <a:lnTo>
                  <a:pt x="91" y="12938"/>
                </a:lnTo>
                <a:lnTo>
                  <a:pt x="174" y="12289"/>
                </a:lnTo>
                <a:lnTo>
                  <a:pt x="266" y="11640"/>
                </a:lnTo>
                <a:lnTo>
                  <a:pt x="386" y="11004"/>
                </a:lnTo>
                <a:lnTo>
                  <a:pt x="515" y="10391"/>
                </a:lnTo>
                <a:lnTo>
                  <a:pt x="672" y="9778"/>
                </a:lnTo>
                <a:lnTo>
                  <a:pt x="856" y="9189"/>
                </a:lnTo>
                <a:lnTo>
                  <a:pt x="1049" y="8589"/>
                </a:lnTo>
                <a:lnTo>
                  <a:pt x="1270" y="8012"/>
                </a:lnTo>
                <a:lnTo>
                  <a:pt x="1492" y="7460"/>
                </a:lnTo>
                <a:lnTo>
                  <a:pt x="1740" y="6907"/>
                </a:lnTo>
                <a:lnTo>
                  <a:pt x="2007" y="6367"/>
                </a:lnTo>
                <a:lnTo>
                  <a:pt x="2284" y="5862"/>
                </a:lnTo>
                <a:lnTo>
                  <a:pt x="2579" y="5345"/>
                </a:lnTo>
                <a:lnTo>
                  <a:pt x="2892" y="4877"/>
                </a:lnTo>
                <a:lnTo>
                  <a:pt x="3214" y="4408"/>
                </a:lnTo>
                <a:lnTo>
                  <a:pt x="3555" y="3952"/>
                </a:lnTo>
                <a:lnTo>
                  <a:pt x="3914" y="3531"/>
                </a:lnTo>
                <a:lnTo>
                  <a:pt x="4273" y="3123"/>
                </a:lnTo>
                <a:lnTo>
                  <a:pt x="4660" y="2727"/>
                </a:lnTo>
                <a:lnTo>
                  <a:pt x="5047" y="2342"/>
                </a:lnTo>
                <a:lnTo>
                  <a:pt x="5452" y="1994"/>
                </a:lnTo>
                <a:lnTo>
                  <a:pt x="5867" y="1657"/>
                </a:lnTo>
                <a:lnTo>
                  <a:pt x="6290" y="1345"/>
                </a:lnTo>
                <a:lnTo>
                  <a:pt x="6733" y="1068"/>
                </a:lnTo>
                <a:lnTo>
                  <a:pt x="7184" y="804"/>
                </a:lnTo>
                <a:lnTo>
                  <a:pt x="7645" y="564"/>
                </a:lnTo>
                <a:lnTo>
                  <a:pt x="8105" y="348"/>
                </a:lnTo>
                <a:lnTo>
                  <a:pt x="8584" y="155"/>
                </a:lnTo>
                <a:lnTo>
                  <a:pt x="9063" y="0"/>
                </a:lnTo>
                <a:lnTo>
                  <a:pt x="1453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未知"/>
          <p:cNvSpPr/>
          <p:nvPr/>
        </p:nvSpPr>
        <p:spPr>
          <a:xfrm>
            <a:off x="849240" y="1425600"/>
            <a:ext cx="7545600" cy="371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414" y="7785"/>
                </a:moveTo>
                <a:lnTo>
                  <a:pt x="19982" y="8141"/>
                </a:lnTo>
                <a:lnTo>
                  <a:pt x="19868" y="7890"/>
                </a:lnTo>
                <a:lnTo>
                  <a:pt x="20270" y="7513"/>
                </a:lnTo>
                <a:lnTo>
                  <a:pt x="20414" y="7785"/>
                </a:lnTo>
                <a:close/>
                <a:moveTo>
                  <a:pt x="19816" y="8455"/>
                </a:moveTo>
                <a:lnTo>
                  <a:pt x="19487" y="9565"/>
                </a:lnTo>
                <a:lnTo>
                  <a:pt x="18951" y="10129"/>
                </a:lnTo>
                <a:lnTo>
                  <a:pt x="18786" y="9774"/>
                </a:lnTo>
                <a:lnTo>
                  <a:pt x="19332" y="9146"/>
                </a:lnTo>
                <a:lnTo>
                  <a:pt x="19518" y="8078"/>
                </a:lnTo>
                <a:lnTo>
                  <a:pt x="19816" y="8455"/>
                </a:lnTo>
                <a:close/>
                <a:moveTo>
                  <a:pt x="19744" y="10820"/>
                </a:moveTo>
                <a:lnTo>
                  <a:pt x="19569" y="11071"/>
                </a:lnTo>
                <a:lnTo>
                  <a:pt x="19415" y="10088"/>
                </a:lnTo>
                <a:lnTo>
                  <a:pt x="19518" y="10129"/>
                </a:lnTo>
                <a:lnTo>
                  <a:pt x="19744" y="10820"/>
                </a:lnTo>
                <a:close/>
                <a:moveTo>
                  <a:pt x="20023" y="15153"/>
                </a:moveTo>
                <a:lnTo>
                  <a:pt x="18951" y="14692"/>
                </a:lnTo>
                <a:lnTo>
                  <a:pt x="18920" y="13918"/>
                </a:lnTo>
                <a:lnTo>
                  <a:pt x="19930" y="14420"/>
                </a:lnTo>
                <a:lnTo>
                  <a:pt x="20023" y="15153"/>
                </a:lnTo>
                <a:close/>
                <a:moveTo>
                  <a:pt x="21569" y="19402"/>
                </a:moveTo>
                <a:lnTo>
                  <a:pt x="21197" y="20343"/>
                </a:lnTo>
                <a:lnTo>
                  <a:pt x="21012" y="20281"/>
                </a:lnTo>
                <a:lnTo>
                  <a:pt x="20960" y="19757"/>
                </a:lnTo>
                <a:lnTo>
                  <a:pt x="21424" y="18732"/>
                </a:lnTo>
                <a:lnTo>
                  <a:pt x="21239" y="18146"/>
                </a:lnTo>
                <a:lnTo>
                  <a:pt x="21342" y="17832"/>
                </a:lnTo>
                <a:lnTo>
                  <a:pt x="21527" y="18355"/>
                </a:lnTo>
                <a:lnTo>
                  <a:pt x="21569" y="19402"/>
                </a:lnTo>
                <a:close/>
                <a:moveTo>
                  <a:pt x="18662" y="13793"/>
                </a:moveTo>
                <a:lnTo>
                  <a:pt x="18456" y="14525"/>
                </a:lnTo>
                <a:lnTo>
                  <a:pt x="18281" y="14462"/>
                </a:lnTo>
                <a:lnTo>
                  <a:pt x="18456" y="13646"/>
                </a:lnTo>
                <a:lnTo>
                  <a:pt x="18662" y="13793"/>
                </a:lnTo>
                <a:close/>
                <a:moveTo>
                  <a:pt x="18281" y="13646"/>
                </a:moveTo>
                <a:lnTo>
                  <a:pt x="18065" y="14462"/>
                </a:lnTo>
                <a:lnTo>
                  <a:pt x="17683" y="14274"/>
                </a:lnTo>
                <a:lnTo>
                  <a:pt x="17714" y="13646"/>
                </a:lnTo>
                <a:lnTo>
                  <a:pt x="18044" y="12955"/>
                </a:lnTo>
                <a:lnTo>
                  <a:pt x="18281" y="13646"/>
                </a:lnTo>
                <a:close/>
                <a:moveTo>
                  <a:pt x="21600" y="5588"/>
                </a:moveTo>
                <a:lnTo>
                  <a:pt x="20878" y="5734"/>
                </a:lnTo>
                <a:lnTo>
                  <a:pt x="20898" y="6279"/>
                </a:lnTo>
                <a:lnTo>
                  <a:pt x="20476" y="7409"/>
                </a:lnTo>
                <a:lnTo>
                  <a:pt x="20383" y="6362"/>
                </a:lnTo>
                <a:lnTo>
                  <a:pt x="20620" y="5734"/>
                </a:lnTo>
                <a:lnTo>
                  <a:pt x="19806" y="5902"/>
                </a:lnTo>
                <a:lnTo>
                  <a:pt x="19311" y="6404"/>
                </a:lnTo>
                <a:lnTo>
                  <a:pt x="19250" y="6843"/>
                </a:lnTo>
                <a:lnTo>
                  <a:pt x="19600" y="6676"/>
                </a:lnTo>
                <a:lnTo>
                  <a:pt x="19621" y="7681"/>
                </a:lnTo>
                <a:lnTo>
                  <a:pt x="19384" y="7722"/>
                </a:lnTo>
                <a:lnTo>
                  <a:pt x="19311" y="8204"/>
                </a:lnTo>
                <a:lnTo>
                  <a:pt x="18848" y="8832"/>
                </a:lnTo>
                <a:lnTo>
                  <a:pt x="18920" y="9250"/>
                </a:lnTo>
                <a:lnTo>
                  <a:pt x="18611" y="9669"/>
                </a:lnTo>
                <a:lnTo>
                  <a:pt x="18508" y="8937"/>
                </a:lnTo>
                <a:lnTo>
                  <a:pt x="18302" y="9146"/>
                </a:lnTo>
                <a:lnTo>
                  <a:pt x="18353" y="10611"/>
                </a:lnTo>
                <a:lnTo>
                  <a:pt x="17477" y="11637"/>
                </a:lnTo>
                <a:lnTo>
                  <a:pt x="17714" y="12327"/>
                </a:lnTo>
                <a:lnTo>
                  <a:pt x="17333" y="12809"/>
                </a:lnTo>
                <a:lnTo>
                  <a:pt x="17168" y="12181"/>
                </a:lnTo>
                <a:lnTo>
                  <a:pt x="17085" y="12243"/>
                </a:lnTo>
                <a:lnTo>
                  <a:pt x="17168" y="12913"/>
                </a:lnTo>
                <a:lnTo>
                  <a:pt x="17477" y="13311"/>
                </a:lnTo>
                <a:lnTo>
                  <a:pt x="17374" y="13541"/>
                </a:lnTo>
                <a:lnTo>
                  <a:pt x="17168" y="13415"/>
                </a:lnTo>
                <a:lnTo>
                  <a:pt x="17220" y="13730"/>
                </a:lnTo>
                <a:lnTo>
                  <a:pt x="17395" y="13793"/>
                </a:lnTo>
                <a:lnTo>
                  <a:pt x="17508" y="14420"/>
                </a:lnTo>
                <a:lnTo>
                  <a:pt x="17972" y="14776"/>
                </a:lnTo>
                <a:lnTo>
                  <a:pt x="17992" y="15090"/>
                </a:lnTo>
                <a:lnTo>
                  <a:pt x="17457" y="14902"/>
                </a:lnTo>
                <a:lnTo>
                  <a:pt x="16704" y="13227"/>
                </a:lnTo>
                <a:lnTo>
                  <a:pt x="17014" y="13290"/>
                </a:lnTo>
                <a:lnTo>
                  <a:pt x="16570" y="11344"/>
                </a:lnTo>
                <a:lnTo>
                  <a:pt x="16570" y="10820"/>
                </a:lnTo>
                <a:lnTo>
                  <a:pt x="16457" y="10820"/>
                </a:lnTo>
                <a:lnTo>
                  <a:pt x="16395" y="11281"/>
                </a:lnTo>
                <a:lnTo>
                  <a:pt x="15973" y="11950"/>
                </a:lnTo>
                <a:lnTo>
                  <a:pt x="15973" y="12599"/>
                </a:lnTo>
                <a:lnTo>
                  <a:pt x="15633" y="12809"/>
                </a:lnTo>
                <a:lnTo>
                  <a:pt x="15416" y="11595"/>
                </a:lnTo>
                <a:lnTo>
                  <a:pt x="15272" y="11511"/>
                </a:lnTo>
                <a:lnTo>
                  <a:pt x="15282" y="10820"/>
                </a:lnTo>
                <a:lnTo>
                  <a:pt x="14056" y="10339"/>
                </a:lnTo>
                <a:lnTo>
                  <a:pt x="14252" y="11030"/>
                </a:lnTo>
                <a:lnTo>
                  <a:pt x="14468" y="10862"/>
                </a:lnTo>
                <a:lnTo>
                  <a:pt x="14695" y="11344"/>
                </a:lnTo>
                <a:lnTo>
                  <a:pt x="14468" y="11909"/>
                </a:lnTo>
                <a:lnTo>
                  <a:pt x="13911" y="12327"/>
                </a:lnTo>
                <a:lnTo>
                  <a:pt x="13365" y="10129"/>
                </a:lnTo>
                <a:lnTo>
                  <a:pt x="13201" y="10129"/>
                </a:lnTo>
                <a:lnTo>
                  <a:pt x="13180" y="10548"/>
                </a:lnTo>
                <a:lnTo>
                  <a:pt x="13561" y="12118"/>
                </a:lnTo>
                <a:lnTo>
                  <a:pt x="13850" y="12558"/>
                </a:lnTo>
                <a:lnTo>
                  <a:pt x="14283" y="12495"/>
                </a:lnTo>
                <a:lnTo>
                  <a:pt x="13489" y="14839"/>
                </a:lnTo>
                <a:lnTo>
                  <a:pt x="13582" y="15048"/>
                </a:lnTo>
                <a:lnTo>
                  <a:pt x="13613" y="15822"/>
                </a:lnTo>
                <a:lnTo>
                  <a:pt x="13376" y="16200"/>
                </a:lnTo>
                <a:lnTo>
                  <a:pt x="13365" y="16786"/>
                </a:lnTo>
                <a:lnTo>
                  <a:pt x="12737" y="18292"/>
                </a:lnTo>
                <a:lnTo>
                  <a:pt x="12252" y="18229"/>
                </a:lnTo>
                <a:lnTo>
                  <a:pt x="11809" y="15822"/>
                </a:lnTo>
                <a:lnTo>
                  <a:pt x="11943" y="15467"/>
                </a:lnTo>
                <a:lnTo>
                  <a:pt x="11943" y="14839"/>
                </a:lnTo>
                <a:lnTo>
                  <a:pt x="11583" y="13960"/>
                </a:lnTo>
                <a:lnTo>
                  <a:pt x="11737" y="13730"/>
                </a:lnTo>
                <a:lnTo>
                  <a:pt x="11376" y="13290"/>
                </a:lnTo>
                <a:lnTo>
                  <a:pt x="10655" y="13227"/>
                </a:lnTo>
                <a:lnTo>
                  <a:pt x="10233" y="12495"/>
                </a:lnTo>
                <a:lnTo>
                  <a:pt x="10212" y="10862"/>
                </a:lnTo>
                <a:lnTo>
                  <a:pt x="11139" y="9250"/>
                </a:lnTo>
                <a:lnTo>
                  <a:pt x="11655" y="9146"/>
                </a:lnTo>
                <a:lnTo>
                  <a:pt x="11789" y="9460"/>
                </a:lnTo>
                <a:lnTo>
                  <a:pt x="11758" y="9732"/>
                </a:lnTo>
                <a:lnTo>
                  <a:pt x="12170" y="9983"/>
                </a:lnTo>
                <a:lnTo>
                  <a:pt x="12376" y="9606"/>
                </a:lnTo>
                <a:lnTo>
                  <a:pt x="12531" y="9878"/>
                </a:lnTo>
                <a:lnTo>
                  <a:pt x="13097" y="9920"/>
                </a:lnTo>
                <a:lnTo>
                  <a:pt x="13201" y="9732"/>
                </a:lnTo>
                <a:lnTo>
                  <a:pt x="13201" y="9083"/>
                </a:lnTo>
                <a:lnTo>
                  <a:pt x="12974" y="9732"/>
                </a:lnTo>
                <a:lnTo>
                  <a:pt x="12665" y="8874"/>
                </a:lnTo>
                <a:lnTo>
                  <a:pt x="12716" y="9732"/>
                </a:lnTo>
                <a:lnTo>
                  <a:pt x="12428" y="9292"/>
                </a:lnTo>
                <a:lnTo>
                  <a:pt x="12376" y="8664"/>
                </a:lnTo>
                <a:lnTo>
                  <a:pt x="12036" y="7848"/>
                </a:lnTo>
                <a:lnTo>
                  <a:pt x="11974" y="7995"/>
                </a:lnTo>
                <a:lnTo>
                  <a:pt x="12252" y="8769"/>
                </a:lnTo>
                <a:lnTo>
                  <a:pt x="12067" y="9292"/>
                </a:lnTo>
                <a:lnTo>
                  <a:pt x="11995" y="8664"/>
                </a:lnTo>
                <a:lnTo>
                  <a:pt x="11675" y="8204"/>
                </a:lnTo>
                <a:lnTo>
                  <a:pt x="11500" y="8518"/>
                </a:lnTo>
                <a:lnTo>
                  <a:pt x="11397" y="8413"/>
                </a:lnTo>
                <a:lnTo>
                  <a:pt x="10810" y="9523"/>
                </a:lnTo>
                <a:lnTo>
                  <a:pt x="10593" y="8351"/>
                </a:lnTo>
                <a:lnTo>
                  <a:pt x="11016" y="8413"/>
                </a:lnTo>
                <a:lnTo>
                  <a:pt x="11098" y="8057"/>
                </a:lnTo>
                <a:lnTo>
                  <a:pt x="10923" y="7722"/>
                </a:lnTo>
                <a:lnTo>
                  <a:pt x="11191" y="7325"/>
                </a:lnTo>
                <a:lnTo>
                  <a:pt x="11346" y="7262"/>
                </a:lnTo>
                <a:lnTo>
                  <a:pt x="11634" y="6718"/>
                </a:lnTo>
                <a:lnTo>
                  <a:pt x="11552" y="6320"/>
                </a:lnTo>
                <a:lnTo>
                  <a:pt x="11706" y="6174"/>
                </a:lnTo>
                <a:lnTo>
                  <a:pt x="11809" y="6488"/>
                </a:lnTo>
                <a:lnTo>
                  <a:pt x="12325" y="6404"/>
                </a:lnTo>
                <a:lnTo>
                  <a:pt x="12355" y="6111"/>
                </a:lnTo>
                <a:lnTo>
                  <a:pt x="12912" y="5671"/>
                </a:lnTo>
                <a:lnTo>
                  <a:pt x="12819" y="5441"/>
                </a:lnTo>
                <a:lnTo>
                  <a:pt x="12459" y="5671"/>
                </a:lnTo>
                <a:lnTo>
                  <a:pt x="12355" y="5232"/>
                </a:lnTo>
                <a:lnTo>
                  <a:pt x="12613" y="4813"/>
                </a:lnTo>
                <a:lnTo>
                  <a:pt x="12459" y="4499"/>
                </a:lnTo>
                <a:lnTo>
                  <a:pt x="12129" y="5357"/>
                </a:lnTo>
                <a:lnTo>
                  <a:pt x="12252" y="5588"/>
                </a:lnTo>
                <a:lnTo>
                  <a:pt x="12221" y="6111"/>
                </a:lnTo>
                <a:lnTo>
                  <a:pt x="11892" y="6320"/>
                </a:lnTo>
                <a:lnTo>
                  <a:pt x="11809" y="5902"/>
                </a:lnTo>
                <a:lnTo>
                  <a:pt x="11448" y="5986"/>
                </a:lnTo>
                <a:lnTo>
                  <a:pt x="11469" y="5357"/>
                </a:lnTo>
                <a:lnTo>
                  <a:pt x="12067" y="3767"/>
                </a:lnTo>
                <a:lnTo>
                  <a:pt x="12716" y="3453"/>
                </a:lnTo>
                <a:lnTo>
                  <a:pt x="13695" y="3892"/>
                </a:lnTo>
                <a:lnTo>
                  <a:pt x="13520" y="4436"/>
                </a:lnTo>
                <a:lnTo>
                  <a:pt x="13128" y="4374"/>
                </a:lnTo>
                <a:lnTo>
                  <a:pt x="13376" y="4918"/>
                </a:lnTo>
                <a:lnTo>
                  <a:pt x="14128" y="3892"/>
                </a:lnTo>
                <a:lnTo>
                  <a:pt x="14623" y="3892"/>
                </a:lnTo>
                <a:lnTo>
                  <a:pt x="14283" y="3139"/>
                </a:lnTo>
                <a:lnTo>
                  <a:pt x="14674" y="2344"/>
                </a:lnTo>
                <a:lnTo>
                  <a:pt x="15210" y="1862"/>
                </a:lnTo>
                <a:lnTo>
                  <a:pt x="15282" y="2239"/>
                </a:lnTo>
                <a:lnTo>
                  <a:pt x="14777" y="2595"/>
                </a:lnTo>
                <a:lnTo>
                  <a:pt x="14489" y="3223"/>
                </a:lnTo>
                <a:lnTo>
                  <a:pt x="15086" y="3955"/>
                </a:lnTo>
                <a:lnTo>
                  <a:pt x="14983" y="3599"/>
                </a:lnTo>
                <a:lnTo>
                  <a:pt x="15344" y="2971"/>
                </a:lnTo>
                <a:lnTo>
                  <a:pt x="15983" y="3286"/>
                </a:lnTo>
                <a:lnTo>
                  <a:pt x="16086" y="2867"/>
                </a:lnTo>
                <a:lnTo>
                  <a:pt x="17240" y="1988"/>
                </a:lnTo>
                <a:lnTo>
                  <a:pt x="18044" y="2344"/>
                </a:lnTo>
                <a:lnTo>
                  <a:pt x="17457" y="3013"/>
                </a:lnTo>
                <a:lnTo>
                  <a:pt x="19291" y="3411"/>
                </a:lnTo>
                <a:lnTo>
                  <a:pt x="19600" y="2783"/>
                </a:lnTo>
                <a:lnTo>
                  <a:pt x="19744" y="3327"/>
                </a:lnTo>
                <a:lnTo>
                  <a:pt x="20620" y="3516"/>
                </a:lnTo>
                <a:lnTo>
                  <a:pt x="20878" y="3767"/>
                </a:lnTo>
                <a:lnTo>
                  <a:pt x="21600" y="3599"/>
                </a:lnTo>
                <a:lnTo>
                  <a:pt x="21600" y="5588"/>
                </a:lnTo>
                <a:close/>
                <a:moveTo>
                  <a:pt x="20321" y="17309"/>
                </a:moveTo>
                <a:lnTo>
                  <a:pt x="19868" y="18983"/>
                </a:lnTo>
                <a:lnTo>
                  <a:pt x="19518" y="18900"/>
                </a:lnTo>
                <a:lnTo>
                  <a:pt x="18817" y="17853"/>
                </a:lnTo>
                <a:lnTo>
                  <a:pt x="18786" y="18146"/>
                </a:lnTo>
                <a:lnTo>
                  <a:pt x="17941" y="18502"/>
                </a:lnTo>
                <a:lnTo>
                  <a:pt x="18044" y="17790"/>
                </a:lnTo>
                <a:lnTo>
                  <a:pt x="17869" y="17623"/>
                </a:lnTo>
                <a:lnTo>
                  <a:pt x="17869" y="16744"/>
                </a:lnTo>
                <a:lnTo>
                  <a:pt x="18971" y="15278"/>
                </a:lnTo>
                <a:lnTo>
                  <a:pt x="19487" y="15948"/>
                </a:lnTo>
                <a:lnTo>
                  <a:pt x="19518" y="15383"/>
                </a:lnTo>
                <a:lnTo>
                  <a:pt x="19672" y="15320"/>
                </a:lnTo>
                <a:lnTo>
                  <a:pt x="20321" y="17309"/>
                </a:lnTo>
                <a:close/>
                <a:moveTo>
                  <a:pt x="11242" y="6718"/>
                </a:moveTo>
                <a:lnTo>
                  <a:pt x="11222" y="7158"/>
                </a:lnTo>
                <a:lnTo>
                  <a:pt x="10861" y="7158"/>
                </a:lnTo>
                <a:lnTo>
                  <a:pt x="10964" y="6718"/>
                </a:lnTo>
                <a:lnTo>
                  <a:pt x="10727" y="6216"/>
                </a:lnTo>
                <a:lnTo>
                  <a:pt x="10913" y="5860"/>
                </a:lnTo>
                <a:lnTo>
                  <a:pt x="11016" y="6362"/>
                </a:lnTo>
                <a:lnTo>
                  <a:pt x="11242" y="6718"/>
                </a:lnTo>
                <a:close/>
                <a:moveTo>
                  <a:pt x="10521" y="4751"/>
                </a:moveTo>
                <a:lnTo>
                  <a:pt x="10057" y="5441"/>
                </a:lnTo>
                <a:lnTo>
                  <a:pt x="9779" y="4583"/>
                </a:lnTo>
                <a:lnTo>
                  <a:pt x="10294" y="4332"/>
                </a:lnTo>
                <a:lnTo>
                  <a:pt x="10521" y="4751"/>
                </a:lnTo>
                <a:close/>
                <a:moveTo>
                  <a:pt x="11974" y="9292"/>
                </a:moveTo>
                <a:lnTo>
                  <a:pt x="11820" y="9167"/>
                </a:lnTo>
                <a:lnTo>
                  <a:pt x="11923" y="8853"/>
                </a:lnTo>
                <a:lnTo>
                  <a:pt x="11974" y="9292"/>
                </a:lnTo>
                <a:close/>
                <a:moveTo>
                  <a:pt x="10408" y="920"/>
                </a:moveTo>
                <a:lnTo>
                  <a:pt x="10119" y="1465"/>
                </a:lnTo>
                <a:lnTo>
                  <a:pt x="10057" y="2783"/>
                </a:lnTo>
                <a:lnTo>
                  <a:pt x="9594" y="4227"/>
                </a:lnTo>
                <a:lnTo>
                  <a:pt x="8841" y="4688"/>
                </a:lnTo>
                <a:lnTo>
                  <a:pt x="8666" y="5588"/>
                </a:lnTo>
                <a:lnTo>
                  <a:pt x="8326" y="5546"/>
                </a:lnTo>
                <a:lnTo>
                  <a:pt x="7955" y="4332"/>
                </a:lnTo>
                <a:lnTo>
                  <a:pt x="7790" y="2720"/>
                </a:lnTo>
                <a:lnTo>
                  <a:pt x="7481" y="2239"/>
                </a:lnTo>
                <a:lnTo>
                  <a:pt x="7151" y="2469"/>
                </a:lnTo>
                <a:lnTo>
                  <a:pt x="6966" y="1988"/>
                </a:lnTo>
                <a:lnTo>
                  <a:pt x="7533" y="564"/>
                </a:lnTo>
                <a:lnTo>
                  <a:pt x="9851" y="0"/>
                </a:lnTo>
                <a:lnTo>
                  <a:pt x="10408" y="920"/>
                </a:lnTo>
                <a:close/>
                <a:moveTo>
                  <a:pt x="10779" y="6906"/>
                </a:moveTo>
                <a:lnTo>
                  <a:pt x="10624" y="7262"/>
                </a:lnTo>
                <a:lnTo>
                  <a:pt x="10449" y="6948"/>
                </a:lnTo>
                <a:lnTo>
                  <a:pt x="10593" y="6404"/>
                </a:lnTo>
                <a:lnTo>
                  <a:pt x="10779" y="6906"/>
                </a:lnTo>
                <a:close/>
                <a:moveTo>
                  <a:pt x="14210" y="15592"/>
                </a:moveTo>
                <a:lnTo>
                  <a:pt x="13973" y="17099"/>
                </a:lnTo>
                <a:lnTo>
                  <a:pt x="13644" y="16618"/>
                </a:lnTo>
                <a:lnTo>
                  <a:pt x="13736" y="15948"/>
                </a:lnTo>
                <a:lnTo>
                  <a:pt x="14066" y="15404"/>
                </a:lnTo>
                <a:lnTo>
                  <a:pt x="14210" y="15592"/>
                </a:lnTo>
                <a:close/>
                <a:moveTo>
                  <a:pt x="6894" y="10967"/>
                </a:moveTo>
                <a:lnTo>
                  <a:pt x="6688" y="10757"/>
                </a:lnTo>
                <a:lnTo>
                  <a:pt x="6688" y="10402"/>
                </a:lnTo>
                <a:lnTo>
                  <a:pt x="6894" y="10967"/>
                </a:lnTo>
                <a:close/>
                <a:moveTo>
                  <a:pt x="7635" y="11950"/>
                </a:moveTo>
                <a:lnTo>
                  <a:pt x="7512" y="12076"/>
                </a:lnTo>
                <a:lnTo>
                  <a:pt x="6863" y="11595"/>
                </a:lnTo>
                <a:lnTo>
                  <a:pt x="6914" y="11344"/>
                </a:lnTo>
                <a:lnTo>
                  <a:pt x="7635" y="11950"/>
                </a:lnTo>
                <a:close/>
                <a:moveTo>
                  <a:pt x="6739" y="11197"/>
                </a:moveTo>
                <a:lnTo>
                  <a:pt x="6688" y="11511"/>
                </a:lnTo>
                <a:lnTo>
                  <a:pt x="6285" y="11344"/>
                </a:lnTo>
                <a:lnTo>
                  <a:pt x="6327" y="10946"/>
                </a:lnTo>
                <a:lnTo>
                  <a:pt x="6739" y="11197"/>
                </a:lnTo>
                <a:close/>
                <a:moveTo>
                  <a:pt x="9161" y="14839"/>
                </a:moveTo>
                <a:lnTo>
                  <a:pt x="8955" y="15320"/>
                </a:lnTo>
                <a:lnTo>
                  <a:pt x="8893" y="16262"/>
                </a:lnTo>
                <a:lnTo>
                  <a:pt x="7326" y="19653"/>
                </a:lnTo>
                <a:lnTo>
                  <a:pt x="7347" y="19737"/>
                </a:lnTo>
                <a:lnTo>
                  <a:pt x="7368" y="19820"/>
                </a:lnTo>
                <a:lnTo>
                  <a:pt x="7378" y="19904"/>
                </a:lnTo>
                <a:lnTo>
                  <a:pt x="7378" y="19988"/>
                </a:lnTo>
                <a:lnTo>
                  <a:pt x="7388" y="20072"/>
                </a:lnTo>
                <a:lnTo>
                  <a:pt x="7388" y="20155"/>
                </a:lnTo>
                <a:lnTo>
                  <a:pt x="7388" y="20260"/>
                </a:lnTo>
                <a:lnTo>
                  <a:pt x="7378" y="20343"/>
                </a:lnTo>
                <a:lnTo>
                  <a:pt x="7172" y="20762"/>
                </a:lnTo>
                <a:lnTo>
                  <a:pt x="7357" y="21222"/>
                </a:lnTo>
                <a:lnTo>
                  <a:pt x="7203" y="21600"/>
                </a:lnTo>
                <a:lnTo>
                  <a:pt x="6791" y="20636"/>
                </a:lnTo>
                <a:lnTo>
                  <a:pt x="6791" y="19130"/>
                </a:lnTo>
                <a:lnTo>
                  <a:pt x="7048" y="16137"/>
                </a:lnTo>
                <a:lnTo>
                  <a:pt x="6708" y="15822"/>
                </a:lnTo>
                <a:lnTo>
                  <a:pt x="6347" y="14002"/>
                </a:lnTo>
                <a:lnTo>
                  <a:pt x="6502" y="13541"/>
                </a:lnTo>
                <a:lnTo>
                  <a:pt x="6502" y="12997"/>
                </a:lnTo>
                <a:lnTo>
                  <a:pt x="6152" y="12997"/>
                </a:lnTo>
                <a:lnTo>
                  <a:pt x="5997" y="12369"/>
                </a:lnTo>
                <a:lnTo>
                  <a:pt x="5791" y="12432"/>
                </a:lnTo>
                <a:lnTo>
                  <a:pt x="5059" y="11595"/>
                </a:lnTo>
                <a:lnTo>
                  <a:pt x="4833" y="11030"/>
                </a:lnTo>
                <a:lnTo>
                  <a:pt x="4544" y="11030"/>
                </a:lnTo>
                <a:lnTo>
                  <a:pt x="3771" y="8937"/>
                </a:lnTo>
                <a:lnTo>
                  <a:pt x="3792" y="7890"/>
                </a:lnTo>
                <a:lnTo>
                  <a:pt x="3544" y="7116"/>
                </a:lnTo>
                <a:lnTo>
                  <a:pt x="3359" y="7199"/>
                </a:lnTo>
                <a:lnTo>
                  <a:pt x="3235" y="6676"/>
                </a:lnTo>
                <a:lnTo>
                  <a:pt x="3390" y="6718"/>
                </a:lnTo>
                <a:lnTo>
                  <a:pt x="2998" y="5902"/>
                </a:lnTo>
                <a:lnTo>
                  <a:pt x="2493" y="5734"/>
                </a:lnTo>
                <a:lnTo>
                  <a:pt x="1246" y="7011"/>
                </a:lnTo>
                <a:lnTo>
                  <a:pt x="1689" y="6111"/>
                </a:lnTo>
                <a:lnTo>
                  <a:pt x="1370" y="5630"/>
                </a:lnTo>
                <a:lnTo>
                  <a:pt x="1246" y="3872"/>
                </a:lnTo>
                <a:lnTo>
                  <a:pt x="1761" y="3327"/>
                </a:lnTo>
                <a:lnTo>
                  <a:pt x="4235" y="3872"/>
                </a:lnTo>
                <a:lnTo>
                  <a:pt x="3771" y="3202"/>
                </a:lnTo>
                <a:lnTo>
                  <a:pt x="3874" y="2281"/>
                </a:lnTo>
                <a:lnTo>
                  <a:pt x="6347" y="376"/>
                </a:lnTo>
                <a:lnTo>
                  <a:pt x="7306" y="460"/>
                </a:lnTo>
                <a:lnTo>
                  <a:pt x="6451" y="2406"/>
                </a:lnTo>
                <a:lnTo>
                  <a:pt x="7584" y="4269"/>
                </a:lnTo>
                <a:lnTo>
                  <a:pt x="7223" y="5044"/>
                </a:lnTo>
                <a:lnTo>
                  <a:pt x="6553" y="4813"/>
                </a:lnTo>
                <a:lnTo>
                  <a:pt x="6636" y="3955"/>
                </a:lnTo>
                <a:lnTo>
                  <a:pt x="6399" y="3955"/>
                </a:lnTo>
                <a:lnTo>
                  <a:pt x="6306" y="4541"/>
                </a:lnTo>
                <a:lnTo>
                  <a:pt x="6378" y="5044"/>
                </a:lnTo>
                <a:lnTo>
                  <a:pt x="5863" y="4939"/>
                </a:lnTo>
                <a:lnTo>
                  <a:pt x="5595" y="5671"/>
                </a:lnTo>
                <a:lnTo>
                  <a:pt x="5791" y="5986"/>
                </a:lnTo>
                <a:lnTo>
                  <a:pt x="6152" y="6216"/>
                </a:lnTo>
                <a:lnTo>
                  <a:pt x="6482" y="7011"/>
                </a:lnTo>
                <a:lnTo>
                  <a:pt x="6595" y="6216"/>
                </a:lnTo>
                <a:lnTo>
                  <a:pt x="6533" y="6048"/>
                </a:lnTo>
                <a:lnTo>
                  <a:pt x="6533" y="5274"/>
                </a:lnTo>
                <a:lnTo>
                  <a:pt x="7326" y="5546"/>
                </a:lnTo>
                <a:lnTo>
                  <a:pt x="7965" y="7116"/>
                </a:lnTo>
                <a:lnTo>
                  <a:pt x="7069" y="8141"/>
                </a:lnTo>
                <a:lnTo>
                  <a:pt x="7069" y="8727"/>
                </a:lnTo>
                <a:lnTo>
                  <a:pt x="6914" y="8664"/>
                </a:lnTo>
                <a:lnTo>
                  <a:pt x="6750" y="8999"/>
                </a:lnTo>
                <a:lnTo>
                  <a:pt x="6791" y="9418"/>
                </a:lnTo>
                <a:lnTo>
                  <a:pt x="6420" y="10025"/>
                </a:lnTo>
                <a:lnTo>
                  <a:pt x="6533" y="10715"/>
                </a:lnTo>
                <a:lnTo>
                  <a:pt x="6347" y="10715"/>
                </a:lnTo>
                <a:lnTo>
                  <a:pt x="6203" y="10234"/>
                </a:lnTo>
                <a:lnTo>
                  <a:pt x="5636" y="10234"/>
                </a:lnTo>
                <a:lnTo>
                  <a:pt x="5420" y="11030"/>
                </a:lnTo>
                <a:lnTo>
                  <a:pt x="5636" y="11448"/>
                </a:lnTo>
                <a:lnTo>
                  <a:pt x="5729" y="11448"/>
                </a:lnTo>
                <a:lnTo>
                  <a:pt x="5935" y="11197"/>
                </a:lnTo>
                <a:lnTo>
                  <a:pt x="6059" y="11344"/>
                </a:lnTo>
                <a:lnTo>
                  <a:pt x="6018" y="11909"/>
                </a:lnTo>
                <a:lnTo>
                  <a:pt x="6224" y="11950"/>
                </a:lnTo>
                <a:lnTo>
                  <a:pt x="6265" y="12599"/>
                </a:lnTo>
                <a:lnTo>
                  <a:pt x="6636" y="12599"/>
                </a:lnTo>
                <a:lnTo>
                  <a:pt x="6997" y="12285"/>
                </a:lnTo>
                <a:lnTo>
                  <a:pt x="7254" y="12495"/>
                </a:lnTo>
                <a:lnTo>
                  <a:pt x="7728" y="12516"/>
                </a:lnTo>
                <a:lnTo>
                  <a:pt x="7770" y="13164"/>
                </a:lnTo>
                <a:lnTo>
                  <a:pt x="8151" y="13164"/>
                </a:lnTo>
                <a:lnTo>
                  <a:pt x="8202" y="13918"/>
                </a:lnTo>
                <a:lnTo>
                  <a:pt x="8470" y="13918"/>
                </a:lnTo>
                <a:lnTo>
                  <a:pt x="9161" y="14839"/>
                </a:lnTo>
                <a:close/>
                <a:moveTo>
                  <a:pt x="1174" y="4855"/>
                </a:moveTo>
                <a:lnTo>
                  <a:pt x="401" y="4813"/>
                </a:lnTo>
                <a:lnTo>
                  <a:pt x="216" y="4939"/>
                </a:lnTo>
                <a:lnTo>
                  <a:pt x="422" y="5357"/>
                </a:lnTo>
                <a:lnTo>
                  <a:pt x="0" y="5588"/>
                </a:lnTo>
                <a:lnTo>
                  <a:pt x="0" y="3599"/>
                </a:lnTo>
                <a:lnTo>
                  <a:pt x="1040" y="4436"/>
                </a:lnTo>
                <a:lnTo>
                  <a:pt x="1174" y="4855"/>
                </a:lnTo>
                <a:close/>
                <a:moveTo>
                  <a:pt x="2246" y="11511"/>
                </a:moveTo>
                <a:lnTo>
                  <a:pt x="2153" y="11888"/>
                </a:lnTo>
                <a:lnTo>
                  <a:pt x="1792" y="11386"/>
                </a:lnTo>
                <a:lnTo>
                  <a:pt x="1555" y="11637"/>
                </a:lnTo>
                <a:lnTo>
                  <a:pt x="999" y="10967"/>
                </a:lnTo>
                <a:lnTo>
                  <a:pt x="1040" y="10653"/>
                </a:lnTo>
                <a:lnTo>
                  <a:pt x="1689" y="11197"/>
                </a:lnTo>
                <a:lnTo>
                  <a:pt x="1937" y="10925"/>
                </a:lnTo>
                <a:lnTo>
                  <a:pt x="2246" y="11511"/>
                </a:lnTo>
                <a:close/>
                <a:moveTo>
                  <a:pt x="814" y="10297"/>
                </a:moveTo>
                <a:lnTo>
                  <a:pt x="525" y="10653"/>
                </a:lnTo>
                <a:lnTo>
                  <a:pt x="370" y="9983"/>
                </a:lnTo>
                <a:lnTo>
                  <a:pt x="814" y="10297"/>
                </a:lnTo>
                <a:close/>
                <a:moveTo>
                  <a:pt x="3720" y="17057"/>
                </a:moveTo>
                <a:lnTo>
                  <a:pt x="3565" y="17372"/>
                </a:lnTo>
                <a:lnTo>
                  <a:pt x="3338" y="17057"/>
                </a:lnTo>
                <a:lnTo>
                  <a:pt x="3493" y="16744"/>
                </a:lnTo>
                <a:lnTo>
                  <a:pt x="3720" y="17057"/>
                </a:lnTo>
                <a:close/>
                <a:moveTo>
                  <a:pt x="3307" y="16576"/>
                </a:moveTo>
                <a:lnTo>
                  <a:pt x="3132" y="16786"/>
                </a:lnTo>
                <a:lnTo>
                  <a:pt x="2895" y="16451"/>
                </a:lnTo>
                <a:lnTo>
                  <a:pt x="3081" y="16011"/>
                </a:lnTo>
                <a:lnTo>
                  <a:pt x="3307" y="16576"/>
                </a:lnTo>
                <a:close/>
                <a:moveTo>
                  <a:pt x="14911" y="8560"/>
                </a:moveTo>
                <a:lnTo>
                  <a:pt x="14891" y="8141"/>
                </a:lnTo>
                <a:lnTo>
                  <a:pt x="14757" y="8162"/>
                </a:lnTo>
                <a:lnTo>
                  <a:pt x="14767" y="8581"/>
                </a:lnTo>
                <a:lnTo>
                  <a:pt x="14911" y="8560"/>
                </a:lnTo>
                <a:close/>
                <a:moveTo>
                  <a:pt x="14437" y="9230"/>
                </a:moveTo>
                <a:lnTo>
                  <a:pt x="14272" y="8560"/>
                </a:lnTo>
                <a:lnTo>
                  <a:pt x="14416" y="8162"/>
                </a:lnTo>
                <a:lnTo>
                  <a:pt x="14344" y="8015"/>
                </a:lnTo>
                <a:lnTo>
                  <a:pt x="14200" y="8225"/>
                </a:lnTo>
                <a:lnTo>
                  <a:pt x="14231" y="9355"/>
                </a:lnTo>
                <a:lnTo>
                  <a:pt x="14437" y="9230"/>
                </a:lnTo>
                <a:close/>
                <a:moveTo>
                  <a:pt x="13654" y="8539"/>
                </a:moveTo>
                <a:lnTo>
                  <a:pt x="13458" y="7911"/>
                </a:lnTo>
                <a:lnTo>
                  <a:pt x="13283" y="7848"/>
                </a:lnTo>
                <a:lnTo>
                  <a:pt x="13303" y="8141"/>
                </a:lnTo>
                <a:lnTo>
                  <a:pt x="13149" y="8162"/>
                </a:lnTo>
                <a:lnTo>
                  <a:pt x="13015" y="7827"/>
                </a:lnTo>
                <a:lnTo>
                  <a:pt x="12788" y="8413"/>
                </a:lnTo>
                <a:lnTo>
                  <a:pt x="12829" y="8769"/>
                </a:lnTo>
                <a:lnTo>
                  <a:pt x="13025" y="8455"/>
                </a:lnTo>
                <a:lnTo>
                  <a:pt x="13190" y="8455"/>
                </a:lnTo>
                <a:lnTo>
                  <a:pt x="13654" y="8539"/>
                </a:lnTo>
              </a:path>
            </a:pathLst>
          </a:cu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917280" y="1738440"/>
            <a:ext cx="720396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1928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215892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69892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69892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69892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3128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19236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FE3B-5320-42E6-8BBC-942F3AB68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2952720" y="5900760"/>
            <a:ext cx="27367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632800" cy="6472080"/>
            <a:chOff x="0" y="0"/>
            <a:chExt cx="8632800" cy="647208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8632800" cy="64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" y="3240"/>
              <a:ext cx="8626320" cy="64659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40" y="3240"/>
              <a:ext cx="8626320" cy="6465960"/>
            </a:xfrm>
            <a:prstGeom prst="rect">
              <a:avLst/>
            </a:prstGeom>
            <a:noFill/>
            <a:ln w="72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240" y="3240"/>
              <a:ext cx="8456400" cy="6465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673" y="0"/>
                  </a:moveTo>
                  <a:lnTo>
                    <a:pt x="14096" y="192"/>
                  </a:lnTo>
                  <a:lnTo>
                    <a:pt x="14519" y="408"/>
                  </a:lnTo>
                  <a:lnTo>
                    <a:pt x="14933" y="649"/>
                  </a:lnTo>
                  <a:lnTo>
                    <a:pt x="15328" y="913"/>
                  </a:lnTo>
                  <a:lnTo>
                    <a:pt x="15724" y="1190"/>
                  </a:lnTo>
                  <a:lnTo>
                    <a:pt x="16110" y="1491"/>
                  </a:lnTo>
                  <a:lnTo>
                    <a:pt x="16487" y="1791"/>
                  </a:lnTo>
                  <a:lnTo>
                    <a:pt x="16854" y="2116"/>
                  </a:lnTo>
                  <a:lnTo>
                    <a:pt x="17204" y="2477"/>
                  </a:lnTo>
                  <a:lnTo>
                    <a:pt x="17544" y="2838"/>
                  </a:lnTo>
                  <a:lnTo>
                    <a:pt x="17875" y="3223"/>
                  </a:lnTo>
                  <a:lnTo>
                    <a:pt x="18197" y="3619"/>
                  </a:lnTo>
                  <a:lnTo>
                    <a:pt x="18510" y="4028"/>
                  </a:lnTo>
                  <a:lnTo>
                    <a:pt x="18804" y="4461"/>
                  </a:lnTo>
                  <a:lnTo>
                    <a:pt x="19089" y="4894"/>
                  </a:lnTo>
                  <a:lnTo>
                    <a:pt x="19356" y="5351"/>
                  </a:lnTo>
                  <a:lnTo>
                    <a:pt x="19613" y="5820"/>
                  </a:lnTo>
                  <a:lnTo>
                    <a:pt x="19852" y="6301"/>
                  </a:lnTo>
                  <a:lnTo>
                    <a:pt x="20091" y="6782"/>
                  </a:lnTo>
                  <a:lnTo>
                    <a:pt x="20294" y="7300"/>
                  </a:lnTo>
                  <a:lnTo>
                    <a:pt x="20496" y="7805"/>
                  </a:lnTo>
                  <a:lnTo>
                    <a:pt x="20680" y="8334"/>
                  </a:lnTo>
                  <a:lnTo>
                    <a:pt x="20855" y="8875"/>
                  </a:lnTo>
                  <a:lnTo>
                    <a:pt x="21002" y="9416"/>
                  </a:lnTo>
                  <a:lnTo>
                    <a:pt x="21140" y="9981"/>
                  </a:lnTo>
                  <a:lnTo>
                    <a:pt x="21259" y="10547"/>
                  </a:lnTo>
                  <a:lnTo>
                    <a:pt x="21360" y="11112"/>
                  </a:lnTo>
                  <a:lnTo>
                    <a:pt x="21443" y="11701"/>
                  </a:lnTo>
                  <a:lnTo>
                    <a:pt x="21516" y="12279"/>
                  </a:lnTo>
                  <a:lnTo>
                    <a:pt x="21553" y="12880"/>
                  </a:lnTo>
                  <a:lnTo>
                    <a:pt x="21581" y="13481"/>
                  </a:lnTo>
                  <a:lnTo>
                    <a:pt x="21600" y="14083"/>
                  </a:lnTo>
                  <a:lnTo>
                    <a:pt x="21590" y="14347"/>
                  </a:lnTo>
                  <a:lnTo>
                    <a:pt x="21590" y="14612"/>
                  </a:lnTo>
                  <a:lnTo>
                    <a:pt x="21581" y="14852"/>
                  </a:lnTo>
                  <a:lnTo>
                    <a:pt x="21563" y="15105"/>
                  </a:lnTo>
                  <a:lnTo>
                    <a:pt x="21553" y="15357"/>
                  </a:lnTo>
                  <a:lnTo>
                    <a:pt x="21535" y="15610"/>
                  </a:lnTo>
                  <a:lnTo>
                    <a:pt x="21516" y="15850"/>
                  </a:lnTo>
                  <a:lnTo>
                    <a:pt x="21489" y="16103"/>
                  </a:lnTo>
                  <a:lnTo>
                    <a:pt x="21461" y="16356"/>
                  </a:lnTo>
                  <a:lnTo>
                    <a:pt x="21424" y="16596"/>
                  </a:lnTo>
                  <a:lnTo>
                    <a:pt x="21388" y="16849"/>
                  </a:lnTo>
                  <a:lnTo>
                    <a:pt x="21360" y="17077"/>
                  </a:lnTo>
                  <a:lnTo>
                    <a:pt x="21314" y="17318"/>
                  </a:lnTo>
                  <a:lnTo>
                    <a:pt x="21268" y="17558"/>
                  </a:lnTo>
                  <a:lnTo>
                    <a:pt x="21222" y="17811"/>
                  </a:lnTo>
                  <a:lnTo>
                    <a:pt x="21176" y="18039"/>
                  </a:lnTo>
                  <a:lnTo>
                    <a:pt x="21121" y="18268"/>
                  </a:lnTo>
                  <a:lnTo>
                    <a:pt x="21066" y="18509"/>
                  </a:lnTo>
                  <a:lnTo>
                    <a:pt x="21011" y="18737"/>
                  </a:lnTo>
                  <a:lnTo>
                    <a:pt x="20947" y="18978"/>
                  </a:lnTo>
                  <a:lnTo>
                    <a:pt x="20891" y="19206"/>
                  </a:lnTo>
                  <a:lnTo>
                    <a:pt x="20818" y="19434"/>
                  </a:lnTo>
                  <a:lnTo>
                    <a:pt x="20744" y="19651"/>
                  </a:lnTo>
                  <a:lnTo>
                    <a:pt x="20671" y="19879"/>
                  </a:lnTo>
                  <a:lnTo>
                    <a:pt x="20597" y="20096"/>
                  </a:lnTo>
                  <a:lnTo>
                    <a:pt x="20523" y="20312"/>
                  </a:lnTo>
                  <a:lnTo>
                    <a:pt x="20431" y="20529"/>
                  </a:lnTo>
                  <a:lnTo>
                    <a:pt x="20358" y="20746"/>
                  </a:lnTo>
                  <a:lnTo>
                    <a:pt x="20275" y="20962"/>
                  </a:lnTo>
                  <a:lnTo>
                    <a:pt x="20174" y="21178"/>
                  </a:lnTo>
                  <a:lnTo>
                    <a:pt x="20091" y="21383"/>
                  </a:lnTo>
                  <a:lnTo>
                    <a:pt x="19990" y="21600"/>
                  </a:lnTo>
                  <a:lnTo>
                    <a:pt x="0" y="21600"/>
                  </a:lnTo>
                  <a:lnTo>
                    <a:pt x="0" y="6133"/>
                  </a:lnTo>
                  <a:lnTo>
                    <a:pt x="128" y="5856"/>
                  </a:lnTo>
                  <a:lnTo>
                    <a:pt x="266" y="5592"/>
                  </a:lnTo>
                  <a:lnTo>
                    <a:pt x="413" y="5351"/>
                  </a:lnTo>
                  <a:lnTo>
                    <a:pt x="560" y="5099"/>
                  </a:lnTo>
                  <a:lnTo>
                    <a:pt x="707" y="4846"/>
                  </a:lnTo>
                  <a:lnTo>
                    <a:pt x="864" y="4594"/>
                  </a:lnTo>
                  <a:lnTo>
                    <a:pt x="1020" y="4353"/>
                  </a:lnTo>
                  <a:lnTo>
                    <a:pt x="1186" y="4137"/>
                  </a:lnTo>
                  <a:lnTo>
                    <a:pt x="1351" y="3896"/>
                  </a:lnTo>
                  <a:lnTo>
                    <a:pt x="1526" y="3668"/>
                  </a:lnTo>
                  <a:lnTo>
                    <a:pt x="1701" y="3451"/>
                  </a:lnTo>
                  <a:lnTo>
                    <a:pt x="1884" y="3234"/>
                  </a:lnTo>
                  <a:lnTo>
                    <a:pt x="2068" y="3018"/>
                  </a:lnTo>
                  <a:lnTo>
                    <a:pt x="2252" y="2814"/>
                  </a:lnTo>
                  <a:lnTo>
                    <a:pt x="2427" y="2609"/>
                  </a:lnTo>
                  <a:lnTo>
                    <a:pt x="2629" y="2405"/>
                  </a:lnTo>
                  <a:lnTo>
                    <a:pt x="2822" y="2224"/>
                  </a:lnTo>
                  <a:lnTo>
                    <a:pt x="3024" y="2032"/>
                  </a:lnTo>
                  <a:lnTo>
                    <a:pt x="3218" y="1851"/>
                  </a:lnTo>
                  <a:lnTo>
                    <a:pt x="3429" y="1671"/>
                  </a:lnTo>
                  <a:lnTo>
                    <a:pt x="3641" y="1503"/>
                  </a:lnTo>
                  <a:lnTo>
                    <a:pt x="3843" y="1334"/>
                  </a:lnTo>
                  <a:lnTo>
                    <a:pt x="4054" y="1178"/>
                  </a:lnTo>
                  <a:lnTo>
                    <a:pt x="4275" y="1022"/>
                  </a:lnTo>
                  <a:lnTo>
                    <a:pt x="4487" y="877"/>
                  </a:lnTo>
                  <a:lnTo>
                    <a:pt x="4717" y="721"/>
                  </a:lnTo>
                  <a:lnTo>
                    <a:pt x="4937" y="589"/>
                  </a:lnTo>
                  <a:lnTo>
                    <a:pt x="5167" y="456"/>
                  </a:lnTo>
                  <a:lnTo>
                    <a:pt x="5388" y="324"/>
                  </a:lnTo>
                  <a:lnTo>
                    <a:pt x="5627" y="216"/>
                  </a:lnTo>
                  <a:lnTo>
                    <a:pt x="5857" y="95"/>
                  </a:lnTo>
                  <a:lnTo>
                    <a:pt x="6096" y="0"/>
                  </a:lnTo>
                  <a:lnTo>
                    <a:pt x="13673" y="0"/>
                  </a:lnTo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158760" y="281160"/>
              <a:ext cx="8358120" cy="618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790" y="0"/>
                  </a:moveTo>
                  <a:lnTo>
                    <a:pt x="11348" y="12"/>
                  </a:lnTo>
                  <a:lnTo>
                    <a:pt x="11888" y="62"/>
                  </a:lnTo>
                  <a:lnTo>
                    <a:pt x="12437" y="163"/>
                  </a:lnTo>
                  <a:lnTo>
                    <a:pt x="12967" y="288"/>
                  </a:lnTo>
                  <a:lnTo>
                    <a:pt x="13488" y="452"/>
                  </a:lnTo>
                  <a:lnTo>
                    <a:pt x="13999" y="653"/>
                  </a:lnTo>
                  <a:lnTo>
                    <a:pt x="14502" y="879"/>
                  </a:lnTo>
                  <a:lnTo>
                    <a:pt x="14995" y="1130"/>
                  </a:lnTo>
                  <a:lnTo>
                    <a:pt x="15469" y="1432"/>
                  </a:lnTo>
                  <a:lnTo>
                    <a:pt x="15934" y="1746"/>
                  </a:lnTo>
                  <a:lnTo>
                    <a:pt x="16390" y="2110"/>
                  </a:lnTo>
                  <a:lnTo>
                    <a:pt x="16827" y="2487"/>
                  </a:lnTo>
                  <a:lnTo>
                    <a:pt x="17246" y="2889"/>
                  </a:lnTo>
                  <a:lnTo>
                    <a:pt x="17655" y="3329"/>
                  </a:lnTo>
                  <a:lnTo>
                    <a:pt x="18046" y="3782"/>
                  </a:lnTo>
                  <a:lnTo>
                    <a:pt x="18427" y="4272"/>
                  </a:lnTo>
                  <a:lnTo>
                    <a:pt x="18790" y="4762"/>
                  </a:lnTo>
                  <a:lnTo>
                    <a:pt x="19125" y="5302"/>
                  </a:lnTo>
                  <a:lnTo>
                    <a:pt x="19441" y="5842"/>
                  </a:lnTo>
                  <a:lnTo>
                    <a:pt x="19748" y="6408"/>
                  </a:lnTo>
                  <a:lnTo>
                    <a:pt x="20027" y="7011"/>
                  </a:lnTo>
                  <a:lnTo>
                    <a:pt x="20288" y="7627"/>
                  </a:lnTo>
                  <a:lnTo>
                    <a:pt x="20530" y="8255"/>
                  </a:lnTo>
                  <a:lnTo>
                    <a:pt x="20744" y="8896"/>
                  </a:lnTo>
                  <a:lnTo>
                    <a:pt x="20939" y="9562"/>
                  </a:lnTo>
                  <a:lnTo>
                    <a:pt x="21106" y="10228"/>
                  </a:lnTo>
                  <a:lnTo>
                    <a:pt x="21255" y="10919"/>
                  </a:lnTo>
                  <a:lnTo>
                    <a:pt x="21367" y="11622"/>
                  </a:lnTo>
                  <a:lnTo>
                    <a:pt x="21469" y="12339"/>
                  </a:lnTo>
                  <a:lnTo>
                    <a:pt x="21534" y="13067"/>
                  </a:lnTo>
                  <a:lnTo>
                    <a:pt x="21581" y="13809"/>
                  </a:lnTo>
                  <a:lnTo>
                    <a:pt x="21600" y="14550"/>
                  </a:lnTo>
                  <a:lnTo>
                    <a:pt x="21590" y="14789"/>
                  </a:lnTo>
                  <a:lnTo>
                    <a:pt x="21590" y="15027"/>
                  </a:lnTo>
                  <a:lnTo>
                    <a:pt x="21581" y="15266"/>
                  </a:lnTo>
                  <a:lnTo>
                    <a:pt x="21571" y="15505"/>
                  </a:lnTo>
                  <a:lnTo>
                    <a:pt x="21562" y="15731"/>
                  </a:lnTo>
                  <a:lnTo>
                    <a:pt x="21543" y="15970"/>
                  </a:lnTo>
                  <a:lnTo>
                    <a:pt x="21525" y="16196"/>
                  </a:lnTo>
                  <a:lnTo>
                    <a:pt x="21497" y="16435"/>
                  </a:lnTo>
                  <a:lnTo>
                    <a:pt x="21479" y="16661"/>
                  </a:lnTo>
                  <a:lnTo>
                    <a:pt x="21451" y="16900"/>
                  </a:lnTo>
                  <a:lnTo>
                    <a:pt x="21423" y="17126"/>
                  </a:lnTo>
                  <a:lnTo>
                    <a:pt x="21395" y="17352"/>
                  </a:lnTo>
                  <a:lnTo>
                    <a:pt x="21358" y="17579"/>
                  </a:lnTo>
                  <a:lnTo>
                    <a:pt x="21320" y="17805"/>
                  </a:lnTo>
                  <a:lnTo>
                    <a:pt x="21283" y="18031"/>
                  </a:lnTo>
                  <a:lnTo>
                    <a:pt x="21237" y="18244"/>
                  </a:lnTo>
                  <a:lnTo>
                    <a:pt x="21190" y="18471"/>
                  </a:lnTo>
                  <a:lnTo>
                    <a:pt x="21153" y="18684"/>
                  </a:lnTo>
                  <a:lnTo>
                    <a:pt x="21097" y="18898"/>
                  </a:lnTo>
                  <a:lnTo>
                    <a:pt x="21041" y="19111"/>
                  </a:lnTo>
                  <a:lnTo>
                    <a:pt x="20995" y="19325"/>
                  </a:lnTo>
                  <a:lnTo>
                    <a:pt x="20939" y="19539"/>
                  </a:lnTo>
                  <a:lnTo>
                    <a:pt x="20874" y="19752"/>
                  </a:lnTo>
                  <a:lnTo>
                    <a:pt x="20818" y="19966"/>
                  </a:lnTo>
                  <a:lnTo>
                    <a:pt x="20753" y="20167"/>
                  </a:lnTo>
                  <a:lnTo>
                    <a:pt x="20688" y="20380"/>
                  </a:lnTo>
                  <a:lnTo>
                    <a:pt x="20613" y="20581"/>
                  </a:lnTo>
                  <a:lnTo>
                    <a:pt x="20548" y="20795"/>
                  </a:lnTo>
                  <a:lnTo>
                    <a:pt x="20474" y="20996"/>
                  </a:lnTo>
                  <a:lnTo>
                    <a:pt x="20390" y="21197"/>
                  </a:lnTo>
                  <a:lnTo>
                    <a:pt x="20325" y="21398"/>
                  </a:lnTo>
                  <a:lnTo>
                    <a:pt x="20241" y="21600"/>
                  </a:lnTo>
                  <a:lnTo>
                    <a:pt x="1339" y="21600"/>
                  </a:lnTo>
                  <a:lnTo>
                    <a:pt x="1264" y="21398"/>
                  </a:lnTo>
                  <a:lnTo>
                    <a:pt x="1181" y="21197"/>
                  </a:lnTo>
                  <a:lnTo>
                    <a:pt x="1115" y="20996"/>
                  </a:lnTo>
                  <a:lnTo>
                    <a:pt x="1041" y="20795"/>
                  </a:lnTo>
                  <a:lnTo>
                    <a:pt x="976" y="20581"/>
                  </a:lnTo>
                  <a:lnTo>
                    <a:pt x="902" y="20380"/>
                  </a:lnTo>
                  <a:lnTo>
                    <a:pt x="837" y="20167"/>
                  </a:lnTo>
                  <a:lnTo>
                    <a:pt x="771" y="19966"/>
                  </a:lnTo>
                  <a:lnTo>
                    <a:pt x="706" y="19752"/>
                  </a:lnTo>
                  <a:lnTo>
                    <a:pt x="650" y="19539"/>
                  </a:lnTo>
                  <a:lnTo>
                    <a:pt x="595" y="19325"/>
                  </a:lnTo>
                  <a:lnTo>
                    <a:pt x="529" y="19111"/>
                  </a:lnTo>
                  <a:lnTo>
                    <a:pt x="492" y="18898"/>
                  </a:lnTo>
                  <a:lnTo>
                    <a:pt x="437" y="18684"/>
                  </a:lnTo>
                  <a:lnTo>
                    <a:pt x="390" y="18471"/>
                  </a:lnTo>
                  <a:lnTo>
                    <a:pt x="353" y="18244"/>
                  </a:lnTo>
                  <a:lnTo>
                    <a:pt x="306" y="18031"/>
                  </a:lnTo>
                  <a:lnTo>
                    <a:pt x="260" y="17805"/>
                  </a:lnTo>
                  <a:lnTo>
                    <a:pt x="223" y="17579"/>
                  </a:lnTo>
                  <a:lnTo>
                    <a:pt x="195" y="17352"/>
                  </a:lnTo>
                  <a:lnTo>
                    <a:pt x="167" y="17126"/>
                  </a:lnTo>
                  <a:lnTo>
                    <a:pt x="130" y="16900"/>
                  </a:lnTo>
                  <a:lnTo>
                    <a:pt x="102" y="16661"/>
                  </a:lnTo>
                  <a:lnTo>
                    <a:pt x="83" y="16435"/>
                  </a:lnTo>
                  <a:lnTo>
                    <a:pt x="55" y="16196"/>
                  </a:lnTo>
                  <a:lnTo>
                    <a:pt x="46" y="15970"/>
                  </a:lnTo>
                  <a:lnTo>
                    <a:pt x="27" y="15731"/>
                  </a:lnTo>
                  <a:lnTo>
                    <a:pt x="18" y="15505"/>
                  </a:lnTo>
                  <a:lnTo>
                    <a:pt x="9" y="15266"/>
                  </a:lnTo>
                  <a:lnTo>
                    <a:pt x="0" y="15027"/>
                  </a:lnTo>
                  <a:lnTo>
                    <a:pt x="0" y="14789"/>
                  </a:lnTo>
                  <a:lnTo>
                    <a:pt x="0" y="14550"/>
                  </a:lnTo>
                  <a:lnTo>
                    <a:pt x="9" y="13809"/>
                  </a:lnTo>
                  <a:lnTo>
                    <a:pt x="46" y="13067"/>
                  </a:lnTo>
                  <a:lnTo>
                    <a:pt x="120" y="12339"/>
                  </a:lnTo>
                  <a:lnTo>
                    <a:pt x="204" y="11622"/>
                  </a:lnTo>
                  <a:lnTo>
                    <a:pt x="334" y="10919"/>
                  </a:lnTo>
                  <a:lnTo>
                    <a:pt x="483" y="10228"/>
                  </a:lnTo>
                  <a:lnTo>
                    <a:pt x="650" y="9562"/>
                  </a:lnTo>
                  <a:lnTo>
                    <a:pt x="837" y="8896"/>
                  </a:lnTo>
                  <a:lnTo>
                    <a:pt x="1060" y="8255"/>
                  </a:lnTo>
                  <a:lnTo>
                    <a:pt x="1302" y="7627"/>
                  </a:lnTo>
                  <a:lnTo>
                    <a:pt x="1562" y="7011"/>
                  </a:lnTo>
                  <a:lnTo>
                    <a:pt x="1841" y="6408"/>
                  </a:lnTo>
                  <a:lnTo>
                    <a:pt x="2139" y="5842"/>
                  </a:lnTo>
                  <a:lnTo>
                    <a:pt x="2465" y="5302"/>
                  </a:lnTo>
                  <a:lnTo>
                    <a:pt x="2799" y="4762"/>
                  </a:lnTo>
                  <a:lnTo>
                    <a:pt x="3162" y="4272"/>
                  </a:lnTo>
                  <a:lnTo>
                    <a:pt x="3534" y="3782"/>
                  </a:lnTo>
                  <a:lnTo>
                    <a:pt x="3925" y="3329"/>
                  </a:lnTo>
                  <a:lnTo>
                    <a:pt x="4334" y="2889"/>
                  </a:lnTo>
                  <a:lnTo>
                    <a:pt x="4762" y="2487"/>
                  </a:lnTo>
                  <a:lnTo>
                    <a:pt x="5199" y="2110"/>
                  </a:lnTo>
                  <a:lnTo>
                    <a:pt x="5655" y="1746"/>
                  </a:lnTo>
                  <a:lnTo>
                    <a:pt x="6120" y="1432"/>
                  </a:lnTo>
                  <a:lnTo>
                    <a:pt x="6595" y="1130"/>
                  </a:lnTo>
                  <a:lnTo>
                    <a:pt x="7088" y="879"/>
                  </a:lnTo>
                  <a:lnTo>
                    <a:pt x="7590" y="653"/>
                  </a:lnTo>
                  <a:lnTo>
                    <a:pt x="8092" y="452"/>
                  </a:lnTo>
                  <a:lnTo>
                    <a:pt x="8623" y="288"/>
                  </a:lnTo>
                  <a:lnTo>
                    <a:pt x="9153" y="163"/>
                  </a:lnTo>
                  <a:lnTo>
                    <a:pt x="9692" y="62"/>
                  </a:lnTo>
                  <a:lnTo>
                    <a:pt x="10241" y="12"/>
                  </a:lnTo>
                  <a:lnTo>
                    <a:pt x="1079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169920" y="612720"/>
              <a:ext cx="8192880" cy="5856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790" y="0"/>
                  </a:moveTo>
                  <a:lnTo>
                    <a:pt x="11350" y="13"/>
                  </a:lnTo>
                  <a:lnTo>
                    <a:pt x="11891" y="79"/>
                  </a:lnTo>
                  <a:lnTo>
                    <a:pt x="12432" y="172"/>
                  </a:lnTo>
                  <a:lnTo>
                    <a:pt x="12972" y="305"/>
                  </a:lnTo>
                  <a:lnTo>
                    <a:pt x="13495" y="464"/>
                  </a:lnTo>
                  <a:lnTo>
                    <a:pt x="13998" y="676"/>
                  </a:lnTo>
                  <a:lnTo>
                    <a:pt x="14500" y="915"/>
                  </a:lnTo>
                  <a:lnTo>
                    <a:pt x="14994" y="1181"/>
                  </a:lnTo>
                  <a:lnTo>
                    <a:pt x="15468" y="1486"/>
                  </a:lnTo>
                  <a:lnTo>
                    <a:pt x="15934" y="1818"/>
                  </a:lnTo>
                  <a:lnTo>
                    <a:pt x="16380" y="2190"/>
                  </a:lnTo>
                  <a:lnTo>
                    <a:pt x="16826" y="2575"/>
                  </a:lnTo>
                  <a:lnTo>
                    <a:pt x="17253" y="3000"/>
                  </a:lnTo>
                  <a:lnTo>
                    <a:pt x="17651" y="3451"/>
                  </a:lnTo>
                  <a:lnTo>
                    <a:pt x="18050" y="3929"/>
                  </a:lnTo>
                  <a:lnTo>
                    <a:pt x="18430" y="4433"/>
                  </a:lnTo>
                  <a:lnTo>
                    <a:pt x="18781" y="4938"/>
                  </a:lnTo>
                  <a:lnTo>
                    <a:pt x="19122" y="5496"/>
                  </a:lnTo>
                  <a:lnTo>
                    <a:pt x="19445" y="6067"/>
                  </a:lnTo>
                  <a:lnTo>
                    <a:pt x="19739" y="6664"/>
                  </a:lnTo>
                  <a:lnTo>
                    <a:pt x="20024" y="7275"/>
                  </a:lnTo>
                  <a:lnTo>
                    <a:pt x="20280" y="7898"/>
                  </a:lnTo>
                  <a:lnTo>
                    <a:pt x="20527" y="8549"/>
                  </a:lnTo>
                  <a:lnTo>
                    <a:pt x="20745" y="9213"/>
                  </a:lnTo>
                  <a:lnTo>
                    <a:pt x="20935" y="9903"/>
                  </a:lnTo>
                  <a:lnTo>
                    <a:pt x="21106" y="10607"/>
                  </a:lnTo>
                  <a:lnTo>
                    <a:pt x="21248" y="11324"/>
                  </a:lnTo>
                  <a:lnTo>
                    <a:pt x="21371" y="12041"/>
                  </a:lnTo>
                  <a:lnTo>
                    <a:pt x="21476" y="12784"/>
                  </a:lnTo>
                  <a:lnTo>
                    <a:pt x="21533" y="13541"/>
                  </a:lnTo>
                  <a:lnTo>
                    <a:pt x="21580" y="14297"/>
                  </a:lnTo>
                  <a:lnTo>
                    <a:pt x="21600" y="15081"/>
                  </a:lnTo>
                  <a:lnTo>
                    <a:pt x="21590" y="15293"/>
                  </a:lnTo>
                  <a:lnTo>
                    <a:pt x="21590" y="15506"/>
                  </a:lnTo>
                  <a:lnTo>
                    <a:pt x="21580" y="15731"/>
                  </a:lnTo>
                  <a:lnTo>
                    <a:pt x="21571" y="15944"/>
                  </a:lnTo>
                  <a:lnTo>
                    <a:pt x="21561" y="16156"/>
                  </a:lnTo>
                  <a:lnTo>
                    <a:pt x="21552" y="16369"/>
                  </a:lnTo>
                  <a:lnTo>
                    <a:pt x="21533" y="16594"/>
                  </a:lnTo>
                  <a:lnTo>
                    <a:pt x="21523" y="16793"/>
                  </a:lnTo>
                  <a:lnTo>
                    <a:pt x="21495" y="17019"/>
                  </a:lnTo>
                  <a:lnTo>
                    <a:pt x="21485" y="17218"/>
                  </a:lnTo>
                  <a:lnTo>
                    <a:pt x="21466" y="17431"/>
                  </a:lnTo>
                  <a:lnTo>
                    <a:pt x="21438" y="17643"/>
                  </a:lnTo>
                  <a:lnTo>
                    <a:pt x="21410" y="17855"/>
                  </a:lnTo>
                  <a:lnTo>
                    <a:pt x="21381" y="18055"/>
                  </a:lnTo>
                  <a:lnTo>
                    <a:pt x="21343" y="18254"/>
                  </a:lnTo>
                  <a:lnTo>
                    <a:pt x="21315" y="18480"/>
                  </a:lnTo>
                  <a:lnTo>
                    <a:pt x="21277" y="18679"/>
                  </a:lnTo>
                  <a:lnTo>
                    <a:pt x="21239" y="18878"/>
                  </a:lnTo>
                  <a:lnTo>
                    <a:pt x="21201" y="19077"/>
                  </a:lnTo>
                  <a:lnTo>
                    <a:pt x="21172" y="19289"/>
                  </a:lnTo>
                  <a:lnTo>
                    <a:pt x="21125" y="19488"/>
                  </a:lnTo>
                  <a:lnTo>
                    <a:pt x="21077" y="19674"/>
                  </a:lnTo>
                  <a:lnTo>
                    <a:pt x="21030" y="19873"/>
                  </a:lnTo>
                  <a:lnTo>
                    <a:pt x="20983" y="20073"/>
                  </a:lnTo>
                  <a:lnTo>
                    <a:pt x="20935" y="20258"/>
                  </a:lnTo>
                  <a:lnTo>
                    <a:pt x="20878" y="20471"/>
                  </a:lnTo>
                  <a:lnTo>
                    <a:pt x="20831" y="20657"/>
                  </a:lnTo>
                  <a:lnTo>
                    <a:pt x="20764" y="20843"/>
                  </a:lnTo>
                  <a:lnTo>
                    <a:pt x="20707" y="21042"/>
                  </a:lnTo>
                  <a:lnTo>
                    <a:pt x="20650" y="21228"/>
                  </a:lnTo>
                  <a:lnTo>
                    <a:pt x="20584" y="21414"/>
                  </a:lnTo>
                  <a:lnTo>
                    <a:pt x="20527" y="21600"/>
                  </a:lnTo>
                  <a:lnTo>
                    <a:pt x="1062" y="21600"/>
                  </a:lnTo>
                  <a:lnTo>
                    <a:pt x="1005" y="21414"/>
                  </a:lnTo>
                  <a:lnTo>
                    <a:pt x="939" y="21228"/>
                  </a:lnTo>
                  <a:lnTo>
                    <a:pt x="873" y="21042"/>
                  </a:lnTo>
                  <a:lnTo>
                    <a:pt x="825" y="20843"/>
                  </a:lnTo>
                  <a:lnTo>
                    <a:pt x="768" y="20657"/>
                  </a:lnTo>
                  <a:lnTo>
                    <a:pt x="702" y="20471"/>
                  </a:lnTo>
                  <a:lnTo>
                    <a:pt x="664" y="20258"/>
                  </a:lnTo>
                  <a:lnTo>
                    <a:pt x="607" y="20073"/>
                  </a:lnTo>
                  <a:lnTo>
                    <a:pt x="559" y="19873"/>
                  </a:lnTo>
                  <a:lnTo>
                    <a:pt x="512" y="19674"/>
                  </a:lnTo>
                  <a:lnTo>
                    <a:pt x="464" y="19488"/>
                  </a:lnTo>
                  <a:lnTo>
                    <a:pt x="426" y="19289"/>
                  </a:lnTo>
                  <a:lnTo>
                    <a:pt x="379" y="19077"/>
                  </a:lnTo>
                  <a:lnTo>
                    <a:pt x="351" y="18878"/>
                  </a:lnTo>
                  <a:lnTo>
                    <a:pt x="303" y="18679"/>
                  </a:lnTo>
                  <a:lnTo>
                    <a:pt x="275" y="18480"/>
                  </a:lnTo>
                  <a:lnTo>
                    <a:pt x="236" y="18254"/>
                  </a:lnTo>
                  <a:lnTo>
                    <a:pt x="208" y="18055"/>
                  </a:lnTo>
                  <a:lnTo>
                    <a:pt x="180" y="17855"/>
                  </a:lnTo>
                  <a:lnTo>
                    <a:pt x="151" y="17643"/>
                  </a:lnTo>
                  <a:lnTo>
                    <a:pt x="123" y="17431"/>
                  </a:lnTo>
                  <a:lnTo>
                    <a:pt x="104" y="17218"/>
                  </a:lnTo>
                  <a:lnTo>
                    <a:pt x="75" y="17019"/>
                  </a:lnTo>
                  <a:lnTo>
                    <a:pt x="56" y="16793"/>
                  </a:lnTo>
                  <a:lnTo>
                    <a:pt x="47" y="16594"/>
                  </a:lnTo>
                  <a:lnTo>
                    <a:pt x="37" y="16369"/>
                  </a:lnTo>
                  <a:lnTo>
                    <a:pt x="28" y="16156"/>
                  </a:lnTo>
                  <a:lnTo>
                    <a:pt x="18" y="15944"/>
                  </a:lnTo>
                  <a:lnTo>
                    <a:pt x="9" y="15731"/>
                  </a:lnTo>
                  <a:lnTo>
                    <a:pt x="0" y="15506"/>
                  </a:lnTo>
                  <a:lnTo>
                    <a:pt x="0" y="15293"/>
                  </a:lnTo>
                  <a:lnTo>
                    <a:pt x="0" y="15081"/>
                  </a:lnTo>
                  <a:lnTo>
                    <a:pt x="9" y="14297"/>
                  </a:lnTo>
                  <a:lnTo>
                    <a:pt x="47" y="13541"/>
                  </a:lnTo>
                  <a:lnTo>
                    <a:pt x="113" y="12784"/>
                  </a:lnTo>
                  <a:lnTo>
                    <a:pt x="208" y="12041"/>
                  </a:lnTo>
                  <a:lnTo>
                    <a:pt x="341" y="11324"/>
                  </a:lnTo>
                  <a:lnTo>
                    <a:pt x="483" y="10607"/>
                  </a:lnTo>
                  <a:lnTo>
                    <a:pt x="654" y="9903"/>
                  </a:lnTo>
                  <a:lnTo>
                    <a:pt x="844" y="9213"/>
                  </a:lnTo>
                  <a:lnTo>
                    <a:pt x="1062" y="8549"/>
                  </a:lnTo>
                  <a:lnTo>
                    <a:pt x="1299" y="7898"/>
                  </a:lnTo>
                  <a:lnTo>
                    <a:pt x="1565" y="7275"/>
                  </a:lnTo>
                  <a:lnTo>
                    <a:pt x="1841" y="6664"/>
                  </a:lnTo>
                  <a:lnTo>
                    <a:pt x="2144" y="6067"/>
                  </a:lnTo>
                  <a:lnTo>
                    <a:pt x="2457" y="5496"/>
                  </a:lnTo>
                  <a:lnTo>
                    <a:pt x="2799" y="4938"/>
                  </a:lnTo>
                  <a:lnTo>
                    <a:pt x="3160" y="4433"/>
                  </a:lnTo>
                  <a:lnTo>
                    <a:pt x="3539" y="3929"/>
                  </a:lnTo>
                  <a:lnTo>
                    <a:pt x="3928" y="3451"/>
                  </a:lnTo>
                  <a:lnTo>
                    <a:pt x="4346" y="3000"/>
                  </a:lnTo>
                  <a:lnTo>
                    <a:pt x="4763" y="2575"/>
                  </a:lnTo>
                  <a:lnTo>
                    <a:pt x="5200" y="2190"/>
                  </a:lnTo>
                  <a:lnTo>
                    <a:pt x="5656" y="1818"/>
                  </a:lnTo>
                  <a:lnTo>
                    <a:pt x="6121" y="1486"/>
                  </a:lnTo>
                  <a:lnTo>
                    <a:pt x="6604" y="1181"/>
                  </a:lnTo>
                  <a:lnTo>
                    <a:pt x="7089" y="915"/>
                  </a:lnTo>
                  <a:lnTo>
                    <a:pt x="7582" y="676"/>
                  </a:lnTo>
                  <a:lnTo>
                    <a:pt x="8095" y="464"/>
                  </a:lnTo>
                  <a:lnTo>
                    <a:pt x="8626" y="305"/>
                  </a:lnTo>
                  <a:lnTo>
                    <a:pt x="9157" y="172"/>
                  </a:lnTo>
                  <a:lnTo>
                    <a:pt x="9689" y="79"/>
                  </a:lnTo>
                  <a:lnTo>
                    <a:pt x="10240" y="13"/>
                  </a:lnTo>
                  <a:lnTo>
                    <a:pt x="1079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1346040" y="2612880"/>
              <a:ext cx="5608800" cy="276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407" y="7772"/>
                  </a:moveTo>
                  <a:lnTo>
                    <a:pt x="19977" y="8138"/>
                  </a:lnTo>
                  <a:lnTo>
                    <a:pt x="19866" y="7885"/>
                  </a:lnTo>
                  <a:lnTo>
                    <a:pt x="20268" y="7518"/>
                  </a:lnTo>
                  <a:lnTo>
                    <a:pt x="20407" y="7772"/>
                  </a:lnTo>
                  <a:close/>
                  <a:moveTo>
                    <a:pt x="19811" y="8476"/>
                  </a:moveTo>
                  <a:lnTo>
                    <a:pt x="19492" y="9546"/>
                  </a:lnTo>
                  <a:lnTo>
                    <a:pt x="18937" y="10109"/>
                  </a:lnTo>
                  <a:lnTo>
                    <a:pt x="18785" y="9772"/>
                  </a:lnTo>
                  <a:lnTo>
                    <a:pt x="19340" y="9152"/>
                  </a:lnTo>
                  <a:lnTo>
                    <a:pt x="19506" y="8082"/>
                  </a:lnTo>
                  <a:lnTo>
                    <a:pt x="19811" y="8476"/>
                  </a:lnTo>
                  <a:close/>
                  <a:moveTo>
                    <a:pt x="19742" y="10813"/>
                  </a:moveTo>
                  <a:lnTo>
                    <a:pt x="19561" y="11067"/>
                  </a:lnTo>
                  <a:lnTo>
                    <a:pt x="19395" y="10053"/>
                  </a:lnTo>
                  <a:lnTo>
                    <a:pt x="19506" y="10109"/>
                  </a:lnTo>
                  <a:lnTo>
                    <a:pt x="19742" y="10813"/>
                  </a:lnTo>
                  <a:close/>
                  <a:moveTo>
                    <a:pt x="20033" y="15122"/>
                  </a:moveTo>
                  <a:lnTo>
                    <a:pt x="18937" y="14672"/>
                  </a:lnTo>
                  <a:lnTo>
                    <a:pt x="18910" y="13911"/>
                  </a:lnTo>
                  <a:lnTo>
                    <a:pt x="19922" y="14418"/>
                  </a:lnTo>
                  <a:lnTo>
                    <a:pt x="20033" y="15122"/>
                  </a:lnTo>
                  <a:close/>
                  <a:moveTo>
                    <a:pt x="21571" y="19374"/>
                  </a:moveTo>
                  <a:lnTo>
                    <a:pt x="21184" y="20332"/>
                  </a:lnTo>
                  <a:lnTo>
                    <a:pt x="21003" y="20276"/>
                  </a:lnTo>
                  <a:lnTo>
                    <a:pt x="20962" y="19741"/>
                  </a:lnTo>
                  <a:lnTo>
                    <a:pt x="21419" y="18727"/>
                  </a:lnTo>
                  <a:lnTo>
                    <a:pt x="21225" y="18136"/>
                  </a:lnTo>
                  <a:lnTo>
                    <a:pt x="21336" y="17826"/>
                  </a:lnTo>
                  <a:lnTo>
                    <a:pt x="21516" y="18333"/>
                  </a:lnTo>
                  <a:lnTo>
                    <a:pt x="21571" y="19374"/>
                  </a:lnTo>
                  <a:close/>
                  <a:moveTo>
                    <a:pt x="18646" y="13770"/>
                  </a:moveTo>
                  <a:lnTo>
                    <a:pt x="18452" y="14531"/>
                  </a:lnTo>
                  <a:lnTo>
                    <a:pt x="18272" y="14474"/>
                  </a:lnTo>
                  <a:lnTo>
                    <a:pt x="18452" y="13630"/>
                  </a:lnTo>
                  <a:lnTo>
                    <a:pt x="18646" y="13770"/>
                  </a:lnTo>
                  <a:close/>
                  <a:moveTo>
                    <a:pt x="18272" y="13630"/>
                  </a:moveTo>
                  <a:lnTo>
                    <a:pt x="18064" y="14474"/>
                  </a:lnTo>
                  <a:lnTo>
                    <a:pt x="17690" y="14249"/>
                  </a:lnTo>
                  <a:lnTo>
                    <a:pt x="17703" y="13630"/>
                  </a:lnTo>
                  <a:lnTo>
                    <a:pt x="18036" y="12954"/>
                  </a:lnTo>
                  <a:lnTo>
                    <a:pt x="18272" y="13630"/>
                  </a:lnTo>
                  <a:close/>
                  <a:moveTo>
                    <a:pt x="21600" y="5576"/>
                  </a:moveTo>
                  <a:lnTo>
                    <a:pt x="20878" y="5716"/>
                  </a:lnTo>
                  <a:lnTo>
                    <a:pt x="20892" y="6251"/>
                  </a:lnTo>
                  <a:lnTo>
                    <a:pt x="20462" y="7406"/>
                  </a:lnTo>
                  <a:lnTo>
                    <a:pt x="20379" y="6364"/>
                  </a:lnTo>
                  <a:lnTo>
                    <a:pt x="20615" y="5716"/>
                  </a:lnTo>
                  <a:lnTo>
                    <a:pt x="19797" y="5885"/>
                  </a:lnTo>
                  <a:lnTo>
                    <a:pt x="19312" y="6420"/>
                  </a:lnTo>
                  <a:lnTo>
                    <a:pt x="19243" y="6843"/>
                  </a:lnTo>
                  <a:lnTo>
                    <a:pt x="19589" y="6674"/>
                  </a:lnTo>
                  <a:lnTo>
                    <a:pt x="19617" y="7659"/>
                  </a:lnTo>
                  <a:lnTo>
                    <a:pt x="19367" y="7716"/>
                  </a:lnTo>
                  <a:lnTo>
                    <a:pt x="19312" y="8194"/>
                  </a:lnTo>
                  <a:lnTo>
                    <a:pt x="18841" y="8842"/>
                  </a:lnTo>
                  <a:lnTo>
                    <a:pt x="18910" y="9236"/>
                  </a:lnTo>
                  <a:lnTo>
                    <a:pt x="18619" y="9659"/>
                  </a:lnTo>
                  <a:lnTo>
                    <a:pt x="18508" y="8926"/>
                  </a:lnTo>
                  <a:lnTo>
                    <a:pt x="18300" y="9152"/>
                  </a:lnTo>
                  <a:lnTo>
                    <a:pt x="18355" y="10616"/>
                  </a:lnTo>
                  <a:lnTo>
                    <a:pt x="17482" y="11658"/>
                  </a:lnTo>
                  <a:lnTo>
                    <a:pt x="17703" y="12306"/>
                  </a:lnTo>
                  <a:lnTo>
                    <a:pt x="17315" y="12785"/>
                  </a:lnTo>
                  <a:lnTo>
                    <a:pt x="17163" y="12193"/>
                  </a:lnTo>
                  <a:lnTo>
                    <a:pt x="17080" y="12221"/>
                  </a:lnTo>
                  <a:lnTo>
                    <a:pt x="17163" y="12897"/>
                  </a:lnTo>
                  <a:lnTo>
                    <a:pt x="17482" y="13320"/>
                  </a:lnTo>
                  <a:lnTo>
                    <a:pt x="17371" y="13545"/>
                  </a:lnTo>
                  <a:lnTo>
                    <a:pt x="17163" y="13433"/>
                  </a:lnTo>
                  <a:lnTo>
                    <a:pt x="17218" y="13714"/>
                  </a:lnTo>
                  <a:lnTo>
                    <a:pt x="17399" y="13770"/>
                  </a:lnTo>
                  <a:lnTo>
                    <a:pt x="17496" y="14418"/>
                  </a:lnTo>
                  <a:lnTo>
                    <a:pt x="17953" y="14784"/>
                  </a:lnTo>
                  <a:lnTo>
                    <a:pt x="17981" y="15094"/>
                  </a:lnTo>
                  <a:lnTo>
                    <a:pt x="17454" y="14897"/>
                  </a:lnTo>
                  <a:lnTo>
                    <a:pt x="16705" y="13207"/>
                  </a:lnTo>
                  <a:lnTo>
                    <a:pt x="17010" y="13264"/>
                  </a:lnTo>
                  <a:lnTo>
                    <a:pt x="16567" y="11320"/>
                  </a:lnTo>
                  <a:lnTo>
                    <a:pt x="16567" y="10813"/>
                  </a:lnTo>
                  <a:lnTo>
                    <a:pt x="16442" y="10813"/>
                  </a:lnTo>
                  <a:lnTo>
                    <a:pt x="16386" y="11292"/>
                  </a:lnTo>
                  <a:lnTo>
                    <a:pt x="15957" y="11968"/>
                  </a:lnTo>
                  <a:lnTo>
                    <a:pt x="15957" y="12588"/>
                  </a:lnTo>
                  <a:lnTo>
                    <a:pt x="15624" y="12785"/>
                  </a:lnTo>
                  <a:lnTo>
                    <a:pt x="15402" y="11602"/>
                  </a:lnTo>
                  <a:lnTo>
                    <a:pt x="15263" y="11489"/>
                  </a:lnTo>
                  <a:lnTo>
                    <a:pt x="15277" y="10813"/>
                  </a:lnTo>
                  <a:lnTo>
                    <a:pt x="14044" y="10363"/>
                  </a:lnTo>
                  <a:lnTo>
                    <a:pt x="14237" y="11010"/>
                  </a:lnTo>
                  <a:lnTo>
                    <a:pt x="14459" y="10870"/>
                  </a:lnTo>
                  <a:lnTo>
                    <a:pt x="14695" y="11320"/>
                  </a:lnTo>
                  <a:lnTo>
                    <a:pt x="14459" y="11912"/>
                  </a:lnTo>
                  <a:lnTo>
                    <a:pt x="13919" y="12306"/>
                  </a:lnTo>
                  <a:lnTo>
                    <a:pt x="13350" y="10109"/>
                  </a:lnTo>
                  <a:lnTo>
                    <a:pt x="13198" y="10109"/>
                  </a:lnTo>
                  <a:lnTo>
                    <a:pt x="13170" y="10560"/>
                  </a:lnTo>
                  <a:lnTo>
                    <a:pt x="13544" y="12109"/>
                  </a:lnTo>
                  <a:lnTo>
                    <a:pt x="13836" y="12531"/>
                  </a:lnTo>
                  <a:lnTo>
                    <a:pt x="14279" y="12475"/>
                  </a:lnTo>
                  <a:lnTo>
                    <a:pt x="13489" y="14841"/>
                  </a:lnTo>
                  <a:lnTo>
                    <a:pt x="13572" y="15038"/>
                  </a:lnTo>
                  <a:lnTo>
                    <a:pt x="13614" y="15826"/>
                  </a:lnTo>
                  <a:lnTo>
                    <a:pt x="13378" y="16192"/>
                  </a:lnTo>
                  <a:lnTo>
                    <a:pt x="13350" y="16784"/>
                  </a:lnTo>
                  <a:lnTo>
                    <a:pt x="12726" y="18304"/>
                  </a:lnTo>
                  <a:lnTo>
                    <a:pt x="12241" y="18248"/>
                  </a:lnTo>
                  <a:lnTo>
                    <a:pt x="11811" y="15826"/>
                  </a:lnTo>
                  <a:lnTo>
                    <a:pt x="11936" y="15460"/>
                  </a:lnTo>
                  <a:lnTo>
                    <a:pt x="11936" y="14841"/>
                  </a:lnTo>
                  <a:lnTo>
                    <a:pt x="11576" y="13968"/>
                  </a:lnTo>
                  <a:lnTo>
                    <a:pt x="11728" y="13714"/>
                  </a:lnTo>
                  <a:lnTo>
                    <a:pt x="11368" y="13264"/>
                  </a:lnTo>
                  <a:lnTo>
                    <a:pt x="10647" y="13207"/>
                  </a:lnTo>
                  <a:lnTo>
                    <a:pt x="10231" y="12475"/>
                  </a:lnTo>
                  <a:lnTo>
                    <a:pt x="10203" y="10870"/>
                  </a:lnTo>
                  <a:lnTo>
                    <a:pt x="11132" y="9236"/>
                  </a:lnTo>
                  <a:lnTo>
                    <a:pt x="11659" y="9152"/>
                  </a:lnTo>
                  <a:lnTo>
                    <a:pt x="11784" y="9433"/>
                  </a:lnTo>
                  <a:lnTo>
                    <a:pt x="11742" y="9715"/>
                  </a:lnTo>
                  <a:lnTo>
                    <a:pt x="12158" y="9969"/>
                  </a:lnTo>
                  <a:lnTo>
                    <a:pt x="12366" y="9602"/>
                  </a:lnTo>
                  <a:lnTo>
                    <a:pt x="12532" y="9884"/>
                  </a:lnTo>
                  <a:lnTo>
                    <a:pt x="13087" y="9912"/>
                  </a:lnTo>
                  <a:lnTo>
                    <a:pt x="13198" y="9715"/>
                  </a:lnTo>
                  <a:lnTo>
                    <a:pt x="13198" y="9068"/>
                  </a:lnTo>
                  <a:lnTo>
                    <a:pt x="12962" y="9715"/>
                  </a:lnTo>
                  <a:lnTo>
                    <a:pt x="12657" y="8898"/>
                  </a:lnTo>
                  <a:lnTo>
                    <a:pt x="12712" y="9715"/>
                  </a:lnTo>
                  <a:lnTo>
                    <a:pt x="12421" y="9293"/>
                  </a:lnTo>
                  <a:lnTo>
                    <a:pt x="12366" y="8645"/>
                  </a:lnTo>
                  <a:lnTo>
                    <a:pt x="12019" y="7857"/>
                  </a:lnTo>
                  <a:lnTo>
                    <a:pt x="11964" y="7997"/>
                  </a:lnTo>
                  <a:lnTo>
                    <a:pt x="12241" y="8758"/>
                  </a:lnTo>
                  <a:lnTo>
                    <a:pt x="12061" y="9293"/>
                  </a:lnTo>
                  <a:lnTo>
                    <a:pt x="11992" y="8645"/>
                  </a:lnTo>
                  <a:lnTo>
                    <a:pt x="11673" y="8194"/>
                  </a:lnTo>
                  <a:lnTo>
                    <a:pt x="11493" y="8504"/>
                  </a:lnTo>
                  <a:lnTo>
                    <a:pt x="11395" y="8392"/>
                  </a:lnTo>
                  <a:lnTo>
                    <a:pt x="10800" y="9490"/>
                  </a:lnTo>
                  <a:lnTo>
                    <a:pt x="10592" y="8364"/>
                  </a:lnTo>
                  <a:lnTo>
                    <a:pt x="10993" y="8392"/>
                  </a:lnTo>
                  <a:lnTo>
                    <a:pt x="11077" y="8025"/>
                  </a:lnTo>
                  <a:lnTo>
                    <a:pt x="10924" y="7716"/>
                  </a:lnTo>
                  <a:lnTo>
                    <a:pt x="11187" y="7293"/>
                  </a:lnTo>
                  <a:lnTo>
                    <a:pt x="11340" y="7237"/>
                  </a:lnTo>
                  <a:lnTo>
                    <a:pt x="11631" y="6702"/>
                  </a:lnTo>
                  <a:lnTo>
                    <a:pt x="11548" y="6308"/>
                  </a:lnTo>
                  <a:lnTo>
                    <a:pt x="11701" y="6138"/>
                  </a:lnTo>
                  <a:lnTo>
                    <a:pt x="11811" y="6477"/>
                  </a:lnTo>
                  <a:lnTo>
                    <a:pt x="12325" y="6420"/>
                  </a:lnTo>
                  <a:lnTo>
                    <a:pt x="12352" y="6110"/>
                  </a:lnTo>
                  <a:lnTo>
                    <a:pt x="12907" y="5660"/>
                  </a:lnTo>
                  <a:lnTo>
                    <a:pt x="12824" y="5434"/>
                  </a:lnTo>
                  <a:lnTo>
                    <a:pt x="12449" y="5660"/>
                  </a:lnTo>
                  <a:lnTo>
                    <a:pt x="12352" y="5209"/>
                  </a:lnTo>
                  <a:lnTo>
                    <a:pt x="12602" y="4787"/>
                  </a:lnTo>
                  <a:lnTo>
                    <a:pt x="12449" y="4477"/>
                  </a:lnTo>
                  <a:lnTo>
                    <a:pt x="12130" y="5350"/>
                  </a:lnTo>
                  <a:lnTo>
                    <a:pt x="12241" y="5576"/>
                  </a:lnTo>
                  <a:lnTo>
                    <a:pt x="12213" y="6110"/>
                  </a:lnTo>
                  <a:lnTo>
                    <a:pt x="11881" y="6308"/>
                  </a:lnTo>
                  <a:lnTo>
                    <a:pt x="11811" y="5885"/>
                  </a:lnTo>
                  <a:lnTo>
                    <a:pt x="11437" y="5998"/>
                  </a:lnTo>
                  <a:lnTo>
                    <a:pt x="11465" y="5350"/>
                  </a:lnTo>
                  <a:lnTo>
                    <a:pt x="12061" y="3773"/>
                  </a:lnTo>
                  <a:lnTo>
                    <a:pt x="12712" y="3435"/>
                  </a:lnTo>
                  <a:lnTo>
                    <a:pt x="13683" y="3886"/>
                  </a:lnTo>
                  <a:lnTo>
                    <a:pt x="13517" y="4421"/>
                  </a:lnTo>
                  <a:lnTo>
                    <a:pt x="13115" y="4364"/>
                  </a:lnTo>
                  <a:lnTo>
                    <a:pt x="13378" y="4900"/>
                  </a:lnTo>
                  <a:lnTo>
                    <a:pt x="14127" y="3886"/>
                  </a:lnTo>
                  <a:lnTo>
                    <a:pt x="14612" y="3886"/>
                  </a:lnTo>
                  <a:lnTo>
                    <a:pt x="14279" y="3125"/>
                  </a:lnTo>
                  <a:lnTo>
                    <a:pt x="14667" y="2337"/>
                  </a:lnTo>
                  <a:lnTo>
                    <a:pt x="15194" y="1886"/>
                  </a:lnTo>
                  <a:lnTo>
                    <a:pt x="15277" y="2224"/>
                  </a:lnTo>
                  <a:lnTo>
                    <a:pt x="14764" y="2590"/>
                  </a:lnTo>
                  <a:lnTo>
                    <a:pt x="14473" y="3238"/>
                  </a:lnTo>
                  <a:lnTo>
                    <a:pt x="15069" y="3942"/>
                  </a:lnTo>
                  <a:lnTo>
                    <a:pt x="14972" y="3604"/>
                  </a:lnTo>
                  <a:lnTo>
                    <a:pt x="15333" y="2956"/>
                  </a:lnTo>
                  <a:lnTo>
                    <a:pt x="15985" y="3294"/>
                  </a:lnTo>
                  <a:lnTo>
                    <a:pt x="16082" y="2844"/>
                  </a:lnTo>
                  <a:lnTo>
                    <a:pt x="17246" y="1971"/>
                  </a:lnTo>
                  <a:lnTo>
                    <a:pt x="18036" y="2337"/>
                  </a:lnTo>
                  <a:lnTo>
                    <a:pt x="17454" y="3013"/>
                  </a:lnTo>
                  <a:lnTo>
                    <a:pt x="19284" y="3379"/>
                  </a:lnTo>
                  <a:lnTo>
                    <a:pt x="19589" y="2759"/>
                  </a:lnTo>
                  <a:lnTo>
                    <a:pt x="19742" y="3322"/>
                  </a:lnTo>
                  <a:lnTo>
                    <a:pt x="20615" y="3492"/>
                  </a:lnTo>
                  <a:lnTo>
                    <a:pt x="20878" y="3773"/>
                  </a:lnTo>
                  <a:lnTo>
                    <a:pt x="21600" y="3604"/>
                  </a:lnTo>
                  <a:lnTo>
                    <a:pt x="21600" y="5576"/>
                  </a:lnTo>
                  <a:close/>
                  <a:moveTo>
                    <a:pt x="20296" y="17319"/>
                  </a:moveTo>
                  <a:lnTo>
                    <a:pt x="19866" y="18952"/>
                  </a:lnTo>
                  <a:lnTo>
                    <a:pt x="19506" y="18896"/>
                  </a:lnTo>
                  <a:lnTo>
                    <a:pt x="18813" y="17854"/>
                  </a:lnTo>
                  <a:lnTo>
                    <a:pt x="18785" y="18136"/>
                  </a:lnTo>
                  <a:lnTo>
                    <a:pt x="17939" y="18473"/>
                  </a:lnTo>
                  <a:lnTo>
                    <a:pt x="18036" y="17769"/>
                  </a:lnTo>
                  <a:lnTo>
                    <a:pt x="17856" y="17600"/>
                  </a:lnTo>
                  <a:lnTo>
                    <a:pt x="17856" y="16728"/>
                  </a:lnTo>
                  <a:lnTo>
                    <a:pt x="18965" y="15263"/>
                  </a:lnTo>
                  <a:lnTo>
                    <a:pt x="19492" y="15939"/>
                  </a:lnTo>
                  <a:lnTo>
                    <a:pt x="19506" y="15376"/>
                  </a:lnTo>
                  <a:lnTo>
                    <a:pt x="19659" y="15319"/>
                  </a:lnTo>
                  <a:lnTo>
                    <a:pt x="20296" y="17319"/>
                  </a:lnTo>
                  <a:close/>
                  <a:moveTo>
                    <a:pt x="11229" y="6702"/>
                  </a:moveTo>
                  <a:lnTo>
                    <a:pt x="11201" y="7152"/>
                  </a:lnTo>
                  <a:lnTo>
                    <a:pt x="10855" y="7152"/>
                  </a:lnTo>
                  <a:lnTo>
                    <a:pt x="10966" y="6702"/>
                  </a:lnTo>
                  <a:lnTo>
                    <a:pt x="10730" y="6195"/>
                  </a:lnTo>
                  <a:lnTo>
                    <a:pt x="10896" y="5829"/>
                  </a:lnTo>
                  <a:lnTo>
                    <a:pt x="10993" y="6364"/>
                  </a:lnTo>
                  <a:lnTo>
                    <a:pt x="11229" y="6702"/>
                  </a:lnTo>
                  <a:close/>
                  <a:moveTo>
                    <a:pt x="10508" y="4730"/>
                  </a:moveTo>
                  <a:lnTo>
                    <a:pt x="10037" y="5434"/>
                  </a:lnTo>
                  <a:lnTo>
                    <a:pt x="9773" y="4590"/>
                  </a:lnTo>
                  <a:lnTo>
                    <a:pt x="10272" y="4308"/>
                  </a:lnTo>
                  <a:lnTo>
                    <a:pt x="10508" y="4730"/>
                  </a:lnTo>
                  <a:close/>
                  <a:moveTo>
                    <a:pt x="11964" y="9293"/>
                  </a:moveTo>
                  <a:lnTo>
                    <a:pt x="11811" y="9152"/>
                  </a:lnTo>
                  <a:lnTo>
                    <a:pt x="11909" y="8842"/>
                  </a:lnTo>
                  <a:lnTo>
                    <a:pt x="11964" y="9293"/>
                  </a:lnTo>
                  <a:close/>
                  <a:moveTo>
                    <a:pt x="10411" y="929"/>
                  </a:moveTo>
                  <a:lnTo>
                    <a:pt x="10106" y="1436"/>
                  </a:lnTo>
                  <a:lnTo>
                    <a:pt x="10037" y="2759"/>
                  </a:lnTo>
                  <a:lnTo>
                    <a:pt x="9579" y="4224"/>
                  </a:lnTo>
                  <a:lnTo>
                    <a:pt x="8844" y="4702"/>
                  </a:lnTo>
                  <a:lnTo>
                    <a:pt x="8651" y="5576"/>
                  </a:lnTo>
                  <a:lnTo>
                    <a:pt x="8332" y="5519"/>
                  </a:lnTo>
                  <a:lnTo>
                    <a:pt x="7957" y="4308"/>
                  </a:lnTo>
                  <a:lnTo>
                    <a:pt x="7791" y="2731"/>
                  </a:lnTo>
                  <a:lnTo>
                    <a:pt x="7486" y="2224"/>
                  </a:lnTo>
                  <a:lnTo>
                    <a:pt x="7139" y="2449"/>
                  </a:lnTo>
                  <a:lnTo>
                    <a:pt x="6959" y="1971"/>
                  </a:lnTo>
                  <a:lnTo>
                    <a:pt x="7527" y="534"/>
                  </a:lnTo>
                  <a:lnTo>
                    <a:pt x="9843" y="0"/>
                  </a:lnTo>
                  <a:lnTo>
                    <a:pt x="10411" y="929"/>
                  </a:lnTo>
                  <a:close/>
                  <a:moveTo>
                    <a:pt x="10771" y="6899"/>
                  </a:moveTo>
                  <a:lnTo>
                    <a:pt x="10619" y="7237"/>
                  </a:lnTo>
                  <a:lnTo>
                    <a:pt x="10439" y="6927"/>
                  </a:lnTo>
                  <a:lnTo>
                    <a:pt x="10592" y="6420"/>
                  </a:lnTo>
                  <a:lnTo>
                    <a:pt x="10771" y="6899"/>
                  </a:lnTo>
                  <a:close/>
                  <a:moveTo>
                    <a:pt x="14210" y="15573"/>
                  </a:moveTo>
                  <a:lnTo>
                    <a:pt x="13974" y="17065"/>
                  </a:lnTo>
                  <a:lnTo>
                    <a:pt x="13642" y="16615"/>
                  </a:lnTo>
                  <a:lnTo>
                    <a:pt x="13738" y="15939"/>
                  </a:lnTo>
                  <a:lnTo>
                    <a:pt x="14071" y="15432"/>
                  </a:lnTo>
                  <a:lnTo>
                    <a:pt x="14210" y="15573"/>
                  </a:lnTo>
                  <a:close/>
                  <a:moveTo>
                    <a:pt x="6876" y="10954"/>
                  </a:moveTo>
                  <a:lnTo>
                    <a:pt x="6682" y="10757"/>
                  </a:lnTo>
                  <a:lnTo>
                    <a:pt x="6682" y="10363"/>
                  </a:lnTo>
                  <a:lnTo>
                    <a:pt x="6876" y="10954"/>
                  </a:lnTo>
                  <a:close/>
                  <a:moveTo>
                    <a:pt x="7638" y="11968"/>
                  </a:moveTo>
                  <a:lnTo>
                    <a:pt x="7500" y="12053"/>
                  </a:lnTo>
                  <a:lnTo>
                    <a:pt x="6848" y="11602"/>
                  </a:lnTo>
                  <a:lnTo>
                    <a:pt x="6903" y="11320"/>
                  </a:lnTo>
                  <a:lnTo>
                    <a:pt x="7638" y="11968"/>
                  </a:lnTo>
                  <a:close/>
                  <a:moveTo>
                    <a:pt x="6723" y="11180"/>
                  </a:moveTo>
                  <a:lnTo>
                    <a:pt x="6682" y="11489"/>
                  </a:lnTo>
                  <a:lnTo>
                    <a:pt x="6280" y="11320"/>
                  </a:lnTo>
                  <a:lnTo>
                    <a:pt x="6321" y="10926"/>
                  </a:lnTo>
                  <a:lnTo>
                    <a:pt x="6723" y="11180"/>
                  </a:lnTo>
                  <a:close/>
                  <a:moveTo>
                    <a:pt x="9150" y="14841"/>
                  </a:moveTo>
                  <a:lnTo>
                    <a:pt x="8942" y="15319"/>
                  </a:lnTo>
                  <a:lnTo>
                    <a:pt x="8886" y="16249"/>
                  </a:lnTo>
                  <a:lnTo>
                    <a:pt x="7319" y="19656"/>
                  </a:lnTo>
                  <a:lnTo>
                    <a:pt x="7333" y="19741"/>
                  </a:lnTo>
                  <a:lnTo>
                    <a:pt x="7361" y="19797"/>
                  </a:lnTo>
                  <a:lnTo>
                    <a:pt x="7361" y="19881"/>
                  </a:lnTo>
                  <a:lnTo>
                    <a:pt x="7375" y="19966"/>
                  </a:lnTo>
                  <a:lnTo>
                    <a:pt x="7375" y="20050"/>
                  </a:lnTo>
                  <a:lnTo>
                    <a:pt x="7375" y="20163"/>
                  </a:lnTo>
                  <a:lnTo>
                    <a:pt x="7375" y="20220"/>
                  </a:lnTo>
                  <a:lnTo>
                    <a:pt x="7375" y="20332"/>
                  </a:lnTo>
                  <a:lnTo>
                    <a:pt x="7167" y="20726"/>
                  </a:lnTo>
                  <a:lnTo>
                    <a:pt x="7347" y="21205"/>
                  </a:lnTo>
                  <a:lnTo>
                    <a:pt x="7195" y="21600"/>
                  </a:lnTo>
                  <a:lnTo>
                    <a:pt x="6793" y="20670"/>
                  </a:lnTo>
                  <a:lnTo>
                    <a:pt x="6793" y="19121"/>
                  </a:lnTo>
                  <a:lnTo>
                    <a:pt x="7028" y="16136"/>
                  </a:lnTo>
                  <a:lnTo>
                    <a:pt x="6696" y="15826"/>
                  </a:lnTo>
                  <a:lnTo>
                    <a:pt x="6335" y="13996"/>
                  </a:lnTo>
                  <a:lnTo>
                    <a:pt x="6502" y="13545"/>
                  </a:lnTo>
                  <a:lnTo>
                    <a:pt x="6502" y="13010"/>
                  </a:lnTo>
                  <a:lnTo>
                    <a:pt x="6141" y="13010"/>
                  </a:lnTo>
                  <a:lnTo>
                    <a:pt x="5988" y="12362"/>
                  </a:lnTo>
                  <a:lnTo>
                    <a:pt x="5781" y="12419"/>
                  </a:lnTo>
                  <a:lnTo>
                    <a:pt x="5060" y="11602"/>
                  </a:lnTo>
                  <a:lnTo>
                    <a:pt x="4824" y="11010"/>
                  </a:lnTo>
                  <a:lnTo>
                    <a:pt x="4533" y="11010"/>
                  </a:lnTo>
                  <a:lnTo>
                    <a:pt x="3770" y="8926"/>
                  </a:lnTo>
                  <a:lnTo>
                    <a:pt x="3784" y="7885"/>
                  </a:lnTo>
                  <a:lnTo>
                    <a:pt x="3535" y="7096"/>
                  </a:lnTo>
                  <a:lnTo>
                    <a:pt x="3354" y="7181"/>
                  </a:lnTo>
                  <a:lnTo>
                    <a:pt x="3229" y="6674"/>
                  </a:lnTo>
                  <a:lnTo>
                    <a:pt x="3368" y="6702"/>
                  </a:lnTo>
                  <a:lnTo>
                    <a:pt x="2994" y="5885"/>
                  </a:lnTo>
                  <a:lnTo>
                    <a:pt x="2481" y="5716"/>
                  </a:lnTo>
                  <a:lnTo>
                    <a:pt x="1233" y="6984"/>
                  </a:lnTo>
                  <a:lnTo>
                    <a:pt x="1677" y="6110"/>
                  </a:lnTo>
                  <a:lnTo>
                    <a:pt x="1372" y="5632"/>
                  </a:lnTo>
                  <a:lnTo>
                    <a:pt x="1233" y="3857"/>
                  </a:lnTo>
                  <a:lnTo>
                    <a:pt x="1746" y="3322"/>
                  </a:lnTo>
                  <a:lnTo>
                    <a:pt x="4242" y="3857"/>
                  </a:lnTo>
                  <a:lnTo>
                    <a:pt x="3770" y="3182"/>
                  </a:lnTo>
                  <a:lnTo>
                    <a:pt x="3867" y="2281"/>
                  </a:lnTo>
                  <a:lnTo>
                    <a:pt x="6335" y="365"/>
                  </a:lnTo>
                  <a:lnTo>
                    <a:pt x="7292" y="478"/>
                  </a:lnTo>
                  <a:lnTo>
                    <a:pt x="6446" y="2393"/>
                  </a:lnTo>
                  <a:lnTo>
                    <a:pt x="7583" y="4252"/>
                  </a:lnTo>
                  <a:lnTo>
                    <a:pt x="7222" y="5040"/>
                  </a:lnTo>
                  <a:lnTo>
                    <a:pt x="6557" y="4787"/>
                  </a:lnTo>
                  <a:lnTo>
                    <a:pt x="6626" y="3942"/>
                  </a:lnTo>
                  <a:lnTo>
                    <a:pt x="6391" y="3942"/>
                  </a:lnTo>
                  <a:lnTo>
                    <a:pt x="6294" y="4533"/>
                  </a:lnTo>
                  <a:lnTo>
                    <a:pt x="6363" y="5040"/>
                  </a:lnTo>
                  <a:lnTo>
                    <a:pt x="5864" y="4956"/>
                  </a:lnTo>
                  <a:lnTo>
                    <a:pt x="5600" y="5660"/>
                  </a:lnTo>
                  <a:lnTo>
                    <a:pt x="5781" y="5998"/>
                  </a:lnTo>
                  <a:lnTo>
                    <a:pt x="6141" y="6195"/>
                  </a:lnTo>
                  <a:lnTo>
                    <a:pt x="6474" y="6984"/>
                  </a:lnTo>
                  <a:lnTo>
                    <a:pt x="6585" y="6195"/>
                  </a:lnTo>
                  <a:lnTo>
                    <a:pt x="6529" y="6054"/>
                  </a:lnTo>
                  <a:lnTo>
                    <a:pt x="6529" y="5266"/>
                  </a:lnTo>
                  <a:lnTo>
                    <a:pt x="7319" y="5519"/>
                  </a:lnTo>
                  <a:lnTo>
                    <a:pt x="7957" y="7096"/>
                  </a:lnTo>
                  <a:lnTo>
                    <a:pt x="7056" y="8138"/>
                  </a:lnTo>
                  <a:lnTo>
                    <a:pt x="7056" y="8701"/>
                  </a:lnTo>
                  <a:lnTo>
                    <a:pt x="6903" y="8645"/>
                  </a:lnTo>
                  <a:lnTo>
                    <a:pt x="6751" y="8955"/>
                  </a:lnTo>
                  <a:lnTo>
                    <a:pt x="6793" y="9405"/>
                  </a:lnTo>
                  <a:lnTo>
                    <a:pt x="6418" y="9997"/>
                  </a:lnTo>
                  <a:lnTo>
                    <a:pt x="6529" y="10701"/>
                  </a:lnTo>
                  <a:lnTo>
                    <a:pt x="6335" y="10701"/>
                  </a:lnTo>
                  <a:lnTo>
                    <a:pt x="6183" y="10250"/>
                  </a:lnTo>
                  <a:lnTo>
                    <a:pt x="5628" y="10250"/>
                  </a:lnTo>
                  <a:lnTo>
                    <a:pt x="5406" y="11010"/>
                  </a:lnTo>
                  <a:lnTo>
                    <a:pt x="5628" y="11433"/>
                  </a:lnTo>
                  <a:lnTo>
                    <a:pt x="5725" y="11433"/>
                  </a:lnTo>
                  <a:lnTo>
                    <a:pt x="5919" y="11180"/>
                  </a:lnTo>
                  <a:lnTo>
                    <a:pt x="6058" y="11320"/>
                  </a:lnTo>
                  <a:lnTo>
                    <a:pt x="6016" y="11912"/>
                  </a:lnTo>
                  <a:lnTo>
                    <a:pt x="6210" y="11968"/>
                  </a:lnTo>
                  <a:lnTo>
                    <a:pt x="6266" y="12588"/>
                  </a:lnTo>
                  <a:lnTo>
                    <a:pt x="6626" y="12588"/>
                  </a:lnTo>
                  <a:lnTo>
                    <a:pt x="6987" y="12250"/>
                  </a:lnTo>
                  <a:lnTo>
                    <a:pt x="7250" y="12475"/>
                  </a:lnTo>
                  <a:lnTo>
                    <a:pt x="7721" y="12503"/>
                  </a:lnTo>
                  <a:lnTo>
                    <a:pt x="7749" y="13179"/>
                  </a:lnTo>
                  <a:lnTo>
                    <a:pt x="8151" y="13179"/>
                  </a:lnTo>
                  <a:lnTo>
                    <a:pt x="8193" y="13911"/>
                  </a:lnTo>
                  <a:lnTo>
                    <a:pt x="8456" y="13911"/>
                  </a:lnTo>
                  <a:lnTo>
                    <a:pt x="9150" y="14841"/>
                  </a:lnTo>
                  <a:close/>
                  <a:moveTo>
                    <a:pt x="1164" y="4843"/>
                  </a:moveTo>
                  <a:lnTo>
                    <a:pt x="387" y="4787"/>
                  </a:lnTo>
                  <a:lnTo>
                    <a:pt x="207" y="4956"/>
                  </a:lnTo>
                  <a:lnTo>
                    <a:pt x="415" y="5350"/>
                  </a:lnTo>
                  <a:lnTo>
                    <a:pt x="0" y="5576"/>
                  </a:lnTo>
                  <a:lnTo>
                    <a:pt x="0" y="3604"/>
                  </a:lnTo>
                  <a:lnTo>
                    <a:pt x="1025" y="4421"/>
                  </a:lnTo>
                  <a:lnTo>
                    <a:pt x="1164" y="4843"/>
                  </a:lnTo>
                  <a:close/>
                  <a:moveTo>
                    <a:pt x="2245" y="11489"/>
                  </a:moveTo>
                  <a:lnTo>
                    <a:pt x="2148" y="11856"/>
                  </a:lnTo>
                  <a:lnTo>
                    <a:pt x="1788" y="11377"/>
                  </a:lnTo>
                  <a:lnTo>
                    <a:pt x="1552" y="11658"/>
                  </a:lnTo>
                  <a:lnTo>
                    <a:pt x="984" y="10954"/>
                  </a:lnTo>
                  <a:lnTo>
                    <a:pt x="1025" y="10673"/>
                  </a:lnTo>
                  <a:lnTo>
                    <a:pt x="1677" y="11180"/>
                  </a:lnTo>
                  <a:lnTo>
                    <a:pt x="1926" y="10926"/>
                  </a:lnTo>
                  <a:lnTo>
                    <a:pt x="2245" y="11489"/>
                  </a:lnTo>
                  <a:close/>
                  <a:moveTo>
                    <a:pt x="803" y="10306"/>
                  </a:moveTo>
                  <a:lnTo>
                    <a:pt x="526" y="10673"/>
                  </a:lnTo>
                  <a:lnTo>
                    <a:pt x="360" y="9969"/>
                  </a:lnTo>
                  <a:lnTo>
                    <a:pt x="803" y="10306"/>
                  </a:lnTo>
                  <a:close/>
                  <a:moveTo>
                    <a:pt x="3715" y="17037"/>
                  </a:moveTo>
                  <a:lnTo>
                    <a:pt x="3549" y="17375"/>
                  </a:lnTo>
                  <a:lnTo>
                    <a:pt x="3327" y="17037"/>
                  </a:lnTo>
                  <a:lnTo>
                    <a:pt x="3493" y="16728"/>
                  </a:lnTo>
                  <a:lnTo>
                    <a:pt x="3715" y="17037"/>
                  </a:lnTo>
                  <a:close/>
                  <a:moveTo>
                    <a:pt x="3313" y="16558"/>
                  </a:moveTo>
                  <a:lnTo>
                    <a:pt x="3119" y="16784"/>
                  </a:lnTo>
                  <a:lnTo>
                    <a:pt x="2883" y="16446"/>
                  </a:lnTo>
                  <a:lnTo>
                    <a:pt x="3077" y="15995"/>
                  </a:lnTo>
                  <a:lnTo>
                    <a:pt x="3313" y="16558"/>
                  </a:lnTo>
                  <a:close/>
                  <a:moveTo>
                    <a:pt x="14903" y="8532"/>
                  </a:moveTo>
                  <a:lnTo>
                    <a:pt x="14875" y="8110"/>
                  </a:lnTo>
                  <a:lnTo>
                    <a:pt x="14737" y="8166"/>
                  </a:lnTo>
                  <a:lnTo>
                    <a:pt x="14764" y="8561"/>
                  </a:lnTo>
                  <a:lnTo>
                    <a:pt x="14903" y="8532"/>
                  </a:lnTo>
                  <a:close/>
                  <a:moveTo>
                    <a:pt x="14445" y="9236"/>
                  </a:moveTo>
                  <a:lnTo>
                    <a:pt x="14265" y="8532"/>
                  </a:lnTo>
                  <a:lnTo>
                    <a:pt x="14418" y="8166"/>
                  </a:lnTo>
                  <a:lnTo>
                    <a:pt x="14335" y="7997"/>
                  </a:lnTo>
                  <a:lnTo>
                    <a:pt x="14196" y="8222"/>
                  </a:lnTo>
                  <a:lnTo>
                    <a:pt x="14224" y="9349"/>
                  </a:lnTo>
                  <a:lnTo>
                    <a:pt x="14445" y="9236"/>
                  </a:lnTo>
                  <a:close/>
                  <a:moveTo>
                    <a:pt x="13642" y="8532"/>
                  </a:moveTo>
                  <a:lnTo>
                    <a:pt x="13461" y="7913"/>
                  </a:lnTo>
                  <a:lnTo>
                    <a:pt x="13281" y="7857"/>
                  </a:lnTo>
                  <a:lnTo>
                    <a:pt x="13295" y="8110"/>
                  </a:lnTo>
                  <a:lnTo>
                    <a:pt x="13128" y="8166"/>
                  </a:lnTo>
                  <a:lnTo>
                    <a:pt x="13004" y="7828"/>
                  </a:lnTo>
                  <a:lnTo>
                    <a:pt x="12782" y="8392"/>
                  </a:lnTo>
                  <a:lnTo>
                    <a:pt x="12824" y="8758"/>
                  </a:lnTo>
                  <a:lnTo>
                    <a:pt x="13031" y="8448"/>
                  </a:lnTo>
                  <a:lnTo>
                    <a:pt x="13184" y="8448"/>
                  </a:lnTo>
                  <a:lnTo>
                    <a:pt x="13642" y="8532"/>
                  </a:lnTo>
                </a:path>
              </a:pathLst>
            </a:custGeom>
            <a:solidFill>
              <a:srgbClr val="d9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1200" y="2012760"/>
            <a:ext cx="7070400" cy="1385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43128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5"/>
          </p:nvPr>
        </p:nvSpPr>
        <p:spPr>
          <a:xfrm>
            <a:off x="619236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657C-E6A4-4888-8F25-6E4504A6F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6"/>
          </p:nvPr>
        </p:nvSpPr>
        <p:spPr>
          <a:xfrm>
            <a:off x="2952720" y="5900760"/>
            <a:ext cx="27367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32000" y="1516320"/>
            <a:ext cx="7775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63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0" algn="ctr">
              <a:lnSpc>
                <a:spcPct val="110000"/>
              </a:lnSpc>
              <a:spcBef>
                <a:spcPts val="763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20720" algn="ctr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algn="ctr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41440" algn="ctr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41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41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81200" y="2012760"/>
            <a:ext cx="7070400" cy="13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333399"/>
                </a:solidFill>
                <a:latin typeface="Times New Roman"/>
              </a:rPr>
              <a:t>地理标题</a:t>
            </a: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95280" y="3671640"/>
            <a:ext cx="6042240" cy="1649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10000"/>
              </a:lnSpc>
              <a:spcBef>
                <a:spcPts val="763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49080" y="6048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333399"/>
                </a:solidFill>
                <a:latin typeface="Times New Roman"/>
              </a:rPr>
              <a:t>农业特点</a:t>
            </a: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738440"/>
            <a:ext cx="352584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请叙述该国的农业特点，可以图表的形式进一步阐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95760" y="1738440"/>
            <a:ext cx="352584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37440" y="5977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333399"/>
                </a:solidFill>
                <a:latin typeface="Times New Roman"/>
              </a:rPr>
              <a:t>本节小结</a:t>
            </a: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720396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地理课题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地理课题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地理课题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333399"/>
                </a:solidFill>
                <a:latin typeface="Times New Roman"/>
              </a:rPr>
              <a:t>习  题</a:t>
            </a: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720396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动脑筋，想一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简答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1320" y="6048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ddddd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333399"/>
                </a:solidFill>
                <a:latin typeface="Times New Roman"/>
              </a:rPr>
              <a:t>复习回顾</a:t>
            </a: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720396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请在此处添加上一节需要重点掌握的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333399"/>
                </a:solidFill>
                <a:latin typeface="Times New Roman"/>
              </a:rPr>
              <a:t>国家名称</a:t>
            </a: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720396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国家概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范围与邻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地域特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该国所具有的最大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某项的数值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333399"/>
                </a:solidFill>
                <a:latin typeface="Times New Roman"/>
              </a:rPr>
              <a:t>国家地图</a:t>
            </a: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7640" y="1738440"/>
            <a:ext cx="352584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95760" y="1738440"/>
            <a:ext cx="352584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333399"/>
                </a:solidFill>
                <a:latin typeface="Times New Roman"/>
              </a:rPr>
              <a:t>气候类型与人口分布</a:t>
            </a: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720396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要气候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口分布情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要城市介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333399"/>
                </a:solidFill>
                <a:latin typeface="Times New Roman"/>
              </a:rPr>
              <a:t>经济状况</a:t>
            </a: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720396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工业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农业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要城市介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97800" y="6048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333399"/>
                </a:solidFill>
                <a:latin typeface="Times New Roman"/>
              </a:rPr>
              <a:t>人口分布图</a:t>
            </a: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7640" y="1738440"/>
            <a:ext cx="352584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95760" y="1738440"/>
            <a:ext cx="352584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333399"/>
                </a:solidFill>
                <a:latin typeface="Times New Roman"/>
              </a:rPr>
              <a:t>气候分布图</a:t>
            </a: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738440"/>
            <a:ext cx="352584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95760" y="1738440"/>
            <a:ext cx="352584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333399"/>
                </a:solidFill>
                <a:latin typeface="Times New Roman"/>
              </a:rPr>
              <a:t>工业分布图</a:t>
            </a: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738440"/>
            <a:ext cx="352584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95760" y="1738440"/>
            <a:ext cx="352584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4:25:59Z</dcterms:created>
  <dc:creator/>
  <dc:description/>
  <dc:language>en-US</dc:language>
  <cp:lastModifiedBy/>
  <cp:lastPrinted>1899-12-30T00:00:00Z</cp:lastPrinted>
  <dcterms:modified xsi:type="dcterms:W3CDTF">2014-05-23T03:16:0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