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61312-4528-4862-8EE9-3E12ECFFC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758040"/>
            <a:ext cx="822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18EFA-0FB4-40F5-B9E8-44915CBC3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75804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75804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A2FA1-8E1B-40F8-AF46-5C796629B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12500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12500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75804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75804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75804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713A5-1332-4770-9044-55372ABFC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E7917-4CE8-4D59-99B1-EBF18AD0E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125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4DD7D-445B-4A06-9C9B-FD4933898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E2AC1-59D4-4243-AEE9-95D2A5D48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82EFD-4BF8-4369-8F8E-B89E19D3C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2BFB4-7F02-47C0-9EF2-A6DE8BA5F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476280"/>
            <a:ext cx="8229600" cy="27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0F6A1-1980-4867-B385-CEC87B3FC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75804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89D4D-F866-4482-96E1-7AAA6D6FB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125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FB62B-E408-4B54-8F09-734AA6B02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75804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D1AA3-FDA7-4122-A573-DCD3C6EA4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758040"/>
            <a:ext cx="822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885B8-674E-43CC-AA32-D0C35483C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758040"/>
            <a:ext cx="822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D8B17-56FC-46E2-BFCE-A1BF0C93F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75804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75804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A7244-1DB9-446A-9A20-6966FB6D1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12500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12500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75804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75804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75804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10FFE-8E51-4ABA-A4F1-CECD50359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7C832-EA18-4032-AFBE-D9C873631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5B9D8-8AE3-48C8-B105-336C2041F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7DF7B-17E4-4209-A987-C14CBD6EA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476280"/>
            <a:ext cx="8229600" cy="27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1CFC6-F348-40E3-AB85-B50ABC9D7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75804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D2400-BFF7-4863-97AF-8D5147F51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75804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9DA50-A234-48A6-86B3-E57EFF748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58040"/>
            <a:ext cx="822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6CD6D-6FFC-491A-983E-084C25F1C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125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03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华文细黑"/>
                <a:ea typeface="华文细黑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华文细黑"/>
                <a:ea typeface="华文细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0396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03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华文细黑"/>
                <a:ea typeface="华文细黑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F7856-9360-4F25-A9F0-4DE608FC00B6}" type="slidenum">
              <a:rPr b="0" lang="zh-CN" sz="1200" spc="-1" strike="noStrike">
                <a:solidFill>
                  <a:srgbClr val="000000"/>
                </a:solidFill>
                <a:latin typeface="华文细黑"/>
                <a:ea typeface="华文细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125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393840" y="62654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华文细黑"/>
                <a:ea typeface="华文细黑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华文细黑"/>
                <a:ea typeface="华文细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16160" y="6265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41560" y="6265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华文细黑"/>
                <a:ea typeface="华文细黑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838A6-6251-4F2E-B522-9E44A75D7023}" type="slidenum">
              <a:rPr b="0" lang="zh-CN" sz="1200" spc="-1" strike="noStrike">
                <a:solidFill>
                  <a:srgbClr val="000000"/>
                </a:solidFill>
                <a:latin typeface="华文细黑"/>
                <a:ea typeface="华文细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052360" y="2131560"/>
            <a:ext cx="6405480" cy="10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3060720" y="3285720"/>
            <a:ext cx="5400720" cy="6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6" name="Rectangle 9"/>
          <p:cNvSpPr/>
          <p:nvPr/>
        </p:nvSpPr>
        <p:spPr>
          <a:xfrm>
            <a:off x="3203640" y="2211480"/>
            <a:ext cx="5154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008120" y="616572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华文细黑"/>
              </a:rPr>
              <a:t>配色方案修改：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配色方案在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格式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幻灯片设计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配色方案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编辑配色方案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下调整。</a:t>
            </a: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华文细黑"/>
              </a:rPr>
              <a:t>LOGO</a:t>
            </a:r>
            <a:r>
              <a:rPr b="1" lang="zh-CN" sz="2000" spc="-1" strike="noStrike">
                <a:solidFill>
                  <a:srgbClr val="000000"/>
                </a:solidFill>
                <a:latin typeface="华文细黑"/>
              </a:rPr>
              <a:t>的添加：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Logo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添加修改在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视图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母版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幻灯片母版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下调整。直接选择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logo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图片删除或修改。</a:t>
            </a: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华文细黑"/>
              </a:rPr>
              <a:t>字体格式的设置：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括标题和文本格式的设置在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视图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母版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幻灯片母版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下调整。</a:t>
            </a: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华文细黑"/>
              </a:rPr>
              <a:t>默认设置：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首页主标题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36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号（中文黑体英文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Arial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）加粗；副标题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16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号（中文黑体英文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Arial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）加粗</a:t>
            </a: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内页标题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24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号（中文黑体英文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Arial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）加粗；内页内容文字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20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号（华文细黑）</a:t>
            </a: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071960" y="2571840"/>
            <a:ext cx="3386160" cy="86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感谢您的关注！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92" name=""/>
          <p:cNvSpPr/>
          <p:nvPr/>
        </p:nvSpPr>
        <p:spPr>
          <a:xfrm>
            <a:off x="1434600" y="6021360"/>
            <a:ext cx="56332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e2d700"/>
                </a:solidFill>
                <a:uFillTx/>
                <a:latin typeface="华文新魏"/>
                <a:ea typeface="华文新魏"/>
                <a:hlinkClick r:id="rId2"/>
              </a:rPr>
              <a:t>PPT之家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整理发布，更多免费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PPT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94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5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e2d700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e2d700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e2d700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8T10:06:27Z</dcterms:created>
  <dc:creator/>
  <dc:description/>
  <dc:language>en-US</dc:language>
  <cp:lastModifiedBy>joyis</cp:lastModifiedBy>
  <cp:lastPrinted>1899-12-30T00:00:00Z</cp:lastPrinted>
  <dcterms:modified xsi:type="dcterms:W3CDTF">2014-05-15T06:47:54Z</dcterms:modified>
  <cp:revision>36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</Properties>
</file>