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8FD-7C0A-4151-A221-EE1F0267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3451-E596-446F-9F27-F4E7EE67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BC94-31C4-460B-8F56-5250ED66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0400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5088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164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60400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5088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C18-2F34-4913-9D4D-2ADF7D88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FBB0-496F-4551-886D-DCA13442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801C-694A-4071-9B7F-F5BAA8EC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8CB4-7B3D-4C8F-BD4E-1758F278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0E619-2213-4CB4-B9B5-DB081847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1A30-FBE6-4E47-A051-B079AF96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B1BF-1AC6-4F81-B9CA-540CE351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E9F3-D4A0-4ACA-968A-802FF8AE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12F-CEF3-459B-9F61-B586270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BA6D-1091-4DBD-B5A7-3D4A7A0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0C1E-F894-41EB-8BFA-864D117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46F3-9EFD-402F-A324-C8D60598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9FAA-C42D-40BE-851A-078F9BF8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400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508880" y="167616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164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400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508880" y="1954800"/>
            <a:ext cx="139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01BE-35E7-4B5A-80DB-DE68C8E6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0FE3-C727-49B1-AD02-3B03EE8C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D860-E7E6-4830-B5E6-4408AF78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5127-202A-46DF-B707-48878AF1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2A47-BC1A-46FF-9CC1-F485788B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9E2A-1784-4EDA-96B0-694686E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97160" y="195480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027-DEA3-42F9-AF66-0D4885CE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97160" y="1676160"/>
            <a:ext cx="2119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1640" y="1954800"/>
            <a:ext cx="43434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4BD-A564-4C74-97F9-7C267910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7920"/>
            <a:ext cx="762120" cy="686592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f0f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160" y="1023840"/>
            <a:ext cx="9144000" cy="77760"/>
          </a:xfrm>
          <a:prstGeom prst="rect">
            <a:avLst/>
          </a:prstGeom>
          <a:gradFill rotWithShape="0">
            <a:gsLst>
              <a:gs pos="0">
                <a:srgbClr val="f0f9e3"/>
              </a:gs>
              <a:gs pos="100000">
                <a:srgbClr val="c4d8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2887400">
            <a:off x="77040" y="357840"/>
            <a:ext cx="1298160" cy="13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19080">
            <a:solidFill>
              <a:srgbClr val="666633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5360" y="434880"/>
            <a:ext cx="1055880" cy="1173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457200"/>
            <a:ext cx="1179720" cy="1120680"/>
          </a:xfrm>
          <a:prstGeom prst="donut">
            <a:avLst>
              <a:gd name="adj" fmla="val 12884"/>
            </a:avLst>
          </a:pr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3175800">
            <a:off x="144000" y="407880"/>
            <a:ext cx="1168560" cy="1212840"/>
          </a:xfrm>
          <a:prstGeom prst="blockArc">
            <a:avLst>
              <a:gd name="adj1" fmla="val 17510097"/>
              <a:gd name="adj2" fmla="val 14889903"/>
              <a:gd name="adj3" fmla="val 16231"/>
            </a:avLst>
          </a:prstGeom>
          <a:gradFill rotWithShape="0">
            <a:gsLst>
              <a:gs pos="0">
                <a:srgbClr val="75cbc7"/>
              </a:gs>
              <a:gs pos="100000">
                <a:srgbClr val="f5fafa"/>
              </a:gs>
            </a:gsLst>
            <a:lin ang="103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1142640" y="1371600"/>
            <a:ext cx="746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091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C973-7C7D-4CFD-9A10-2DE5648B9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af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-7920"/>
            <a:ext cx="4648320" cy="6865920"/>
          </a:xfrm>
          <a:prstGeom prst="rect">
            <a:avLst/>
          </a:prstGeom>
          <a:gradFill rotWithShape="0">
            <a:gsLst>
              <a:gs pos="0">
                <a:srgbClr val="c4d88a"/>
              </a:gs>
              <a:gs pos="100000">
                <a:srgbClr val="edf3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6CB0-881C-4D53-A90E-CF15F506D3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67480" y="5943600"/>
            <a:ext cx="12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76720"/>
            <a:ext cx="9144000" cy="9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51040" y="2063880"/>
            <a:ext cx="3733920" cy="3733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51040" y="2049480"/>
            <a:ext cx="3745080" cy="3735360"/>
          </a:xfrm>
          <a:prstGeom prst="donut">
            <a:avLst>
              <a:gd name="adj" fmla="val 12884"/>
            </a:avLst>
          </a:prstGeom>
          <a:solidFill>
            <a:srgbClr val="c4d8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175800">
            <a:off x="2644920" y="2033640"/>
            <a:ext cx="3760920" cy="3776400"/>
          </a:xfrm>
          <a:prstGeom prst="blockArc">
            <a:avLst>
              <a:gd name="adj1" fmla="val 18013252"/>
              <a:gd name="adj2" fmla="val 14386748"/>
              <a:gd name="adj3" fmla="val 15097"/>
            </a:avLst>
          </a:prstGeom>
          <a:gradFill rotWithShape="0">
            <a:gsLst>
              <a:gs pos="0">
                <a:srgbClr val="75cbc7"/>
              </a:gs>
              <a:gs pos="100000">
                <a:srgbClr val="f1f9f8"/>
              </a:gs>
            </a:gsLst>
            <a:lin ang="10326000"/>
          </a:gradFill>
          <a:ln w="0">
            <a:noFill/>
          </a:ln>
          <a:effectLst>
            <a:outerShdw dist="17819" dir="27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9140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2887400">
            <a:off x="2466000" y="1882080"/>
            <a:ext cx="4128120" cy="409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5" y="15351"/>
                </a:moveTo>
                <a:arcTo wR="10800" hR="10800" stAng="9304819" swAng="15697635"/>
                <a:lnTo>
                  <a:pt x="10800" y="10800"/>
                </a:lnTo>
                <a:close/>
              </a:path>
              <a:path fill="none" w="21600" h="21600">
                <a:moveTo>
                  <a:pt x="1005" y="15351"/>
                </a:moveTo>
                <a:arcTo wR="10800" hR="10800" stAng="9304819" swAng="15697635"/>
              </a:path>
            </a:pathLst>
          </a:custGeom>
          <a:noFill/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af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848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1640" y="1676160"/>
            <a:ext cx="4343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7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5cb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663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66663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6361b"/>
              </a:gs>
              <a:gs pos="50000">
                <a:srgbClr val="666633"/>
              </a:gs>
              <a:gs pos="100000">
                <a:srgbClr val="36361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66633">
                  <a:alpha val="0"/>
                </a:srgbClr>
              </a:gs>
              <a:gs pos="100000">
                <a:srgbClr val="4040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f9900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ff9900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95200"/>
              </a:gs>
              <a:gs pos="50000">
                <a:srgbClr val="ff9900"/>
              </a:gs>
              <a:gs pos="100000">
                <a:srgbClr val="8952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ff9900">
                  <a:alpha val="0"/>
                </a:srgbClr>
              </a:gs>
              <a:gs pos="100000">
                <a:srgbClr val="a16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8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5cbc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55d5b"/>
              </a:gs>
              <a:gs pos="100000">
                <a:srgbClr val="75cbc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3f6d6b"/>
              </a:gs>
              <a:gs pos="50000">
                <a:srgbClr val="75cbc7"/>
              </a:gs>
              <a:gs pos="100000">
                <a:srgbClr val="3f6d6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5cbc7">
                  <a:alpha val="0"/>
                </a:srgbClr>
              </a:gs>
              <a:gs pos="100000">
                <a:srgbClr val="4a807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8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3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523880" y="1600200"/>
            <a:ext cx="5410080" cy="4873320"/>
            <a:chOff x="1523880" y="1600200"/>
            <a:chExt cx="5410080" cy="4873320"/>
          </a:xfrm>
        </p:grpSpPr>
        <p:sp>
          <p:nvSpPr>
            <p:cNvPr id="292" name=""/>
            <p:cNvSpPr/>
            <p:nvPr/>
          </p:nvSpPr>
          <p:spPr>
            <a:xfrm rot="13770000">
              <a:off x="4695480" y="3960000"/>
              <a:ext cx="928440" cy="1857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8b8b8"/>
                </a:gs>
                <a:gs pos="100000">
                  <a:srgbClr val="777777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20856000">
              <a:off x="2761920" y="3524760"/>
              <a:ext cx="980280" cy="1666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bcbcbc"/>
                </a:gs>
                <a:gs pos="100000">
                  <a:srgbClr val="777777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394200">
              <a:off x="4816440" y="2462760"/>
              <a:ext cx="577440" cy="1288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d5d5d5"/>
                </a:gs>
                <a:gs pos="100000">
                  <a:srgbClr val="777777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3674880" y="2498040"/>
              <a:ext cx="1564200" cy="1539720"/>
              <a:chOff x="3674880" y="2498040"/>
              <a:chExt cx="1564200" cy="1539720"/>
            </a:xfrm>
          </p:grpSpPr>
          <p:grpSp>
            <p:nvGrpSpPr>
              <p:cNvPr id="296" name=""/>
              <p:cNvGrpSpPr/>
              <p:nvPr/>
            </p:nvGrpSpPr>
            <p:grpSpPr>
              <a:xfrm>
                <a:off x="3674880" y="2498040"/>
                <a:ext cx="1564200" cy="1539720"/>
                <a:chOff x="3674880" y="2498040"/>
                <a:chExt cx="1564200" cy="15397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674880" y="2498040"/>
                  <a:ext cx="1564200" cy="153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3d25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未知"/>
                <p:cNvSpPr/>
                <p:nvPr/>
              </p:nvSpPr>
              <p:spPr>
                <a:xfrm>
                  <a:off x="3853440" y="2523600"/>
                  <a:ext cx="1206720" cy="581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3739320" y="31672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035320" y="1600200"/>
              <a:ext cx="909360" cy="834120"/>
              <a:chOff x="5035320" y="1600200"/>
              <a:chExt cx="909360" cy="8341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043960" y="1600200"/>
                <a:ext cx="847080" cy="834120"/>
                <a:chOff x="5043960" y="1600200"/>
                <a:chExt cx="847080" cy="83412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043960" y="1600200"/>
                  <a:ext cx="847080" cy="83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cbc7"/>
                    </a:gs>
                    <a:gs pos="100000">
                      <a:srgbClr val="1c31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未知"/>
                <p:cNvSpPr/>
                <p:nvPr/>
              </p:nvSpPr>
              <p:spPr>
                <a:xfrm>
                  <a:off x="5140800" y="1613880"/>
                  <a:ext cx="653400" cy="314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5cbc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5035320" y="19206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1523880" y="2819160"/>
              <a:ext cx="1694520" cy="1732320"/>
              <a:chOff x="1523880" y="2819160"/>
              <a:chExt cx="1694520" cy="173232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1523880" y="2819160"/>
                <a:ext cx="1694520" cy="1732320"/>
                <a:chOff x="1523880" y="2819160"/>
                <a:chExt cx="1694520" cy="1732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523880" y="2819160"/>
                  <a:ext cx="1694520" cy="173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4d88a"/>
                    </a:gs>
                    <a:gs pos="100000">
                      <a:srgbClr val="7c885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未知"/>
                <p:cNvSpPr/>
                <p:nvPr/>
              </p:nvSpPr>
              <p:spPr>
                <a:xfrm>
                  <a:off x="1717560" y="2847600"/>
                  <a:ext cx="1307160" cy="653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4d88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9" name=""/>
              <p:cNvSpPr/>
              <p:nvPr/>
            </p:nvSpPr>
            <p:spPr>
              <a:xfrm>
                <a:off x="1593720" y="35888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978440" y="4102200"/>
              <a:ext cx="1955520" cy="1924560"/>
              <a:chOff x="4978440" y="4102200"/>
              <a:chExt cx="1955520" cy="1924560"/>
            </a:xfrm>
          </p:grpSpPr>
          <p:grpSp>
            <p:nvGrpSpPr>
              <p:cNvPr id="311" name=""/>
              <p:cNvGrpSpPr/>
              <p:nvPr/>
            </p:nvGrpSpPr>
            <p:grpSpPr>
              <a:xfrm>
                <a:off x="4978440" y="4102200"/>
                <a:ext cx="1955520" cy="1924560"/>
                <a:chOff x="4978440" y="4102200"/>
                <a:chExt cx="1955520" cy="19245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978440" y="4102200"/>
                  <a:ext cx="1955520" cy="192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33"/>
                    </a:gs>
                    <a:gs pos="100000">
                      <a:srgbClr val="3434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未知"/>
                <p:cNvSpPr/>
                <p:nvPr/>
              </p:nvSpPr>
              <p:spPr>
                <a:xfrm>
                  <a:off x="5202000" y="4133880"/>
                  <a:ext cx="1508400" cy="726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66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" name=""/>
              <p:cNvSpPr/>
              <p:nvPr/>
            </p:nvSpPr>
            <p:spPr>
              <a:xfrm>
                <a:off x="5234760" y="4935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1719360" y="4615560"/>
              <a:ext cx="1376640" cy="446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0f9e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5200" y="4041000"/>
              <a:ext cx="1378440" cy="4464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f0f9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304600" y="6027120"/>
              <a:ext cx="1376640" cy="4464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f0f9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74280" y="2498040"/>
              <a:ext cx="631440" cy="2232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58039"/>
                  </a:srgbClr>
                </a:gs>
                <a:gs pos="100000">
                  <a:srgbClr val="f0f9e3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7973000">
            <a:off x="4615560" y="267552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rot="3465600">
            <a:off x="4614840" y="48394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4368800">
            <a:off x="3396240" y="275148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7534800">
            <a:off x="3358080" y="48060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194440" y="380376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0800000">
            <a:off x="2784240" y="379692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75cbc7"/>
              </a:gs>
              <a:gs pos="100000">
                <a:srgbClr val="67b4b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5240" y="2046240"/>
            <a:ext cx="3743280" cy="3745080"/>
          </a:xfrm>
          <a:prstGeom prst="ellipse">
            <a:avLst/>
          </a:prstGeom>
          <a:noFill/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67000" y="2093760"/>
            <a:ext cx="360360" cy="360360"/>
            <a:chOff x="3267000" y="2093760"/>
            <a:chExt cx="360360" cy="360360"/>
          </a:xfrm>
        </p:grpSpPr>
        <p:sp>
          <p:nvSpPr>
            <p:cNvPr id="328" name=""/>
            <p:cNvSpPr/>
            <p:nvPr/>
          </p:nvSpPr>
          <p:spPr>
            <a:xfrm>
              <a:off x="3267000" y="2093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82840" y="2124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2322360" y="3749760"/>
            <a:ext cx="360360" cy="360360"/>
            <a:chOff x="2322360" y="3749760"/>
            <a:chExt cx="360360" cy="360360"/>
          </a:xfrm>
        </p:grpSpPr>
        <p:sp>
          <p:nvSpPr>
            <p:cNvPr id="331" name=""/>
            <p:cNvSpPr/>
            <p:nvPr/>
          </p:nvSpPr>
          <p:spPr>
            <a:xfrm>
              <a:off x="232236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33820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186000" y="5292720"/>
            <a:ext cx="360360" cy="360360"/>
            <a:chOff x="3186000" y="5292720"/>
            <a:chExt cx="360360" cy="360360"/>
          </a:xfrm>
        </p:grpSpPr>
        <p:sp>
          <p:nvSpPr>
            <p:cNvPr id="334" name=""/>
            <p:cNvSpPr/>
            <p:nvPr/>
          </p:nvSpPr>
          <p:spPr>
            <a:xfrm>
              <a:off x="3186000" y="52927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01840" y="53229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116680" y="2073240"/>
            <a:ext cx="360360" cy="360360"/>
            <a:chOff x="5116680" y="2073240"/>
            <a:chExt cx="360360" cy="360360"/>
          </a:xfrm>
        </p:grpSpPr>
        <p:sp>
          <p:nvSpPr>
            <p:cNvPr id="337" name=""/>
            <p:cNvSpPr/>
            <p:nvPr/>
          </p:nvSpPr>
          <p:spPr>
            <a:xfrm>
              <a:off x="5116680" y="20732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32520" y="21034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066000" y="3749760"/>
            <a:ext cx="360360" cy="360360"/>
            <a:chOff x="6066000" y="3749760"/>
            <a:chExt cx="360360" cy="360360"/>
          </a:xfrm>
        </p:grpSpPr>
        <p:sp>
          <p:nvSpPr>
            <p:cNvPr id="340" name=""/>
            <p:cNvSpPr/>
            <p:nvPr/>
          </p:nvSpPr>
          <p:spPr>
            <a:xfrm>
              <a:off x="6066000" y="37497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81840" y="37800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172120" y="5349960"/>
            <a:ext cx="360360" cy="360360"/>
            <a:chOff x="5172120" y="5349960"/>
            <a:chExt cx="360360" cy="360360"/>
          </a:xfrm>
        </p:grpSpPr>
        <p:sp>
          <p:nvSpPr>
            <p:cNvPr id="343" name=""/>
            <p:cNvSpPr/>
            <p:nvPr/>
          </p:nvSpPr>
          <p:spPr>
            <a:xfrm>
              <a:off x="5172120" y="5349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7960" y="5380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eaf0d6"/>
                </a:gs>
                <a:gs pos="100000">
                  <a:srgbClr val="c4d88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462480" y="2987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6663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56000" y="29718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2f2f17"/>
              </a:gs>
              <a:gs pos="100000">
                <a:srgbClr val="66663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589200" y="311472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36361b"/>
              </a:gs>
              <a:gs pos="50000">
                <a:srgbClr val="666633"/>
              </a:gs>
              <a:gs pos="100000">
                <a:srgbClr val="36361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71920" y="308772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666633">
                  <a:alpha val="0"/>
                </a:srgbClr>
              </a:gs>
              <a:gs pos="100000">
                <a:srgbClr val="40402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673440" y="319896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695760" y="3218040"/>
            <a:ext cx="1471680" cy="14731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713040" y="3227400"/>
            <a:ext cx="143856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728880" y="324180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3278160"/>
            <a:ext cx="1214640" cy="1090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002840" y="3687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5660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67160" y="202104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7100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56600" y="53737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2760" y="377352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90840" y="531180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8080" y="4834080"/>
            <a:ext cx="2019240" cy="674640"/>
          </a:xfrm>
          <a:prstGeom prst="roundRect">
            <a:avLst>
              <a:gd name="adj" fmla="val 40389"/>
            </a:avLst>
          </a:prstGeom>
          <a:gradFill rotWithShape="0">
            <a:gsLst>
              <a:gs pos="0">
                <a:srgbClr val="7ea5d0"/>
              </a:gs>
              <a:gs pos="100000">
                <a:srgbClr val="f0f9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371600" y="1905120"/>
            <a:ext cx="2019240" cy="3605040"/>
            <a:chOff x="1371600" y="1905120"/>
            <a:chExt cx="2019240" cy="3605040"/>
          </a:xfrm>
        </p:grpSpPr>
        <p:sp>
          <p:nvSpPr>
            <p:cNvPr id="365" name=""/>
            <p:cNvSpPr/>
            <p:nvPr/>
          </p:nvSpPr>
          <p:spPr>
            <a:xfrm>
              <a:off x="1371600" y="2189160"/>
              <a:ext cx="2019240" cy="2644920"/>
            </a:xfrm>
            <a:custGeom>
              <a:avLst/>
              <a:gdLst>
                <a:gd name="textAreaLeft" fmla="*/ 103320 w 2019240"/>
                <a:gd name="textAreaRight" fmla="*/ 1915920 w 2019240"/>
                <a:gd name="textAreaTop" fmla="*/ 103320 h 2644920"/>
                <a:gd name="textAreaBottom" fmla="*/ 2541600 h 2644920"/>
              </a:gdLst>
              <a:ahLst/>
              <a:rect l="textAreaLeft" t="textAreaTop" r="textAreaRight" b="textAreaBottom"/>
              <a:pathLst>
                <a:path w="21600" h="28292">
                  <a:moveTo>
                    <a:pt x="3782" y="0"/>
                  </a:moveTo>
                  <a:arcTo wR="3782" hR="3782" stAng="16200000" swAng="-5400000"/>
                  <a:lnTo>
                    <a:pt x="0" y="24510"/>
                  </a:lnTo>
                  <a:arcTo wR="3782" hR="3782" stAng="10800000" swAng="-5400000"/>
                  <a:lnTo>
                    <a:pt x="17818" y="28292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03280" y="2197080"/>
              <a:ext cx="1957320" cy="2594160"/>
            </a:xfrm>
            <a:custGeom>
              <a:avLst/>
              <a:gdLst>
                <a:gd name="textAreaLeft" fmla="*/ 95400 w 1957320"/>
                <a:gd name="textAreaRight" fmla="*/ 1861920 w 1957320"/>
                <a:gd name="textAreaTop" fmla="*/ 95400 h 2594160"/>
                <a:gd name="textAreaBottom" fmla="*/ 2498760 h 2594160"/>
              </a:gdLst>
              <a:ahLst/>
              <a:rect l="textAreaLeft" t="textAreaTop" r="textAreaRight" b="textAreaBottom"/>
              <a:pathLst>
                <a:path w="21600" h="28627">
                  <a:moveTo>
                    <a:pt x="3600" y="0"/>
                  </a:moveTo>
                  <a:arcTo wR="3600" hR="3600" stAng="16200000" swAng="-5400000"/>
                  <a:lnTo>
                    <a:pt x="0" y="25027"/>
                  </a:lnTo>
                  <a:arcTo wR="3600" hR="3600" stAng="10800000" swAng="-5400000"/>
                  <a:lnTo>
                    <a:pt x="18000" y="286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0d4f2"/>
                </a:gs>
                <a:gs pos="100000">
                  <a:srgbClr val="3ca1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19120" y="4106880"/>
              <a:ext cx="193212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d4f2">
                    <a:alpha val="0"/>
                  </a:srgbClr>
                </a:gs>
                <a:gs pos="100000">
                  <a:srgbClr val="8ed8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19120" y="2217960"/>
              <a:ext cx="1932120" cy="65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3eff9"/>
                </a:gs>
                <a:gs pos="100000">
                  <a:srgbClr val="80d4f2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19120" y="4854600"/>
              <a:ext cx="1932120" cy="655560"/>
            </a:xfrm>
            <a:prstGeom prst="roundRect">
              <a:avLst>
                <a:gd name="adj" fmla="val 42856"/>
              </a:avLst>
            </a:prstGeom>
            <a:gradFill rotWithShape="0">
              <a:gsLst>
                <a:gs pos="0">
                  <a:srgbClr val="ace7fa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2065320" y="1905120"/>
              <a:ext cx="601560" cy="593640"/>
              <a:chOff x="2065320" y="1905120"/>
              <a:chExt cx="601560" cy="593640"/>
            </a:xfrm>
          </p:grpSpPr>
          <p:sp>
            <p:nvSpPr>
              <p:cNvPr id="371" name=""/>
              <p:cNvSpPr/>
              <p:nvPr/>
            </p:nvSpPr>
            <p:spPr>
              <a:xfrm>
                <a:off x="2065320" y="1905120"/>
                <a:ext cx="601560" cy="59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071440" y="1909440"/>
                <a:ext cx="581760" cy="574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078640" y="1913040"/>
                <a:ext cx="568080" cy="560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085120" y="1918080"/>
                <a:ext cx="540360" cy="523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116440" y="1932480"/>
                <a:ext cx="479880" cy="425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2186280" y="19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42880" y="261000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3576600" y="1905120"/>
            <a:ext cx="2049480" cy="3590280"/>
            <a:chOff x="3576600" y="1905120"/>
            <a:chExt cx="2049480" cy="3590280"/>
          </a:xfrm>
        </p:grpSpPr>
        <p:sp>
          <p:nvSpPr>
            <p:cNvPr id="379" name=""/>
            <p:cNvSpPr/>
            <p:nvPr/>
          </p:nvSpPr>
          <p:spPr>
            <a:xfrm>
              <a:off x="3576600" y="2188800"/>
              <a:ext cx="2021040" cy="2641320"/>
            </a:xfrm>
            <a:custGeom>
              <a:avLst/>
              <a:gdLst>
                <a:gd name="textAreaLeft" fmla="*/ 103320 w 2021040"/>
                <a:gd name="textAreaRight" fmla="*/ 1917720 w 2021040"/>
                <a:gd name="textAreaTop" fmla="*/ 103320 h 2641320"/>
                <a:gd name="textAreaBottom" fmla="*/ 2538000 h 2641320"/>
              </a:gdLst>
              <a:ahLst/>
              <a:rect l="textAreaLeft" t="textAreaTop" r="textAreaRight" b="textAreaBottom"/>
              <a:pathLst>
                <a:path w="21600" h="28228">
                  <a:moveTo>
                    <a:pt x="3782" y="0"/>
                  </a:moveTo>
                  <a:arcTo wR="3782" hR="3782" stAng="16200000" swAng="-5400000"/>
                  <a:lnTo>
                    <a:pt x="0" y="24446"/>
                  </a:lnTo>
                  <a:arcTo wR="3782" hR="3782" stAng="10800000" swAng="-5400000"/>
                  <a:lnTo>
                    <a:pt x="17818" y="282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08280" y="2196720"/>
              <a:ext cx="1959120" cy="2590560"/>
            </a:xfrm>
            <a:custGeom>
              <a:avLst/>
              <a:gdLst>
                <a:gd name="textAreaLeft" fmla="*/ 95400 w 1959120"/>
                <a:gd name="textAreaRight" fmla="*/ 1863720 w 1959120"/>
                <a:gd name="textAreaTop" fmla="*/ 95400 h 2590560"/>
                <a:gd name="textAreaBottom" fmla="*/ 2495160 h 2590560"/>
              </a:gdLst>
              <a:ahLst/>
              <a:rect l="textAreaLeft" t="textAreaTop" r="textAreaRight" b="textAreaBottom"/>
              <a:pathLst>
                <a:path w="21600" h="28561">
                  <a:moveTo>
                    <a:pt x="3600" y="0"/>
                  </a:moveTo>
                  <a:arcTo wR="3600" hR="3600" stAng="16200000" swAng="-5400000"/>
                  <a:lnTo>
                    <a:pt x="0" y="24961"/>
                  </a:lnTo>
                  <a:arcTo wR="3600" hR="3600" stAng="10800000" swAng="-5400000"/>
                  <a:lnTo>
                    <a:pt x="18000" y="28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88ea91"/>
                </a:gs>
                <a:gs pos="100000">
                  <a:srgbClr val="21d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624120" y="4105080"/>
              <a:ext cx="1933560" cy="655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8ea91">
                    <a:alpha val="0"/>
                  </a:srgbClr>
                </a:gs>
                <a:gs pos="100000">
                  <a:srgbClr val="95eb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24120" y="2217600"/>
              <a:ext cx="1933560" cy="65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6f7d9"/>
                </a:gs>
                <a:gs pos="100000">
                  <a:srgbClr val="88ea9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4271760" y="1905120"/>
              <a:ext cx="600120" cy="593280"/>
              <a:chOff x="4271760" y="1905120"/>
              <a:chExt cx="600120" cy="593280"/>
            </a:xfrm>
          </p:grpSpPr>
          <p:sp>
            <p:nvSpPr>
              <p:cNvPr id="384" name=""/>
              <p:cNvSpPr/>
              <p:nvPr/>
            </p:nvSpPr>
            <p:spPr>
              <a:xfrm>
                <a:off x="4271760" y="1905120"/>
                <a:ext cx="600120" cy="5932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277880" y="1909440"/>
                <a:ext cx="580320" cy="574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285080" y="1913040"/>
                <a:ext cx="567000" cy="560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91200" y="1918080"/>
                <a:ext cx="538920" cy="5230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322880" y="1932480"/>
                <a:ext cx="478800" cy="425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4391280" y="1990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47880" y="2609640"/>
              <a:ext cx="192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6840" y="4819320"/>
              <a:ext cx="2019240" cy="67428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2e26a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47880" y="4840200"/>
              <a:ext cx="1932120" cy="655200"/>
            </a:xfrm>
            <a:prstGeom prst="roundRect">
              <a:avLst>
                <a:gd name="adj" fmla="val 42856"/>
              </a:avLst>
            </a:prstGeom>
            <a:gradFill rotWithShape="0">
              <a:gsLst>
                <a:gs pos="0">
                  <a:srgbClr val="cbfdc7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783400" y="1905120"/>
            <a:ext cx="2027160" cy="3598920"/>
            <a:chOff x="5783400" y="1905120"/>
            <a:chExt cx="2027160" cy="3598920"/>
          </a:xfrm>
        </p:grpSpPr>
        <p:sp>
          <p:nvSpPr>
            <p:cNvPr id="394" name=""/>
            <p:cNvSpPr/>
            <p:nvPr/>
          </p:nvSpPr>
          <p:spPr>
            <a:xfrm>
              <a:off x="5783400" y="2189160"/>
              <a:ext cx="2019240" cy="2641680"/>
            </a:xfrm>
            <a:custGeom>
              <a:avLst/>
              <a:gdLst>
                <a:gd name="textAreaLeft" fmla="*/ 103320 w 2019240"/>
                <a:gd name="textAreaRight" fmla="*/ 1915920 w 2019240"/>
                <a:gd name="textAreaTop" fmla="*/ 103320 h 2641680"/>
                <a:gd name="textAreaBottom" fmla="*/ 2538360 h 2641680"/>
              </a:gdLst>
              <a:ahLst/>
              <a:rect l="textAreaLeft" t="textAreaTop" r="textAreaRight" b="textAreaBottom"/>
              <a:pathLst>
                <a:path w="21600" h="28257">
                  <a:moveTo>
                    <a:pt x="3782" y="0"/>
                  </a:moveTo>
                  <a:arcTo wR="3782" hR="3782" stAng="16200000" swAng="-5400000"/>
                  <a:lnTo>
                    <a:pt x="0" y="24475"/>
                  </a:lnTo>
                  <a:arcTo wR="3782" hR="3782" stAng="10800000" swAng="-5400000"/>
                  <a:lnTo>
                    <a:pt x="17818" y="282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15080" y="2197080"/>
              <a:ext cx="1957320" cy="2590920"/>
            </a:xfrm>
            <a:custGeom>
              <a:avLst/>
              <a:gdLst>
                <a:gd name="textAreaLeft" fmla="*/ 95400 w 1957320"/>
                <a:gd name="textAreaRight" fmla="*/ 1861920 w 1957320"/>
                <a:gd name="textAreaTop" fmla="*/ 95400 h 2590920"/>
                <a:gd name="textAreaBottom" fmla="*/ 2495520 h 2590920"/>
              </a:gdLst>
              <a:ahLst/>
              <a:rect l="textAreaLeft" t="textAreaTop" r="textAreaRight" b="textAreaBottom"/>
              <a:pathLst>
                <a:path w="21600" h="28591">
                  <a:moveTo>
                    <a:pt x="3600" y="0"/>
                  </a:moveTo>
                  <a:arcTo wR="3600" hR="3600" stAng="16200000" swAng="-5400000"/>
                  <a:lnTo>
                    <a:pt x="0" y="24991"/>
                  </a:lnTo>
                  <a:arcTo wR="3600" hR="3600" stAng="10800000" swAng="-5400000"/>
                  <a:lnTo>
                    <a:pt x="18000" y="285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eaec86"/>
                </a:gs>
                <a:gs pos="100000">
                  <a:srgbClr val="dcce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30920" y="4105440"/>
              <a:ext cx="1932120" cy="655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aec86">
                    <a:alpha val="0"/>
                  </a:srgbClr>
                </a:gs>
                <a:gs pos="100000">
                  <a:srgbClr val="ebed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30920" y="2217960"/>
              <a:ext cx="1932120" cy="654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7d5"/>
                </a:gs>
                <a:gs pos="100000">
                  <a:srgbClr val="eaec8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6477120" y="1905120"/>
              <a:ext cx="601560" cy="593640"/>
              <a:chOff x="6477120" y="1905120"/>
              <a:chExt cx="601560" cy="593640"/>
            </a:xfrm>
          </p:grpSpPr>
          <p:sp>
            <p:nvSpPr>
              <p:cNvPr id="399" name=""/>
              <p:cNvSpPr/>
              <p:nvPr/>
            </p:nvSpPr>
            <p:spPr>
              <a:xfrm>
                <a:off x="6477120" y="1905120"/>
                <a:ext cx="601560" cy="5936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483240" y="1909440"/>
                <a:ext cx="581760" cy="574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490440" y="1913040"/>
                <a:ext cx="568080" cy="560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96920" y="1918080"/>
                <a:ext cx="540360" cy="523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528240" y="1932480"/>
                <a:ext cx="479880" cy="425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598080" y="199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53240" y="2610000"/>
              <a:ext cx="1922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91320" y="4827600"/>
              <a:ext cx="2019240" cy="6746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d7d45d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32720" y="4848480"/>
              <a:ext cx="1931760" cy="655560"/>
            </a:xfrm>
            <a:prstGeom prst="roundRect">
              <a:avLst>
                <a:gd name="adj" fmla="val 42856"/>
              </a:avLst>
            </a:prstGeom>
            <a:gradFill rotWithShape="0">
              <a:gsLst>
                <a:gs pos="0">
                  <a:srgbClr val="fafdc7"/>
                </a:gs>
                <a:gs pos="100000">
                  <a:srgbClr val="f0f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41200" y="3238560"/>
            <a:ext cx="8664840" cy="142560"/>
            <a:chOff x="241200" y="3238560"/>
            <a:chExt cx="8664840" cy="142560"/>
          </a:xfrm>
        </p:grpSpPr>
        <p:sp>
          <p:nvSpPr>
            <p:cNvPr id="410" name=""/>
            <p:cNvSpPr/>
            <p:nvPr/>
          </p:nvSpPr>
          <p:spPr>
            <a:xfrm>
              <a:off x="241200" y="3238560"/>
              <a:ext cx="8664840" cy="558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200" y="3293280"/>
              <a:ext cx="8664840" cy="878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13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14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17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26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1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2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35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3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48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49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52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5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61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66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67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0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79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3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f9e3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098360" y="2031840"/>
            <a:ext cx="6056640" cy="407880"/>
            <a:chOff x="1098360" y="2031840"/>
            <a:chExt cx="6056640" cy="407880"/>
          </a:xfrm>
        </p:grpSpPr>
        <p:sp>
          <p:nvSpPr>
            <p:cNvPr id="492" name=""/>
            <p:cNvSpPr/>
            <p:nvPr/>
          </p:nvSpPr>
          <p:spPr>
            <a:xfrm>
              <a:off x="109836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26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98640" y="20714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88920" y="203184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92" idx="3"/>
              <a:endCxn id="493" idx="1"/>
            </p:cNvCxnSpPr>
            <p:nvPr/>
          </p:nvCxnSpPr>
          <p:spPr>
            <a:xfrm>
              <a:off x="1834560" y="225540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3" idx="3"/>
              <a:endCxn id="494" idx="1"/>
            </p:cNvCxnSpPr>
            <p:nvPr/>
          </p:nvCxnSpPr>
          <p:spPr>
            <a:xfrm>
              <a:off x="3589200" y="225540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8" name=""/>
            <p:cNvCxnSpPr/>
            <p:nvPr/>
          </p:nvCxnSpPr>
          <p:spPr>
            <a:xfrm>
              <a:off x="5335560" y="226008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676520" y="1676520"/>
            <a:ext cx="5715000" cy="1197000"/>
            <a:chOff x="1676520" y="1676520"/>
            <a:chExt cx="5715000" cy="1197000"/>
          </a:xfrm>
        </p:grpSpPr>
        <p:sp>
          <p:nvSpPr>
            <p:cNvPr id="501" name=""/>
            <p:cNvSpPr/>
            <p:nvPr/>
          </p:nvSpPr>
          <p:spPr>
            <a:xfrm>
              <a:off x="1676520" y="1676520"/>
              <a:ext cx="5715000" cy="1197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801080" y="1786320"/>
              <a:ext cx="1101240" cy="978840"/>
              <a:chOff x="1801080" y="1786320"/>
              <a:chExt cx="1101240" cy="978840"/>
            </a:xfrm>
          </p:grpSpPr>
          <p:sp>
            <p:nvSpPr>
              <p:cNvPr id="503" name=""/>
              <p:cNvSpPr/>
              <p:nvPr/>
            </p:nvSpPr>
            <p:spPr>
              <a:xfrm>
                <a:off x="1801080" y="1786320"/>
                <a:ext cx="1101240" cy="978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5cbc7"/>
                  </a:gs>
                  <a:gs pos="100000">
                    <a:srgbClr val="518d8a"/>
                  </a:gs>
                </a:gsLst>
                <a:lin ang="5400000"/>
              </a:gradFill>
              <a:ln w="3816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>
                <a:off x="1869840" y="1849320"/>
                <a:ext cx="549000" cy="4888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e1df"/>
                  </a:gs>
                  <a:gs pos="50000">
                    <a:srgbClr val="75cbc7">
                      <a:alpha val="0"/>
                    </a:srgbClr>
                  </a:gs>
                  <a:gs pos="100000">
                    <a:srgbClr val="b3e1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13760" y="20523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3052080" y="1862640"/>
              <a:ext cx="420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1676520" y="3124080"/>
            <a:ext cx="5715000" cy="1197000"/>
            <a:chOff x="1676520" y="3124080"/>
            <a:chExt cx="5715000" cy="1197000"/>
          </a:xfrm>
        </p:grpSpPr>
        <p:sp>
          <p:nvSpPr>
            <p:cNvPr id="508" name=""/>
            <p:cNvSpPr/>
            <p:nvPr/>
          </p:nvSpPr>
          <p:spPr>
            <a:xfrm>
              <a:off x="1676520" y="3124080"/>
              <a:ext cx="5715000" cy="1197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1801080" y="3233880"/>
              <a:ext cx="1101240" cy="978840"/>
              <a:chOff x="1801080" y="3233880"/>
              <a:chExt cx="1101240" cy="978840"/>
            </a:xfrm>
          </p:grpSpPr>
          <p:sp>
            <p:nvSpPr>
              <p:cNvPr id="510" name=""/>
              <p:cNvSpPr/>
              <p:nvPr/>
            </p:nvSpPr>
            <p:spPr>
              <a:xfrm>
                <a:off x="1801080" y="3233880"/>
                <a:ext cx="1101240" cy="978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f8f6a"/>
                  </a:gs>
                  <a:gs pos="100000">
                    <a:srgbClr val="666633"/>
                  </a:gs>
                </a:gsLst>
                <a:lin ang="5400000"/>
              </a:gradFill>
              <a:ln w="3816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未知"/>
              <p:cNvSpPr/>
              <p:nvPr/>
            </p:nvSpPr>
            <p:spPr>
              <a:xfrm>
                <a:off x="1869840" y="3296880"/>
                <a:ext cx="549000" cy="4888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33">
                      <a:alpha val="0"/>
                    </a:srgbClr>
                  </a:gs>
                  <a:gs pos="100000">
                    <a:srgbClr val="bdbda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913760" y="35013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3052080" y="3287880"/>
              <a:ext cx="420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676520" y="4664160"/>
            <a:ext cx="5715000" cy="1197000"/>
            <a:chOff x="1676520" y="4664160"/>
            <a:chExt cx="5715000" cy="1197000"/>
          </a:xfrm>
        </p:grpSpPr>
        <p:sp>
          <p:nvSpPr>
            <p:cNvPr id="515" name=""/>
            <p:cNvSpPr/>
            <p:nvPr/>
          </p:nvSpPr>
          <p:spPr>
            <a:xfrm>
              <a:off x="1676520" y="4664160"/>
              <a:ext cx="5715000" cy="1197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801080" y="4773960"/>
              <a:ext cx="1101240" cy="978840"/>
              <a:chOff x="1801080" y="4773960"/>
              <a:chExt cx="1101240" cy="978840"/>
            </a:xfrm>
          </p:grpSpPr>
          <p:sp>
            <p:nvSpPr>
              <p:cNvPr id="517" name=""/>
              <p:cNvSpPr/>
              <p:nvPr/>
            </p:nvSpPr>
            <p:spPr>
              <a:xfrm>
                <a:off x="1801080" y="4773960"/>
                <a:ext cx="1101240" cy="9788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ebd5c"/>
                  </a:gs>
                  <a:gs pos="100000">
                    <a:srgbClr val="ff9900"/>
                  </a:gs>
                </a:gsLst>
                <a:lin ang="5400000"/>
              </a:gradFill>
              <a:ln w="3816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未知"/>
              <p:cNvSpPr/>
              <p:nvPr/>
            </p:nvSpPr>
            <p:spPr>
              <a:xfrm>
                <a:off x="1869840" y="4836960"/>
                <a:ext cx="549000" cy="4888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>
                      <a:alpha val="0"/>
                    </a:srgbClr>
                  </a:gs>
                  <a:gs pos="100000">
                    <a:srgbClr val="fecc8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913760" y="50414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3052080" y="4827960"/>
              <a:ext cx="4201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3256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836960" y="32814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154320" y="328140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32814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508760" y="1711080"/>
            <a:ext cx="6214680" cy="1324080"/>
            <a:chOff x="1508760" y="1711080"/>
            <a:chExt cx="6214680" cy="1324080"/>
          </a:xfrm>
        </p:grpSpPr>
        <p:sp>
          <p:nvSpPr>
            <p:cNvPr id="527" name=""/>
            <p:cNvSpPr/>
            <p:nvPr/>
          </p:nvSpPr>
          <p:spPr>
            <a:xfrm rot="3418800">
              <a:off x="1716840" y="19184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f2f1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2639520" y="2092320"/>
              <a:ext cx="901080" cy="124200"/>
              <a:chOff x="2639520" y="2092320"/>
              <a:chExt cx="901080" cy="124200"/>
            </a:xfrm>
          </p:grpSpPr>
          <p:sp>
            <p:nvSpPr>
              <p:cNvPr id="529" name=""/>
              <p:cNvSpPr/>
              <p:nvPr/>
            </p:nvSpPr>
            <p:spPr>
              <a:xfrm>
                <a:off x="263952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725920" y="209304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340416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1260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47688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 rot="3418800">
              <a:off x="3381480" y="1856160"/>
              <a:ext cx="873720" cy="970920"/>
            </a:xfrm>
            <a:prstGeom prst="rect">
              <a:avLst/>
            </a:prstGeom>
            <a:solidFill>
              <a:srgbClr val="75cb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4304160" y="2092320"/>
              <a:ext cx="901080" cy="124200"/>
              <a:chOff x="4304160" y="2092320"/>
              <a:chExt cx="901080" cy="124200"/>
            </a:xfrm>
          </p:grpSpPr>
          <p:sp>
            <p:nvSpPr>
              <p:cNvPr id="535" name=""/>
              <p:cNvSpPr/>
              <p:nvPr/>
            </p:nvSpPr>
            <p:spPr>
              <a:xfrm>
                <a:off x="4304160" y="20923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390560" y="209304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068800" y="20941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1260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141520" y="21330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 rot="3418800">
              <a:off x="4976640" y="185616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f2f1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" name=""/>
            <p:cNvGrpSpPr/>
            <p:nvPr/>
          </p:nvGrpSpPr>
          <p:grpSpPr>
            <a:xfrm>
              <a:off x="5968800" y="2092320"/>
              <a:ext cx="1178280" cy="124200"/>
              <a:chOff x="5968800" y="2092320"/>
              <a:chExt cx="1178280" cy="124200"/>
            </a:xfrm>
          </p:grpSpPr>
          <p:sp>
            <p:nvSpPr>
              <p:cNvPr id="541" name=""/>
              <p:cNvSpPr/>
              <p:nvPr/>
            </p:nvSpPr>
            <p:spPr>
              <a:xfrm>
                <a:off x="5968800" y="20923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81840" y="209304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68520" y="20941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1260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063920" y="21330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6e7268"/>
                  </a:gs>
                  <a:gs pos="50000">
                    <a:srgbClr val="f0f9e3"/>
                  </a:gs>
                  <a:gs pos="100000">
                    <a:srgbClr val="6e72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 rot="3418800">
              <a:off x="6641280" y="1856160"/>
              <a:ext cx="873720" cy="970920"/>
            </a:xfrm>
            <a:prstGeom prst="rect">
              <a:avLst/>
            </a:prstGeom>
            <a:solidFill>
              <a:srgbClr val="75cbc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18234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5190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0652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60800" y="2206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0f9e3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298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5236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1928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14520" y="34988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711440" y="2271600"/>
          <a:ext cx="6400800" cy="2971800"/>
        </p:xfrm>
        <a:graphic>
          <a:graphicData uri="http://schemas.openxmlformats.org/drawingml/2006/table">
            <a:tbl>
              <a:tblPr/>
              <a:tblGrid>
                <a:gridCol w="1442880"/>
                <a:gridCol w="1009800"/>
                <a:gridCol w="985680"/>
                <a:gridCol w="986040"/>
                <a:gridCol w="988920"/>
                <a:gridCol w="987480"/>
              </a:tblGrid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cbc7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d8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3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9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56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1133280" y="1405080"/>
            <a:ext cx="6701040" cy="4630680"/>
            <a:chOff x="1133280" y="1405080"/>
            <a:chExt cx="6701040" cy="4630680"/>
          </a:xfrm>
        </p:grpSpPr>
        <p:sp>
          <p:nvSpPr>
            <p:cNvPr id="559" name=""/>
            <p:cNvSpPr/>
            <p:nvPr/>
          </p:nvSpPr>
          <p:spPr>
            <a:xfrm>
              <a:off x="2189160" y="4453920"/>
              <a:ext cx="5205240" cy="1184400"/>
            </a:xfrm>
            <a:prstGeom prst="ellipse">
              <a:avLst/>
            </a:prstGeom>
            <a:solidFill>
              <a:srgbClr val="777777">
                <a:alpha val="2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01600">
              <a:off x="1458360" y="2398320"/>
              <a:ext cx="5623200" cy="289260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1514160" y="2243160"/>
              <a:ext cx="5428080" cy="280296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01600">
              <a:off x="1429200" y="2236320"/>
              <a:ext cx="5563440" cy="280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 rot="20602200">
              <a:off x="1410480" y="2251800"/>
              <a:ext cx="5613480" cy="276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01600">
              <a:off x="1436400" y="2243880"/>
              <a:ext cx="5541480" cy="271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rot="20602200">
              <a:off x="1418040" y="2241000"/>
              <a:ext cx="5561640" cy="270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01600">
              <a:off x="2939400" y="2927880"/>
              <a:ext cx="2630160" cy="1284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61160" y="31413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20200" y="22644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57480" y="2702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6181560" y="3214440"/>
              <a:ext cx="1264320" cy="16412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539200">
              <a:off x="1438200" y="2264760"/>
              <a:ext cx="6106680" cy="2856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未知"/>
            <p:cNvSpPr/>
            <p:nvPr/>
          </p:nvSpPr>
          <p:spPr>
            <a:xfrm>
              <a:off x="4522320" y="3675960"/>
              <a:ext cx="1716480" cy="118584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57480" y="36529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47120" y="43837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188440" y="42375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01600">
              <a:off x="3038400" y="3170160"/>
              <a:ext cx="2523240" cy="1045800"/>
            </a:xfrm>
            <a:prstGeom prst="ellipse">
              <a:avLst/>
            </a:prstGeom>
            <a:solidFill>
              <a:srgbClr val="f0f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未知"/>
            <p:cNvSpPr/>
            <p:nvPr/>
          </p:nvSpPr>
          <p:spPr>
            <a:xfrm>
              <a:off x="4694400" y="4055040"/>
              <a:ext cx="1251720" cy="98640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599840" y="1752480"/>
            <a:ext cx="3747960" cy="3874680"/>
            <a:chOff x="1599840" y="1752480"/>
            <a:chExt cx="3747960" cy="3874680"/>
          </a:xfrm>
        </p:grpSpPr>
        <p:sp>
          <p:nvSpPr>
            <p:cNvPr id="580" name=""/>
            <p:cNvSpPr/>
            <p:nvPr/>
          </p:nvSpPr>
          <p:spPr>
            <a:xfrm flipH="1">
              <a:off x="1599840" y="5626080"/>
              <a:ext cx="166068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1599840" y="4845600"/>
              <a:ext cx="214236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1600200" y="4035960"/>
              <a:ext cx="251640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600200" y="3238560"/>
              <a:ext cx="294480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600200" y="2436840"/>
              <a:ext cx="337248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1599840" y="1752480"/>
              <a:ext cx="3747960" cy="108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13320" y="1752480"/>
              <a:ext cx="1440" cy="6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13320" y="2436840"/>
              <a:ext cx="144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13320" y="3246120"/>
              <a:ext cx="144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13320" y="4055760"/>
              <a:ext cx="1440" cy="80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13320" y="4865400"/>
              <a:ext cx="1440" cy="74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865520" y="194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865520" y="2734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65520" y="35240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65520" y="43171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65520" y="5106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3348000" y="1752480"/>
            <a:ext cx="4549320" cy="3878280"/>
            <a:chOff x="3348000" y="1752480"/>
            <a:chExt cx="4549320" cy="3878280"/>
          </a:xfrm>
        </p:grpSpPr>
        <p:sp>
          <p:nvSpPr>
            <p:cNvPr id="597" name="未知"/>
            <p:cNvSpPr/>
            <p:nvPr/>
          </p:nvSpPr>
          <p:spPr>
            <a:xfrm>
              <a:off x="7095240" y="4440240"/>
              <a:ext cx="802080" cy="11887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46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未知"/>
            <p:cNvSpPr/>
            <p:nvPr/>
          </p:nvSpPr>
          <p:spPr>
            <a:xfrm>
              <a:off x="3711240" y="4440240"/>
              <a:ext cx="3738960" cy="50652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040a1"/>
                </a:gs>
                <a:gs pos="100000">
                  <a:srgbClr val="66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未知"/>
            <p:cNvSpPr/>
            <p:nvPr/>
          </p:nvSpPr>
          <p:spPr>
            <a:xfrm>
              <a:off x="3348000" y="4944600"/>
              <a:ext cx="4127400" cy="686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6666ff"/>
                </a:gs>
                <a:gs pos="100000">
                  <a:srgbClr val="989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未知"/>
            <p:cNvSpPr/>
            <p:nvPr/>
          </p:nvSpPr>
          <p:spPr>
            <a:xfrm>
              <a:off x="6676200" y="3767760"/>
              <a:ext cx="709200" cy="107640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94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136400" y="3767760"/>
              <a:ext cx="2808720" cy="37908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5a43"/>
                </a:gs>
                <a:gs pos="100000">
                  <a:srgbClr val="00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>
              <a:off x="3780720" y="4145400"/>
              <a:ext cx="3260880" cy="69876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85e5c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6257160" y="3102120"/>
              <a:ext cx="620640" cy="93492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b1790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>
              <a:off x="4558680" y="3102120"/>
              <a:ext cx="1875240" cy="25236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734e05"/>
                </a:gs>
                <a:gs pos="100000">
                  <a:srgbClr val="f4a70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未知"/>
            <p:cNvSpPr/>
            <p:nvPr/>
          </p:nvSpPr>
          <p:spPr>
            <a:xfrm>
              <a:off x="4197600" y="3353040"/>
              <a:ext cx="2426400" cy="68364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f8d4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5833440" y="2426400"/>
              <a:ext cx="534240" cy="81396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9938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未知"/>
            <p:cNvSpPr/>
            <p:nvPr/>
          </p:nvSpPr>
          <p:spPr>
            <a:xfrm>
              <a:off x="4988520" y="2426400"/>
              <a:ext cx="935640" cy="12204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622481"/>
                </a:gs>
                <a:gs pos="100000">
                  <a:srgbClr val="c247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未知"/>
            <p:cNvSpPr/>
            <p:nvPr/>
          </p:nvSpPr>
          <p:spPr>
            <a:xfrm>
              <a:off x="4620240" y="2547000"/>
              <a:ext cx="1580040" cy="69300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dfa2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未知"/>
            <p:cNvSpPr/>
            <p:nvPr/>
          </p:nvSpPr>
          <p:spPr>
            <a:xfrm>
              <a:off x="5406480" y="1752480"/>
              <a:ext cx="451440" cy="6890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5040360" y="1752480"/>
              <a:ext cx="732600" cy="6890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9dc4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46920" y="21186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46920" y="2845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46920" y="36345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46920" y="44254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46920" y="521640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33720" y="2133720"/>
            <a:ext cx="4724280" cy="685800"/>
            <a:chOff x="2133720" y="2133720"/>
            <a:chExt cx="4724280" cy="685800"/>
          </a:xfrm>
        </p:grpSpPr>
        <p:sp>
          <p:nvSpPr>
            <p:cNvPr id="100" name=""/>
            <p:cNvSpPr/>
            <p:nvPr/>
          </p:nvSpPr>
          <p:spPr>
            <a:xfrm>
              <a:off x="2514600" y="22528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d88a"/>
                </a:gs>
                <a:gs pos="50000">
                  <a:srgbClr val="f1f5e5"/>
                </a:gs>
                <a:gs pos="100000">
                  <a:srgbClr val="c4d88a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33720" y="2133720"/>
              <a:ext cx="685800" cy="685800"/>
            </a:xfrm>
            <a:prstGeom prst="diamond">
              <a:avLst/>
            </a:prstGeom>
            <a:solidFill>
              <a:srgbClr val="c4d88a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3200" y="2308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9600" y="2232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133720" y="2971800"/>
            <a:ext cx="4724280" cy="685800"/>
            <a:chOff x="2133720" y="297180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14600" y="30909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cbc7"/>
                </a:gs>
                <a:gs pos="50000">
                  <a:srgbClr val="e0f3f2"/>
                </a:gs>
                <a:gs pos="100000">
                  <a:srgbClr val="75cbc7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3720" y="2971800"/>
              <a:ext cx="685800" cy="685800"/>
            </a:xfrm>
            <a:prstGeom prst="diamond">
              <a:avLst/>
            </a:prstGeom>
            <a:solidFill>
              <a:srgbClr val="75cbc7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31464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89600" y="3070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133720" y="3809880"/>
            <a:ext cx="4724280" cy="685800"/>
            <a:chOff x="2133720" y="3809880"/>
            <a:chExt cx="4724280" cy="685800"/>
          </a:xfrm>
        </p:grpSpPr>
        <p:sp>
          <p:nvSpPr>
            <p:cNvPr id="110" name=""/>
            <p:cNvSpPr/>
            <p:nvPr/>
          </p:nvSpPr>
          <p:spPr>
            <a:xfrm>
              <a:off x="25146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6633"/>
                </a:gs>
                <a:gs pos="50000">
                  <a:srgbClr val="ddddd2"/>
                </a:gs>
                <a:gs pos="100000">
                  <a:srgbClr val="666633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3809880"/>
              <a:ext cx="685800" cy="685800"/>
            </a:xfrm>
            <a:prstGeom prst="diamond">
              <a:avLst/>
            </a:prstGeom>
            <a:solidFill>
              <a:srgbClr val="666633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3200" y="39844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89600" y="3908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33720" y="4724280"/>
            <a:ext cx="4724280" cy="685800"/>
            <a:chOff x="2133720" y="4724280"/>
            <a:chExt cx="4724280" cy="685800"/>
          </a:xfrm>
        </p:grpSpPr>
        <p:sp>
          <p:nvSpPr>
            <p:cNvPr id="115" name=""/>
            <p:cNvSpPr/>
            <p:nvPr/>
          </p:nvSpPr>
          <p:spPr>
            <a:xfrm>
              <a:off x="2514600" y="4843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5400000"/>
            </a:gradFill>
            <a:ln w="1260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3720" y="4724280"/>
              <a:ext cx="685800" cy="685800"/>
            </a:xfrm>
            <a:prstGeom prst="diamond">
              <a:avLst/>
            </a:prstGeom>
            <a:solidFill>
              <a:srgbClr val="ff9900"/>
            </a:solidFill>
            <a:ln w="25560">
              <a:solidFill>
                <a:srgbClr val="f0f9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4898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9600" y="48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9e3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0f9e3"/>
            </a:gs>
            <a:gs pos="100000">
              <a:srgbClr val="fafc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2209680" y="3429000"/>
            <a:ext cx="4876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5cbc7"/>
                    </a:gs>
                    <a:gs pos="100000">
                      <a:srgbClr val="666633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5cbc7"/>
                  </a:gs>
                  <a:gs pos="100000">
                    <a:srgbClr val="666633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800600" y="1676160"/>
            <a:ext cx="4038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18" name=""/>
          <p:cNvSpPr/>
          <p:nvPr/>
        </p:nvSpPr>
        <p:spPr>
          <a:xfrm>
            <a:off x="18975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6633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590840"/>
            <a:ext cx="725976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[Image information in product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– CD : Medicine Today  (PhotoDis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 extract the image for any other u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8e5b3"/>
              </a:gs>
              <a:gs pos="100000">
                <a:srgbClr val="c4d88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cdbd"/>
              </a:gs>
              <a:gs pos="100000">
                <a:srgbClr val="6666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28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29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13118"/>
                  </a:gs>
                  <a:gs pos="100000">
                    <a:srgbClr val="66663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666633"/>
                  </a:gs>
                  <a:gs pos="100000">
                    <a:srgbClr val="babaa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5cbc7"/>
                </a:gs>
                <a:gs pos="100000">
                  <a:srgbClr val="355d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eebea"/>
                </a:gs>
                <a:gs pos="100000">
                  <a:srgbClr val="75cbc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75cbc7">
                    <a:alpha val="48235"/>
                  </a:srgbClr>
                </a:gs>
                <a:gs pos="100000">
                  <a:srgbClr val="5ca0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75cbc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9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d5d5d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66633"/>
                </a:gs>
                <a:gs pos="100000">
                  <a:srgbClr val="2323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75cbc7"/>
                </a:gs>
                <a:gs pos="100000">
                  <a:srgbClr val="243f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4d88a"/>
                </a:gs>
                <a:gs pos="100000">
                  <a:srgbClr val="454c3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2a2a2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5734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6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363636">
                    <a:alpha val="12156"/>
                  </a:srgbClr>
                </a:gs>
                <a:gs pos="100000">
                  <a:srgbClr val="7777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36363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777777"/>
                </a:gs>
                <a:gs pos="100000">
                  <a:srgbClr val="a7a7a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a7a7a7">
                    <a:alpha val="12156"/>
                  </a:srgbClr>
                </a:gs>
                <a:gs pos="100000">
                  <a:srgbClr val="7777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7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8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0f9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66633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361b"/>
                  </a:gs>
                  <a:gs pos="50000">
                    <a:srgbClr val="666633"/>
                  </a:gs>
                  <a:gs pos="100000">
                    <a:srgbClr val="36361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0f9e3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0f9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0f9e3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6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a633f"/>
                </a:gs>
                <a:gs pos="50000">
                  <a:srgbClr val="c4d88a"/>
                </a:gs>
                <a:gs pos="100000">
                  <a:srgbClr val="5a633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c4d8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f2f17"/>
                </a:gs>
                <a:gs pos="50000">
                  <a:srgbClr val="666633"/>
                </a:gs>
                <a:gs pos="100000">
                  <a:srgbClr val="2f2f1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66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754600"/>
                </a:gs>
                <a:gs pos="50000">
                  <a:srgbClr val="ff9900"/>
                </a:gs>
                <a:gs pos="100000">
                  <a:srgbClr val="7546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355d5b"/>
                </a:gs>
                <a:gs pos="50000">
                  <a:srgbClr val="75cbc7"/>
                </a:gs>
                <a:gs pos="100000">
                  <a:srgbClr val="355d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75cb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8d9c63"/>
                </a:gs>
                <a:gs pos="50000">
                  <a:srgbClr val="c4d88a"/>
                </a:gs>
                <a:gs pos="100000">
                  <a:srgbClr val="8d9c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94924"/>
                </a:gs>
                <a:gs pos="50000">
                  <a:srgbClr val="666633"/>
                </a:gs>
                <a:gs pos="100000">
                  <a:srgbClr val="49492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b86e00"/>
                </a:gs>
                <a:gs pos="50000">
                  <a:srgbClr val="ff9900"/>
                </a:gs>
                <a:gs pos="100000">
                  <a:srgbClr val="b86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54928f"/>
                </a:gs>
                <a:gs pos="50000">
                  <a:srgbClr val="75cbc7"/>
                </a:gs>
                <a:gs pos="100000">
                  <a:srgbClr val="54928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9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未知"/>
          <p:cNvSpPr/>
          <p:nvPr/>
        </p:nvSpPr>
        <p:spPr>
          <a:xfrm>
            <a:off x="5073480" y="1523880"/>
            <a:ext cx="1467000" cy="11559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666633"/>
              </a:gs>
              <a:gs pos="100000">
                <a:srgbClr val="737345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4320" y="2957400"/>
            <a:ext cx="2295360" cy="275760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2757600"/>
              <a:gd name="textAreaBottom" fmla="*/ 2726280 h 2757600"/>
            </a:gdLst>
            <a:ahLst/>
            <a:rect l="textAreaLeft" t="textAreaTop" r="textAreaRight" b="textAreaBottom"/>
            <a:pathLst>
              <a:path w="21600" h="25949">
                <a:moveTo>
                  <a:pt x="1013" y="0"/>
                </a:moveTo>
                <a:arcTo wR="1013" hR="1013" stAng="16200000" swAng="-5400000"/>
                <a:lnTo>
                  <a:pt x="0" y="24936"/>
                </a:lnTo>
                <a:arcTo wR="1013" hR="1013" stAng="10800000" swAng="-5400000"/>
                <a:lnTo>
                  <a:pt x="20587" y="2594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c4d8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281952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633f"/>
              </a:gs>
              <a:gs pos="50000">
                <a:srgbClr val="c4d88a"/>
              </a:gs>
              <a:gs pos="100000">
                <a:srgbClr val="5a63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333400" y="2895480"/>
            <a:ext cx="73080" cy="1447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742560" y="2886120"/>
            <a:ext cx="71640" cy="14436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34240" y="2455920"/>
            <a:ext cx="2295360" cy="2757600"/>
          </a:xfrm>
          <a:custGeom>
            <a:avLst/>
            <a:gdLst>
              <a:gd name="textAreaLeft" fmla="*/ 31320 w 2295360"/>
              <a:gd name="textAreaRight" fmla="*/ 2264040 w 2295360"/>
              <a:gd name="textAreaTop" fmla="*/ 31320 h 2757600"/>
              <a:gd name="textAreaBottom" fmla="*/ 2726280 h 2757600"/>
            </a:gdLst>
            <a:ahLst/>
            <a:rect l="textAreaLeft" t="textAreaTop" r="textAreaRight" b="textAreaBottom"/>
            <a:pathLst>
              <a:path w="21600" h="25949">
                <a:moveTo>
                  <a:pt x="1013" y="0"/>
                </a:moveTo>
                <a:arcTo wR="1013" hR="1013" stAng="16200000" swAng="-5400000"/>
                <a:lnTo>
                  <a:pt x="0" y="24936"/>
                </a:lnTo>
                <a:arcTo wR="1013" hR="1013" stAng="10800000" swAng="-5400000"/>
                <a:lnTo>
                  <a:pt x="20587" y="25949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noFill/>
          <a:ln w="57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149880" y="2313000"/>
            <a:ext cx="1863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2f17"/>
              </a:gs>
              <a:gs pos="50000">
                <a:srgbClr val="666633"/>
              </a:gs>
              <a:gs pos="100000">
                <a:srgbClr val="2f2f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7835040" y="2384280"/>
            <a:ext cx="7164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253200" y="2384280"/>
            <a:ext cx="71280" cy="142920"/>
          </a:xfrm>
          <a:prstGeom prst="octagon">
            <a:avLst>
              <a:gd name="adj" fmla="val 29287"/>
            </a:avLst>
          </a:prstGeom>
          <a:solidFill>
            <a:srgbClr val="f0f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未知"/>
          <p:cNvSpPr/>
          <p:nvPr/>
        </p:nvSpPr>
        <p:spPr>
          <a:xfrm>
            <a:off x="2492280" y="2025720"/>
            <a:ext cx="1467000" cy="115704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fec36b">
                  <a:alpha val="3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13200" y="279072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0f9e3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427800" y="22953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d Your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3219480"/>
            <a:ext cx="2295360" cy="2903040"/>
            <a:chOff x="914400" y="3219480"/>
            <a:chExt cx="2295360" cy="2903040"/>
          </a:xfrm>
        </p:grpSpPr>
        <p:sp>
          <p:nvSpPr>
            <p:cNvPr id="243" name=""/>
            <p:cNvSpPr/>
            <p:nvPr/>
          </p:nvSpPr>
          <p:spPr>
            <a:xfrm>
              <a:off x="914400" y="3366000"/>
              <a:ext cx="2295360" cy="275652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2756520"/>
                <a:gd name="textAreaBottom" fmla="*/ 2725200 h 2756520"/>
              </a:gdLst>
              <a:ahLst/>
              <a:rect l="textAreaLeft" t="textAreaTop" r="textAreaRight" b="textAreaBottom"/>
              <a:pathLst>
                <a:path w="21600" h="25939">
                  <a:moveTo>
                    <a:pt x="1013" y="0"/>
                  </a:moveTo>
                  <a:arcTo wR="1013" hR="1013" stAng="16200000" swAng="-5400000"/>
                  <a:lnTo>
                    <a:pt x="0" y="24926"/>
                  </a:lnTo>
                  <a:arcTo wR="1013" hR="1013" stAng="10800000" swAng="-5400000"/>
                  <a:lnTo>
                    <a:pt x="20587" y="25939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30400" y="3241800"/>
              <a:ext cx="1863720" cy="250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23b00"/>
                </a:gs>
                <a:gs pos="50000">
                  <a:srgbClr val="ff9900"/>
                </a:gs>
                <a:gs pos="100000">
                  <a:srgbClr val="62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813760" y="3303720"/>
              <a:ext cx="71640" cy="126000"/>
            </a:xfrm>
            <a:prstGeom prst="octagon">
              <a:avLst>
                <a:gd name="adj" fmla="val 29287"/>
              </a:avLst>
            </a:prstGeom>
            <a:solidFill>
              <a:srgbClr val="f0f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231200" y="3303720"/>
              <a:ext cx="73080" cy="126000"/>
            </a:xfrm>
            <a:prstGeom prst="octagon">
              <a:avLst>
                <a:gd name="adj" fmla="val 29287"/>
              </a:avLst>
            </a:prstGeom>
            <a:solidFill>
              <a:srgbClr val="f0f9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98600" y="32194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0f9e3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90720" y="359388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505320" y="319104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2657520"/>
            <a:ext cx="213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29:23Z</dcterms:created>
  <dc:creator>Sung Ha, Park</dc:creator>
  <dc:description/>
  <dc:language>en-US</dc:language>
  <cp:lastModifiedBy>微软用户</cp:lastModifiedBy>
  <dcterms:modified xsi:type="dcterms:W3CDTF">2014-05-28T06:17:04Z</dcterms:modified>
  <cp:revision>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