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5.jpeg" ContentType="image/jpeg"/>
  <Override PartName="/ppt/media/image35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3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450-AA43-4AC4-BAEE-E2E72D82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66680" y="474768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C878-0F76-4643-8542-3FBCD932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314136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680" y="474768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9360" y="474768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FBA-6E39-4372-B3D3-AE78FCB9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25023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4680" y="3141360"/>
            <a:ext cx="25023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2320" y="3141360"/>
            <a:ext cx="25023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66680" y="4747680"/>
            <a:ext cx="25023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4680" y="4747680"/>
            <a:ext cx="25023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2320" y="4747680"/>
            <a:ext cx="25023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6356-9533-441E-82D5-9BADCE16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E66E-DB45-4508-A568-B1BA44E6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680" y="3141360"/>
            <a:ext cx="7772400" cy="30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CB86-F6BD-4DF8-835E-189161ED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777240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30ED-FB0D-47CD-B95A-6DACB5F7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379260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3141360"/>
            <a:ext cx="379260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F3FF-76CE-450D-982E-083D74C8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7640-8FA9-46FD-9D6A-A73F9146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16000" y="169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0322-7C46-4624-96E4-A14118C9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3141360"/>
            <a:ext cx="379260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474768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E3EA-A2E0-44DA-B17A-ECFBD6E8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66680" y="3141360"/>
            <a:ext cx="7772400" cy="30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0B09-2094-49AB-9AA8-A926828A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379260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314136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9360" y="474768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49F0-DB9D-4160-A7D2-500FA3D5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314136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74768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1753-5340-4F8C-ABCC-EEDDD705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680" y="474768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B8EF-C505-4455-AE62-50050FB8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314136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474768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9360" y="474768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96ED-89AE-465F-826B-7D6C10DC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25023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94680" y="3141360"/>
            <a:ext cx="25023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2320" y="3141360"/>
            <a:ext cx="25023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680" y="4747680"/>
            <a:ext cx="25023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94680" y="4747680"/>
            <a:ext cx="25023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2320" y="4747680"/>
            <a:ext cx="25023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B1D0-741C-4137-B7D6-03E999BA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777240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9DF4-D30A-4E54-901B-1CE0B283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379260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3141360"/>
            <a:ext cx="379260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6BF-8B5F-4CB4-87C9-BCDFC480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DFDA-EF49-42F6-81F9-63481213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16000" y="169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DBD6-860C-4501-8733-4D24790C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3141360"/>
            <a:ext cx="379260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474768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F02E-A2C6-4DBF-BCBC-7F2100C6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379260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314136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9360" y="474768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B4E6-262A-4879-BF64-304B6E90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314136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74768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C546-8689-4F34-BA87-ECF3AC57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64DD-B2F2-4AB8-B0B5-E897E2BA2CF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3141360"/>
            <a:ext cx="777240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759960" indent="-3369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013760" indent="-168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267200" indent="-168840"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b0a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5"/>
          <a:srcRect l="24811" t="9947" r="16146" b="51738"/>
          <a:stretch/>
        </p:blipFill>
        <p:spPr>
          <a:xfrm>
            <a:off x="5867280" y="0"/>
            <a:ext cx="2627280" cy="77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E31F-39EF-4853-810E-35425735663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7440" y="109440"/>
            <a:ext cx="33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湖南工学院电气与信息工程系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331,3,&#24187;&#28783;&#29255; 3" TargetMode="External"/><Relationship Id="rId2" Type="http://schemas.openxmlformats.org/officeDocument/2006/relationships/hyperlink" Target="269,12,&#23454;&#39564;&#20108;  &#20856;&#22411;&#31995;&#32479;&#30636;&#24577;&#21709;&#24212;&#21644;&#31283;&#23450;&#24615;" TargetMode="External"/><Relationship Id="rId3" Type="http://schemas.openxmlformats.org/officeDocument/2006/relationships/hyperlink" Target="269,12,&#23454;&#39564;&#20108;  &#20856;&#22411;&#31995;&#32479;&#30636;&#24577;&#21709;&#24212;&#21644;&#31283;&#23450;&#24615;" TargetMode="External"/><Relationship Id="rId4" Type="http://schemas.openxmlformats.org/officeDocument/2006/relationships/hyperlink" Target="269,12,&#23454;&#39564;&#20108;  &#20856;&#22411;&#31995;&#32479;&#30636;&#24577;&#21709;&#24212;&#21644;&#31283;&#23450;&#24615;" TargetMode="External"/><Relationship Id="rId5" Type="http://schemas.openxmlformats.org/officeDocument/2006/relationships/hyperlink" Target="282,27,&#23454;&#39564;&#19977; &#25511;&#21046;&#31995;&#32479;&#30340;&#39057;&#29575;&#29305;&#24615; " TargetMode="External"/><Relationship Id="rId6" Type="http://schemas.openxmlformats.org/officeDocument/2006/relationships/hyperlink" Target="295,40,&#23454;&#39564;&#22235; &#32447;&#24615;&#36830;&#32493;&#31995;&#32479;&#26657;&#27491;" TargetMode="External"/><Relationship Id="rId7" Type="http://schemas.openxmlformats.org/officeDocument/2006/relationships/hyperlink" Target="305,50,&#23454;&#39564;&#20116; &#37319;&#26679;&#31995;&#32479;&#20998;&#26512;" TargetMode="External"/><Relationship Id="rId8" Type="http://schemas.openxmlformats.org/officeDocument/2006/relationships/hyperlink" Target="313,65,&#38468;:   &#23454;&#39564;&#31995;&#32479;&#20171;&#32461;" TargetMode="External"/><Relationship Id="rId9" Type="http://schemas.openxmlformats.org/officeDocument/2006/relationships/hyperlink" Target="313,65,&#38468;:   &#23454;&#39564;&#31995;&#32479;&#20171;&#32461;" TargetMode="External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7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a3d7a"/>
                </a:solidFill>
                <a:latin typeface="Times New Roman"/>
              </a:rPr>
              <a:t>自动控制原理实验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4292640"/>
            <a:ext cx="72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湖南工学院电气与信息工程系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罗雪莲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64480" y="6237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836640"/>
            <a:ext cx="84596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5b5249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宋体"/>
              </a:rPr>
              <a:t>）实验操作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按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中的各典型环节的模拟电路图将线接好（先按比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,PID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先不接）。将模拟电路输入端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i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与阶跃信号的输出端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相联接；模拟电路的输出端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0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接至示波器。按下按钮（或松平按扭）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H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时 ，用示波器观测输出端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0(t)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的实际响应曲线，且将结果记下。改变比例参数，重新观测结果。同理得出积分、比例积分、比例微分和惯性环节的实际响应曲线，它们的理想曲线和实际响应曲线见表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-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、观察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PID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环节的响应曲线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此时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i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采用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1  SG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单元的周期性方波信号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单元的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ST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的插针改为与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S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插针用“短路块”短接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S1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波段开关置与“阶跃信号”档，“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OUT”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端的输出电压即为阶跃信号电压，信号周期由波段开关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S1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与电位器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W1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调节，信号幅值由电位器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W1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调节。以信号幅值小、信号周期较长比较适宜）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②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参照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中的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PID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模拟电路图，将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PID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环节搭接好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79400" y="987480"/>
            <a:ext cx="77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③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将①中产生的周期性方波加到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PID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环节的输入端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i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，用示波器观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PID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的输出端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0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，改变电路参数，重新观察并记录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981000"/>
            <a:ext cx="85676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2a3d7a"/>
                </a:solidFill>
                <a:latin typeface="Times New Roman"/>
              </a:rPr>
              <a:t>实验二  典型系统瞬态响应和稳定性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6200" y="2206440"/>
            <a:ext cx="8641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本实验为验证性实验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一、实验目的</a:t>
            </a:r>
            <a:br>
              <a:rPr sz="2400"/>
            </a:b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、熟悉有关二阶系统的特性和模拟仿真方法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、研究二阶系统的两个重要参数阻尼比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ζ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和无阻尼自然频率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ωn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对过渡过程的影响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、研究二阶对象的三种阻尼比下的响应曲线及系统的稳定性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、熟悉劳斯判据，用劳斯判据对三阶系统进行稳定性分析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二、实验设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PC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机一台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TDN-AC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系列教学实验系统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982440"/>
            <a:ext cx="5832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三、实验原理及电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283600" y="645336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返回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42" name=""/>
          <p:cNvSpPr/>
          <p:nvPr/>
        </p:nvSpPr>
        <p:spPr>
          <a:xfrm>
            <a:off x="612720" y="1557360"/>
            <a:ext cx="809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、典型二阶系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①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典型二阶系统的方块图及传递函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-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是典型二阶系统原理方块图，其中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T0=1s,T1=0.1s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K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分别为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757080" y="3286080"/>
            <a:ext cx="7777440" cy="309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23784" b="0"/>
          <a:stretch/>
        </p:blipFill>
        <p:spPr>
          <a:xfrm>
            <a:off x="757080" y="1052640"/>
            <a:ext cx="7272360" cy="53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30160" y="909720"/>
            <a:ext cx="7850160" cy="2735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197160" y="3718080"/>
            <a:ext cx="29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2-2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1400" y="4540320"/>
            <a:ext cx="696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03280" y="4221000"/>
            <a:ext cx="5761080" cy="169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76360" y="3502080"/>
            <a:ext cx="5977080" cy="1942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4360" y="90972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、典型三阶系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09720" y="1728720"/>
            <a:ext cx="668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134136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典型三阶系统的方块图：见图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-3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403280" y="1917720"/>
            <a:ext cx="6408720" cy="165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模拟电路图：见图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-4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283600" y="645336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返回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044720" y="199080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618000" y="462276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2-4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86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1270080"/>
            <a:ext cx="863784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开环传递函数为： </a:t>
            </a:r>
            <a:br>
              <a:rPr sz="2400"/>
            </a:b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其中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K=500/R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 </a:t>
            </a:r>
            <a:br>
              <a:rPr sz="2400"/>
            </a:b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系统的特征方程为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+G(S)H(S)=0 </a:t>
            </a:r>
            <a:br>
              <a:rPr sz="2400"/>
            </a:b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即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S3+12S2+20S+20K=0</a:t>
            </a:r>
            <a:br>
              <a:rPr sz="2400"/>
            </a:b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由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Routh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判据得：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0&lt;K&lt;1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，即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R&gt;41.7KΩ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系统稳定</a:t>
            </a:r>
            <a:br>
              <a:rPr sz="2400"/>
            </a:b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          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K=1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，即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R=41.7 KΩ 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系统临界稳定</a:t>
            </a:r>
            <a:br>
              <a:rPr sz="2400"/>
            </a:b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          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K&gt;1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，即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R&lt;41.7 KΩ 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系统不稳定</a:t>
            </a:r>
            <a:br>
              <a:rPr sz="4000"/>
            </a:b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133800" y="1125360"/>
            <a:ext cx="3311280" cy="86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2560" y="9810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四、实验内容和步骤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12680" y="1646280"/>
            <a:ext cx="7448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．准备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将“信号源单元”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1 SG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的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插针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+5V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插针用“短路块”短接，使运算放大器反馈网络上的场效应管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3DJ6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夹断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．阶跃信号的产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见实验一中的阶跃信号的产生。将阶跃信号加至输入端，调节单次阶跃单元中的电位器，按动按钮，用示波器观察阶跃信号，使其幅值为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3V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．典型二阶系统瞬态性能指标的测试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按图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-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接线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R=10K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用示波器观察系统阶跃响应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，测量并记录超调量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δ%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，峰值时间和调节时间。记录表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中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370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Times New Roman"/>
              </a:rPr>
              <a:t>目  录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6560" y="2060640"/>
            <a:ext cx="82296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仿宋_GB2312"/>
                <a:ea typeface="仿宋_GB2312"/>
                <a:hlinkClick r:id="rId1"/>
              </a:rPr>
              <a:t>实验一  典型环节的模拟研究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仿宋_GB2312"/>
                <a:ea typeface="仿宋_GB2312"/>
                <a:hlinkClick r:id="rId2"/>
              </a:rPr>
              <a:t>实验二 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仿宋_GB2312"/>
                <a:ea typeface="仿宋_GB2312"/>
                <a:hlinkClick r:id="rId3"/>
              </a:rPr>
              <a:t> 典型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仿宋_GB2312"/>
                <a:ea typeface="仿宋_GB2312"/>
                <a:hlinkClick r:id="rId4"/>
              </a:rPr>
              <a:t>系统瞬态响应和稳定性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仿宋_GB2312"/>
                <a:ea typeface="仿宋_GB2312"/>
                <a:hlinkClick r:id="rId5"/>
              </a:rPr>
              <a:t>实验三  控制系统的频率特性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仿宋_GB2312"/>
                <a:ea typeface="仿宋_GB2312"/>
                <a:hlinkClick r:id="rId6"/>
              </a:rPr>
              <a:t>实验四  线性连续系统校正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仿宋_GB2312"/>
                <a:ea typeface="仿宋_GB2312"/>
                <a:hlinkClick r:id="rId7"/>
              </a:rPr>
              <a:t>实验五  采样系统分析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仿宋_GB2312"/>
                <a:ea typeface="仿宋_GB2312"/>
                <a:hlinkClick r:id="rId8"/>
              </a:rPr>
              <a:t>附: 实验系统介绍    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仿宋_GB2312"/>
                <a:ea typeface="仿宋_GB2312"/>
                <a:hlinkClick r:id="rId9"/>
              </a:rPr>
              <a:t>    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78920" y="2276640"/>
            <a:ext cx="86108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4240" y="1152360"/>
            <a:ext cx="725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③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分别按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R=20K;40K;100K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改变系统开环增益，观察相应的阶跃响应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(t)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，测量并记录性能指标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δ(%)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p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S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，及系统的稳定性。并记录测量值和计算值（实验前必须按公式计算出）进行比较。并将实验结果填入表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中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6000" y="105408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表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8064360" cy="44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11280" y="83664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PLC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实验系统接线提示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773360"/>
            <a:ext cx="8458200" cy="45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．交通显示装置模型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交通灯插孔</a:t>
            </a: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TL1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TL3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为一组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TL4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TL6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为一组，其中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交通灯插孔</a:t>
            </a: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TL1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：绿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交通灯插孔</a:t>
            </a: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TL2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：黄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交通灯插孔</a:t>
            </a: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TL3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：红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交通灯插孔</a:t>
            </a: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TL4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：绿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交通灯插孔</a:t>
            </a: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TL5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：黄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交通灯插孔</a:t>
            </a: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TL6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：红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534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四、实验仪器与设备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2637000"/>
            <a:ext cx="86104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EL-PLC-Ⅰ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型可编程控制器实验系统  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、 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EL-PLC-Ⅱ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型可编程控制器实验系统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、计算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FX-20P-E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编程器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283600" y="645336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返回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992240" indent="0" algn="ctr">
              <a:lnSpc>
                <a:spcPct val="13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00"/>
                </a:solidFill>
                <a:latin typeface="Times New Roman"/>
                <a:ea typeface="黑体"/>
              </a:rPr>
              <a:t>实验四   传输实验 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90200" y="449064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（本实验为设计性实验）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一、实验目的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83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10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333300"/>
                </a:solidFill>
                <a:latin typeface="Times New Roman"/>
              </a:rPr>
              <a:t>、掌握用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PLC</a:t>
            </a:r>
            <a:r>
              <a:rPr b="0" lang="zh-CN" sz="4400" spc="-1" strike="noStrike">
                <a:solidFill>
                  <a:srgbClr val="333300"/>
                </a:solidFill>
                <a:latin typeface="Times New Roman"/>
              </a:rPr>
              <a:t>控制传动控制系统的方法；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8276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333300"/>
                </a:solidFill>
                <a:latin typeface="Times New Roman"/>
              </a:rPr>
              <a:t>、熟悉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PLC</a:t>
            </a:r>
            <a:r>
              <a:rPr b="0" lang="zh-CN" sz="4400" spc="-1" strike="noStrike">
                <a:solidFill>
                  <a:srgbClr val="333300"/>
                </a:solidFill>
                <a:latin typeface="Times New Roman"/>
              </a:rPr>
              <a:t>编程技巧及程序调试方法。训练解决工程实际控制问题的能力。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82760" indent="0" algn="just">
              <a:lnSpc>
                <a:spcPct val="10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333300"/>
                </a:solidFill>
                <a:latin typeface="Times New Roman"/>
              </a:rPr>
              <a:t>、掌握传输控制技巧 </a:t>
            </a:r>
            <a:r>
              <a:rPr b="0" lang="zh-CN" sz="4400" spc="-1" strike="noStrike">
                <a:solidFill>
                  <a:srgbClr val="333300"/>
                </a:solidFill>
                <a:latin typeface="宋体"/>
              </a:rPr>
              <a:t>。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8851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二．设计要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141e"/>
                </a:solidFill>
                <a:latin typeface="Times New Roman"/>
              </a:rPr>
              <a:t>用</a:t>
            </a:r>
            <a:r>
              <a:rPr b="0" lang="en-US" sz="2400" spc="-1" strike="noStrike">
                <a:solidFill>
                  <a:srgbClr val="14141e"/>
                </a:solidFill>
                <a:latin typeface="Times New Roman"/>
              </a:rPr>
              <a:t>PLC</a:t>
            </a:r>
            <a:r>
              <a:rPr b="0" lang="zh-CN" sz="2400" spc="-1" strike="noStrike">
                <a:solidFill>
                  <a:srgbClr val="14141e"/>
                </a:solidFill>
                <a:latin typeface="Times New Roman"/>
              </a:rPr>
              <a:t>构成传动控制系统 ，具体要求如下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按启动按钮后，给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S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信号，打开出料仓；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检测各工位，在工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，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秒，传送带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启动（启动传送带的输出端子在仿真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D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）；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工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，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秒，传送带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启动；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工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，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秒，传送带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启动；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当运输料车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S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亮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次以后，关闭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S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当运输料车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S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亮时，表示料车装满，运输带会自动停止，此时应启动声光报警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秒后自动停止报警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另一部料车来时，重复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～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00720" y="981000"/>
            <a:ext cx="536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三、提示：系统工艺要求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PLC</a:t>
            </a:r>
            <a:br>
              <a:rPr sz="2400"/>
            </a:b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实验系统硬件接线如下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19640" y="1628640"/>
            <a:ext cx="374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4141e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．传输装置模型说明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29196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信号</a:t>
            </a:r>
            <a:r>
              <a:rPr b="0" lang="en-US" sz="2000" spc="-1" strike="noStrike">
                <a:solidFill>
                  <a:srgbClr val="14141e"/>
                </a:solidFill>
                <a:latin typeface="Times New Roman"/>
              </a:rPr>
              <a:t>YSS1</a:t>
            </a: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代表工位</a:t>
            </a:r>
            <a:r>
              <a:rPr b="0" lang="en-US" sz="2000" spc="-1" strike="noStrike">
                <a:solidFill>
                  <a:srgbClr val="14141e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29196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信号</a:t>
            </a:r>
            <a:r>
              <a:rPr b="0" lang="en-US" sz="2000" spc="-1" strike="noStrike">
                <a:solidFill>
                  <a:srgbClr val="14141e"/>
                </a:solidFill>
                <a:latin typeface="Times New Roman"/>
              </a:rPr>
              <a:t>YSS2</a:t>
            </a: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代表工位</a:t>
            </a:r>
            <a:r>
              <a:rPr b="0" lang="en-US" sz="2000" spc="-1" strike="noStrike">
                <a:solidFill>
                  <a:srgbClr val="14141e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29196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信号</a:t>
            </a:r>
            <a:r>
              <a:rPr b="0" lang="en-US" sz="2000" spc="-1" strike="noStrike">
                <a:solidFill>
                  <a:srgbClr val="14141e"/>
                </a:solidFill>
                <a:latin typeface="Times New Roman"/>
              </a:rPr>
              <a:t>YSS3</a:t>
            </a: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代表工位</a:t>
            </a:r>
            <a:r>
              <a:rPr b="0" lang="en-US" sz="2000" spc="-1" strike="noStrike">
                <a:solidFill>
                  <a:srgbClr val="14141e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29196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信号</a:t>
            </a:r>
            <a:r>
              <a:rPr b="0" lang="en-US" sz="2000" spc="-1" strike="noStrike">
                <a:solidFill>
                  <a:srgbClr val="14141e"/>
                </a:solidFill>
                <a:latin typeface="Times New Roman"/>
              </a:rPr>
              <a:t>YS3</a:t>
            </a: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代表运输料车装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29196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信号</a:t>
            </a:r>
            <a:r>
              <a:rPr b="0" lang="en-US" sz="2000" spc="-1" strike="noStrike">
                <a:solidFill>
                  <a:srgbClr val="14141e"/>
                </a:solidFill>
                <a:latin typeface="Times New Roman"/>
              </a:rPr>
              <a:t>YS4</a:t>
            </a: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代表传送带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29196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料装入运输料车 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29196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SD2</a:t>
            </a: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代表传送带启动信号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29196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141e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14141e"/>
                </a:solidFill>
                <a:latin typeface="Times New Roman"/>
              </a:rPr>
              <a:t>YSI</a:t>
            </a: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代表开出料仓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2919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141e"/>
                </a:solidFill>
                <a:latin typeface="Times New Roman"/>
              </a:rPr>
              <a:t>LED</a:t>
            </a: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为灯光报警发光管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2919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141e"/>
                </a:solidFill>
                <a:latin typeface="Times New Roman"/>
              </a:rPr>
              <a:t>FMQ</a:t>
            </a: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为报警蜂鸣器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9960" y="1573200"/>
            <a:ext cx="228600" cy="228600"/>
          </a:xfrm>
          <a:prstGeom prst="ellipse">
            <a:avLst/>
          </a:pr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573200"/>
            <a:ext cx="228600" cy="228600"/>
          </a:xfrm>
          <a:prstGeom prst="ellipse">
            <a:avLst/>
          </a:pr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34920" y="1557360"/>
            <a:ext cx="228600" cy="228600"/>
          </a:xfrm>
          <a:prstGeom prst="ellipse">
            <a:avLst/>
          </a:pr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8400" y="1592280"/>
            <a:ext cx="228600" cy="228600"/>
          </a:xfrm>
          <a:prstGeom prst="ellipse">
            <a:avLst/>
          </a:pr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159228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71560" y="1592280"/>
            <a:ext cx="228600" cy="228600"/>
          </a:xfrm>
          <a:prstGeom prst="ellipse">
            <a:avLst/>
          </a:pr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90320" y="11541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SD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2349360"/>
            <a:ext cx="1371600" cy="1371600"/>
          </a:xfrm>
          <a:prstGeom prst="ellipse">
            <a:avLst/>
          </a:prstGeom>
          <a:solidFill>
            <a:srgbClr val="c9ddf1"/>
          </a:solidFill>
          <a:ln cap="rnd" w="12600">
            <a:solidFill>
              <a:srgbClr val="5b524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76520" y="685800"/>
            <a:ext cx="0" cy="5943600"/>
          </a:xfrm>
          <a:prstGeom prst="line">
            <a:avLst/>
          </a:prstGeom>
          <a:ln cap="rnd" w="12600">
            <a:solidFill>
              <a:srgbClr val="5b524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19280" y="616572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传输实验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8360" y="166860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381400" y="939960"/>
            <a:ext cx="1104480" cy="914400"/>
            <a:chOff x="2381400" y="939960"/>
            <a:chExt cx="1104480" cy="914400"/>
          </a:xfrm>
        </p:grpSpPr>
        <p:sp>
          <p:nvSpPr>
            <p:cNvPr id="193" name=""/>
            <p:cNvSpPr/>
            <p:nvPr/>
          </p:nvSpPr>
          <p:spPr>
            <a:xfrm>
              <a:off x="2381400" y="1054440"/>
              <a:ext cx="304920" cy="176040"/>
            </a:xfrm>
            <a:prstGeom prst="line">
              <a:avLst/>
            </a:prstGeom>
            <a:ln cap="sq" w="1908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48160" y="1244880"/>
              <a:ext cx="609480" cy="0"/>
            </a:xfrm>
            <a:prstGeom prst="line">
              <a:avLst/>
            </a:prstGeom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309840" y="939960"/>
              <a:ext cx="176040" cy="304920"/>
            </a:xfrm>
            <a:prstGeom prst="line">
              <a:avLst/>
            </a:prstGeom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48160" y="1244880"/>
              <a:ext cx="0" cy="380880"/>
            </a:xfrm>
            <a:prstGeom prst="line">
              <a:avLst/>
            </a:prstGeom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57640" y="1244880"/>
              <a:ext cx="0" cy="380880"/>
            </a:xfrm>
            <a:prstGeom prst="line">
              <a:avLst/>
            </a:prstGeom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48160" y="1625760"/>
              <a:ext cx="228600" cy="228600"/>
            </a:xfrm>
            <a:prstGeom prst="line">
              <a:avLst/>
            </a:prstGeom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028680" y="1625760"/>
              <a:ext cx="228600" cy="228600"/>
            </a:xfrm>
            <a:prstGeom prst="line">
              <a:avLst/>
            </a:prstGeom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362480" y="3954600"/>
            <a:ext cx="1104480" cy="990000"/>
            <a:chOff x="4362480" y="3954600"/>
            <a:chExt cx="1104480" cy="990000"/>
          </a:xfrm>
        </p:grpSpPr>
        <p:grpSp>
          <p:nvGrpSpPr>
            <p:cNvPr id="201" name=""/>
            <p:cNvGrpSpPr/>
            <p:nvPr/>
          </p:nvGrpSpPr>
          <p:grpSpPr>
            <a:xfrm>
              <a:off x="4362480" y="3954600"/>
              <a:ext cx="1104480" cy="913680"/>
              <a:chOff x="4362480" y="3954600"/>
              <a:chExt cx="1104480" cy="913680"/>
            </a:xfrm>
          </p:grpSpPr>
          <p:sp>
            <p:nvSpPr>
              <p:cNvPr id="202" name=""/>
              <p:cNvSpPr/>
              <p:nvPr/>
            </p:nvSpPr>
            <p:spPr>
              <a:xfrm>
                <a:off x="4362480" y="4068720"/>
                <a:ext cx="304920" cy="175680"/>
              </a:xfrm>
              <a:prstGeom prst="line">
                <a:avLst/>
              </a:prstGeom>
              <a:ln cap="sq" w="1908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9240" y="4259160"/>
                <a:ext cx="609480" cy="0"/>
              </a:xfrm>
              <a:prstGeom prst="line">
                <a:avLst/>
              </a:prstGeom>
              <a:ln cap="sq"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5290920" y="3954600"/>
                <a:ext cx="176040" cy="304560"/>
              </a:xfrm>
              <a:prstGeom prst="line">
                <a:avLst/>
              </a:prstGeom>
              <a:ln cap="sq"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629240" y="4259160"/>
                <a:ext cx="0" cy="380520"/>
              </a:xfrm>
              <a:prstGeom prst="line">
                <a:avLst/>
              </a:prstGeom>
              <a:ln cap="sq"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238720" y="4259160"/>
                <a:ext cx="0" cy="380520"/>
              </a:xfrm>
              <a:prstGeom prst="line">
                <a:avLst/>
              </a:prstGeom>
              <a:ln cap="sq"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629240" y="4640040"/>
                <a:ext cx="228600" cy="228240"/>
              </a:xfrm>
              <a:prstGeom prst="line">
                <a:avLst/>
              </a:prstGeom>
              <a:ln cap="sq"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5009760" y="4640040"/>
                <a:ext cx="228600" cy="228240"/>
              </a:xfrm>
              <a:prstGeom prst="line">
                <a:avLst/>
              </a:prstGeom>
              <a:ln cap="sq"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819680" y="4716360"/>
              <a:ext cx="228600" cy="22824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19680" y="4106520"/>
              <a:ext cx="228600" cy="22824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2990880" y="210672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10672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43480" y="210672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28960" y="212580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2658960"/>
            <a:ext cx="228600" cy="2286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67120" y="2658960"/>
            <a:ext cx="228600" cy="2286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33880" y="2658960"/>
            <a:ext cx="228600" cy="2286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19720" y="2678040"/>
            <a:ext cx="228600" cy="2286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52960" y="3192480"/>
            <a:ext cx="228600" cy="2286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38800" y="3192480"/>
            <a:ext cx="228600" cy="2286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05200" y="3192480"/>
            <a:ext cx="228600" cy="2286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91040" y="3211560"/>
            <a:ext cx="228600" cy="2286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2600" y="3649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仿真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367000" y="907920"/>
            <a:ext cx="1104480" cy="914400"/>
            <a:chOff x="2367000" y="907920"/>
            <a:chExt cx="1104480" cy="914400"/>
          </a:xfrm>
        </p:grpSpPr>
        <p:sp>
          <p:nvSpPr>
            <p:cNvPr id="225" name=""/>
            <p:cNvSpPr/>
            <p:nvPr/>
          </p:nvSpPr>
          <p:spPr>
            <a:xfrm>
              <a:off x="2367000" y="1022400"/>
              <a:ext cx="304920" cy="176040"/>
            </a:xfrm>
            <a:prstGeom prst="line">
              <a:avLst/>
            </a:prstGeom>
            <a:ln cap="sq" w="1908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33760" y="1212840"/>
              <a:ext cx="609480" cy="0"/>
            </a:xfrm>
            <a:prstGeom prst="line">
              <a:avLst/>
            </a:prstGeom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295440" y="907920"/>
              <a:ext cx="176040" cy="304920"/>
            </a:xfrm>
            <a:prstGeom prst="line">
              <a:avLst/>
            </a:prstGeom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3760" y="1212840"/>
              <a:ext cx="0" cy="380880"/>
            </a:xfrm>
            <a:prstGeom prst="line">
              <a:avLst/>
            </a:prstGeom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43240" y="1212840"/>
              <a:ext cx="0" cy="380880"/>
            </a:xfrm>
            <a:prstGeom prst="line">
              <a:avLst/>
            </a:prstGeom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33760" y="1593720"/>
              <a:ext cx="228600" cy="228600"/>
            </a:xfrm>
            <a:prstGeom prst="line">
              <a:avLst/>
            </a:prstGeom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3014280" y="1593720"/>
              <a:ext cx="228600" cy="228600"/>
            </a:xfrm>
            <a:prstGeom prst="line">
              <a:avLst/>
            </a:prstGeom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19480" y="403056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5493000">
            <a:off x="2685600" y="3954240"/>
            <a:ext cx="457200" cy="152280"/>
          </a:xfrm>
          <a:custGeom>
            <a:avLst/>
            <a:gdLst>
              <a:gd name="textAreaLeft" fmla="*/ 100440 w 457200"/>
              <a:gd name="textAreaRight" fmla="*/ 356760 w 457200"/>
              <a:gd name="textAreaTop" fmla="*/ 33480 h 152280"/>
              <a:gd name="textAreaBottom" fmla="*/ 11880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85960" y="3897360"/>
            <a:ext cx="152640" cy="228600"/>
          </a:xfrm>
          <a:prstGeom prst="rect">
            <a:avLst/>
          </a:pr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81400" y="2049480"/>
            <a:ext cx="380880" cy="380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71760" y="1211400"/>
            <a:ext cx="381240" cy="380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90880" y="2658960"/>
            <a:ext cx="380880" cy="3812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0360" y="3116160"/>
            <a:ext cx="381240" cy="3812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33680" y="4640400"/>
            <a:ext cx="380880" cy="380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43160" y="4640400"/>
            <a:ext cx="381240" cy="380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05280" y="4030560"/>
            <a:ext cx="380880" cy="3812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81600" y="4640400"/>
            <a:ext cx="380880" cy="380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62280" y="4106880"/>
            <a:ext cx="0" cy="685800"/>
          </a:xfrm>
          <a:prstGeom prst="line">
            <a:avLst/>
          </a:prstGeom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33600" y="4259160"/>
            <a:ext cx="0" cy="381240"/>
          </a:xfrm>
          <a:prstGeom prst="line">
            <a:avLst/>
          </a:prstGeom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05280" y="12114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YS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57440" y="206856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YSS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28760" y="2735280"/>
            <a:ext cx="838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YSS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38600" y="319248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YSS3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28960" y="3763800"/>
            <a:ext cx="838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YS3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57560" y="5021280"/>
            <a:ext cx="838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YS4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43160" y="5021280"/>
            <a:ext cx="838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E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00160" y="4944960"/>
            <a:ext cx="838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MQ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四、</a:t>
            </a:r>
            <a:r>
              <a:rPr b="0" lang="zh-CN" sz="4800" spc="-1" strike="noStrike">
                <a:solidFill>
                  <a:srgbClr val="2a3d7a"/>
                </a:solidFill>
                <a:latin typeface="Times New Roman"/>
              </a:rPr>
              <a:t>实验仪器与设备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11280" y="2923920"/>
            <a:ext cx="82994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L-PLC-Ⅰ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型可编程控制器实验系统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L-PLC-Ⅱ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型可编程控制器实验系统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计算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X-20P-E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编程器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283600" y="645336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返回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992240" indent="0">
              <a:lnSpc>
                <a:spcPct val="13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实验五    </a:t>
            </a: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LED</a:t>
            </a: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数码显示实验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52360" y="458100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（本实验为综合性实验）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354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a3d7a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283600" y="645336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返回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0" name=""/>
          <p:cNvSpPr/>
          <p:nvPr/>
        </p:nvSpPr>
        <p:spPr>
          <a:xfrm>
            <a:off x="466560" y="90972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Times New Roman"/>
              </a:rPr>
              <a:t>实验</a:t>
            </a: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一   典型环节模拟研究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2060640"/>
            <a:ext cx="822960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本实验为验证性实验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一、实验目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、学习构成典型环节的模拟电路，了解电路参数对环节特性影响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、熟悉各种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典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环节的阶跃响应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、学习典型环节阶跃响应的测量方法，并学会由阶跃响应曲线计算典型环节的传递函数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二、实验设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Verdana"/>
              </a:rPr>
              <a:t>   </a:t>
            </a:r>
            <a:r>
              <a:rPr b="0" lang="zh-CN" sz="2400" spc="-1" strike="noStrike">
                <a:solidFill>
                  <a:srgbClr val="5b5249"/>
                </a:solidFill>
                <a:latin typeface="Verdana"/>
              </a:rPr>
              <a:t>PC</a:t>
            </a:r>
            <a:r>
              <a:rPr b="0" lang="zh-CN" sz="2400" spc="-1" strike="noStrike">
                <a:solidFill>
                  <a:srgbClr val="5b5249"/>
                </a:solidFill>
                <a:latin typeface="Verdana"/>
              </a:rPr>
              <a:t>机一台，</a:t>
            </a:r>
            <a:r>
              <a:rPr b="0" lang="zh-CN" sz="2400" spc="-1" strike="noStrike">
                <a:solidFill>
                  <a:srgbClr val="5b5249"/>
                </a:solidFill>
                <a:latin typeface="Verdana"/>
              </a:rPr>
              <a:t>TDN-AC</a:t>
            </a:r>
            <a:r>
              <a:rPr b="0" lang="zh-CN" sz="2400" spc="-1" strike="noStrike">
                <a:solidFill>
                  <a:srgbClr val="5b5249"/>
                </a:solidFill>
                <a:latin typeface="Verdana"/>
              </a:rPr>
              <a:t>系列教学实验系统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、实验目的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、掌握用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PLC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控制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LED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数码显示系统的方法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827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827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、掌握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PLC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外部接线的方法。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8851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二．设计要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23520"/>
            <a:ext cx="8646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用</a:t>
            </a:r>
            <a:r>
              <a:rPr b="0" lang="en-US" sz="3200" spc="-1" strike="noStrike">
                <a:solidFill>
                  <a:srgbClr val="333300"/>
                </a:solidFill>
                <a:latin typeface="宋体"/>
              </a:rPr>
              <a:t>PLC</a:t>
            </a: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控制</a:t>
            </a:r>
            <a:r>
              <a:rPr b="0" lang="en-US" sz="3200" spc="-1" strike="noStrike">
                <a:solidFill>
                  <a:srgbClr val="333300"/>
                </a:solidFill>
                <a:latin typeface="宋体"/>
              </a:rPr>
              <a:t>LED</a:t>
            </a: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数码显示系统，具体要求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、在面包板上搭建</a:t>
            </a:r>
            <a:r>
              <a:rPr b="0" lang="en-US" sz="3200" spc="-1" strike="noStrike">
                <a:solidFill>
                  <a:srgbClr val="333300"/>
                </a:solidFill>
                <a:latin typeface="宋体"/>
              </a:rPr>
              <a:t>LED</a:t>
            </a: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数码显示电路，对</a:t>
            </a:r>
            <a:r>
              <a:rPr b="0" lang="en-US" sz="3200" spc="-1" strike="noStrike">
                <a:solidFill>
                  <a:srgbClr val="333300"/>
                </a:solidFill>
                <a:latin typeface="宋体"/>
              </a:rPr>
              <a:t>PLC</a:t>
            </a: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编程，用</a:t>
            </a:r>
            <a:r>
              <a:rPr b="0" lang="en-US" sz="3200" spc="-1" strike="noStrike">
                <a:solidFill>
                  <a:srgbClr val="333300"/>
                </a:solidFill>
                <a:latin typeface="宋体"/>
              </a:rPr>
              <a:t>10</a:t>
            </a: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个按键分别传送</a:t>
            </a:r>
            <a:r>
              <a:rPr b="0" lang="en-US" sz="3200" spc="-1" strike="noStrike">
                <a:solidFill>
                  <a:srgbClr val="333300"/>
                </a:solidFill>
                <a:latin typeface="宋体"/>
              </a:rPr>
              <a:t>0~9</a:t>
            </a: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十个数字，每按动这十个键中的一个，则</a:t>
            </a:r>
            <a:r>
              <a:rPr b="0" lang="en-US" sz="3200" spc="-1" strike="noStrike">
                <a:solidFill>
                  <a:srgbClr val="333300"/>
                </a:solidFill>
                <a:latin typeface="宋体"/>
              </a:rPr>
              <a:t>PLC</a:t>
            </a: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控制</a:t>
            </a:r>
            <a:r>
              <a:rPr b="0" lang="en-US" sz="3200" spc="-1" strike="noStrike">
                <a:solidFill>
                  <a:srgbClr val="333300"/>
                </a:solidFill>
                <a:latin typeface="宋体"/>
              </a:rPr>
              <a:t>LED</a:t>
            </a: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数码显示电路显示对应的数码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、根据控制要求设计程序，写出</a:t>
            </a:r>
            <a:r>
              <a:rPr b="0" lang="en-US" sz="3200" spc="-1" strike="noStrike">
                <a:solidFill>
                  <a:srgbClr val="333300"/>
                </a:solidFill>
                <a:latin typeface="宋体"/>
              </a:rPr>
              <a:t>I/O</a:t>
            </a: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分配表、绘制程序梯形图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、绘制</a:t>
            </a:r>
            <a:r>
              <a:rPr b="0" lang="en-US" sz="3200" spc="-1" strike="noStrike">
                <a:solidFill>
                  <a:srgbClr val="333300"/>
                </a:solidFill>
                <a:latin typeface="宋体"/>
              </a:rPr>
              <a:t>PLC I/O</a:t>
            </a: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接线图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三．设计提示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554120"/>
            <a:ext cx="8424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LED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数码管有两种显示接线方式，一种是共阴，另一种为共阳，当发光二极管正向偏置时，发光管（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LED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）灯就亮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、 用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PLC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控制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LED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显示有两种方法，一种是输出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位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BCD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码给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LED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显示（如用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BCD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码指令显示）；另一种方法是由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PLC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编制程序进行译码，来控制显示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a~g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段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四、</a:t>
            </a:r>
            <a:r>
              <a:rPr b="0" lang="zh-CN" sz="4800" spc="-1" strike="noStrike">
                <a:solidFill>
                  <a:srgbClr val="2a3d7a"/>
                </a:solidFill>
                <a:latin typeface="Times New Roman"/>
              </a:rPr>
              <a:t>实验仪器与设备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994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EL-PLC-Ⅰ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型可编程控制器实验系统  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、 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EL-PLC-Ⅱ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型可编程控制器实验系统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、计算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FX-20P-E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编程器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面包板、数码管、电阻（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K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/4w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283600" y="645336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返回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992240" indent="0">
              <a:lnSpc>
                <a:spcPct val="13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00"/>
                </a:solidFill>
                <a:latin typeface="Times New Roman"/>
                <a:ea typeface="黑体"/>
              </a:rPr>
              <a:t>实验六    功能指令实验 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53840" y="450792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（本实验为设计性实验）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、实验目的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4920" y="1557000"/>
            <a:ext cx="88200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、熟悉跳转、分支指令的应用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8276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、掌握数据处理：比较、传送指令的使用 </a:t>
            </a:r>
            <a:r>
              <a:rPr b="0" lang="zh-CN" sz="3600" spc="-1" strike="noStrike">
                <a:solidFill>
                  <a:srgbClr val="333300"/>
                </a:solidFill>
                <a:latin typeface="宋体"/>
              </a:rPr>
              <a:t>。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827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、熟悉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PLC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编程技巧及程序调试方法。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64480" y="6237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8851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二．实验内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675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利用跳转、分支指令使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实现对两组彩灯轮流闪烁的控制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其编程要求：利用分支指令编程，使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K1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接通”时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灯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PB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灯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PB0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轮流闪烁；使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K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断开”时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灯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PB0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灯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PB0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轮流闪烁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、利用比较、传送指令使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LC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实现数据的传送与数据大小的比较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其编程要求：①给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赋值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10H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。由按键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B1~PB3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给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赋不同值，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比较结果通过输出显示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D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灯显示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②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按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B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给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赋值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00H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按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B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给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赋值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10H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按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B3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给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赋值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20H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。当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〈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则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D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灯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BO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亮；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1≤ S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则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D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灯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BO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亮；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1 = S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则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D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灯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BO3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亮；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1 ≥ S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则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D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灯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BO4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亮；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1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〉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则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D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灯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BO5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亮；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1≠S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则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D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灯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BO6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亮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三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实验报告要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-360" y="2565000"/>
            <a:ext cx="820908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．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写出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分配表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．绘制所设计的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程序梯形图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．记录实验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操作结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 ，分析是否符合设计要求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四、</a:t>
            </a:r>
            <a:r>
              <a:rPr b="0" lang="zh-CN" sz="4800" spc="-1" strike="noStrike">
                <a:solidFill>
                  <a:srgbClr val="2a3d7a"/>
                </a:solidFill>
                <a:latin typeface="Times New Roman"/>
              </a:rPr>
              <a:t>实验仪器与设备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82087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EL-PLC-Ⅰ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型可编程控制器实验系统  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、 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EL-PLC-Ⅱ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型可编程控制器实验系统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、计算机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FX-20P-E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编程器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8283600" y="645336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返回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900000" y="2709720"/>
          <a:ext cx="7608960" cy="3633840"/>
        </p:xfrm>
        <a:graphic>
          <a:graphicData uri="http://schemas.openxmlformats.org/drawingml/2006/table">
            <a:tbl>
              <a:tblPr/>
              <a:tblGrid>
                <a:gridCol w="2508120"/>
                <a:gridCol w="2562480"/>
                <a:gridCol w="253836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典型环节名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方块图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传递函数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e684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比例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积分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3e684"/>
                    </a:solidFill>
                  </a:tcPr>
                </a:tc>
              </a:tr>
              <a:tr h="119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比例积分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360" y="3357720"/>
            <a:ext cx="2376720" cy="795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84720" y="3357720"/>
            <a:ext cx="2376720" cy="795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8317080" y="645336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返回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6" name=""/>
          <p:cNvSpPr/>
          <p:nvPr/>
        </p:nvSpPr>
        <p:spPr>
          <a:xfrm>
            <a:off x="930240" y="1138320"/>
            <a:ext cx="760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94760"/>
            <a:ext cx="8526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三．实验原理及电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Verdana"/>
              </a:rPr>
              <a:t>下面列出了各典型环节的方框图、传递函数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Verdana"/>
              </a:rPr>
              <a:t>模拟电路图、阶跃响应，实验前应熟悉了解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5b5249"/>
                </a:solidFill>
                <a:latin typeface="Verdana"/>
              </a:rPr>
              <a:t>、各环节的方块图及传递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8640" y="2867040"/>
            <a:ext cx="731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492360" y="4292640"/>
            <a:ext cx="2374920" cy="793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6084720" y="4292640"/>
            <a:ext cx="2376720" cy="792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3492360" y="5229360"/>
            <a:ext cx="2374920" cy="100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6084720" y="5229360"/>
            <a:ext cx="2376720" cy="100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992240" indent="0">
              <a:lnSpc>
                <a:spcPct val="13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实验七   </a:t>
            </a: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电动机自动往复运动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18240" y="450756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本实验为设计性实验）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、实验目的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560" y="2101680"/>
            <a:ext cx="85122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、掌握用</a:t>
            </a: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PLC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控制电动机往复运动软件互锁与硬件互锁的方法；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、掌握</a:t>
            </a: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PLC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外部接线的方法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8851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二．设计要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380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Times New Roman"/>
              </a:rPr>
              <a:t>设计并制作电动机往复运动电路，对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PLC</a:t>
            </a:r>
            <a:r>
              <a:rPr b="0" lang="zh-CN" sz="2800" spc="-1" strike="noStrike">
                <a:solidFill>
                  <a:srgbClr val="333300"/>
                </a:solidFill>
                <a:latin typeface="Times New Roman"/>
              </a:rPr>
              <a:t>编程，实现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PLC</a:t>
            </a:r>
            <a:r>
              <a:rPr b="0" lang="zh-CN" sz="2800" spc="-1" strike="noStrike">
                <a:solidFill>
                  <a:srgbClr val="333300"/>
                </a:solidFill>
                <a:latin typeface="Times New Roman"/>
              </a:rPr>
              <a:t>对电动机的往复运动控制。 编程要求：交流电动机起动有正转起动和反转起动，而且正、反转可切换，即在正转时可直接按下反转起动按，电动机即开始反转，同时切断正转电路，反之亦可；并且要求电动机能往复运动，往复运动由时间控制，即按下正转起动按钮，电动机正转，正转一段时间转为反转，反转一段时间又转为正转，如此自动往复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三．设计提示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3185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用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PLC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控制交流电动机的正反转，除了软件互锁，硬件也要求互锁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正反转实现的方法：改变电源相序（两根火线对调）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4648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宋体"/>
              </a:rPr>
              <a:t>、正反转基本控制电路原理图：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8360" y="1674720"/>
            <a:ext cx="8532720" cy="498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370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在上图中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主电路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KM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主触点接通正相序电源—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正转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KM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主触点接通反相序电源—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反转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控制电路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B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控制正转，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B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控制反转，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B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用于停止控制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KM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常闭触点用于互锁控制，即使在接触器故障情况下，也可以保证不发生主电路短路现象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四、</a:t>
            </a:r>
            <a:r>
              <a:rPr b="0" lang="zh-CN" sz="4800" spc="-1" strike="noStrike">
                <a:solidFill>
                  <a:srgbClr val="2a3d7a"/>
                </a:solidFill>
                <a:latin typeface="Times New Roman"/>
              </a:rPr>
              <a:t>实验仪器与设备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994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EL-PLC-Ⅰ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型可编程控制器实验系统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、 </a:t>
            </a: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EL-PLC-Ⅱ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型可编程控制器实验系统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、计算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X-20P-E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编程器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、交流接触器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、三相异步电动机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五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实验报告要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6400" y="1915920"/>
            <a:ext cx="856944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宋体"/>
              </a:rPr>
              <a:t>1</a:t>
            </a:r>
            <a:r>
              <a:rPr b="0" lang="zh-CN" sz="4000" spc="-1" strike="noStrike">
                <a:solidFill>
                  <a:srgbClr val="333300"/>
                </a:solidFill>
                <a:latin typeface="宋体"/>
              </a:rPr>
              <a:t>．根据控制要求设计程序，写出</a:t>
            </a:r>
            <a:r>
              <a:rPr b="0" lang="en-US" sz="4000" spc="-1" strike="noStrike">
                <a:solidFill>
                  <a:srgbClr val="333300"/>
                </a:solidFill>
                <a:latin typeface="宋体"/>
              </a:rPr>
              <a:t>I/O</a:t>
            </a:r>
            <a:r>
              <a:rPr b="0" lang="zh-CN" sz="4000" spc="-1" strike="noStrike">
                <a:solidFill>
                  <a:srgbClr val="333300"/>
                </a:solidFill>
                <a:latin typeface="宋体"/>
              </a:rPr>
              <a:t>分配表、绘制程序梯形图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92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333300"/>
                </a:solidFill>
                <a:latin typeface="宋体"/>
              </a:rPr>
              <a:t>．绘制主电路图、</a:t>
            </a:r>
            <a:r>
              <a:rPr b="0" lang="en-US" sz="4000" spc="-1" strike="noStrike">
                <a:solidFill>
                  <a:srgbClr val="333300"/>
                </a:solidFill>
                <a:latin typeface="宋体"/>
              </a:rPr>
              <a:t>PLC</a:t>
            </a:r>
            <a:r>
              <a:rPr b="0" lang="zh-CN" sz="4000" spc="-1" strike="noStrike">
                <a:solidFill>
                  <a:srgbClr val="333300"/>
                </a:solidFill>
                <a:latin typeface="宋体"/>
              </a:rPr>
              <a:t>控制电路图、</a:t>
            </a:r>
            <a:r>
              <a:rPr b="0" lang="en-US" sz="4000" spc="-1" strike="noStrike">
                <a:solidFill>
                  <a:srgbClr val="333300"/>
                </a:solidFill>
                <a:latin typeface="宋体"/>
              </a:rPr>
              <a:t>PLC I/O</a:t>
            </a:r>
            <a:r>
              <a:rPr b="0" lang="zh-CN" sz="4000" spc="-1" strike="noStrike">
                <a:solidFill>
                  <a:srgbClr val="333300"/>
                </a:solidFill>
                <a:latin typeface="宋体"/>
              </a:rPr>
              <a:t>接线图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9216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宋体"/>
              </a:rPr>
              <a:t>3</a:t>
            </a:r>
            <a:r>
              <a:rPr b="0" lang="zh-CN" sz="4000" spc="-1" strike="noStrike">
                <a:solidFill>
                  <a:srgbClr val="333300"/>
                </a:solidFill>
                <a:latin typeface="宋体"/>
              </a:rPr>
              <a:t>．记录实验操作结果 ，分析是否符合设计要求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8283600" y="645336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返回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820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992240" indent="0">
              <a:lnSpc>
                <a:spcPct val="13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实验八   </a:t>
            </a: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广告艺术灯控制器设计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74920" y="4652280"/>
            <a:ext cx="30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（本实验为研究创新型实验）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、实验目的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50560" y="2101680"/>
            <a:ext cx="85122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宋体"/>
              </a:rPr>
              <a:t>1</a:t>
            </a:r>
            <a:r>
              <a:rPr b="0" lang="zh-CN" sz="4000" spc="-1" strike="noStrike">
                <a:solidFill>
                  <a:srgbClr val="333300"/>
                </a:solidFill>
                <a:latin typeface="宋体"/>
              </a:rPr>
              <a:t>、掌握采用不同的编程思路实现用</a:t>
            </a:r>
            <a:r>
              <a:rPr b="0" lang="en-US" sz="4000" spc="-1" strike="noStrike">
                <a:solidFill>
                  <a:srgbClr val="333300"/>
                </a:solidFill>
                <a:latin typeface="宋体"/>
              </a:rPr>
              <a:t>PLC</a:t>
            </a:r>
            <a:r>
              <a:rPr b="0" lang="zh-CN" sz="4000" spc="-1" strike="noStrike">
                <a:solidFill>
                  <a:srgbClr val="333300"/>
                </a:solidFill>
                <a:latin typeface="宋体"/>
              </a:rPr>
              <a:t>控制广告艺术灯系统的方法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333300"/>
                </a:solidFill>
                <a:latin typeface="宋体"/>
              </a:rPr>
              <a:t>、熟悉</a:t>
            </a:r>
            <a:r>
              <a:rPr b="0" lang="en-US" sz="4000" spc="-1" strike="noStrike">
                <a:solidFill>
                  <a:srgbClr val="333300"/>
                </a:solidFill>
                <a:latin typeface="宋体"/>
              </a:rPr>
              <a:t>PLC</a:t>
            </a:r>
            <a:r>
              <a:rPr b="0" lang="zh-CN" sz="4000" spc="-1" strike="noStrike">
                <a:solidFill>
                  <a:srgbClr val="333300"/>
                </a:solidFill>
                <a:latin typeface="宋体"/>
              </a:rPr>
              <a:t>编程技巧及程序调试方法。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682560" y="1054080"/>
          <a:ext cx="7994520" cy="4076640"/>
        </p:xfrm>
        <a:graphic>
          <a:graphicData uri="http://schemas.openxmlformats.org/drawingml/2006/table">
            <a:tbl>
              <a:tblPr/>
              <a:tblGrid>
                <a:gridCol w="2373480"/>
                <a:gridCol w="2955600"/>
                <a:gridCol w="2665440"/>
              </a:tblGrid>
              <a:tr h="12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比例微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D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）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e684"/>
                    </a:solidFill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惯性环节（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）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e68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e68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e684">
                        <a:alpha val="50000"/>
                      </a:srgbClr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比例积分微分（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ID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）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e684"/>
                    </a:solidFill>
                  </a:tcPr>
                </a:tc>
              </a:tr>
            </a:tbl>
          </a:graphicData>
        </a:graphic>
      </p:graphicFrame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32000" y="1197000"/>
            <a:ext cx="2808360" cy="100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84720" y="1197000"/>
            <a:ext cx="2519640" cy="100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835280" y="5130720"/>
            <a:ext cx="45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132000" y="2422440"/>
            <a:ext cx="2808360" cy="1079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083280" y="2422440"/>
            <a:ext cx="2522520" cy="107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3132000" y="3646440"/>
            <a:ext cx="2808360" cy="1368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6084720" y="3646440"/>
            <a:ext cx="2519640" cy="13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8480" y="836640"/>
            <a:ext cx="88851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二．设计要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8044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用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PLC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控制广告艺术灯电路系统 ，编程要求：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某广告屏有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根灯管（用黄色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LED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发光管代替），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16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只流水灯，每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只灯为一组。在面包板上搭建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LED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发光管广告艺术灯电路，对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PLC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编程，控制彩色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LED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发光管轮流闪烁，其具体要求如下：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）该广告屏中间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个灯管亮灭的时序为第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根亮→第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根亮→第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根亮→…→第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根亮，时间间隔为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秒，全亮后，显示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秒，再反过来从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6→5→…→1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顺序熄灭。全灭后，停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秒，再从第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根灯管开始亮起，顺序点亮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6→5→…→1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，时间间隔为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秒，全亮后，显示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秒，再从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1→2→…→6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顺序熄灭。全熄灭后，停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秒，再从头开始运行，周而复始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）广告屏四周的流水灯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16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只，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个一组，共分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组，每组灯间隔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秒向前移动一次，且即从Ⅰ→Ⅱ→Ⅲ→Ⅳ，移动一段时间后（如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30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秒），再反过来移动，即从Ⅳ→Ⅲ→Ⅱ→Ⅰ，如此循环往复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）系统有单步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连续控制，有起动和停止按钮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）系统发光管的供电电源为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24V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三．设计提示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413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设计方案提示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4413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根据霓虹灯时序控制程序的任务和要求，可先设计霓虹灯中间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根灯管的控制程序。由题意可知，用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个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LC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的输出分别控制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个灯管。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LC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控制程序可采用步进顺控指令来实现，也可采用移位指令和定时、计数指令组合起来设计该程序，或用基本指令加定时器、计数器指令来实现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4413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对于四周的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组流水灯泡的亮、灭控制，可利用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LC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移位指令外加定时器、计数器指令来完成其循环左移和右移功能。或用基本指令加定时器、计数器指令来实现。也可采用步进顺控指令来实现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64480" y="6237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四、</a:t>
            </a:r>
            <a:r>
              <a:rPr b="0" lang="zh-CN" sz="4800" spc="-1" strike="noStrike">
                <a:solidFill>
                  <a:srgbClr val="2a3d7a"/>
                </a:solidFill>
                <a:latin typeface="Times New Roman"/>
              </a:rPr>
              <a:t>实验仪器与设备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9640" y="2270160"/>
            <a:ext cx="82994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EL-PLC-Ⅰ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型可编程控制器实验系统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、 </a:t>
            </a: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EL-PLC-Ⅱ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型可编程控制器实验系统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、计算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X-20P-E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编程器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、面包板、数码管、电阻（</a:t>
            </a: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2K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1/4w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五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实验报告要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宋体"/>
              </a:rPr>
              <a:t>1</a:t>
            </a:r>
            <a:r>
              <a:rPr b="0" lang="zh-CN" sz="4000" spc="-1" strike="noStrike">
                <a:solidFill>
                  <a:srgbClr val="333300"/>
                </a:solidFill>
                <a:latin typeface="宋体"/>
              </a:rPr>
              <a:t>．根据控制要求设计程序，写出</a:t>
            </a:r>
            <a:r>
              <a:rPr b="0" lang="en-US" sz="4000" spc="-1" strike="noStrike">
                <a:solidFill>
                  <a:srgbClr val="333300"/>
                </a:solidFill>
                <a:latin typeface="宋体"/>
              </a:rPr>
              <a:t>I/O</a:t>
            </a:r>
            <a:r>
              <a:rPr b="0" lang="zh-CN" sz="4000" spc="-1" strike="noStrike">
                <a:solidFill>
                  <a:srgbClr val="333300"/>
                </a:solidFill>
                <a:latin typeface="宋体"/>
              </a:rPr>
              <a:t>分配表、绘制程序梯形图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92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333300"/>
                </a:solidFill>
                <a:latin typeface="宋体"/>
              </a:rPr>
              <a:t>．记录实验操作结果 ，分析是否符合设计要求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492360" y="3500280"/>
            <a:ext cx="277344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谢谢！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9036000" y="1844640"/>
            <a:ext cx="2664000" cy="9968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440360" y="61722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b0ae6a"/>
                </a:solidFill>
                <a:uFillTx/>
                <a:latin typeface="华文新魏"/>
                <a:ea typeface="华文新魏"/>
                <a:hlinkClick r:id="rId4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1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5b5249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5b5249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5b5249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5b5249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31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b0ae6a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b0ae6a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b0ae6a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971640" y="1557360"/>
          <a:ext cx="7634160" cy="4683240"/>
        </p:xfrm>
        <a:graphic>
          <a:graphicData uri="http://schemas.openxmlformats.org/drawingml/2006/table">
            <a:tbl>
              <a:tblPr/>
              <a:tblGrid>
                <a:gridCol w="1635120"/>
                <a:gridCol w="3473280"/>
                <a:gridCol w="2525760"/>
              </a:tblGrid>
              <a:tr h="9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各典型环节名称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模拟电路图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输出响应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</a:tr>
              <a:tr h="116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比例（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）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U0(t)=K (t≥0)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其中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K=R1/R0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>
                        <a:alpha val="50000"/>
                      </a:srgbClr>
                    </a:solidFill>
                  </a:tcPr>
                </a:tc>
              </a:tr>
              <a:tr h="11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积分（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）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U0(t)=(t≥0)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其中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=R0C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比例积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（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I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）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3e68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3e68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U0(t)=  (t≥0)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K=R1/R0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=R1C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3e68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701800" y="2639880"/>
            <a:ext cx="3313080" cy="100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700360" y="3790800"/>
            <a:ext cx="3313080" cy="1032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8283600" y="645336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返回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25" name=""/>
          <p:cNvSpPr/>
          <p:nvPr/>
        </p:nvSpPr>
        <p:spPr>
          <a:xfrm>
            <a:off x="985680" y="1055520"/>
            <a:ext cx="73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、各典型环节的模拟电路图及输出响应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701800" y="4943520"/>
            <a:ext cx="3311640" cy="122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55640" y="981000"/>
          <a:ext cx="7848720" cy="5149800"/>
        </p:xfrm>
        <a:graphic>
          <a:graphicData uri="http://schemas.openxmlformats.org/drawingml/2006/table">
            <a:tbl>
              <a:tblPr/>
              <a:tblGrid>
                <a:gridCol w="1490760"/>
                <a:gridCol w="3741480"/>
                <a:gridCol w="2616480"/>
              </a:tblGrid>
              <a:tr h="16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比例微分（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D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）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U0(t)=KTδ(t)+K</a:t>
                      </a:r>
                      <a:r>
                        <a:rPr b="0" lang="zh-CN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其中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δ(t)</a:t>
                      </a:r>
                      <a:r>
                        <a:rPr b="0" lang="zh-CN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为单位脉冲函数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</a:tr>
              <a:tr h="14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惯性环节（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）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U0(t)=K(1-e-t/T)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其中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K=R1/R0</a:t>
                      </a: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，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=R1C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>
                        <a:alpha val="50000"/>
                      </a:srgbClr>
                    </a:solidFill>
                  </a:tcPr>
                </a:tc>
              </a:tr>
              <a:tr h="20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比例积分微分（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ID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）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其中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δ(t)</a:t>
                      </a: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为单位脉冲函数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Kp=R1/R0;Ti=R0C1Td=R1R2C2/R0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</a:tr>
            </a:tbl>
          </a:graphicData>
        </a:graphic>
      </p:graphicFrame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40000" y="1054080"/>
            <a:ext cx="3527280" cy="1484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340000" y="2709720"/>
            <a:ext cx="3527280" cy="1295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340000" y="4151160"/>
            <a:ext cx="3527280" cy="1871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rcRect l="17412" t="0" r="0" b="0"/>
          <a:stretch/>
        </p:blipFill>
        <p:spPr>
          <a:xfrm>
            <a:off x="6084720" y="1628640"/>
            <a:ext cx="2451240" cy="93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四、实验内容及步骤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4250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、观测比例、积分、比例积分、比例微分和惯性环节的阶跃响应曲线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实验接线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①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准备：使运放处于工作状态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将信号源单元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1 SG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的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端（插针）与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+5V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端（插针）用“短路块”短接，使模拟电路中的场效应管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3DJ6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夹断，这时运放处于工作状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②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阶跃信号的产生；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电路可采用图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-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所示电路，它由“单脉冲单元”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13 SP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及“电位器单元”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14 P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组成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具体线路形成：在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13 SP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单元中，将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H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+5V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插针用“短路块”短接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H2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插针用排线接至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14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单元的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插针；在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14 P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单元中，将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Z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插针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GND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插针用“短路块”短接，最后由插座的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端输出信号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以后实现再用到阶跃信号时，方法同上，不再累赘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2720" y="838080"/>
            <a:ext cx="8064720" cy="561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03:43:20Z</dcterms:created>
  <dc:creator/>
  <dc:description/>
  <dc:language>en-US</dc:language>
  <cp:lastModifiedBy>微软用户</cp:lastModifiedBy>
  <cp:lastPrinted>1899-12-30T00:00:00Z</cp:lastPrinted>
  <dcterms:modified xsi:type="dcterms:W3CDTF">2014-06-08T05:08:07Z</dcterms:modified>
  <cp:revision>1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