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7C6-87F8-4818-A357-AE592A33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49C-F674-4B99-A89B-0A212537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40B-DB8A-41AC-8AD8-C277B6A8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8AF-BB69-45E7-B1BD-A80075E7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77B-2226-4C3B-9472-AF1D6925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D8D-C0CA-4E5F-B85A-225503FA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F06-C7CC-4424-BCD8-79FA5121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AD7-F87D-42DE-A910-F9F06420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4DF-EF6D-420D-9168-1459A2D6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39D-E394-4CB3-963F-44E45DF9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7B1-A70D-4CA7-9E68-F861E658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086-23E4-4B99-8C9C-4D27A6B8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usiness5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5050-FBF9-4062-B8FC-9988B5172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usiness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0360" y="6435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54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3:14:34Z</dcterms:created>
  <dc:creator/>
  <dc:description/>
  <dc:language>en-US</dc:language>
  <cp:lastModifiedBy>echo</cp:lastModifiedBy>
  <cp:lastPrinted>1899-12-30T00:00:00Z</cp:lastPrinted>
  <dcterms:modified xsi:type="dcterms:W3CDTF">2014-06-02T14:52:4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