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9CC-0CD3-4B29-82B7-E59E71AF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32000" y="396432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6DE-2837-4A13-8685-0C7CCAC6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3968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EA5-3DE0-4C0B-A2D6-B33D2A65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1468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700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3200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1468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700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1C8C-9781-4581-A1DB-9C158C62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5C10-9F75-46AB-8E4F-3C9DB094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7E70-5E27-43B3-9CFA-0AECEDFC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CEA0-0D0C-4310-9581-48938851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741A-B320-4704-BD0E-E584C232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4BD2-6381-4FEB-9A1A-C143EA13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32000" y="274320"/>
            <a:ext cx="64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8CA2-1532-4DA2-81DB-DEF81945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2C19-48B9-44F1-BAD9-8361809C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4D40-FEDC-4E45-AF88-0DDF7B42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3968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30E0-AB16-4F88-8A91-9D931AB9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2CA0-3084-4CCB-ADE0-6FD770C0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32000" y="396432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A30B-5886-466C-AFED-E8F56359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3968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7471-FDCB-4B4E-B5B4-52D8649F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468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700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3200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1468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700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E263-2E7C-4E92-BC61-7967BA36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3B87B-429A-44A9-A914-2F4FA1CB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8C114-8637-4398-98D1-3D48A32C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25A68-3865-4F27-B14E-31BDFA96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7488D-30C6-46F8-8F14-4D3057E5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1E001-1725-4FCF-8A30-30F26312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5F74-1E2C-4FD1-BB95-AEA48743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32000" y="274320"/>
            <a:ext cx="64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2C9BF-B4A2-4227-9DA4-94C822FE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75E07-A489-4CCA-871A-1BA1E02F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3968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8607F-3926-4656-91C4-F0A1E610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6ADDC-E8C4-4D5E-89A1-B3CC9CC7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32000" y="396432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52B6E-E38B-47EE-8803-D1CDCFFD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3968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A6348-4BA2-476D-8D10-26BC9A9D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1468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9700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3200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41468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9700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E9F68-E550-4478-9F04-A0F124EF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C867C-E07A-4F57-966C-885FAD80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0C458-3C08-4E7F-AD8E-7F87E42E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4E7F6-37B8-4F5A-9D00-3A7B8D4D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B25-9BC8-483D-856A-F6D143B6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3DE5C-832D-46A5-9B5B-896E4EF1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8F845-6671-4B79-9CC8-33BF8426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32000" y="274320"/>
            <a:ext cx="64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19D72-F375-4997-A394-629CEFD4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F6939-0806-4330-8AB4-499F57FC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53968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13C8E-5930-4297-9B5A-CFD326E9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419E6-117D-4ED7-B345-FB71BEA4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232000" y="396432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C2D86-A69A-45AD-8948-46304F67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53968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3459F-169F-4E86-ADB3-A0739DC3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1468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9700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23200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41468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9700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70D42-3D82-4C9E-A54C-DDA3816D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C7214-4797-41FA-8BB5-BA61AF31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13C-66E7-4440-B524-A58A3EC1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B75D5-A717-41F9-84D2-D9DDCFD3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5F335-D0BB-471F-82F5-F60B491D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06B7D-B3B6-451A-89F7-7B8EA2E4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61F55-F52E-4042-A00C-759525AC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32000" y="274320"/>
            <a:ext cx="64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50513-CFB7-464C-9696-C6AA35FC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CBBF3-4A57-49C7-A725-EC55FCCC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53968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81E2D-A9BD-4F05-BFC1-A23F13E3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3DA32-4414-49EB-9193-4245B62F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232000" y="396432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70F42-E0F3-46D7-8C1C-0B282B5D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53968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5BA3B-F96E-4F70-8DE9-C15B59A5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32000" y="274320"/>
            <a:ext cx="64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99C5-FD2F-484B-BA2F-102C0CEA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41468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97000" y="160020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223200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41468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97000" y="3964320"/>
            <a:ext cx="207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EBEEE-D2B6-4BFC-94D8-5120A890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07F7-603B-4E35-ACFC-0A9E76F6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39680" y="396432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06D4-E80E-4214-B556-6C369273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9680" y="1600200"/>
            <a:ext cx="314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32000" y="3964320"/>
            <a:ext cx="64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AAC8-A4B2-4858-9A2C-578EC1F7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8476-3B3C-454C-8E53-F38F7A9F1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0399-FDD8-4EC8-AC67-070BF0983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3718080" y="728280"/>
            <a:ext cx="51624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C622-9441-4A9B-8D72-17611D646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743A-2732-424D-AF20-1A5FFA38C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AF2E-1792-464E-AFD3-2047E4A45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3718080" y="728280"/>
            <a:ext cx="51624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38120" y="7617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038120" y="1752120"/>
            <a:ext cx="4800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微软雅黑"/>
            </a:endParaRPr>
          </a:p>
        </p:txBody>
      </p:sp>
      <p:sp>
        <p:nvSpPr>
          <p:cNvPr id="206" name=""/>
          <p:cNvSpPr/>
          <p:nvPr/>
        </p:nvSpPr>
        <p:spPr>
          <a:xfrm>
            <a:off x="74880" y="630864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32000" y="27432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32000" y="1600200"/>
            <a:ext cx="64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3" name=""/>
          <p:cNvSpPr/>
          <p:nvPr/>
        </p:nvSpPr>
        <p:spPr>
          <a:xfrm>
            <a:off x="28800" y="635472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663200" y="644508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1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21:35:02Z</dcterms:created>
  <dc:creator/>
  <dc:description/>
  <dc:language>en-US</dc:language>
  <cp:lastModifiedBy>eclipse</cp:lastModifiedBy>
  <cp:lastPrinted>1899-12-30T00:00:00Z</cp:lastPrinted>
  <dcterms:modified xsi:type="dcterms:W3CDTF">2014-05-24T09:15:2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