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F46A-6D3A-4A3A-8C8C-002EE6F57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2DDE-DB07-494C-A0C6-4B34F3D0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61DF-3D4A-4470-B078-C0698D259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5167-BEE4-45D8-B23C-78CB62C85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60D6-BDD8-4F6F-B3D1-5CB837A7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E73B-B508-48B5-AAB3-5163AF34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9EA0-4B25-4A69-92A4-B6550848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9FC3-C667-4741-9731-5A01BE2D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79F7-653B-4200-84A1-19AD5817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3EE5-E31E-4758-B65D-D5D8BD2A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06F0-3467-4B65-B135-5AE41BD2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32FF-7498-48E0-B97A-EF1F9F9F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317080" y="6507000"/>
            <a:ext cx="798480" cy="33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F23E-85CB-40D7-8114-274DDFFDF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824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cp:lastPrinted>1899-12-30T00:00:00Z</cp:lastPrinted>
  <dcterms:modified xsi:type="dcterms:W3CDTF">2014-05-26T06:18:01Z</dcterms:modified>
  <cp:revision>178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