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23D-CC26-4CFE-A480-66B741C2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58E-0076-4DC0-8014-C2755E7E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DCB-1CF9-4374-B31D-E0517012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CDF-48F6-4802-92FE-37F5AD57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5564-2F5E-4975-9796-8D73DEC2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9730-3BE7-478E-8884-761AD650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49E3-9F16-4D34-A1CB-A06ABCB1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3C62-4A4D-4096-800C-1BDB7540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EDA3-6C3A-49F9-A390-B6EF68A6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F148-5F4D-4CA9-8F73-BB8F55D2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6D93-DE1C-424A-BD52-85D46EA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9D1-2A04-49D6-9921-940257DD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DE7D-288F-488C-9924-0BE7DA86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F5CE-83D4-46ED-A146-A6994424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C7C-E540-4BA4-B57A-63B86B76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4F8A-B588-485D-A59A-13FE02F4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52D5-2A0E-43B7-9576-376BD10B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6621-4771-4664-8441-C29FD628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609F-FD4D-47DA-B096-4D90770D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33B66-5F78-4B25-B956-32DB1DDB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B63E-272D-4DCE-BC63-4CDD3968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A861-6658-4D94-AABA-ED897F79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CEB-EE64-49E3-8362-22A8AC1E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1C3F-722C-4BB8-9B3D-8CBE6B8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4ADA-4D15-472A-B875-828EAAA9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3242-CAAF-4551-926F-0DEF6987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81FD-BF2F-485F-A318-4E75331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3578-B4A7-412E-9BA8-DE1D6F87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CD60-67A5-487D-9842-F4BAAF63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6A9A-552E-4695-BF0B-F2C20FA6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9C1-EF5F-48F9-9323-F302D37A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F22-47EF-488C-B389-D44DC91E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A7B-E0A0-485A-B3FB-B80FD592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C0B-45B1-4480-A4A7-F3DEE91F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5B3-03CC-44C5-B876-5B9225AB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F49-B5B0-4B1C-AEAA-418AB24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rcRect l="0" t="0" r="0" b="72674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51B8-4509-4581-80BD-02AAB4640296}" type="slidenum"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rcRect l="32999" t="32000" r="0" b="0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>
            <a:lum bright="6000"/>
          </a:blip>
          <a:srcRect l="0" t="0" r="0" b="6667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36000" r="42004" b="0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27"/>
          <p:cNvSpPr/>
          <p:nvPr/>
        </p:nvSpPr>
        <p:spPr>
          <a:xfrm rot="16200000">
            <a:off x="566640" y="-567000"/>
            <a:ext cx="1152360" cy="2286000"/>
          </a:xfrm>
          <a:prstGeom prst="pi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7"/>
          <p:cNvSpPr/>
          <p:nvPr/>
        </p:nvSpPr>
        <p:spPr>
          <a:xfrm rot="5400000">
            <a:off x="5705280" y="3419280"/>
            <a:ext cx="2305080" cy="4572000"/>
          </a:xfrm>
          <a:prstGeom prst="pi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宋体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74A8-A182-42F0-86A5-C1040333A6E9}" type="slidenum"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icrosoft JhengHe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icrosoft JhengHe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icrosoft JhengHe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icrosoft JhengHe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icrosoft JhengHe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19D9-AEA9-417B-9027-69449656D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5200"/>
            <a:ext cx="71625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4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37" name=""/>
          <p:cNvSpPr/>
          <p:nvPr/>
        </p:nvSpPr>
        <p:spPr>
          <a:xfrm>
            <a:off x="1059840" y="6400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B4A-AE30-40AE-990B-8676AA63D8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898-6832-416B-827A-1FAB09365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06:57:43Z</dcterms:created>
  <dc:creator/>
  <dc:description/>
  <dc:language>en-US</dc:language>
  <cp:lastModifiedBy>MC SYSTEM</cp:lastModifiedBy>
  <dcterms:modified xsi:type="dcterms:W3CDTF">2014-05-16T07:19:5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