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799-79AA-46B5-A91B-3A401944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1DB-5593-4ED4-932E-73D57954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9E0-DB25-45D9-9C2D-82274607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CCB-F2EA-42FF-BF71-6347790B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28C3-9007-4608-99A8-2A66614B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5F2-81F9-4BB8-AA14-8F9709DB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A51E-5257-4090-BCA5-C5C4D9C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183C-0372-4706-AE7C-1FD2A42E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E74-33BB-479C-A747-A8A6131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1584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36C9-14F1-4EA5-B4CB-05561E0E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F862-4539-46E0-99E7-143B667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2D3-2CF4-43E8-85DA-F11409C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5AF7-D8BA-403F-AA9B-C2EEA14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046A-B1AD-482D-97CD-9F4F8E2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4EAD-63A4-47D8-9738-520FDF5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68E2-9602-4B62-829C-3E44229A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66B2-F101-4931-8738-899E392A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644-5426-4B6D-9A18-4171F53F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62C-608B-4645-AAAE-9DEB331D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3AD-D415-42B8-BE60-96547834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1584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15F-09FA-4249-ABA8-48F91AD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D55-1433-4DBF-B5E3-13EE58A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F9E-3C4C-4457-A612-E4AD86A2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711-060A-4C3B-A293-7B4AFCA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48F2-5811-4226-A27F-B79C9755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45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45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45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45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4DF-27BD-44F7-B840-5E5867EA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457d"/>
              </a:solidFill>
              <a:latin typeface="黑体"/>
              <a:ea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457d"/>
              </a:solidFill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38600" y="50864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04:53Z</dcterms:created>
  <dc:creator/>
  <dc:description/>
  <dc:language>en-US</dc:language>
  <cp:lastModifiedBy/>
  <cp:lastPrinted>1899-12-30T00:00:00Z</cp:lastPrinted>
  <dcterms:modified xsi:type="dcterms:W3CDTF">2014-05-21T05:35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