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E2B-4406-4E6A-B5F9-7DC52CFE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787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9AF-6C6F-40CB-B528-E1EBF326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E8B-1DB9-46F3-A3C6-6D9AE7B3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C18-FA2C-4424-88F0-88BB99A7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BB4B-3A0B-4166-931E-FF7593E1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E9D7-4960-46FE-9FE0-74852530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E657-900B-4590-B41D-EDDEB1F8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8A97-6C50-4C93-A2DF-D2DB1611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B944-0AEE-49BA-A32A-42914A22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0040" y="48096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6C5C-FF50-44B4-B1FB-ABA6DE5B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4200-E663-4DA4-A30D-E06781E8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BD3-732D-4236-B5AF-CA7E3457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084B-1285-41F1-B6C0-2AAE39FA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9999-FC14-48FF-8D6D-2A7DFEB8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787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9961-A4BF-4A07-8BEB-878FDA3A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0381-1706-4C40-92E5-E4D6CC17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4220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78720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7097-A12B-401C-82F2-508523EB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F88-7609-42E9-AAED-19800A61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BAB-ED25-4F5D-B9E3-D3EBBDC3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DA1C-C4B4-416E-A344-5DC843C5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0040" y="48096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FC6-9144-43E4-9951-467D396D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018A-F6B7-49AF-94AA-228BD0A6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7872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30A-7D88-48EA-9ED9-A7AE9BFE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42200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78720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6AFA-FB55-4AFB-9629-DACC29DB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91B6-9D1C-45D6-AD3F-9C5DB8BDDEF7}" type="slidenum"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6A3A-518A-4B78-8766-89DFE96BB210}" type="slidenum"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13080" y="3213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"/>
          <p:cNvSpPr/>
          <p:nvPr/>
        </p:nvSpPr>
        <p:spPr>
          <a:xfrm>
            <a:off x="72374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感谢欣赏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" name=""/>
          <p:cNvSpPr/>
          <p:nvPr/>
        </p:nvSpPr>
        <p:spPr>
          <a:xfrm>
            <a:off x="1938600" y="6453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17bbfd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17bbfd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17bbfd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17bbfd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05:52:40Z</dcterms:created>
  <dc:creator/>
  <dc:description/>
  <dc:language>en-US</dc:language>
  <cp:lastModifiedBy>User</cp:lastModifiedBy>
  <cp:lastPrinted>1899-12-30T00:00:00Z</cp:lastPrinted>
  <dcterms:modified xsi:type="dcterms:W3CDTF">2014-05-21T04:25:5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