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3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2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19D-F700-4032-8E10-6E24A553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3733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29200" y="6145920"/>
            <a:ext cx="3733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05A-7D13-4F80-99CC-07F92388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292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426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577-0834-43F7-BCBC-DB84A71E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91720" y="586728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554240" y="586728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029200" y="614592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6291720" y="614592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7554240" y="614592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C4D-E1F8-4935-8807-577B89FC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4D09-22AB-423D-B730-560F98A7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029200" y="58672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866C-5BD9-4950-934B-50D1D21F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DF27-52B1-4FB7-9286-B1925D1D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8E96-654F-4B05-8547-F5F4D3F2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13AE-1C8C-42B5-A818-5971BD2F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990720" y="4485960"/>
            <a:ext cx="7772400" cy="54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31D0-1C9E-4E01-9345-7293D999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292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0052-4786-4DEC-A9C2-52A75615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029200" y="58672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BF1-C383-4868-8B00-B5B14D01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426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8C02-3FBA-45D8-8985-0367C3E1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29200" y="6145920"/>
            <a:ext cx="3733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FA56-6160-4D57-9E32-084B53FD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3733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29200" y="6145920"/>
            <a:ext cx="3733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9E17-4333-4F52-9E3E-AFE37A4F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426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85F9-C37D-48AE-83BE-D34DF708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91720" y="586728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554240" y="586728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029200" y="614592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6291720" y="614592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7554240" y="614592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D145-6A72-4B58-9F60-B68A5834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8A3-A594-4DF5-BD26-8EC9531A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0D9C-FA26-4365-AFC5-0E777C1A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94F-87D3-474A-ABA1-2BF093CD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990720" y="4485960"/>
            <a:ext cx="7772400" cy="54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6204-2B33-4F9D-B1EB-FD4D557B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EBD-78A4-4214-B502-1951060B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426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062-40B4-4477-A125-2138D9C2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0" y="6145920"/>
            <a:ext cx="3733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350-4627-4DB8-B0F8-216E8B33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1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295200" y="343080"/>
            <a:ext cx="8848800" cy="6514920"/>
          </a:xfrm>
          <a:custGeom>
            <a:avLst/>
            <a:gdLst/>
            <a:ahLst/>
            <a:rect l="l" t="t" r="r" b="b"/>
            <a:pathLst>
              <a:path w="5574" h="4104">
                <a:moveTo>
                  <a:pt x="5574" y="4104"/>
                </a:moveTo>
                <a:lnTo>
                  <a:pt x="5574" y="24"/>
                </a:lnTo>
                <a:cubicBezTo>
                  <a:pt x="4920" y="0"/>
                  <a:pt x="4738" y="24"/>
                  <a:pt x="4194" y="24"/>
                </a:cubicBezTo>
                <a:cubicBezTo>
                  <a:pt x="3650" y="24"/>
                  <a:pt x="2983" y="29"/>
                  <a:pt x="2310" y="24"/>
                </a:cubicBezTo>
                <a:cubicBezTo>
                  <a:pt x="1637" y="19"/>
                  <a:pt x="520" y="18"/>
                  <a:pt x="144" y="42"/>
                </a:cubicBezTo>
                <a:cubicBezTo>
                  <a:pt x="24" y="60"/>
                  <a:pt x="20" y="67"/>
                  <a:pt x="16" y="202"/>
                </a:cubicBezTo>
                <a:cubicBezTo>
                  <a:pt x="12" y="337"/>
                  <a:pt x="15" y="418"/>
                  <a:pt x="16" y="835"/>
                </a:cubicBezTo>
                <a:cubicBezTo>
                  <a:pt x="13" y="1258"/>
                  <a:pt x="12" y="2156"/>
                  <a:pt x="12" y="2700"/>
                </a:cubicBezTo>
                <a:cubicBezTo>
                  <a:pt x="12" y="3244"/>
                  <a:pt x="0" y="3600"/>
                  <a:pt x="6" y="4104"/>
                </a:cubicBezTo>
                <a:cubicBezTo>
                  <a:pt x="2790" y="4104"/>
                  <a:pt x="5574" y="4104"/>
                  <a:pt x="5574" y="4104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6e6e6">
                  <a:alpha val="7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未知"/>
          <p:cNvSpPr/>
          <p:nvPr/>
        </p:nvSpPr>
        <p:spPr>
          <a:xfrm>
            <a:off x="328680" y="0"/>
            <a:ext cx="8821800" cy="314280"/>
          </a:xfrm>
          <a:custGeom>
            <a:avLst/>
            <a:gdLst/>
            <a:ahLst/>
            <a:rect l="l" t="t" r="r" b="b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f45e5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393840"/>
            <a:ext cx="241200" cy="6468840"/>
          </a:xfrm>
          <a:custGeom>
            <a:avLst/>
            <a:gdLst/>
            <a:ahLst/>
            <a:rect l="l" t="t" r="r" b="b"/>
            <a:pathLst>
              <a:path w="153" h="4067">
                <a:moveTo>
                  <a:pt x="0" y="4061"/>
                </a:moveTo>
                <a:lnTo>
                  <a:pt x="145" y="4064"/>
                </a:lnTo>
                <a:cubicBezTo>
                  <a:pt x="141" y="4067"/>
                  <a:pt x="145" y="3766"/>
                  <a:pt x="149" y="3364"/>
                </a:cubicBezTo>
                <a:cubicBezTo>
                  <a:pt x="153" y="2962"/>
                  <a:pt x="143" y="2090"/>
                  <a:pt x="137" y="1651"/>
                </a:cubicBezTo>
                <a:cubicBezTo>
                  <a:pt x="131" y="1212"/>
                  <a:pt x="138" y="971"/>
                  <a:pt x="139" y="710"/>
                </a:cubicBezTo>
                <a:cubicBezTo>
                  <a:pt x="141" y="448"/>
                  <a:pt x="136" y="184"/>
                  <a:pt x="136" y="65"/>
                </a:cubicBezTo>
                <a:cubicBezTo>
                  <a:pt x="136" y="30"/>
                  <a:pt x="102" y="18"/>
                  <a:pt x="102" y="18"/>
                </a:cubicBezTo>
                <a:cubicBezTo>
                  <a:pt x="41" y="0"/>
                  <a:pt x="1" y="7"/>
                  <a:pt x="1" y="7"/>
                </a:cubicBezTo>
                <a:lnTo>
                  <a:pt x="0" y="4061"/>
                </a:lnTo>
                <a:close/>
              </a:path>
            </a:pathLst>
          </a:custGeom>
          <a:solidFill>
            <a:srgbClr val="5cb1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未知"/>
          <p:cNvSpPr/>
          <p:nvPr/>
        </p:nvSpPr>
        <p:spPr>
          <a:xfrm>
            <a:off x="0" y="0"/>
            <a:ext cx="244440" cy="326880"/>
          </a:xfrm>
          <a:custGeom>
            <a:avLst/>
            <a:gdLst/>
            <a:ahLst/>
            <a:rect l="l" t="t" r="r" b="b"/>
            <a:pathLst>
              <a:path w="156" h="206">
                <a:moveTo>
                  <a:pt x="2" y="0"/>
                </a:moveTo>
                <a:lnTo>
                  <a:pt x="150" y="0"/>
                </a:lnTo>
                <a:cubicBezTo>
                  <a:pt x="156" y="71"/>
                  <a:pt x="144" y="149"/>
                  <a:pt x="144" y="149"/>
                </a:cubicBezTo>
                <a:cubicBezTo>
                  <a:pt x="133" y="181"/>
                  <a:pt x="111" y="189"/>
                  <a:pt x="87" y="197"/>
                </a:cubicBezTo>
                <a:cubicBezTo>
                  <a:pt x="44" y="206"/>
                  <a:pt x="0" y="197"/>
                  <a:pt x="0" y="197"/>
                </a:cubicBezTo>
                <a:lnTo>
                  <a:pt x="2" y="0"/>
                </a:lnTo>
                <a:close/>
              </a:path>
            </a:pathLst>
          </a:custGeom>
          <a:solidFill>
            <a:srgbClr val="8cd32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853E-5883-4D4B-AAE3-276F9FB3D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未知"/>
          <p:cNvSpPr/>
          <p:nvPr/>
        </p:nvSpPr>
        <p:spPr>
          <a:xfrm>
            <a:off x="6132600" y="457200"/>
            <a:ext cx="917640" cy="63504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未知"/>
          <p:cNvSpPr/>
          <p:nvPr/>
        </p:nvSpPr>
        <p:spPr>
          <a:xfrm>
            <a:off x="8085240" y="457200"/>
            <a:ext cx="917640" cy="63648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未知"/>
          <p:cNvSpPr/>
          <p:nvPr/>
        </p:nvSpPr>
        <p:spPr>
          <a:xfrm>
            <a:off x="7113600" y="457200"/>
            <a:ext cx="917640" cy="63648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未知"/>
          <p:cNvSpPr/>
          <p:nvPr/>
        </p:nvSpPr>
        <p:spPr>
          <a:xfrm>
            <a:off x="6132600" y="457200"/>
            <a:ext cx="917640" cy="63504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未知"/>
          <p:cNvSpPr/>
          <p:nvPr/>
        </p:nvSpPr>
        <p:spPr>
          <a:xfrm>
            <a:off x="7107120" y="452520"/>
            <a:ext cx="930240" cy="64440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8cd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未知"/>
          <p:cNvSpPr/>
          <p:nvPr/>
        </p:nvSpPr>
        <p:spPr>
          <a:xfrm>
            <a:off x="8085240" y="457200"/>
            <a:ext cx="917640" cy="63648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5"/>
          <a:srcRect l="0" t="9828" r="0" b="10228"/>
          <a:stretch/>
        </p:blipFill>
        <p:spPr>
          <a:xfrm>
            <a:off x="6553080" y="0"/>
            <a:ext cx="2590920" cy="136692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未知"/>
          <p:cNvSpPr/>
          <p:nvPr/>
        </p:nvSpPr>
        <p:spPr>
          <a:xfrm>
            <a:off x="6153120" y="369720"/>
            <a:ext cx="2730600" cy="180828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未知"/>
          <p:cNvSpPr/>
          <p:nvPr/>
        </p:nvSpPr>
        <p:spPr>
          <a:xfrm>
            <a:off x="6151680" y="365040"/>
            <a:ext cx="2732040" cy="182268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未知"/>
          <p:cNvSpPr/>
          <p:nvPr/>
        </p:nvSpPr>
        <p:spPr>
          <a:xfrm>
            <a:off x="3244680" y="2398680"/>
            <a:ext cx="2718000" cy="180036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未知"/>
          <p:cNvSpPr/>
          <p:nvPr/>
        </p:nvSpPr>
        <p:spPr>
          <a:xfrm>
            <a:off x="324000" y="378000"/>
            <a:ext cx="2717640" cy="180000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未知"/>
          <p:cNvSpPr/>
          <p:nvPr/>
        </p:nvSpPr>
        <p:spPr>
          <a:xfrm>
            <a:off x="324000" y="4441680"/>
            <a:ext cx="2717640" cy="180036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未知"/>
          <p:cNvSpPr/>
          <p:nvPr/>
        </p:nvSpPr>
        <p:spPr>
          <a:xfrm>
            <a:off x="3236760" y="2394000"/>
            <a:ext cx="2725920" cy="181116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f4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未知"/>
          <p:cNvSpPr/>
          <p:nvPr/>
        </p:nvSpPr>
        <p:spPr>
          <a:xfrm>
            <a:off x="320760" y="4437000"/>
            <a:ext cx="2733480" cy="181152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8cd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未知"/>
          <p:cNvSpPr/>
          <p:nvPr/>
        </p:nvSpPr>
        <p:spPr>
          <a:xfrm>
            <a:off x="314280" y="372960"/>
            <a:ext cx="2732040" cy="180972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未知"/>
          <p:cNvSpPr/>
          <p:nvPr/>
        </p:nvSpPr>
        <p:spPr>
          <a:xfrm>
            <a:off x="3235320" y="378000"/>
            <a:ext cx="2727360" cy="180000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未知"/>
          <p:cNvSpPr/>
          <p:nvPr/>
        </p:nvSpPr>
        <p:spPr>
          <a:xfrm>
            <a:off x="6156360" y="2398680"/>
            <a:ext cx="2727360" cy="180036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未知"/>
          <p:cNvSpPr/>
          <p:nvPr/>
        </p:nvSpPr>
        <p:spPr>
          <a:xfrm>
            <a:off x="314280" y="2398680"/>
            <a:ext cx="2727360" cy="180036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72880" y="169560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0" y="428796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160ad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308280"/>
            <a:ext cx="21337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30828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308280"/>
            <a:ext cx="21337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94E0-F1F0-4502-A418-68EA01F59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720" y="62485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3160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981080" y="2057400"/>
            <a:ext cx="5149800" cy="536400"/>
          </a:xfrm>
          <a:prstGeom prst="roundRect">
            <a:avLst>
              <a:gd name="adj" fmla="val 16667"/>
            </a:avLst>
          </a:prstGeom>
          <a:solidFill>
            <a:srgbClr val="5cb1f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24240" y="4646520"/>
            <a:ext cx="407520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Describe contents for a Cha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24240" y="3502080"/>
            <a:ext cx="411660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49720" y="4530600"/>
            <a:ext cx="397980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2981160" cy="33418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438280" y="2075040"/>
            <a:ext cx="43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00160" y="2066760"/>
            <a:ext cx="5116680" cy="154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9ecfd"/>
              </a:gs>
              <a:gs pos="100000">
                <a:srgbClr val="5cb1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33640" y="216360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8cd3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943360" y="353700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4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71880" y="1641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cd32d"/>
              </a:gs>
              <a:gs pos="100000">
                <a:srgbClr val="5c8b1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71760" y="302256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45e5e"/>
              </a:gs>
              <a:gs pos="100000">
                <a:srgbClr val="88343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62240" y="493236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44118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9900"/>
              </a:gs>
              <a:gs pos="100000">
                <a:srgbClr val="9157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 rot="5400000">
            <a:off x="1915560" y="376380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 rot="5400000">
            <a:off x="1440360" y="535356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 rot="5400000">
            <a:off x="2549520" y="237960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5" name=""/>
          <p:cNvSpPr/>
          <p:nvPr/>
        </p:nvSpPr>
        <p:spPr>
          <a:xfrm>
            <a:off x="3238560" y="2203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38440" y="34941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48040" y="497052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95800" y="507060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73640" y="225252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755880" y="362268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1981080"/>
            <a:ext cx="2760480" cy="4079880"/>
          </a:xfrm>
          <a:prstGeom prst="rightArrow">
            <a:avLst>
              <a:gd name="adj1" fmla="val 62806"/>
              <a:gd name="adj2" fmla="val 32949"/>
            </a:avLst>
          </a:prstGeom>
          <a:solidFill>
            <a:srgbClr val="ffffff"/>
          </a:solidFill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080" y="2895480"/>
            <a:ext cx="22622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60a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160ad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60a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160ad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592440" y="2050920"/>
            <a:ext cx="4713480" cy="3868920"/>
          </a:xfrm>
          <a:prstGeom prst="roundRect">
            <a:avLst>
              <a:gd name="adj" fmla="val 3481"/>
            </a:avLst>
          </a:prstGeom>
          <a:solidFill>
            <a:srgbClr val="ffffff"/>
          </a:solidFill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664080" y="2192400"/>
            <a:ext cx="4544640" cy="1133280"/>
            <a:chOff x="3664080" y="2192400"/>
            <a:chExt cx="4544640" cy="1133280"/>
          </a:xfrm>
        </p:grpSpPr>
        <p:sp>
          <p:nvSpPr>
            <p:cNvPr id="396" name=""/>
            <p:cNvSpPr/>
            <p:nvPr/>
          </p:nvSpPr>
          <p:spPr>
            <a:xfrm>
              <a:off x="3707640" y="2192400"/>
              <a:ext cx="4501080" cy="11332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64080" y="2613960"/>
              <a:ext cx="492120" cy="351000"/>
            </a:xfrm>
            <a:prstGeom prst="rightArrow">
              <a:avLst>
                <a:gd name="adj1" fmla="val 50000"/>
                <a:gd name="adj2" fmla="val 5841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664080" y="3414600"/>
            <a:ext cx="4544640" cy="1133640"/>
            <a:chOff x="3664080" y="3414600"/>
            <a:chExt cx="4544640" cy="1133640"/>
          </a:xfrm>
        </p:grpSpPr>
        <p:sp>
          <p:nvSpPr>
            <p:cNvPr id="399" name=""/>
            <p:cNvSpPr/>
            <p:nvPr/>
          </p:nvSpPr>
          <p:spPr>
            <a:xfrm>
              <a:off x="3707640" y="3414600"/>
              <a:ext cx="4501080" cy="113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bdcdc"/>
                </a:gs>
                <a:gs pos="100000">
                  <a:srgbClr val="f4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64080" y="3844800"/>
              <a:ext cx="492120" cy="351720"/>
            </a:xfrm>
            <a:prstGeom prst="rightArrow">
              <a:avLst>
                <a:gd name="adj1" fmla="val 50000"/>
                <a:gd name="adj2" fmla="val 582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664080" y="4654440"/>
            <a:ext cx="4544640" cy="1133640"/>
            <a:chOff x="3664080" y="4654440"/>
            <a:chExt cx="4544640" cy="1133640"/>
          </a:xfrm>
        </p:grpSpPr>
        <p:sp>
          <p:nvSpPr>
            <p:cNvPr id="402" name=""/>
            <p:cNvSpPr/>
            <p:nvPr/>
          </p:nvSpPr>
          <p:spPr>
            <a:xfrm>
              <a:off x="3707640" y="4654440"/>
              <a:ext cx="4501080" cy="113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5f4d1"/>
                </a:gs>
                <a:gs pos="100000">
                  <a:srgbClr val="8cd3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64080" y="5076000"/>
              <a:ext cx="492120" cy="351360"/>
            </a:xfrm>
            <a:prstGeom prst="rightArrow">
              <a:avLst>
                <a:gd name="adj1" fmla="val 50000"/>
                <a:gd name="adj2" fmla="val 5835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295880" y="4807080"/>
            <a:ext cx="372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95880" y="3567240"/>
            <a:ext cx="372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295880" y="2344680"/>
            <a:ext cx="372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73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096920" y="3449520"/>
            <a:ext cx="1041480" cy="1099080"/>
            <a:chOff x="1096920" y="3449520"/>
            <a:chExt cx="1041480" cy="1099080"/>
          </a:xfrm>
        </p:grpSpPr>
        <p:pic>
          <p:nvPicPr>
            <p:cNvPr id="410" name="" descr=""/>
            <p:cNvPicPr/>
            <p:nvPr/>
          </p:nvPicPr>
          <p:blipFill>
            <a:blip r:embed="rId1"/>
            <a:stretch/>
          </p:blipFill>
          <p:spPr>
            <a:xfrm>
              <a:off x="1096920" y="344952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1096920" y="344952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f45e5e"/>
                </a:gs>
                <a:gs pos="50000">
                  <a:srgbClr val="fbdada"/>
                </a:gs>
                <a:gs pos="100000">
                  <a:srgbClr val="f4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1168200" y="4181040"/>
              <a:ext cx="916200" cy="367560"/>
              <a:chOff x="1168200" y="4181040"/>
              <a:chExt cx="916200" cy="36756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1328760" y="4181040"/>
                <a:ext cx="755640" cy="347400"/>
                <a:chOff x="1328760" y="4181040"/>
                <a:chExt cx="755640" cy="347400"/>
              </a:xfrm>
            </p:grpSpPr>
            <p:sp>
              <p:nvSpPr>
                <p:cNvPr id="414" name=""/>
                <p:cNvSpPr/>
                <p:nvPr/>
              </p:nvSpPr>
              <p:spPr>
                <a:xfrm flipH="1" flipV="1" rot="3964800">
                  <a:off x="1737360" y="40802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 flipV="1" rot="4780200">
                  <a:off x="1653480" y="41144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 rot="5076000">
                  <a:off x="1601280" y="412092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 flipV="1" rot="5608200">
                  <a:off x="1537560" y="41266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168200" y="4185720"/>
                <a:ext cx="754560" cy="362880"/>
                <a:chOff x="1168200" y="4185720"/>
                <a:chExt cx="754560" cy="362880"/>
              </a:xfrm>
            </p:grpSpPr>
            <p:sp>
              <p:nvSpPr>
                <p:cNvPr id="419" name=""/>
                <p:cNvSpPr/>
                <p:nvPr/>
              </p:nvSpPr>
              <p:spPr>
                <a:xfrm flipH="1" flipV="1" rot="5318400">
                  <a:off x="1578600" y="4127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H="1" flipV="1" rot="6133800">
                  <a:off x="1487160" y="41252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 flipV="1" rot="6429600">
                  <a:off x="1436400" y="41122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H="1" flipV="1" rot="6961800">
                  <a:off x="1376280" y="409248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3" name=""/>
          <p:cNvGrpSpPr/>
          <p:nvPr/>
        </p:nvGrpSpPr>
        <p:grpSpPr>
          <a:xfrm>
            <a:off x="3060720" y="3441600"/>
            <a:ext cx="1041480" cy="1099080"/>
            <a:chOff x="3060720" y="3441600"/>
            <a:chExt cx="1041480" cy="109908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3060720" y="344160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3060720" y="344160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8cd32d"/>
                </a:gs>
                <a:gs pos="50000">
                  <a:srgbClr val="e4f4cf"/>
                </a:gs>
                <a:gs pos="100000">
                  <a:srgbClr val="8cd3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3132000" y="4173120"/>
              <a:ext cx="916200" cy="367560"/>
              <a:chOff x="3132000" y="4173120"/>
              <a:chExt cx="916200" cy="3675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3292560" y="4173120"/>
                <a:ext cx="755640" cy="347400"/>
                <a:chOff x="3292560" y="4173120"/>
                <a:chExt cx="755640" cy="347400"/>
              </a:xfrm>
            </p:grpSpPr>
            <p:sp>
              <p:nvSpPr>
                <p:cNvPr id="428" name=""/>
                <p:cNvSpPr/>
                <p:nvPr/>
              </p:nvSpPr>
              <p:spPr>
                <a:xfrm flipH="1" flipV="1" rot="3964800">
                  <a:off x="3701160" y="407232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 flipV="1" rot="4780200">
                  <a:off x="3617280" y="410652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 flipV="1" rot="5076000">
                  <a:off x="3565080" y="411300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 flipV="1" rot="5608200">
                  <a:off x="3501360" y="41187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3132000" y="4177800"/>
                <a:ext cx="754560" cy="362880"/>
                <a:chOff x="3132000" y="4177800"/>
                <a:chExt cx="754560" cy="362880"/>
              </a:xfrm>
            </p:grpSpPr>
            <p:sp>
              <p:nvSpPr>
                <p:cNvPr id="433" name=""/>
                <p:cNvSpPr/>
                <p:nvPr/>
              </p:nvSpPr>
              <p:spPr>
                <a:xfrm flipH="1" flipV="1" rot="5318400">
                  <a:off x="3542400" y="411912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H="1" flipV="1" rot="6133800">
                  <a:off x="3450960" y="411732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H="1" flipV="1" rot="6429600">
                  <a:off x="3400200" y="41043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 flipV="1" rot="6961800">
                  <a:off x="3340080" y="408456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7" name=""/>
          <p:cNvGrpSpPr/>
          <p:nvPr/>
        </p:nvGrpSpPr>
        <p:grpSpPr>
          <a:xfrm>
            <a:off x="4998960" y="3452760"/>
            <a:ext cx="1041480" cy="1099800"/>
            <a:chOff x="4998960" y="3452760"/>
            <a:chExt cx="1041480" cy="1099800"/>
          </a:xfrm>
        </p:grpSpPr>
        <p:pic>
          <p:nvPicPr>
            <p:cNvPr id="438" name="" descr=""/>
            <p:cNvPicPr/>
            <p:nvPr/>
          </p:nvPicPr>
          <p:blipFill>
            <a:blip r:embed="rId3"/>
            <a:stretch/>
          </p:blipFill>
          <p:spPr>
            <a:xfrm>
              <a:off x="4998960" y="345276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4998960" y="345276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5cb1fe"/>
                </a:gs>
                <a:gs pos="50000">
                  <a:srgbClr val="d9ecfd"/>
                </a:gs>
                <a:gs pos="100000">
                  <a:srgbClr val="5cb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5069880" y="4183560"/>
              <a:ext cx="917280" cy="369000"/>
              <a:chOff x="5069880" y="4183560"/>
              <a:chExt cx="917280" cy="36900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5230800" y="4183560"/>
                <a:ext cx="756360" cy="348120"/>
                <a:chOff x="5230800" y="4183560"/>
                <a:chExt cx="756360" cy="348120"/>
              </a:xfrm>
            </p:grpSpPr>
            <p:sp>
              <p:nvSpPr>
                <p:cNvPr id="442" name=""/>
                <p:cNvSpPr/>
                <p:nvPr/>
              </p:nvSpPr>
              <p:spPr>
                <a:xfrm flipH="1" flipV="1" rot="3964800">
                  <a:off x="5639400" y="40831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H="1" flipV="1" rot="4780200">
                  <a:off x="5554440" y="41169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 flipV="1" rot="5076000">
                  <a:off x="5502600" y="41234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 flipV="1" rot="5608200">
                  <a:off x="5439240" y="41288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069880" y="4187880"/>
                <a:ext cx="754920" cy="364680"/>
                <a:chOff x="5069880" y="4187880"/>
                <a:chExt cx="754920" cy="364680"/>
              </a:xfrm>
            </p:grpSpPr>
            <p:sp>
              <p:nvSpPr>
                <p:cNvPr id="447" name=""/>
                <p:cNvSpPr/>
                <p:nvPr/>
              </p:nvSpPr>
              <p:spPr>
                <a:xfrm flipH="1" flipV="1" rot="5318400">
                  <a:off x="5480280" y="41299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 flipV="1" rot="6133800">
                  <a:off x="5388120" y="412920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 flipV="1" rot="6429600">
                  <a:off x="5338080" y="411408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 flipV="1" rot="6961800">
                  <a:off x="5276880" y="40957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1" name=""/>
          <p:cNvGrpSpPr/>
          <p:nvPr/>
        </p:nvGrpSpPr>
        <p:grpSpPr>
          <a:xfrm>
            <a:off x="6961320" y="3444840"/>
            <a:ext cx="1041120" cy="1099440"/>
            <a:chOff x="6961320" y="3444840"/>
            <a:chExt cx="1041120" cy="1099440"/>
          </a:xfrm>
        </p:grpSpPr>
        <p:pic>
          <p:nvPicPr>
            <p:cNvPr id="452" name="" descr=""/>
            <p:cNvPicPr/>
            <p:nvPr/>
          </p:nvPicPr>
          <p:blipFill>
            <a:blip r:embed="rId4"/>
            <a:stretch/>
          </p:blipFill>
          <p:spPr>
            <a:xfrm>
              <a:off x="6961320" y="344484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6961320" y="3444840"/>
              <a:ext cx="1034640" cy="10508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ee7c5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7032240" y="4175640"/>
              <a:ext cx="916920" cy="368640"/>
              <a:chOff x="7032240" y="4175640"/>
              <a:chExt cx="916920" cy="36864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7193160" y="4175640"/>
                <a:ext cx="756000" cy="348120"/>
                <a:chOff x="7193160" y="4175640"/>
                <a:chExt cx="756000" cy="348120"/>
              </a:xfrm>
            </p:grpSpPr>
            <p:sp>
              <p:nvSpPr>
                <p:cNvPr id="456" name=""/>
                <p:cNvSpPr/>
                <p:nvPr/>
              </p:nvSpPr>
              <p:spPr>
                <a:xfrm flipH="1" flipV="1" rot="3964800">
                  <a:off x="7601400" y="40752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 flipV="1" rot="4780200">
                  <a:off x="7517160" y="410940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 flipV="1" rot="5076000">
                  <a:off x="7464240" y="41155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 flipV="1" rot="5608200">
                  <a:off x="7401600" y="41209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7032240" y="4179960"/>
                <a:ext cx="754560" cy="364320"/>
                <a:chOff x="7032240" y="4179960"/>
                <a:chExt cx="754560" cy="364320"/>
              </a:xfrm>
            </p:grpSpPr>
            <p:sp>
              <p:nvSpPr>
                <p:cNvPr id="461" name=""/>
                <p:cNvSpPr/>
                <p:nvPr/>
              </p:nvSpPr>
              <p:spPr>
                <a:xfrm flipH="1" flipV="1" rot="5318400">
                  <a:off x="7442280" y="41220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 flipV="1" rot="6133800">
                  <a:off x="7350120" y="412056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 flipV="1" rot="6429600">
                  <a:off x="7299360" y="41065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 flipV="1" rot="6961800">
                  <a:off x="7239600" y="408816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65" name=""/>
          <p:cNvSpPr/>
          <p:nvPr/>
        </p:nvSpPr>
        <p:spPr>
          <a:xfrm>
            <a:off x="1612800" y="45975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857160" y="494172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44480" y="499572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45e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45e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45e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45e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093680" y="36687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049560" y="36687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997520" y="366876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945480" y="366876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480440" y="302256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6616440" y="302112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629400" y="174456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302256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2657160" y="302112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730600" y="174456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cd3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8cd3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8cd3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8cd3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495760" y="45975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4684680" y="49323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49760" y="499572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5cb1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5cb1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5cb1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5cb1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5"/>
          <a:stretch/>
        </p:blipFill>
        <p:spPr>
          <a:xfrm>
            <a:off x="1204920" y="346068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6"/>
          <a:stretch/>
        </p:blipFill>
        <p:spPr>
          <a:xfrm>
            <a:off x="3181320" y="345132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7"/>
          <a:stretch/>
        </p:blipFill>
        <p:spPr>
          <a:xfrm>
            <a:off x="5114880" y="347040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8"/>
          <a:stretch/>
        </p:blipFill>
        <p:spPr>
          <a:xfrm>
            <a:off x="7077240" y="346068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485" name=""/>
          <p:cNvGrpSpPr/>
          <p:nvPr/>
        </p:nvGrpSpPr>
        <p:grpSpPr>
          <a:xfrm>
            <a:off x="309600" y="3198960"/>
            <a:ext cx="8834400" cy="1536120"/>
            <a:chOff x="309600" y="3198960"/>
            <a:chExt cx="8834400" cy="1536120"/>
          </a:xfrm>
        </p:grpSpPr>
        <p:sp>
          <p:nvSpPr>
            <p:cNvPr id="486" name=""/>
            <p:cNvSpPr/>
            <p:nvPr/>
          </p:nvSpPr>
          <p:spPr>
            <a:xfrm>
              <a:off x="309600" y="3928680"/>
              <a:ext cx="681120" cy="7596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77320" y="3922560"/>
              <a:ext cx="1066680" cy="7596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95640" y="3928680"/>
              <a:ext cx="795240" cy="745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89320" y="3928680"/>
              <a:ext cx="725760" cy="745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129360" y="3928680"/>
              <a:ext cx="755640" cy="745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919600" y="3288960"/>
              <a:ext cx="1319040" cy="1446120"/>
            </a:xfrm>
            <a:prstGeom prst="blockArc">
              <a:avLst>
                <a:gd name="adj1" fmla="val 10846612"/>
                <a:gd name="adj2" fmla="val 21553388"/>
                <a:gd name="adj3" fmla="val 5616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21640" y="3288960"/>
              <a:ext cx="1319040" cy="1446120"/>
            </a:xfrm>
            <a:prstGeom prst="blockArc">
              <a:avLst>
                <a:gd name="adj1" fmla="val 10846612"/>
                <a:gd name="adj2" fmla="val 21553388"/>
                <a:gd name="adj3" fmla="val 5616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957240" y="3198960"/>
              <a:ext cx="1319400" cy="1445760"/>
            </a:xfrm>
            <a:prstGeom prst="blockArc">
              <a:avLst>
                <a:gd name="adj1" fmla="val 10846612"/>
                <a:gd name="adj2" fmla="val 21553388"/>
                <a:gd name="adj3" fmla="val 5616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4862520" y="3198960"/>
              <a:ext cx="1319400" cy="1445760"/>
            </a:xfrm>
            <a:prstGeom prst="blockArc">
              <a:avLst>
                <a:gd name="adj1" fmla="val 10846612"/>
                <a:gd name="adj2" fmla="val 21553388"/>
                <a:gd name="adj3" fmla="val 5616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8033600">
            <a:off x="1642680" y="1936440"/>
            <a:ext cx="5692680" cy="5629320"/>
          </a:xfrm>
          <a:prstGeom prst="blockArc">
            <a:avLst>
              <a:gd name="adj1" fmla="val 14417192"/>
              <a:gd name="adj2" fmla="val 17982808"/>
              <a:gd name="adj3" fmla="val 31153"/>
            </a:avLst>
          </a:prstGeom>
          <a:solidFill>
            <a:srgbClr val="ff9900">
              <a:alpha val="40000"/>
            </a:srgbClr>
          </a:solidFill>
          <a:ln w="28440">
            <a:solidFill>
              <a:srgbClr val="fe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663560" y="1916280"/>
            <a:ext cx="5631120" cy="5692680"/>
          </a:xfrm>
          <a:prstGeom prst="blockArc">
            <a:avLst>
              <a:gd name="adj1" fmla="val 14453867"/>
              <a:gd name="adj2" fmla="val 17946133"/>
              <a:gd name="adj3" fmla="val 31060"/>
            </a:avLst>
          </a:prstGeom>
          <a:solidFill>
            <a:srgbClr val="8cd32d">
              <a:alpha val="40000"/>
            </a:srgbClr>
          </a:solidFill>
          <a:ln w="28440">
            <a:solidFill>
              <a:srgbClr val="fe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3543600">
            <a:off x="1652760" y="1958400"/>
            <a:ext cx="5693040" cy="5630760"/>
          </a:xfrm>
          <a:prstGeom prst="blockArc">
            <a:avLst>
              <a:gd name="adj1" fmla="val 14334274"/>
              <a:gd name="adj2" fmla="val 18065726"/>
              <a:gd name="adj3" fmla="val 31000"/>
            </a:avLst>
          </a:prstGeom>
          <a:solidFill>
            <a:srgbClr val="f45e5e">
              <a:alpha val="40000"/>
            </a:srgbClr>
          </a:solidFill>
          <a:ln w="28440">
            <a:solidFill>
              <a:srgbClr val="fe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568680" y="2133720"/>
            <a:ext cx="188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3618000" y="3855960"/>
            <a:ext cx="1741320" cy="16970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3441600" y="3675240"/>
            <a:ext cx="2075040" cy="2001600"/>
          </a:xfrm>
          <a:prstGeom prst="blockArc">
            <a:avLst>
              <a:gd name="adj1" fmla="val 14384742"/>
              <a:gd name="adj2" fmla="val 18015258"/>
              <a:gd name="adj3" fmla="val 5375"/>
            </a:avLst>
          </a:prstGeom>
          <a:solidFill>
            <a:srgbClr val="8cd32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8061200">
            <a:off x="3364560" y="3724920"/>
            <a:ext cx="2098800" cy="1979640"/>
          </a:xfrm>
          <a:prstGeom prst="blockArc">
            <a:avLst>
              <a:gd name="adj1" fmla="val 14384742"/>
              <a:gd name="adj2" fmla="val 18015258"/>
              <a:gd name="adj3" fmla="val 5375"/>
            </a:avLst>
          </a:prstGeom>
          <a:solidFill>
            <a:srgbClr val="ff99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3532200">
            <a:off x="3516840" y="3744000"/>
            <a:ext cx="2095560" cy="1979640"/>
          </a:xfrm>
          <a:prstGeom prst="blockArc">
            <a:avLst>
              <a:gd name="adj1" fmla="val 14329156"/>
              <a:gd name="adj2" fmla="val 18070844"/>
              <a:gd name="adj3" fmla="val 4926"/>
            </a:avLst>
          </a:prstGeom>
          <a:solidFill>
            <a:srgbClr val="f45e5e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11680" y="44100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08000" y="351648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97400" y="351648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486400" y="5029200"/>
            <a:ext cx="282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5029200"/>
            <a:ext cx="282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546200" y="5594400"/>
            <a:ext cx="6073920" cy="693720"/>
          </a:xfrm>
          <a:prstGeom prst="roundRect">
            <a:avLst>
              <a:gd name="adj" fmla="val 27481"/>
            </a:avLst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649520" y="205740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897280" y="1819440"/>
            <a:ext cx="1658880" cy="1655640"/>
          </a:xfrm>
          <a:prstGeom prst="rtTriangle">
            <a:avLst/>
          </a:prstGeom>
          <a:gradFill rotWithShape="0">
            <a:gsLst>
              <a:gs pos="0">
                <a:srgbClr val="f45e5e"/>
              </a:gs>
              <a:gs pos="100000">
                <a:srgbClr val="f693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86400" y="1523880"/>
            <a:ext cx="0" cy="405792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606920" y="1819440"/>
            <a:ext cx="1660680" cy="1655640"/>
          </a:xfrm>
          <a:prstGeom prst="rtTriangle">
            <a:avLst/>
          </a:prstGeom>
          <a:gradFill rotWithShape="0">
            <a:gsLst>
              <a:gs pos="0">
                <a:srgbClr val="8cd32d"/>
              </a:gs>
              <a:gs pos="100000">
                <a:srgbClr val="bfe6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5400000">
            <a:off x="4608720" y="3535920"/>
            <a:ext cx="1657440" cy="1659240"/>
          </a:xfrm>
          <a:prstGeom prst="rtTriangle">
            <a:avLst/>
          </a:prstGeom>
          <a:gradFill rotWithShape="0">
            <a:gsLst>
              <a:gs pos="0">
                <a:srgbClr val="ff9900"/>
              </a:gs>
              <a:gs pos="100000">
                <a:srgbClr val="fec3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 rot="16200000">
            <a:off x="2899440" y="3536280"/>
            <a:ext cx="1657440" cy="1658880"/>
          </a:xfrm>
          <a:prstGeom prst="rtTriangle">
            <a:avLst/>
          </a:prstGeom>
          <a:gradFill rotWithShape="0">
            <a:gsLst>
              <a:gs pos="0">
                <a:srgbClr val="5cb1fe"/>
              </a:gs>
              <a:gs pos="100000">
                <a:srgbClr val="9bce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341440" y="3508200"/>
            <a:ext cx="4489560" cy="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16560" y="30178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38240" y="30178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38240" y="36133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758680" y="36133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293920" y="5622840"/>
            <a:ext cx="461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ease write down of contents explanation for Business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562720" y="193680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649520" y="431964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59400" y="431964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17480" y="2959200"/>
            <a:ext cx="7740720" cy="619200"/>
          </a:xfrm>
          <a:prstGeom prst="rect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706320" y="2959200"/>
            <a:ext cx="2053800" cy="618840"/>
            <a:chOff x="706320" y="2959200"/>
            <a:chExt cx="2053800" cy="618840"/>
          </a:xfrm>
        </p:grpSpPr>
        <p:sp>
          <p:nvSpPr>
            <p:cNvPr id="529" name=""/>
            <p:cNvSpPr/>
            <p:nvPr/>
          </p:nvSpPr>
          <p:spPr>
            <a:xfrm>
              <a:off x="706320" y="2959200"/>
              <a:ext cx="1916280" cy="618840"/>
            </a:xfrm>
            <a:prstGeom prst="rect">
              <a:avLst/>
            </a:prstGeom>
            <a:solidFill>
              <a:srgbClr val="f4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5400000">
              <a:off x="2520360" y="317412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f4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2620800" y="3090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28640" y="306540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192560" y="31258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5cb1fe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3090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221520" y="31258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5cb1fe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59560" y="3090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03320" y="3708360"/>
            <a:ext cx="1114560" cy="1114560"/>
          </a:xfrm>
          <a:prstGeom prst="diamond">
            <a:avLst/>
          </a:prstGeom>
          <a:solidFill>
            <a:srgbClr val="f4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984400" y="3708360"/>
            <a:ext cx="1114560" cy="1114560"/>
          </a:xfrm>
          <a:prstGeom prst="diamond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975200" y="3708360"/>
            <a:ext cx="1114560" cy="1114560"/>
          </a:xfrm>
          <a:prstGeom prst="diamond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918480" y="3708360"/>
            <a:ext cx="1114200" cy="1114560"/>
          </a:xfrm>
          <a:prstGeom prst="diamond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37" idx="3"/>
            <a:endCxn id="538" idx="1"/>
          </p:cNvCxnSpPr>
          <p:nvPr/>
        </p:nvCxnSpPr>
        <p:spPr>
          <a:xfrm>
            <a:off x="2117520" y="42652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542" name=""/>
          <p:cNvCxnSpPr>
            <a:stCxn id="538" idx="3"/>
            <a:endCxn id="539" idx="1"/>
          </p:cNvCxnSpPr>
          <p:nvPr/>
        </p:nvCxnSpPr>
        <p:spPr>
          <a:xfrm>
            <a:off x="4098960" y="42652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543" name=""/>
          <p:cNvCxnSpPr>
            <a:stCxn id="539" idx="3"/>
            <a:endCxn id="540" idx="1"/>
          </p:cNvCxnSpPr>
          <p:nvPr/>
        </p:nvCxnSpPr>
        <p:spPr>
          <a:xfrm>
            <a:off x="6089760" y="42652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544" name=""/>
          <p:cNvSpPr/>
          <p:nvPr/>
        </p:nvSpPr>
        <p:spPr>
          <a:xfrm>
            <a:off x="1106640" y="40338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95640" y="40338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105520" y="40338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58160" y="40338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49160" y="491328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692440" y="491328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7000" y="491328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54960" y="491328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219320" y="2133720"/>
            <a:ext cx="6705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914400" y="5486400"/>
            <a:ext cx="7061040" cy="914400"/>
          </a:xfrm>
          <a:prstGeom prst="roundRect">
            <a:avLst>
              <a:gd name="adj" fmla="val 15278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915840" y="1909800"/>
            <a:ext cx="3343320" cy="1376280"/>
          </a:xfrm>
          <a:prstGeom prst="rect">
            <a:avLst/>
          </a:prstGeom>
          <a:gradFill rotWithShape="0">
            <a:gsLst>
              <a:gs pos="0">
                <a:srgbClr val="8cd32d"/>
              </a:gs>
              <a:gs pos="100000">
                <a:srgbClr val="77b4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073320" y="2017800"/>
            <a:ext cx="111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10160" y="1905120"/>
            <a:ext cx="3467160" cy="137628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4e97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686480" y="2016000"/>
            <a:ext cx="11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914400" y="3681360"/>
            <a:ext cx="3344760" cy="1374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da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59120" y="4627440"/>
            <a:ext cx="14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614840" y="3683160"/>
            <a:ext cx="3470400" cy="1366560"/>
          </a:xfrm>
          <a:prstGeom prst="rect">
            <a:avLst/>
          </a:prstGeom>
          <a:gradFill rotWithShape="0">
            <a:gsLst>
              <a:gs pos="0">
                <a:srgbClr val="f45e5e"/>
              </a:gs>
              <a:gs pos="100000">
                <a:srgbClr val="d05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621320" y="4649760"/>
            <a:ext cx="125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958680" y="3844800"/>
            <a:ext cx="2032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73080" y="2017800"/>
            <a:ext cx="19479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826240" y="2057400"/>
            <a:ext cx="210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08680" y="3884760"/>
            <a:ext cx="20210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4861080" y="3828960"/>
            <a:ext cx="742320" cy="744120"/>
            <a:chOff x="4861080" y="3828960"/>
            <a:chExt cx="742320" cy="744120"/>
          </a:xfrm>
        </p:grpSpPr>
        <p:sp>
          <p:nvSpPr>
            <p:cNvPr id="568" name="未知"/>
            <p:cNvSpPr/>
            <p:nvPr/>
          </p:nvSpPr>
          <p:spPr>
            <a:xfrm>
              <a:off x="4861080" y="3828960"/>
              <a:ext cx="742320" cy="7441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5049000" y="4063680"/>
              <a:ext cx="367920" cy="34452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3222720" y="2411280"/>
            <a:ext cx="763200" cy="750600"/>
            <a:chOff x="3222720" y="2411280"/>
            <a:chExt cx="763200" cy="750600"/>
          </a:xfrm>
        </p:grpSpPr>
        <p:sp>
          <p:nvSpPr>
            <p:cNvPr id="571" name="未知"/>
            <p:cNvSpPr/>
            <p:nvPr/>
          </p:nvSpPr>
          <p:spPr>
            <a:xfrm>
              <a:off x="3611880" y="2433240"/>
              <a:ext cx="357120" cy="281520"/>
            </a:xfrm>
            <a:custGeom>
              <a:avLst/>
              <a:gdLst/>
              <a:ahLst/>
              <a:rect l="l" t="t" r="r" b="b"/>
              <a:pathLst>
                <a:path w="190" h="152">
                  <a:moveTo>
                    <a:pt x="34" y="15"/>
                  </a:moveTo>
                  <a:lnTo>
                    <a:pt x="40" y="17"/>
                  </a:lnTo>
                  <a:lnTo>
                    <a:pt x="46" y="18"/>
                  </a:lnTo>
                  <a:lnTo>
                    <a:pt x="51" y="23"/>
                  </a:lnTo>
                  <a:lnTo>
                    <a:pt x="55" y="27"/>
                  </a:lnTo>
                  <a:lnTo>
                    <a:pt x="57" y="33"/>
                  </a:lnTo>
                  <a:lnTo>
                    <a:pt x="58" y="39"/>
                  </a:lnTo>
                  <a:lnTo>
                    <a:pt x="58" y="51"/>
                  </a:lnTo>
                  <a:lnTo>
                    <a:pt x="58" y="57"/>
                  </a:lnTo>
                  <a:lnTo>
                    <a:pt x="55" y="62"/>
                  </a:lnTo>
                  <a:lnTo>
                    <a:pt x="54" y="66"/>
                  </a:lnTo>
                  <a:lnTo>
                    <a:pt x="60" y="69"/>
                  </a:lnTo>
                  <a:lnTo>
                    <a:pt x="66" y="72"/>
                  </a:lnTo>
                  <a:lnTo>
                    <a:pt x="70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82" y="72"/>
                  </a:lnTo>
                  <a:lnTo>
                    <a:pt x="87" y="75"/>
                  </a:lnTo>
                  <a:lnTo>
                    <a:pt x="93" y="78"/>
                  </a:lnTo>
                  <a:lnTo>
                    <a:pt x="96" y="83"/>
                  </a:lnTo>
                  <a:lnTo>
                    <a:pt x="99" y="89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118" y="119"/>
                  </a:lnTo>
                  <a:lnTo>
                    <a:pt x="132" y="146"/>
                  </a:lnTo>
                  <a:lnTo>
                    <a:pt x="145" y="146"/>
                  </a:lnTo>
                  <a:lnTo>
                    <a:pt x="156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75" y="147"/>
                  </a:lnTo>
                  <a:lnTo>
                    <a:pt x="190" y="152"/>
                  </a:lnTo>
                  <a:lnTo>
                    <a:pt x="180" y="116"/>
                  </a:lnTo>
                  <a:lnTo>
                    <a:pt x="162" y="84"/>
                  </a:lnTo>
                  <a:lnTo>
                    <a:pt x="139" y="56"/>
                  </a:lnTo>
                  <a:lnTo>
                    <a:pt x="111" y="33"/>
                  </a:lnTo>
                  <a:lnTo>
                    <a:pt x="79" y="15"/>
                  </a:lnTo>
                  <a:lnTo>
                    <a:pt x="43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9" y="15"/>
                  </a:lnTo>
                  <a:lnTo>
                    <a:pt x="30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3306960" y="2867400"/>
              <a:ext cx="204840" cy="24228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40" y="0"/>
                  </a:moveTo>
                  <a:lnTo>
                    <a:pt x="33" y="11"/>
                  </a:lnTo>
                  <a:lnTo>
                    <a:pt x="25" y="21"/>
                  </a:lnTo>
                  <a:lnTo>
                    <a:pt x="16" y="32"/>
                  </a:lnTo>
                  <a:lnTo>
                    <a:pt x="12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3" y="45"/>
                  </a:lnTo>
                  <a:lnTo>
                    <a:pt x="0" y="47"/>
                  </a:lnTo>
                  <a:lnTo>
                    <a:pt x="18" y="74"/>
                  </a:lnTo>
                  <a:lnTo>
                    <a:pt x="39" y="96"/>
                  </a:lnTo>
                  <a:lnTo>
                    <a:pt x="63" y="116"/>
                  </a:lnTo>
                  <a:lnTo>
                    <a:pt x="90" y="131"/>
                  </a:lnTo>
                  <a:lnTo>
                    <a:pt x="100" y="104"/>
                  </a:lnTo>
                  <a:lnTo>
                    <a:pt x="109" y="77"/>
                  </a:lnTo>
                  <a:lnTo>
                    <a:pt x="87" y="63"/>
                  </a:lnTo>
                  <a:lnTo>
                    <a:pt x="67" y="45"/>
                  </a:lnTo>
                  <a:lnTo>
                    <a:pt x="52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3306960" y="2464920"/>
              <a:ext cx="204840" cy="24084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9" y="90"/>
                  </a:moveTo>
                  <a:lnTo>
                    <a:pt x="12" y="93"/>
                  </a:lnTo>
                  <a:lnTo>
                    <a:pt x="16" y="99"/>
                  </a:lnTo>
                  <a:lnTo>
                    <a:pt x="25" y="109"/>
                  </a:lnTo>
                  <a:lnTo>
                    <a:pt x="33" y="120"/>
                  </a:lnTo>
                  <a:lnTo>
                    <a:pt x="40" y="130"/>
                  </a:lnTo>
                  <a:lnTo>
                    <a:pt x="52" y="106"/>
                  </a:lnTo>
                  <a:lnTo>
                    <a:pt x="67" y="85"/>
                  </a:lnTo>
                  <a:lnTo>
                    <a:pt x="87" y="67"/>
                  </a:lnTo>
                  <a:lnTo>
                    <a:pt x="109" y="54"/>
                  </a:lnTo>
                  <a:lnTo>
                    <a:pt x="100" y="27"/>
                  </a:lnTo>
                  <a:lnTo>
                    <a:pt x="90" y="0"/>
                  </a:lnTo>
                  <a:lnTo>
                    <a:pt x="63" y="15"/>
                  </a:lnTo>
                  <a:lnTo>
                    <a:pt x="39" y="34"/>
                  </a:lnTo>
                  <a:lnTo>
                    <a:pt x="18" y="57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9" y="9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3611880" y="2859840"/>
              <a:ext cx="357120" cy="279720"/>
            </a:xfrm>
            <a:custGeom>
              <a:avLst/>
              <a:gdLst/>
              <a:ahLst/>
              <a:rect l="l" t="t" r="r" b="b"/>
              <a:pathLst>
                <a:path w="190" h="151">
                  <a:moveTo>
                    <a:pt x="132" y="6"/>
                  </a:moveTo>
                  <a:lnTo>
                    <a:pt x="118" y="33"/>
                  </a:lnTo>
                  <a:lnTo>
                    <a:pt x="99" y="55"/>
                  </a:lnTo>
                  <a:lnTo>
                    <a:pt x="99" y="57"/>
                  </a:lnTo>
                  <a:lnTo>
                    <a:pt x="99" y="63"/>
                  </a:lnTo>
                  <a:lnTo>
                    <a:pt x="96" y="69"/>
                  </a:lnTo>
                  <a:lnTo>
                    <a:pt x="93" y="73"/>
                  </a:lnTo>
                  <a:lnTo>
                    <a:pt x="87" y="76"/>
                  </a:lnTo>
                  <a:lnTo>
                    <a:pt x="82" y="79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0" y="81"/>
                  </a:lnTo>
                  <a:lnTo>
                    <a:pt x="66" y="81"/>
                  </a:lnTo>
                  <a:lnTo>
                    <a:pt x="60" y="82"/>
                  </a:lnTo>
                  <a:lnTo>
                    <a:pt x="54" y="85"/>
                  </a:lnTo>
                  <a:lnTo>
                    <a:pt x="55" y="90"/>
                  </a:lnTo>
                  <a:lnTo>
                    <a:pt x="58" y="94"/>
                  </a:lnTo>
                  <a:lnTo>
                    <a:pt x="58" y="100"/>
                  </a:lnTo>
                  <a:lnTo>
                    <a:pt x="58" y="112"/>
                  </a:lnTo>
                  <a:lnTo>
                    <a:pt x="57" y="118"/>
                  </a:lnTo>
                  <a:lnTo>
                    <a:pt x="55" y="124"/>
                  </a:lnTo>
                  <a:lnTo>
                    <a:pt x="51" y="129"/>
                  </a:lnTo>
                  <a:lnTo>
                    <a:pt x="46" y="133"/>
                  </a:lnTo>
                  <a:lnTo>
                    <a:pt x="40" y="135"/>
                  </a:lnTo>
                  <a:lnTo>
                    <a:pt x="34" y="136"/>
                  </a:lnTo>
                  <a:lnTo>
                    <a:pt x="30" y="136"/>
                  </a:lnTo>
                  <a:lnTo>
                    <a:pt x="19" y="136"/>
                  </a:lnTo>
                  <a:lnTo>
                    <a:pt x="9" y="136"/>
                  </a:lnTo>
                  <a:lnTo>
                    <a:pt x="4" y="144"/>
                  </a:lnTo>
                  <a:lnTo>
                    <a:pt x="0" y="150"/>
                  </a:lnTo>
                  <a:lnTo>
                    <a:pt x="3" y="151"/>
                  </a:lnTo>
                  <a:lnTo>
                    <a:pt x="6" y="151"/>
                  </a:lnTo>
                  <a:lnTo>
                    <a:pt x="43" y="147"/>
                  </a:lnTo>
                  <a:lnTo>
                    <a:pt x="79" y="136"/>
                  </a:lnTo>
                  <a:lnTo>
                    <a:pt x="111" y="118"/>
                  </a:lnTo>
                  <a:lnTo>
                    <a:pt x="139" y="96"/>
                  </a:lnTo>
                  <a:lnTo>
                    <a:pt x="162" y="67"/>
                  </a:lnTo>
                  <a:lnTo>
                    <a:pt x="180" y="36"/>
                  </a:lnTo>
                  <a:lnTo>
                    <a:pt x="190" y="0"/>
                  </a:lnTo>
                  <a:lnTo>
                    <a:pt x="175" y="4"/>
                  </a:lnTo>
                  <a:lnTo>
                    <a:pt x="160" y="6"/>
                  </a:lnTo>
                  <a:lnTo>
                    <a:pt x="156" y="6"/>
                  </a:lnTo>
                  <a:lnTo>
                    <a:pt x="145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3222720" y="2411280"/>
              <a:ext cx="763200" cy="750600"/>
            </a:xfrm>
            <a:custGeom>
              <a:avLst/>
              <a:gdLst/>
              <a:ahLst/>
              <a:rect l="l" t="t" r="r" b="b"/>
              <a:pathLst>
                <a:path w="406" h="405">
                  <a:moveTo>
                    <a:pt x="360" y="174"/>
                  </a:moveTo>
                  <a:lnTo>
                    <a:pt x="294" y="173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77" y="128"/>
                  </a:lnTo>
                  <a:lnTo>
                    <a:pt x="280" y="126"/>
                  </a:lnTo>
                  <a:lnTo>
                    <a:pt x="282" y="123"/>
                  </a:lnTo>
                  <a:lnTo>
                    <a:pt x="282" y="120"/>
                  </a:lnTo>
                  <a:lnTo>
                    <a:pt x="282" y="107"/>
                  </a:lnTo>
                  <a:lnTo>
                    <a:pt x="282" y="104"/>
                  </a:lnTo>
                  <a:lnTo>
                    <a:pt x="280" y="101"/>
                  </a:lnTo>
                  <a:lnTo>
                    <a:pt x="277" y="99"/>
                  </a:lnTo>
                  <a:lnTo>
                    <a:pt x="274" y="99"/>
                  </a:lnTo>
                  <a:lnTo>
                    <a:pt x="238" y="99"/>
                  </a:lnTo>
                  <a:lnTo>
                    <a:pt x="220" y="72"/>
                  </a:lnTo>
                  <a:lnTo>
                    <a:pt x="232" y="72"/>
                  </a:lnTo>
                  <a:lnTo>
                    <a:pt x="235" y="72"/>
                  </a:lnTo>
                  <a:lnTo>
                    <a:pt x="238" y="69"/>
                  </a:lnTo>
                  <a:lnTo>
                    <a:pt x="241" y="68"/>
                  </a:lnTo>
                  <a:lnTo>
                    <a:pt x="241" y="63"/>
                  </a:lnTo>
                  <a:lnTo>
                    <a:pt x="241" y="51"/>
                  </a:lnTo>
                  <a:lnTo>
                    <a:pt x="241" y="48"/>
                  </a:lnTo>
                  <a:lnTo>
                    <a:pt x="238" y="45"/>
                  </a:lnTo>
                  <a:lnTo>
                    <a:pt x="235" y="44"/>
                  </a:lnTo>
                  <a:lnTo>
                    <a:pt x="232" y="42"/>
                  </a:lnTo>
                  <a:lnTo>
                    <a:pt x="199" y="42"/>
                  </a:lnTo>
                  <a:lnTo>
                    <a:pt x="195" y="35"/>
                  </a:lnTo>
                  <a:lnTo>
                    <a:pt x="189" y="26"/>
                  </a:lnTo>
                  <a:lnTo>
                    <a:pt x="181" y="17"/>
                  </a:lnTo>
                  <a:lnTo>
                    <a:pt x="175" y="9"/>
                  </a:lnTo>
                  <a:lnTo>
                    <a:pt x="172" y="5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35" y="5"/>
                  </a:lnTo>
                  <a:lnTo>
                    <a:pt x="138" y="15"/>
                  </a:lnTo>
                  <a:lnTo>
                    <a:pt x="144" y="30"/>
                  </a:lnTo>
                  <a:lnTo>
                    <a:pt x="150" y="48"/>
                  </a:lnTo>
                  <a:lnTo>
                    <a:pt x="157" y="69"/>
                  </a:lnTo>
                  <a:lnTo>
                    <a:pt x="165" y="92"/>
                  </a:lnTo>
                  <a:lnTo>
                    <a:pt x="172" y="113"/>
                  </a:lnTo>
                  <a:lnTo>
                    <a:pt x="180" y="132"/>
                  </a:lnTo>
                  <a:lnTo>
                    <a:pt x="184" y="149"/>
                  </a:lnTo>
                  <a:lnTo>
                    <a:pt x="189" y="159"/>
                  </a:lnTo>
                  <a:lnTo>
                    <a:pt x="190" y="165"/>
                  </a:lnTo>
                  <a:lnTo>
                    <a:pt x="186" y="170"/>
                  </a:lnTo>
                  <a:lnTo>
                    <a:pt x="175" y="174"/>
                  </a:lnTo>
                  <a:lnTo>
                    <a:pt x="160" y="177"/>
                  </a:lnTo>
                  <a:lnTo>
                    <a:pt x="142" y="180"/>
                  </a:lnTo>
                  <a:lnTo>
                    <a:pt x="124" y="182"/>
                  </a:lnTo>
                  <a:lnTo>
                    <a:pt x="106" y="182"/>
                  </a:lnTo>
                  <a:lnTo>
                    <a:pt x="91" y="183"/>
                  </a:lnTo>
                  <a:lnTo>
                    <a:pt x="81" y="183"/>
                  </a:lnTo>
                  <a:lnTo>
                    <a:pt x="76" y="183"/>
                  </a:lnTo>
                  <a:lnTo>
                    <a:pt x="33" y="128"/>
                  </a:lnTo>
                  <a:lnTo>
                    <a:pt x="4" y="128"/>
                  </a:lnTo>
                  <a:lnTo>
                    <a:pt x="21" y="192"/>
                  </a:lnTo>
                  <a:lnTo>
                    <a:pt x="0" y="203"/>
                  </a:lnTo>
                  <a:lnTo>
                    <a:pt x="21" y="213"/>
                  </a:lnTo>
                  <a:lnTo>
                    <a:pt x="4" y="278"/>
                  </a:lnTo>
                  <a:lnTo>
                    <a:pt x="33" y="278"/>
                  </a:lnTo>
                  <a:lnTo>
                    <a:pt x="76" y="222"/>
                  </a:lnTo>
                  <a:lnTo>
                    <a:pt x="81" y="222"/>
                  </a:lnTo>
                  <a:lnTo>
                    <a:pt x="91" y="222"/>
                  </a:lnTo>
                  <a:lnTo>
                    <a:pt x="106" y="224"/>
                  </a:lnTo>
                  <a:lnTo>
                    <a:pt x="124" y="224"/>
                  </a:lnTo>
                  <a:lnTo>
                    <a:pt x="142" y="225"/>
                  </a:lnTo>
                  <a:lnTo>
                    <a:pt x="160" y="228"/>
                  </a:lnTo>
                  <a:lnTo>
                    <a:pt x="175" y="231"/>
                  </a:lnTo>
                  <a:lnTo>
                    <a:pt x="186" y="236"/>
                  </a:lnTo>
                  <a:lnTo>
                    <a:pt x="190" y="240"/>
                  </a:lnTo>
                  <a:lnTo>
                    <a:pt x="189" y="246"/>
                  </a:lnTo>
                  <a:lnTo>
                    <a:pt x="184" y="257"/>
                  </a:lnTo>
                  <a:lnTo>
                    <a:pt x="180" y="273"/>
                  </a:lnTo>
                  <a:lnTo>
                    <a:pt x="172" y="293"/>
                  </a:lnTo>
                  <a:lnTo>
                    <a:pt x="165" y="314"/>
                  </a:lnTo>
                  <a:lnTo>
                    <a:pt x="157" y="336"/>
                  </a:lnTo>
                  <a:lnTo>
                    <a:pt x="150" y="357"/>
                  </a:lnTo>
                  <a:lnTo>
                    <a:pt x="144" y="375"/>
                  </a:lnTo>
                  <a:lnTo>
                    <a:pt x="138" y="390"/>
                  </a:lnTo>
                  <a:lnTo>
                    <a:pt x="135" y="401"/>
                  </a:lnTo>
                  <a:lnTo>
                    <a:pt x="133" y="405"/>
                  </a:lnTo>
                  <a:lnTo>
                    <a:pt x="151" y="405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65" y="404"/>
                  </a:lnTo>
                  <a:lnTo>
                    <a:pt x="169" y="404"/>
                  </a:lnTo>
                  <a:lnTo>
                    <a:pt x="172" y="401"/>
                  </a:lnTo>
                  <a:lnTo>
                    <a:pt x="175" y="396"/>
                  </a:lnTo>
                  <a:lnTo>
                    <a:pt x="181" y="389"/>
                  </a:lnTo>
                  <a:lnTo>
                    <a:pt x="189" y="380"/>
                  </a:lnTo>
                  <a:lnTo>
                    <a:pt x="195" y="371"/>
                  </a:lnTo>
                  <a:lnTo>
                    <a:pt x="199" y="363"/>
                  </a:lnTo>
                  <a:lnTo>
                    <a:pt x="232" y="363"/>
                  </a:lnTo>
                  <a:lnTo>
                    <a:pt x="235" y="362"/>
                  </a:lnTo>
                  <a:lnTo>
                    <a:pt x="238" y="360"/>
                  </a:lnTo>
                  <a:lnTo>
                    <a:pt x="241" y="357"/>
                  </a:lnTo>
                  <a:lnTo>
                    <a:pt x="241" y="354"/>
                  </a:lnTo>
                  <a:lnTo>
                    <a:pt x="241" y="342"/>
                  </a:lnTo>
                  <a:lnTo>
                    <a:pt x="241" y="338"/>
                  </a:lnTo>
                  <a:lnTo>
                    <a:pt x="238" y="336"/>
                  </a:lnTo>
                  <a:lnTo>
                    <a:pt x="235" y="333"/>
                  </a:lnTo>
                  <a:lnTo>
                    <a:pt x="232" y="333"/>
                  </a:lnTo>
                  <a:lnTo>
                    <a:pt x="220" y="333"/>
                  </a:lnTo>
                  <a:lnTo>
                    <a:pt x="238" y="306"/>
                  </a:lnTo>
                  <a:lnTo>
                    <a:pt x="274" y="306"/>
                  </a:lnTo>
                  <a:lnTo>
                    <a:pt x="277" y="306"/>
                  </a:lnTo>
                  <a:lnTo>
                    <a:pt x="280" y="305"/>
                  </a:lnTo>
                  <a:lnTo>
                    <a:pt x="282" y="302"/>
                  </a:lnTo>
                  <a:lnTo>
                    <a:pt x="282" y="299"/>
                  </a:lnTo>
                  <a:lnTo>
                    <a:pt x="282" y="285"/>
                  </a:lnTo>
                  <a:lnTo>
                    <a:pt x="282" y="282"/>
                  </a:lnTo>
                  <a:lnTo>
                    <a:pt x="280" y="279"/>
                  </a:lnTo>
                  <a:lnTo>
                    <a:pt x="277" y="278"/>
                  </a:lnTo>
                  <a:lnTo>
                    <a:pt x="274" y="276"/>
                  </a:lnTo>
                  <a:lnTo>
                    <a:pt x="259" y="276"/>
                  </a:lnTo>
                  <a:lnTo>
                    <a:pt x="294" y="233"/>
                  </a:lnTo>
                  <a:lnTo>
                    <a:pt x="360" y="233"/>
                  </a:lnTo>
                  <a:lnTo>
                    <a:pt x="367" y="231"/>
                  </a:lnTo>
                  <a:lnTo>
                    <a:pt x="376" y="230"/>
                  </a:lnTo>
                  <a:lnTo>
                    <a:pt x="387" y="227"/>
                  </a:lnTo>
                  <a:lnTo>
                    <a:pt x="397" y="221"/>
                  </a:lnTo>
                  <a:lnTo>
                    <a:pt x="403" y="213"/>
                  </a:lnTo>
                  <a:lnTo>
                    <a:pt x="406" y="203"/>
                  </a:lnTo>
                  <a:lnTo>
                    <a:pt x="403" y="192"/>
                  </a:lnTo>
                  <a:lnTo>
                    <a:pt x="397" y="185"/>
                  </a:lnTo>
                  <a:lnTo>
                    <a:pt x="387" y="179"/>
                  </a:lnTo>
                  <a:lnTo>
                    <a:pt x="376" y="176"/>
                  </a:lnTo>
                  <a:lnTo>
                    <a:pt x="367" y="174"/>
                  </a:lnTo>
                  <a:lnTo>
                    <a:pt x="360" y="17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209760" y="3817800"/>
            <a:ext cx="744480" cy="741240"/>
            <a:chOff x="3209760" y="3817800"/>
            <a:chExt cx="744480" cy="741240"/>
          </a:xfrm>
        </p:grpSpPr>
        <p:sp>
          <p:nvSpPr>
            <p:cNvPr id="577" name="未知"/>
            <p:cNvSpPr/>
            <p:nvPr/>
          </p:nvSpPr>
          <p:spPr>
            <a:xfrm>
              <a:off x="3209760" y="3817800"/>
              <a:ext cx="744480" cy="74124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8f8f8"/>
            </a:solidFill>
            <a:ln w="1908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3535920" y="3964320"/>
              <a:ext cx="255600" cy="41508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3321720" y="4080240"/>
              <a:ext cx="184680" cy="20484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4851360" y="2440080"/>
            <a:ext cx="740880" cy="740880"/>
            <a:chOff x="4851360" y="2440080"/>
            <a:chExt cx="740880" cy="740880"/>
          </a:xfrm>
        </p:grpSpPr>
        <p:sp>
          <p:nvSpPr>
            <p:cNvPr id="581" name="未知"/>
            <p:cNvSpPr/>
            <p:nvPr/>
          </p:nvSpPr>
          <p:spPr>
            <a:xfrm>
              <a:off x="4851360" y="2440080"/>
              <a:ext cx="740880" cy="3704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4942800" y="2562840"/>
              <a:ext cx="279000" cy="4950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4851360" y="2810520"/>
              <a:ext cx="740880" cy="3704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1317600" y="5667480"/>
            <a:ext cx="62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586" name="未知"/>
          <p:cNvSpPr/>
          <p:nvPr/>
        </p:nvSpPr>
        <p:spPr>
          <a:xfrm flipH="1" flipV="1">
            <a:off x="721800" y="4151160"/>
            <a:ext cx="7607520" cy="194472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8cd32d"/>
              </a:gs>
              <a:gs pos="100000">
                <a:srgbClr val="40611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未知"/>
          <p:cNvSpPr/>
          <p:nvPr/>
        </p:nvSpPr>
        <p:spPr>
          <a:xfrm>
            <a:off x="708120" y="1981080"/>
            <a:ext cx="7607160" cy="211788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f45e5e"/>
              </a:gs>
              <a:gs pos="100000">
                <a:srgbClr val="702b2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28800" y="32608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770200" y="32608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600440" y="32608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442200" y="32608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49160" y="2109960"/>
            <a:ext cx="221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50760" y="38163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040440" y="5638680"/>
            <a:ext cx="2219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123720" y="28065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"/>
          <p:cNvCxnSpPr>
            <a:stCxn id="588" idx="0"/>
            <a:endCxn id="595" idx="1"/>
          </p:cNvCxnSpPr>
          <p:nvPr/>
        </p:nvCxnSpPr>
        <p:spPr>
          <a:xfrm flipH="1" flipV="1" rot="5400000">
            <a:off x="2292840" y="2432520"/>
            <a:ext cx="286560" cy="137088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597" name=""/>
          <p:cNvCxnSpPr>
            <a:stCxn id="591" idx="0"/>
            <a:endCxn id="595" idx="3"/>
          </p:cNvCxnSpPr>
          <p:nvPr/>
        </p:nvCxnSpPr>
        <p:spPr>
          <a:xfrm flipV="1" rot="16200000">
            <a:off x="6344640" y="2341080"/>
            <a:ext cx="286560" cy="155340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588" idx="2"/>
            <a:endCxn id="589" idx="2"/>
          </p:cNvCxnSpPr>
          <p:nvPr/>
        </p:nvCxnSpPr>
        <p:spPr>
          <a:xfrm flipH="1" rot="16200000">
            <a:off x="2670120" y="398052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99" name=""/>
          <p:cNvCxnSpPr>
            <a:stCxn id="590" idx="2"/>
            <a:endCxn id="591" idx="2"/>
          </p:cNvCxnSpPr>
          <p:nvPr/>
        </p:nvCxnSpPr>
        <p:spPr>
          <a:xfrm flipH="1" rot="16200000">
            <a:off x="6342120" y="398052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00" name=""/>
          <p:cNvSpPr/>
          <p:nvPr/>
        </p:nvSpPr>
        <p:spPr>
          <a:xfrm>
            <a:off x="2776680" y="38163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605480" y="38163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454800" y="38163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18440" y="34495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60ad"/>
                </a:solidFill>
                <a:latin typeface="Arial"/>
              </a:rPr>
              <a:t>1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863080" y="34495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60ad"/>
                </a:solidFill>
                <a:latin typeface="Arial"/>
              </a:rPr>
              <a:t>2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93680" y="34495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60ad"/>
                </a:solidFill>
                <a:latin typeface="Arial"/>
              </a:rPr>
              <a:t>3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531840" y="34495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60ad"/>
                </a:solidFill>
                <a:latin typeface="Arial"/>
              </a:rPr>
              <a:t>4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5400000">
            <a:off x="1643040" y="454968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3460680" y="454968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5365080" y="454968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7170120" y="4549680"/>
            <a:ext cx="177840" cy="152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530680" y="232092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98480" y="545472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1632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未知"/>
          <p:cNvSpPr/>
          <p:nvPr/>
        </p:nvSpPr>
        <p:spPr>
          <a:xfrm>
            <a:off x="5543640" y="329580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f45e5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未知"/>
          <p:cNvSpPr/>
          <p:nvPr/>
        </p:nvSpPr>
        <p:spPr>
          <a:xfrm>
            <a:off x="3438360" y="3551400"/>
            <a:ext cx="1981440" cy="264132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8cd32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未知"/>
          <p:cNvSpPr/>
          <p:nvPr/>
        </p:nvSpPr>
        <p:spPr>
          <a:xfrm>
            <a:off x="1314360" y="3782880"/>
            <a:ext cx="1981440" cy="2465640"/>
          </a:xfrm>
          <a:custGeom>
            <a:avLst/>
            <a:gdLst/>
            <a:ahLst/>
            <a:rect l="l" t="t" r="r" b="b"/>
            <a:pathLst>
              <a:path w="1248" h="1553">
                <a:moveTo>
                  <a:pt x="1158" y="0"/>
                </a:moveTo>
                <a:lnTo>
                  <a:pt x="1248" y="351"/>
                </a:lnTo>
                <a:lnTo>
                  <a:pt x="1248" y="1553"/>
                </a:lnTo>
                <a:lnTo>
                  <a:pt x="0" y="1553"/>
                </a:lnTo>
                <a:lnTo>
                  <a:pt x="4" y="417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370320" y="3741840"/>
            <a:ext cx="0" cy="249696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481720" y="3741840"/>
            <a:ext cx="0" cy="249696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566120" y="3435480"/>
            <a:ext cx="0" cy="2803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未知"/>
          <p:cNvSpPr/>
          <p:nvPr/>
        </p:nvSpPr>
        <p:spPr>
          <a:xfrm>
            <a:off x="1290600" y="2514600"/>
            <a:ext cx="693900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629320" y="59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4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449360" y="466740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543480" y="5913360"/>
            <a:ext cx="1780920" cy="314280"/>
          </a:xfrm>
          <a:prstGeom prst="bevel">
            <a:avLst>
              <a:gd name="adj" fmla="val 5949"/>
            </a:avLst>
          </a:prstGeom>
          <a:solidFill>
            <a:srgbClr val="f4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390680" y="59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4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419640" y="469440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553000" y="468000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143000" y="213372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439640" y="590544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582720" y="590544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678280" y="590544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876320" y="3521160"/>
            <a:ext cx="5311800" cy="689040"/>
            <a:chOff x="1876320" y="3521160"/>
            <a:chExt cx="5311800" cy="689040"/>
          </a:xfrm>
        </p:grpSpPr>
        <p:sp>
          <p:nvSpPr>
            <p:cNvPr id="110" name=""/>
            <p:cNvSpPr/>
            <p:nvPr/>
          </p:nvSpPr>
          <p:spPr>
            <a:xfrm>
              <a:off x="1876320" y="35211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cd32d"/>
                </a:gs>
                <a:gs pos="50000">
                  <a:srgbClr val="80c129"/>
                </a:gs>
                <a:gs pos="100000">
                  <a:srgbClr val="8cd3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889280" y="3542400"/>
              <a:ext cx="5292000" cy="636840"/>
              <a:chOff x="1889280" y="3542400"/>
              <a:chExt cx="5292000" cy="636840"/>
            </a:xfrm>
          </p:grpSpPr>
          <p:sp>
            <p:nvSpPr>
              <p:cNvPr id="112" name=""/>
              <p:cNvSpPr/>
              <p:nvPr/>
            </p:nvSpPr>
            <p:spPr>
              <a:xfrm>
                <a:off x="1889280" y="40143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cd32d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889280" y="3542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8cd32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1876320" y="4386240"/>
            <a:ext cx="5311800" cy="689040"/>
            <a:chOff x="1876320" y="4386240"/>
            <a:chExt cx="5311800" cy="689040"/>
          </a:xfrm>
        </p:grpSpPr>
        <p:sp>
          <p:nvSpPr>
            <p:cNvPr id="115" name=""/>
            <p:cNvSpPr/>
            <p:nvPr/>
          </p:nvSpPr>
          <p:spPr>
            <a:xfrm>
              <a:off x="1876320" y="43862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45e5e"/>
                </a:gs>
                <a:gs pos="50000">
                  <a:srgbClr val="df5656"/>
                </a:gs>
                <a:gs pos="100000">
                  <a:srgbClr val="f4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889280" y="4407480"/>
              <a:ext cx="5292000" cy="636840"/>
              <a:chOff x="1889280" y="4407480"/>
              <a:chExt cx="5292000" cy="636840"/>
            </a:xfrm>
          </p:grpSpPr>
          <p:sp>
            <p:nvSpPr>
              <p:cNvPr id="117" name=""/>
              <p:cNvSpPr/>
              <p:nvPr/>
            </p:nvSpPr>
            <p:spPr>
              <a:xfrm>
                <a:off x="1889280" y="48794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45e5e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89280" y="44074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45e5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1876320" y="5243400"/>
            <a:ext cx="5311800" cy="689040"/>
            <a:chOff x="1876320" y="5243400"/>
            <a:chExt cx="5311800" cy="689040"/>
          </a:xfrm>
        </p:grpSpPr>
        <p:sp>
          <p:nvSpPr>
            <p:cNvPr id="120" name=""/>
            <p:cNvSpPr/>
            <p:nvPr/>
          </p:nvSpPr>
          <p:spPr>
            <a:xfrm>
              <a:off x="1876320" y="5243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5cb1fe"/>
                </a:gs>
                <a:gs pos="50000">
                  <a:srgbClr val="54a2e9"/>
                </a:gs>
                <a:gs pos="100000">
                  <a:srgbClr val="5cb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889280" y="5264640"/>
              <a:ext cx="5292000" cy="636840"/>
              <a:chOff x="1889280" y="5264640"/>
              <a:chExt cx="5292000" cy="636840"/>
            </a:xfrm>
          </p:grpSpPr>
          <p:sp>
            <p:nvSpPr>
              <p:cNvPr id="122" name=""/>
              <p:cNvSpPr/>
              <p:nvPr/>
            </p:nvSpPr>
            <p:spPr>
              <a:xfrm>
                <a:off x="1889280" y="5736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cb1fe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89280" y="52646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cb1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1876320" y="2657520"/>
            <a:ext cx="5311800" cy="689040"/>
            <a:chOff x="1876320" y="2657520"/>
            <a:chExt cx="5311800" cy="689040"/>
          </a:xfrm>
        </p:grpSpPr>
        <p:sp>
          <p:nvSpPr>
            <p:cNvPr id="125" name=""/>
            <p:cNvSpPr/>
            <p:nvPr/>
          </p:nvSpPr>
          <p:spPr>
            <a:xfrm>
              <a:off x="1876320" y="265752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ea8c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889280" y="2678760"/>
              <a:ext cx="5292000" cy="636840"/>
              <a:chOff x="1889280" y="2678760"/>
              <a:chExt cx="5292000" cy="636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889280" y="3150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00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889280" y="26787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99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2343240" y="2771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54400" y="36291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54400" y="44877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54400" y="53355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30320" y="1828800"/>
            <a:ext cx="510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676520" y="52070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692360" y="43610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692360" y="3510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681200" y="265284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22480" y="5343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01960" y="274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14560" y="360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14560" y="449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rot="16455000">
            <a:off x="1870560" y="4622040"/>
            <a:ext cx="1507320" cy="156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1" y="20943"/>
                </a:moveTo>
                <a:arcTo wR="10800" hR="10800" stAng="6605145" swAng="19472499"/>
                <a:lnTo>
                  <a:pt x="10800" y="10800"/>
                </a:lnTo>
                <a:close/>
              </a:path>
              <a:path fill="none" w="21600" h="21600">
                <a:moveTo>
                  <a:pt x="7091" y="20943"/>
                </a:moveTo>
                <a:arcTo wR="10800" hR="10800" stAng="6605145" swAng="19472499"/>
              </a:path>
            </a:pathLst>
          </a:custGeom>
          <a:noFill/>
          <a:ln w="19080">
            <a:solidFill>
              <a:srgbClr val="1c1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 rot="17752800">
            <a:off x="5482080" y="3230280"/>
            <a:ext cx="1507680" cy="156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02" y="16773"/>
                </a:moveTo>
                <a:arcTo wR="10800" hR="10800" stAng="8785564" swAng="18754729"/>
                <a:lnTo>
                  <a:pt x="10800" y="10800"/>
                </a:lnTo>
                <a:close/>
              </a:path>
              <a:path fill="none" w="21600" h="21600">
                <a:moveTo>
                  <a:pt x="1802" y="16773"/>
                </a:moveTo>
                <a:arcTo wR="10800" hR="10800" stAng="8785564" swAng="18754729"/>
              </a:path>
            </a:pathLst>
          </a:custGeom>
          <a:noFill/>
          <a:ln w="19080">
            <a:solidFill>
              <a:srgbClr val="1c1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 rot="5400000">
            <a:off x="2051280" y="1958760"/>
            <a:ext cx="1241280" cy="128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14" y="20987"/>
                </a:moveTo>
                <a:arcTo wR="10800" hR="10800" stAng="6563447" swAng="19875067"/>
                <a:lnTo>
                  <a:pt x="10800" y="10800"/>
                </a:lnTo>
                <a:close/>
              </a:path>
              <a:path fill="none" w="21600" h="21600">
                <a:moveTo>
                  <a:pt x="7214" y="20987"/>
                </a:moveTo>
                <a:arcTo wR="10800" hR="10800" stAng="6563447" swAng="19875067"/>
              </a:path>
            </a:pathLst>
          </a:custGeom>
          <a:noFill/>
          <a:ln cap="rnd" w="12600">
            <a:solidFill>
              <a:srgbClr val="1c1c1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5621400" y="3394080"/>
            <a:ext cx="1227240" cy="1216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5621400" y="3394080"/>
            <a:ext cx="1220760" cy="1219320"/>
          </a:xfrm>
          <a:prstGeom prst="ellipse">
            <a:avLst/>
          </a:prstGeom>
          <a:gradFill rotWithShape="0">
            <a:gsLst>
              <a:gs pos="0">
                <a:srgbClr val="182e42">
                  <a:alpha val="60000"/>
                </a:srgbClr>
              </a:gs>
              <a:gs pos="50000">
                <a:srgbClr val="5cb1fe">
                  <a:alpha val="60000"/>
                </a:srgbClr>
              </a:gs>
              <a:gs pos="100000">
                <a:srgbClr val="182e42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2143080" y="2077920"/>
            <a:ext cx="1060560" cy="10512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2143080" y="2077920"/>
            <a:ext cx="1054080" cy="1054080"/>
          </a:xfrm>
          <a:prstGeom prst="ellipse">
            <a:avLst/>
          </a:prstGeom>
          <a:gradFill rotWithShape="0">
            <a:gsLst>
              <a:gs pos="0">
                <a:srgbClr val="3f1818">
                  <a:alpha val="60000"/>
                </a:srgbClr>
              </a:gs>
              <a:gs pos="50000">
                <a:srgbClr val="f45e5e">
                  <a:alpha val="60000"/>
                </a:srgbClr>
              </a:gs>
              <a:gs pos="100000">
                <a:srgbClr val="3f1818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47500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72400" y="3805200"/>
            <a:ext cx="14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2825280" y="2851200"/>
            <a:ext cx="932760" cy="942840"/>
            <a:chOff x="2825280" y="2851200"/>
            <a:chExt cx="932760" cy="942840"/>
          </a:xfrm>
        </p:grpSpPr>
        <p:sp>
          <p:nvSpPr>
            <p:cNvPr id="643" name=""/>
            <p:cNvSpPr/>
            <p:nvPr/>
          </p:nvSpPr>
          <p:spPr>
            <a:xfrm rot="19090200">
              <a:off x="2820960" y="2893680"/>
              <a:ext cx="144360" cy="42480"/>
            </a:xfrm>
            <a:prstGeom prst="ellipse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c198c1"/>
                </a:gs>
                <a:gs pos="100000">
                  <a:srgbClr val="660066"/>
                </a:gs>
              </a:gsLst>
              <a:lin ang="133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8122200">
              <a:off x="3263760" y="2727000"/>
              <a:ext cx="78840" cy="12142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26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482000" y="4028760"/>
            <a:ext cx="1329480" cy="134640"/>
            <a:chOff x="4482000" y="4028760"/>
            <a:chExt cx="1329480" cy="134640"/>
          </a:xfrm>
        </p:grpSpPr>
        <p:sp>
          <p:nvSpPr>
            <p:cNvPr id="646" name=""/>
            <p:cNvSpPr/>
            <p:nvPr/>
          </p:nvSpPr>
          <p:spPr>
            <a:xfrm rot="5607000">
              <a:off x="5716080" y="4070160"/>
              <a:ext cx="124920" cy="5796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50000">
                  <a:srgbClr val="00ffff"/>
                </a:gs>
                <a:gs pos="100000">
                  <a:srgbClr val="003232"/>
                </a:gs>
              </a:gsLst>
              <a:lin ang="51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16242000">
              <a:off x="5093640" y="3425040"/>
              <a:ext cx="90360" cy="13132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54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3430440" y="3335400"/>
            <a:ext cx="1487520" cy="147636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3430440" y="3335400"/>
            <a:ext cx="1468440" cy="1479600"/>
          </a:xfrm>
          <a:prstGeom prst="ellipse">
            <a:avLst/>
          </a:prstGeom>
          <a:gradFill rotWithShape="0">
            <a:gsLst>
              <a:gs pos="0">
                <a:srgbClr val="4b7118">
                  <a:alpha val="60000"/>
                </a:srgbClr>
              </a:gs>
              <a:gs pos="50000">
                <a:srgbClr val="8cd32d">
                  <a:alpha val="60000"/>
                </a:srgbClr>
              </a:gs>
              <a:gs pos="100000">
                <a:srgbClr val="4b7118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2665800" y="4312080"/>
            <a:ext cx="1131120" cy="917640"/>
            <a:chOff x="2665800" y="4312080"/>
            <a:chExt cx="1131120" cy="917640"/>
          </a:xfrm>
        </p:grpSpPr>
        <p:sp>
          <p:nvSpPr>
            <p:cNvPr id="651" name=""/>
            <p:cNvSpPr/>
            <p:nvPr/>
          </p:nvSpPr>
          <p:spPr>
            <a:xfrm rot="3460800">
              <a:off x="3639960" y="4358160"/>
              <a:ext cx="156960" cy="8568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d5c198"/>
                </a:gs>
                <a:gs pos="100000">
                  <a:srgbClr val="996600"/>
                </a:gs>
              </a:gsLst>
              <a:lin ang="73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rot="13956000">
              <a:off x="3166560" y="4136760"/>
              <a:ext cx="97200" cy="13111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3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3281400" y="5295960"/>
            <a:ext cx="184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4"/>
          <a:stretch/>
        </p:blipFill>
        <p:spPr>
          <a:xfrm>
            <a:off x="1967040" y="4775040"/>
            <a:ext cx="1287360" cy="12747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967040" y="4775040"/>
            <a:ext cx="1277640" cy="1278000"/>
          </a:xfrm>
          <a:prstGeom prst="ellipse">
            <a:avLst/>
          </a:prstGeom>
          <a:gradFill rotWithShape="0">
            <a:gsLst>
              <a:gs pos="0">
                <a:srgbClr val="422800">
                  <a:alpha val="60000"/>
                </a:srgbClr>
              </a:gs>
              <a:gs pos="50000">
                <a:srgbClr val="ff9900">
                  <a:alpha val="60000"/>
                </a:srgbClr>
              </a:gs>
              <a:gs pos="100000">
                <a:srgbClr val="4228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253240" y="523224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84600" y="2182680"/>
            <a:ext cx="431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未知"/>
          <p:cNvSpPr/>
          <p:nvPr/>
        </p:nvSpPr>
        <p:spPr>
          <a:xfrm>
            <a:off x="2151000" y="2092320"/>
            <a:ext cx="1030320" cy="542880"/>
          </a:xfrm>
          <a:custGeom>
            <a:avLst/>
            <a:gdLst/>
            <a:ahLst/>
            <a:rect l="l" t="t" r="r" b="b"/>
            <a:pathLst>
              <a:path w="748" h="394">
                <a:moveTo>
                  <a:pt x="12" y="361"/>
                </a:moveTo>
                <a:cubicBezTo>
                  <a:pt x="0" y="229"/>
                  <a:pt x="134" y="0"/>
                  <a:pt x="376" y="0"/>
                </a:cubicBezTo>
                <a:cubicBezTo>
                  <a:pt x="618" y="0"/>
                  <a:pt x="748" y="216"/>
                  <a:pt x="745" y="348"/>
                </a:cubicBezTo>
                <a:cubicBezTo>
                  <a:pt x="519" y="382"/>
                  <a:pt x="534" y="388"/>
                  <a:pt x="397" y="391"/>
                </a:cubicBezTo>
                <a:cubicBezTo>
                  <a:pt x="260" y="394"/>
                  <a:pt x="235" y="378"/>
                  <a:pt x="12" y="361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45e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323080" y="240048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未知"/>
          <p:cNvSpPr/>
          <p:nvPr/>
        </p:nvSpPr>
        <p:spPr>
          <a:xfrm>
            <a:off x="3446640" y="3351240"/>
            <a:ext cx="1436400" cy="750960"/>
          </a:xfrm>
          <a:custGeom>
            <a:avLst/>
            <a:gdLst/>
            <a:ahLst/>
            <a:rect l="l" t="t" r="r" b="b"/>
            <a:pathLst>
              <a:path w="748" h="394">
                <a:moveTo>
                  <a:pt x="12" y="361"/>
                </a:moveTo>
                <a:cubicBezTo>
                  <a:pt x="0" y="229"/>
                  <a:pt x="134" y="0"/>
                  <a:pt x="376" y="0"/>
                </a:cubicBezTo>
                <a:cubicBezTo>
                  <a:pt x="618" y="0"/>
                  <a:pt x="748" y="216"/>
                  <a:pt x="745" y="348"/>
                </a:cubicBezTo>
                <a:cubicBezTo>
                  <a:pt x="519" y="382"/>
                  <a:pt x="534" y="388"/>
                  <a:pt x="397" y="391"/>
                </a:cubicBezTo>
                <a:cubicBezTo>
                  <a:pt x="260" y="394"/>
                  <a:pt x="235" y="378"/>
                  <a:pt x="12" y="361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cd32d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692880" y="380520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未知"/>
          <p:cNvSpPr/>
          <p:nvPr/>
        </p:nvSpPr>
        <p:spPr>
          <a:xfrm>
            <a:off x="5649840" y="3417840"/>
            <a:ext cx="1144800" cy="542880"/>
          </a:xfrm>
          <a:custGeom>
            <a:avLst/>
            <a:gdLst/>
            <a:ahLst/>
            <a:rect l="l" t="t" r="r" b="b"/>
            <a:pathLst>
              <a:path w="748" h="394">
                <a:moveTo>
                  <a:pt x="12" y="361"/>
                </a:moveTo>
                <a:cubicBezTo>
                  <a:pt x="0" y="229"/>
                  <a:pt x="134" y="0"/>
                  <a:pt x="376" y="0"/>
                </a:cubicBezTo>
                <a:cubicBezTo>
                  <a:pt x="618" y="0"/>
                  <a:pt x="748" y="216"/>
                  <a:pt x="745" y="348"/>
                </a:cubicBezTo>
                <a:cubicBezTo>
                  <a:pt x="519" y="382"/>
                  <a:pt x="534" y="388"/>
                  <a:pt x="397" y="391"/>
                </a:cubicBezTo>
                <a:cubicBezTo>
                  <a:pt x="260" y="394"/>
                  <a:pt x="235" y="378"/>
                  <a:pt x="12" y="361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5cb1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914080" y="381636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未知"/>
          <p:cNvSpPr/>
          <p:nvPr/>
        </p:nvSpPr>
        <p:spPr>
          <a:xfrm>
            <a:off x="2013120" y="4802040"/>
            <a:ext cx="1179360" cy="541440"/>
          </a:xfrm>
          <a:custGeom>
            <a:avLst/>
            <a:gdLst/>
            <a:ahLst/>
            <a:rect l="l" t="t" r="r" b="b"/>
            <a:pathLst>
              <a:path w="748" h="394">
                <a:moveTo>
                  <a:pt x="12" y="361"/>
                </a:moveTo>
                <a:cubicBezTo>
                  <a:pt x="0" y="229"/>
                  <a:pt x="134" y="0"/>
                  <a:pt x="376" y="0"/>
                </a:cubicBezTo>
                <a:cubicBezTo>
                  <a:pt x="618" y="0"/>
                  <a:pt x="748" y="216"/>
                  <a:pt x="745" y="348"/>
                </a:cubicBezTo>
                <a:cubicBezTo>
                  <a:pt x="519" y="382"/>
                  <a:pt x="534" y="388"/>
                  <a:pt x="397" y="391"/>
                </a:cubicBezTo>
                <a:cubicBezTo>
                  <a:pt x="260" y="394"/>
                  <a:pt x="235" y="378"/>
                  <a:pt x="12" y="361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5360" y="2498760"/>
            <a:ext cx="35085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4755960" y="2338560"/>
            <a:ext cx="4680" cy="30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rot="2692800">
            <a:off x="841320" y="217152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45e5e"/>
              </a:gs>
              <a:gs pos="100000">
                <a:srgbClr val="f58787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8892800">
            <a:off x="867240" y="217044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 rot="18907200">
            <a:off x="837720" y="213372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9900"/>
              </a:gs>
              <a:gs pos="100000">
                <a:srgbClr val="feb342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 flipV="1" rot="2692800">
            <a:off x="866880" y="213264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8cd32d"/>
              </a:gs>
              <a:gs pos="100000">
                <a:srgbClr val="a9dd63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 rot="18991800">
            <a:off x="912600" y="275868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3" name=""/>
          <p:cNvSpPr txBox="1"/>
          <p:nvPr/>
        </p:nvSpPr>
        <p:spPr>
          <a:xfrm rot="2855400">
            <a:off x="2079000" y="281628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4" name=""/>
          <p:cNvSpPr txBox="1"/>
          <p:nvPr/>
        </p:nvSpPr>
        <p:spPr>
          <a:xfrm rot="2855400">
            <a:off x="906120" y="395604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5" name=""/>
          <p:cNvSpPr txBox="1"/>
          <p:nvPr/>
        </p:nvSpPr>
        <p:spPr>
          <a:xfrm rot="18739200">
            <a:off x="2102400" y="3895200"/>
            <a:ext cx="2162160" cy="11444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692360" y="354960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137200" y="4145040"/>
            <a:ext cx="247680" cy="247680"/>
          </a:xfrm>
          <a:prstGeom prst="donut">
            <a:avLst>
              <a:gd name="adj" fmla="val 25000"/>
            </a:avLst>
          </a:prstGeom>
          <a:solidFill>
            <a:srgbClr val="8cd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37200" y="4478400"/>
            <a:ext cx="247680" cy="247680"/>
          </a:xfrm>
          <a:prstGeom prst="donut">
            <a:avLst>
              <a:gd name="adj" fmla="val 25000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137200" y="4782960"/>
            <a:ext cx="247680" cy="247680"/>
          </a:xfrm>
          <a:prstGeom prst="donut">
            <a:avLst>
              <a:gd name="adj" fmla="val 25000"/>
            </a:avLst>
          </a:prstGeom>
          <a:solidFill>
            <a:srgbClr val="f4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137200" y="5087880"/>
            <a:ext cx="247680" cy="247680"/>
          </a:xfrm>
          <a:prstGeom prst="donut">
            <a:avLst>
              <a:gd name="adj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391000" y="4103640"/>
            <a:ext cx="23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391000" y="4440240"/>
            <a:ext cx="23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391000" y="4754520"/>
            <a:ext cx="23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1000" y="5059440"/>
            <a:ext cx="23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799160" y="3029040"/>
            <a:ext cx="355752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6087960" y="2971800"/>
            <a:ext cx="2105280" cy="237168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3895560" y="3201840"/>
            <a:ext cx="2213280" cy="2055960"/>
          </a:xfrm>
          <a:custGeom>
            <a:avLst/>
            <a:gdLst>
              <a:gd name="textAreaLeft" fmla="*/ 0 w 2213280"/>
              <a:gd name="textAreaRight" fmla="*/ 2213640 w 2213280"/>
              <a:gd name="textAreaTop" fmla="*/ 0 h 2055960"/>
              <a:gd name="textAreaBottom" fmla="*/ 2056320 h 205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141640" y="3193920"/>
            <a:ext cx="2371680" cy="205596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2055960"/>
              <a:gd name="textAreaBottom" fmla="*/ 2056320 h 205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45e5e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未知"/>
          <p:cNvSpPr/>
          <p:nvPr/>
        </p:nvSpPr>
        <p:spPr>
          <a:xfrm>
            <a:off x="1917720" y="2832120"/>
            <a:ext cx="3672000" cy="41256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cd32d"/>
              </a:gs>
              <a:gs pos="100000">
                <a:srgbClr val="4061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19280" y="2833560"/>
            <a:ext cx="2027160" cy="2422800"/>
          </a:xfrm>
          <a:custGeom>
            <a:avLst/>
            <a:gdLst>
              <a:gd name="textAreaLeft" fmla="*/ 0 w 2027160"/>
              <a:gd name="textAreaRight" fmla="*/ 2027160 w 2027160"/>
              <a:gd name="textAreaTop" fmla="*/ 0 h 2422800"/>
              <a:gd name="textAreaBottom" fmla="*/ 2423160 h 242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157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25480" y="3405240"/>
            <a:ext cx="1608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587680" y="28591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638520"/>
            <a:ext cx="1411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1111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2362320"/>
            <a:ext cx="60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 a vision of company or strategic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809800" y="3648240"/>
            <a:ext cx="14097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1111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939960" y="243828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083280" y="27986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45e5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468680" y="27986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5cb1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7680" y="27986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8cd32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243080" y="27986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99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397160" y="1600200"/>
            <a:ext cx="5105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247760" y="5146560"/>
            <a:ext cx="1553760" cy="704880"/>
            <a:chOff x="1247760" y="5146560"/>
            <a:chExt cx="1553760" cy="704880"/>
          </a:xfrm>
        </p:grpSpPr>
        <p:sp>
          <p:nvSpPr>
            <p:cNvPr id="705" name=""/>
            <p:cNvSpPr/>
            <p:nvPr/>
          </p:nvSpPr>
          <p:spPr>
            <a:xfrm>
              <a:off x="1247760" y="51465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a82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48840" y="51476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b7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67040" y="5146560"/>
            <a:ext cx="1553760" cy="704880"/>
            <a:chOff x="2867040" y="5146560"/>
            <a:chExt cx="1553760" cy="704880"/>
          </a:xfrm>
        </p:grpSpPr>
        <p:sp>
          <p:nvSpPr>
            <p:cNvPr id="708" name=""/>
            <p:cNvSpPr/>
            <p:nvPr/>
          </p:nvSpPr>
          <p:spPr>
            <a:xfrm>
              <a:off x="2867040" y="51465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7b426"/>
                </a:gs>
                <a:gs pos="100000">
                  <a:srgbClr val="8cd3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868120" y="51476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8cd32d"/>
                </a:gs>
                <a:gs pos="100000">
                  <a:srgbClr val="bae4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4484520" y="5146560"/>
            <a:ext cx="1554120" cy="704880"/>
            <a:chOff x="4484520" y="5146560"/>
            <a:chExt cx="1554120" cy="704880"/>
          </a:xfrm>
        </p:grpSpPr>
        <p:sp>
          <p:nvSpPr>
            <p:cNvPr id="711" name=""/>
            <p:cNvSpPr/>
            <p:nvPr/>
          </p:nvSpPr>
          <p:spPr>
            <a:xfrm>
              <a:off x="4484520" y="51465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e97d9"/>
                </a:gs>
                <a:gs pos="100000">
                  <a:srgbClr val="5cb1f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85600" y="5147640"/>
              <a:ext cx="155304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cb1fe"/>
                </a:gs>
                <a:gs pos="100000">
                  <a:srgbClr val="9dcf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6100920" y="5146560"/>
            <a:ext cx="1553760" cy="704880"/>
            <a:chOff x="6100920" y="5146560"/>
            <a:chExt cx="1553760" cy="704880"/>
          </a:xfrm>
        </p:grpSpPr>
        <p:sp>
          <p:nvSpPr>
            <p:cNvPr id="714" name=""/>
            <p:cNvSpPr/>
            <p:nvPr/>
          </p:nvSpPr>
          <p:spPr>
            <a:xfrm>
              <a:off x="6100920" y="51465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05050"/>
                </a:gs>
                <a:gs pos="100000">
                  <a:srgbClr val="f45e5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02000" y="51476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45e5e"/>
                </a:gs>
                <a:gs pos="100000">
                  <a:srgbClr val="f79a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1335240" y="29606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949480" y="296064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70560" y="29606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172200" y="29606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265400" y="51386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882880" y="51386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505400" y="51386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103800" y="51386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251000" y="4952880"/>
            <a:ext cx="1550520" cy="154080"/>
            <a:chOff x="1251000" y="4952880"/>
            <a:chExt cx="1550520" cy="154080"/>
          </a:xfrm>
        </p:grpSpPr>
        <p:sp>
          <p:nvSpPr>
            <p:cNvPr id="725" name=""/>
            <p:cNvSpPr/>
            <p:nvPr/>
          </p:nvSpPr>
          <p:spPr>
            <a:xfrm>
              <a:off x="1251000" y="49528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a82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252080" y="49528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b7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1251000" y="4799160"/>
            <a:ext cx="1550520" cy="152280"/>
            <a:chOff x="1251000" y="4799160"/>
            <a:chExt cx="1550520" cy="152280"/>
          </a:xfrm>
        </p:grpSpPr>
        <p:sp>
          <p:nvSpPr>
            <p:cNvPr id="728" name=""/>
            <p:cNvSpPr/>
            <p:nvPr/>
          </p:nvSpPr>
          <p:spPr>
            <a:xfrm>
              <a:off x="1251000" y="47991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a82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52080" y="4799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b7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1251000" y="4611600"/>
            <a:ext cx="1550520" cy="154080"/>
            <a:chOff x="1251000" y="4611600"/>
            <a:chExt cx="1550520" cy="154080"/>
          </a:xfrm>
        </p:grpSpPr>
        <p:sp>
          <p:nvSpPr>
            <p:cNvPr id="731" name=""/>
            <p:cNvSpPr/>
            <p:nvPr/>
          </p:nvSpPr>
          <p:spPr>
            <a:xfrm>
              <a:off x="1251000" y="46116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a82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252080" y="46116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b7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1251000" y="4424400"/>
            <a:ext cx="1550520" cy="154080"/>
            <a:chOff x="1251000" y="4424400"/>
            <a:chExt cx="1550520" cy="154080"/>
          </a:xfrm>
        </p:grpSpPr>
        <p:sp>
          <p:nvSpPr>
            <p:cNvPr id="734" name=""/>
            <p:cNvSpPr/>
            <p:nvPr/>
          </p:nvSpPr>
          <p:spPr>
            <a:xfrm>
              <a:off x="1251000" y="4424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a82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252080" y="4424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b7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1251000" y="4241880"/>
            <a:ext cx="1550520" cy="154080"/>
            <a:chOff x="1251000" y="4241880"/>
            <a:chExt cx="1550520" cy="154080"/>
          </a:xfrm>
        </p:grpSpPr>
        <p:sp>
          <p:nvSpPr>
            <p:cNvPr id="737" name=""/>
            <p:cNvSpPr/>
            <p:nvPr/>
          </p:nvSpPr>
          <p:spPr>
            <a:xfrm>
              <a:off x="1251000" y="42418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a82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52080" y="42418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b7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1251000" y="4054320"/>
            <a:ext cx="1550520" cy="154080"/>
            <a:chOff x="1251000" y="4054320"/>
            <a:chExt cx="1550520" cy="154080"/>
          </a:xfrm>
        </p:grpSpPr>
        <p:sp>
          <p:nvSpPr>
            <p:cNvPr id="740" name=""/>
            <p:cNvSpPr/>
            <p:nvPr/>
          </p:nvSpPr>
          <p:spPr>
            <a:xfrm>
              <a:off x="1251000" y="40543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a82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252080" y="40543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b7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1251000" y="3867120"/>
            <a:ext cx="1550520" cy="154080"/>
            <a:chOff x="1251000" y="3867120"/>
            <a:chExt cx="1550520" cy="154080"/>
          </a:xfrm>
        </p:grpSpPr>
        <p:sp>
          <p:nvSpPr>
            <p:cNvPr id="743" name=""/>
            <p:cNvSpPr/>
            <p:nvPr/>
          </p:nvSpPr>
          <p:spPr>
            <a:xfrm>
              <a:off x="1251000" y="38671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a82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252080" y="38671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b7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1251000" y="3681360"/>
            <a:ext cx="1550520" cy="154080"/>
            <a:chOff x="1251000" y="3681360"/>
            <a:chExt cx="1550520" cy="154080"/>
          </a:xfrm>
        </p:grpSpPr>
        <p:sp>
          <p:nvSpPr>
            <p:cNvPr id="746" name=""/>
            <p:cNvSpPr/>
            <p:nvPr/>
          </p:nvSpPr>
          <p:spPr>
            <a:xfrm>
              <a:off x="1251000" y="3681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a82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52080" y="3681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b7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2874960" y="4952880"/>
            <a:ext cx="1550520" cy="154080"/>
            <a:chOff x="2874960" y="4952880"/>
            <a:chExt cx="1550520" cy="154080"/>
          </a:xfrm>
        </p:grpSpPr>
        <p:sp>
          <p:nvSpPr>
            <p:cNvPr id="749" name=""/>
            <p:cNvSpPr/>
            <p:nvPr/>
          </p:nvSpPr>
          <p:spPr>
            <a:xfrm>
              <a:off x="2874960" y="49528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8cd32d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76040" y="49528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d32d"/>
                </a:gs>
                <a:gs pos="100000">
                  <a:srgbClr val="aedf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2874960" y="4799160"/>
            <a:ext cx="1550520" cy="152280"/>
            <a:chOff x="2874960" y="4799160"/>
            <a:chExt cx="1550520" cy="152280"/>
          </a:xfrm>
        </p:grpSpPr>
        <p:sp>
          <p:nvSpPr>
            <p:cNvPr id="752" name=""/>
            <p:cNvSpPr/>
            <p:nvPr/>
          </p:nvSpPr>
          <p:spPr>
            <a:xfrm>
              <a:off x="2874960" y="47991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7b426"/>
                </a:gs>
                <a:gs pos="100000">
                  <a:srgbClr val="8cd3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76040" y="4799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d32d"/>
                </a:gs>
                <a:gs pos="100000">
                  <a:srgbClr val="aedf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4476600" y="4952880"/>
            <a:ext cx="1549080" cy="154080"/>
            <a:chOff x="4476600" y="4952880"/>
            <a:chExt cx="1549080" cy="154080"/>
          </a:xfrm>
        </p:grpSpPr>
        <p:sp>
          <p:nvSpPr>
            <p:cNvPr id="755" name=""/>
            <p:cNvSpPr/>
            <p:nvPr/>
          </p:nvSpPr>
          <p:spPr>
            <a:xfrm>
              <a:off x="4476600" y="49528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5cb1fe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77680" y="49528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cb1fe"/>
                </a:gs>
                <a:gs pos="100000">
                  <a:srgbClr val="8dc8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6097680" y="4952880"/>
            <a:ext cx="1549080" cy="154080"/>
            <a:chOff x="6097680" y="4952880"/>
            <a:chExt cx="1549080" cy="154080"/>
          </a:xfrm>
        </p:grpSpPr>
        <p:sp>
          <p:nvSpPr>
            <p:cNvPr id="758" name=""/>
            <p:cNvSpPr/>
            <p:nvPr/>
          </p:nvSpPr>
          <p:spPr>
            <a:xfrm>
              <a:off x="6097680" y="49528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5050"/>
                </a:gs>
                <a:gs pos="100000">
                  <a:srgbClr val="f45e5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8760" y="49528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45e5e"/>
                </a:gs>
                <a:gs pos="100000">
                  <a:srgbClr val="f68e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874960" y="4613400"/>
            <a:ext cx="1550520" cy="152280"/>
            <a:chOff x="2874960" y="4613400"/>
            <a:chExt cx="1550520" cy="152280"/>
          </a:xfrm>
        </p:grpSpPr>
        <p:sp>
          <p:nvSpPr>
            <p:cNvPr id="761" name=""/>
            <p:cNvSpPr/>
            <p:nvPr/>
          </p:nvSpPr>
          <p:spPr>
            <a:xfrm>
              <a:off x="2874960" y="4613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7b426"/>
                </a:gs>
                <a:gs pos="100000">
                  <a:srgbClr val="8cd3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76040" y="4613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d32d"/>
                </a:gs>
                <a:gs pos="100000">
                  <a:srgbClr val="aedf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2874960" y="4435560"/>
            <a:ext cx="1550520" cy="152280"/>
            <a:chOff x="2874960" y="4435560"/>
            <a:chExt cx="1550520" cy="152280"/>
          </a:xfrm>
        </p:grpSpPr>
        <p:sp>
          <p:nvSpPr>
            <p:cNvPr id="764" name=""/>
            <p:cNvSpPr/>
            <p:nvPr/>
          </p:nvSpPr>
          <p:spPr>
            <a:xfrm>
              <a:off x="2874960" y="4435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7b426"/>
                </a:gs>
                <a:gs pos="100000">
                  <a:srgbClr val="8cd3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76040" y="4435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d32d"/>
                </a:gs>
                <a:gs pos="100000">
                  <a:srgbClr val="aedf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2874960" y="4249800"/>
            <a:ext cx="1550520" cy="152280"/>
            <a:chOff x="2874960" y="4249800"/>
            <a:chExt cx="1550520" cy="152280"/>
          </a:xfrm>
        </p:grpSpPr>
        <p:sp>
          <p:nvSpPr>
            <p:cNvPr id="767" name=""/>
            <p:cNvSpPr/>
            <p:nvPr/>
          </p:nvSpPr>
          <p:spPr>
            <a:xfrm>
              <a:off x="2874960" y="42498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7b426"/>
                </a:gs>
                <a:gs pos="100000">
                  <a:srgbClr val="8cd3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76040" y="42498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d32d"/>
                </a:gs>
                <a:gs pos="100000">
                  <a:srgbClr val="aedf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4476600" y="4797360"/>
            <a:ext cx="1549080" cy="154080"/>
            <a:chOff x="4476600" y="4797360"/>
            <a:chExt cx="1549080" cy="154080"/>
          </a:xfrm>
        </p:grpSpPr>
        <p:sp>
          <p:nvSpPr>
            <p:cNvPr id="770" name=""/>
            <p:cNvSpPr/>
            <p:nvPr/>
          </p:nvSpPr>
          <p:spPr>
            <a:xfrm>
              <a:off x="4476600" y="47973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5cb1fe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477680" y="4797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cb1fe"/>
                </a:gs>
                <a:gs pos="100000">
                  <a:srgbClr val="8dc8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4476600" y="4611600"/>
            <a:ext cx="1549080" cy="154080"/>
            <a:chOff x="4476600" y="4611600"/>
            <a:chExt cx="1549080" cy="154080"/>
          </a:xfrm>
        </p:grpSpPr>
        <p:sp>
          <p:nvSpPr>
            <p:cNvPr id="773" name=""/>
            <p:cNvSpPr/>
            <p:nvPr/>
          </p:nvSpPr>
          <p:spPr>
            <a:xfrm>
              <a:off x="4476600" y="46116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5cb1fe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7680" y="46116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cb1fe"/>
                </a:gs>
                <a:gs pos="100000">
                  <a:srgbClr val="8dc8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6097680" y="4789440"/>
            <a:ext cx="1549080" cy="154080"/>
            <a:chOff x="6097680" y="4789440"/>
            <a:chExt cx="1549080" cy="154080"/>
          </a:xfrm>
        </p:grpSpPr>
        <p:sp>
          <p:nvSpPr>
            <p:cNvPr id="776" name=""/>
            <p:cNvSpPr/>
            <p:nvPr/>
          </p:nvSpPr>
          <p:spPr>
            <a:xfrm>
              <a:off x="6097680" y="47894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5050"/>
                </a:gs>
                <a:gs pos="100000">
                  <a:srgbClr val="f45e5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98760" y="47894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45e5e"/>
                </a:gs>
                <a:gs pos="100000">
                  <a:srgbClr val="f68e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71632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838080" y="4191120"/>
            <a:ext cx="4113360" cy="1193760"/>
          </a:xfrm>
          <a:prstGeom prst="ellipse">
            <a:avLst/>
          </a:prstGeom>
          <a:gradFill rotWithShape="0">
            <a:gsLst>
              <a:gs pos="0">
                <a:srgbClr val="8c8c8c"/>
              </a:gs>
              <a:gs pos="100000">
                <a:srgbClr val="969696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rot="16200000">
            <a:off x="2287440" y="2368800"/>
            <a:ext cx="1628280" cy="38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90760" y="3713040"/>
            <a:ext cx="6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rot="16200000">
            <a:off x="2506680" y="2341440"/>
            <a:ext cx="1299600" cy="368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f8abab"/>
              </a:gs>
              <a:gs pos="100000">
                <a:srgbClr val="f45e5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rot="16200000">
            <a:off x="2446560" y="2437200"/>
            <a:ext cx="1301040" cy="363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aad6f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rot="16200000">
            <a:off x="2439000" y="2426760"/>
            <a:ext cx="1334880" cy="362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58851c"/>
              </a:gs>
              <a:gs pos="100000">
                <a:srgbClr val="8cd3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959280" y="4330800"/>
            <a:ext cx="5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430880" y="4041720"/>
            <a:ext cx="5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826160" y="4456080"/>
            <a:ext cx="0" cy="17316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30880" y="4699080"/>
            <a:ext cx="2880" cy="16200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2320560" y="4221000"/>
            <a:ext cx="955800" cy="78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406600" y="2076840"/>
            <a:ext cx="1738080" cy="444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824e00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未知"/>
          <p:cNvSpPr/>
          <p:nvPr/>
        </p:nvSpPr>
        <p:spPr>
          <a:xfrm>
            <a:off x="5157720" y="3710160"/>
            <a:ext cx="211320" cy="2793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6200000">
            <a:off x="2415240" y="1923840"/>
            <a:ext cx="1740240" cy="444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ed59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122560" y="3554280"/>
            <a:ext cx="884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5" name=""/>
          <p:cNvCxnSpPr>
            <a:endCxn id="794" idx="3"/>
          </p:cNvCxnSpPr>
          <p:nvPr/>
        </p:nvCxnSpPr>
        <p:spPr>
          <a:xfrm flipV="1" rot="10800000">
            <a:off x="3006000" y="3048120"/>
            <a:ext cx="3113640" cy="705240"/>
          </a:xfrm>
          <a:prstGeom prst="bentConnector3">
            <a:avLst>
              <a:gd name="adj1" fmla="val 500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endCxn id="787" idx="3"/>
          </p:cNvCxnSpPr>
          <p:nvPr/>
        </p:nvCxnSpPr>
        <p:spPr>
          <a:xfrm rot="10800000">
            <a:off x="4936320" y="4193280"/>
            <a:ext cx="1437480" cy="374040"/>
          </a:xfrm>
          <a:prstGeom prst="bentConnector3">
            <a:avLst>
              <a:gd name="adj1" fmla="val 76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7" name=""/>
          <p:cNvSpPr/>
          <p:nvPr/>
        </p:nvSpPr>
        <p:spPr>
          <a:xfrm>
            <a:off x="3081240" y="443700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54360" y="2057400"/>
            <a:ext cx="531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9" name=""/>
          <p:cNvCxnSpPr/>
          <p:nvPr/>
        </p:nvCxnSpPr>
        <p:spPr>
          <a:xfrm rot="10800000">
            <a:off x="4510800" y="4571280"/>
            <a:ext cx="1221840" cy="115164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0" name=""/>
          <p:cNvCxnSpPr/>
          <p:nvPr/>
        </p:nvCxnSpPr>
        <p:spPr>
          <a:xfrm flipV="1">
            <a:off x="2976120" y="4715640"/>
            <a:ext cx="242280" cy="113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01" name=""/>
          <p:cNvGrpSpPr/>
          <p:nvPr/>
        </p:nvGrpSpPr>
        <p:grpSpPr>
          <a:xfrm>
            <a:off x="5734080" y="5524560"/>
            <a:ext cx="1905120" cy="436680"/>
            <a:chOff x="5734080" y="5524560"/>
            <a:chExt cx="1905120" cy="436680"/>
          </a:xfrm>
        </p:grpSpPr>
        <p:sp>
          <p:nvSpPr>
            <p:cNvPr id="802" name="未知"/>
            <p:cNvSpPr/>
            <p:nvPr/>
          </p:nvSpPr>
          <p:spPr>
            <a:xfrm>
              <a:off x="5835600" y="5769000"/>
              <a:ext cx="1687680" cy="1922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734080" y="5524560"/>
              <a:ext cx="1905120" cy="380880"/>
            </a:xfrm>
            <a:prstGeom prst="rect">
              <a:avLst/>
            </a:prstGeom>
            <a:solidFill>
              <a:srgbClr val="5cb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5857920" y="55245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6324480" y="4352760"/>
            <a:ext cx="1905120" cy="436680"/>
            <a:chOff x="6324480" y="4352760"/>
            <a:chExt cx="1905120" cy="436680"/>
          </a:xfrm>
        </p:grpSpPr>
        <p:sp>
          <p:nvSpPr>
            <p:cNvPr id="806" name="未知"/>
            <p:cNvSpPr/>
            <p:nvPr/>
          </p:nvSpPr>
          <p:spPr>
            <a:xfrm>
              <a:off x="6426000" y="4597200"/>
              <a:ext cx="1687680" cy="1922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324480" y="4352760"/>
              <a:ext cx="1905120" cy="380880"/>
            </a:xfrm>
            <a:prstGeom prst="rect">
              <a:avLst/>
            </a:prstGeom>
            <a:solidFill>
              <a:srgbClr val="f4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6448320" y="43527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6095880" y="2838600"/>
            <a:ext cx="1905120" cy="435960"/>
            <a:chOff x="6095880" y="2838600"/>
            <a:chExt cx="1905120" cy="435960"/>
          </a:xfrm>
        </p:grpSpPr>
        <p:sp>
          <p:nvSpPr>
            <p:cNvPr id="810" name="未知"/>
            <p:cNvSpPr/>
            <p:nvPr/>
          </p:nvSpPr>
          <p:spPr>
            <a:xfrm>
              <a:off x="6197400" y="3082680"/>
              <a:ext cx="1687680" cy="1918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095880" y="2838600"/>
              <a:ext cx="1905120" cy="380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6219720" y="2838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1085760" y="5638680"/>
            <a:ext cx="1905120" cy="436680"/>
            <a:chOff x="1085760" y="5638680"/>
            <a:chExt cx="1905120" cy="436680"/>
          </a:xfrm>
        </p:grpSpPr>
        <p:sp>
          <p:nvSpPr>
            <p:cNvPr id="814" name="未知"/>
            <p:cNvSpPr/>
            <p:nvPr/>
          </p:nvSpPr>
          <p:spPr>
            <a:xfrm>
              <a:off x="1187280" y="5883120"/>
              <a:ext cx="1687680" cy="1922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85760" y="5638680"/>
              <a:ext cx="1905120" cy="380880"/>
            </a:xfrm>
            <a:prstGeom prst="rect">
              <a:avLst/>
            </a:prstGeom>
            <a:solidFill>
              <a:srgbClr val="8cd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209600" y="5638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09480" y="2835360"/>
            <a:ext cx="4041720" cy="367812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147680" y="3398760"/>
            <a:ext cx="2986200" cy="271800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486080" y="3822840"/>
            <a:ext cx="2206440" cy="200664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770120" y="4162320"/>
            <a:ext cx="1592280" cy="144648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226120" y="4245120"/>
            <a:ext cx="3565440" cy="5364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888080" y="3435480"/>
            <a:ext cx="3849480" cy="5382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424400" y="2701800"/>
            <a:ext cx="3835440" cy="53676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805200" y="1981080"/>
            <a:ext cx="3814920" cy="53676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197760" y="5021280"/>
            <a:ext cx="2031840" cy="768240"/>
          </a:xfrm>
          <a:custGeom>
            <a:avLst/>
            <a:gdLst>
              <a:gd name="textAreaLeft" fmla="*/ 0 w 2031840"/>
              <a:gd name="textAreaRight" fmla="*/ 2031840 w 203184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9" y="0"/>
                </a:lnTo>
                <a:lnTo>
                  <a:pt x="21600" y="10800"/>
                </a:lnTo>
                <a:lnTo>
                  <a:pt x="18779" y="21600"/>
                </a:lnTo>
                <a:lnTo>
                  <a:pt x="0" y="21600"/>
                </a:lnTo>
                <a:lnTo>
                  <a:pt x="2821" y="10800"/>
                </a:lnTo>
                <a:close/>
              </a:path>
            </a:pathLst>
          </a:custGeom>
          <a:gradFill rotWithShape="0">
            <a:gsLst>
              <a:gs pos="0">
                <a:srgbClr val="bedf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373640" y="5016600"/>
            <a:ext cx="2049480" cy="768240"/>
          </a:xfrm>
          <a:custGeom>
            <a:avLst/>
            <a:gdLst>
              <a:gd name="textAreaLeft" fmla="*/ 0 w 2049480"/>
              <a:gd name="textAreaRight" fmla="*/ 2049840 w 204948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59" y="0"/>
                </a:lnTo>
                <a:lnTo>
                  <a:pt x="21600" y="10800"/>
                </a:lnTo>
                <a:lnTo>
                  <a:pt x="18759" y="21600"/>
                </a:lnTo>
                <a:lnTo>
                  <a:pt x="0" y="21600"/>
                </a:lnTo>
                <a:lnTo>
                  <a:pt x="2841" y="10800"/>
                </a:lnTo>
                <a:close/>
              </a:path>
            </a:pathLst>
          </a:custGeom>
          <a:gradFill rotWithShape="0">
            <a:gsLst>
              <a:gs pos="0">
                <a:srgbClr val="f9bfbf"/>
              </a:gs>
              <a:gs pos="100000">
                <a:srgbClr val="f45e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590920" y="5010120"/>
            <a:ext cx="1996920" cy="768240"/>
          </a:xfrm>
          <a:custGeom>
            <a:avLst/>
            <a:gdLst>
              <a:gd name="textAreaLeft" fmla="*/ 0 w 1996920"/>
              <a:gd name="textAreaRight" fmla="*/ 1997280 w 199692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2" y="0"/>
                </a:lnTo>
                <a:lnTo>
                  <a:pt x="21600" y="10800"/>
                </a:lnTo>
                <a:lnTo>
                  <a:pt x="18832" y="21600"/>
                </a:lnTo>
                <a:lnTo>
                  <a:pt x="0" y="21600"/>
                </a:lnTo>
                <a:lnTo>
                  <a:pt x="2768" y="10800"/>
                </a:lnTo>
                <a:close/>
              </a:path>
            </a:pathLst>
          </a:custGeom>
          <a:gradFill rotWithShape="0">
            <a:gsLst>
              <a:gs pos="0">
                <a:srgbClr val="d1ecab"/>
              </a:gs>
              <a:gs pos="100000">
                <a:srgbClr val="8cd32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36560" y="5010120"/>
            <a:ext cx="2050920" cy="768240"/>
          </a:xfrm>
          <a:custGeom>
            <a:avLst/>
            <a:gdLst>
              <a:gd name="textAreaLeft" fmla="*/ 0 w 2050920"/>
              <a:gd name="textAreaRight" fmla="*/ 2051280 w 205092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2" y="0"/>
                </a:lnTo>
                <a:lnTo>
                  <a:pt x="21600" y="10800"/>
                </a:lnTo>
                <a:lnTo>
                  <a:pt x="18892" y="21600"/>
                </a:lnTo>
                <a:lnTo>
                  <a:pt x="0" y="21600"/>
                </a:lnTo>
                <a:lnTo>
                  <a:pt x="2708" y="10800"/>
                </a:lnTo>
                <a:close/>
              </a:path>
            </a:pathLst>
          </a:custGeom>
          <a:gradFill rotWithShape="0">
            <a:gsLst>
              <a:gs pos="0">
                <a:srgbClr val="fed69a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987480" y="52452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784240" y="5256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645080" y="5256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73880" y="5256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209680" y="3991680"/>
            <a:ext cx="2219400" cy="153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e5980"/>
              </a:gs>
              <a:gs pos="100000">
                <a:srgbClr val="5cb1fe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545000" y="2422440"/>
            <a:ext cx="2220840" cy="1532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cd32d"/>
              </a:gs>
              <a:gs pos="100000">
                <a:srgbClr val="72ad24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209680" y="2422440"/>
            <a:ext cx="2221200" cy="1532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a9f22"/>
              </a:gs>
              <a:gs pos="100000">
                <a:srgbClr val="8cd32d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3379680" y="2419200"/>
            <a:ext cx="2221200" cy="1532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47e1b"/>
              </a:gs>
              <a:gs pos="100000">
                <a:srgbClr val="8cd32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376440" y="3989520"/>
            <a:ext cx="2219400" cy="1531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586c0"/>
              </a:gs>
              <a:gs pos="100000">
                <a:srgbClr val="5cb1fe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4541760" y="3991680"/>
            <a:ext cx="2219400" cy="153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cb1fe"/>
              </a:gs>
              <a:gs pos="100000">
                <a:srgbClr val="4280b8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884760" y="2558880"/>
            <a:ext cx="11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722680" y="4214880"/>
            <a:ext cx="11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013360" y="4214880"/>
            <a:ext cx="11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884760" y="4788000"/>
            <a:ext cx="11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14400" y="2809800"/>
            <a:ext cx="203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019920" y="2809800"/>
            <a:ext cx="203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38080" y="4595760"/>
            <a:ext cx="203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97760" y="4595760"/>
            <a:ext cx="203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274920" y="1828800"/>
            <a:ext cx="245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274920" y="5616720"/>
            <a:ext cx="245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722680" y="3076560"/>
            <a:ext cx="11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13360" y="3076560"/>
            <a:ext cx="11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662280" y="3424320"/>
            <a:ext cx="1606680" cy="1077840"/>
            <a:chOff x="3662280" y="3424320"/>
            <a:chExt cx="1606680" cy="1077840"/>
          </a:xfrm>
        </p:grpSpPr>
        <p:sp>
          <p:nvSpPr>
            <p:cNvPr id="854" name=""/>
            <p:cNvSpPr/>
            <p:nvPr/>
          </p:nvSpPr>
          <p:spPr>
            <a:xfrm>
              <a:off x="3662280" y="3424320"/>
              <a:ext cx="1606680" cy="1077840"/>
            </a:xfrm>
            <a:prstGeom prst="hexagon">
              <a:avLst>
                <a:gd name="adj" fmla="val 37266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704400" y="3450600"/>
              <a:ext cx="1510920" cy="1013760"/>
            </a:xfrm>
            <a:prstGeom prst="hexagon">
              <a:avLst>
                <a:gd name="adj" fmla="val 37260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3925800" y="3625920"/>
            <a:ext cx="107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630760" y="4680000"/>
            <a:ext cx="2522520" cy="1477800"/>
          </a:xfrm>
          <a:prstGeom prst="rect">
            <a:avLst/>
          </a:prstGeom>
          <a:gradFill rotWithShape="0">
            <a:gsLst>
              <a:gs pos="0">
                <a:srgbClr val="8cd32d"/>
              </a:gs>
              <a:gs pos="100000">
                <a:srgbClr val="65982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119400" y="2406600"/>
            <a:ext cx="226872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767560" y="2406600"/>
            <a:ext cx="226836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016080" y="4824360"/>
            <a:ext cx="2503800" cy="1478160"/>
          </a:xfrm>
          <a:prstGeom prst="rect">
            <a:avLst/>
          </a:prstGeom>
          <a:gradFill rotWithShape="0">
            <a:gsLst>
              <a:gs pos="0">
                <a:srgbClr val="8cd32d"/>
              </a:gs>
              <a:gs pos="100000">
                <a:srgbClr val="78b5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28920" y="528012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838080" y="3378240"/>
            <a:ext cx="2111040" cy="1446120"/>
            <a:chOff x="838080" y="3378240"/>
            <a:chExt cx="2111040" cy="1446120"/>
          </a:xfrm>
        </p:grpSpPr>
        <p:sp>
          <p:nvSpPr>
            <p:cNvPr id="864" name=""/>
            <p:cNvSpPr/>
            <p:nvPr/>
          </p:nvSpPr>
          <p:spPr>
            <a:xfrm>
              <a:off x="838080" y="3378240"/>
              <a:ext cx="2111040" cy="14461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58960" y="3393000"/>
              <a:ext cx="2054520" cy="14068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6880"/>
                <a:gd name="textAreaBottom" fmla="*/ 1407240 h 14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838080" y="4876920"/>
            <a:ext cx="2111040" cy="1447560"/>
            <a:chOff x="838080" y="4876920"/>
            <a:chExt cx="2111040" cy="1447560"/>
          </a:xfrm>
        </p:grpSpPr>
        <p:sp>
          <p:nvSpPr>
            <p:cNvPr id="867" name=""/>
            <p:cNvSpPr/>
            <p:nvPr/>
          </p:nvSpPr>
          <p:spPr>
            <a:xfrm>
              <a:off x="838080" y="4876920"/>
              <a:ext cx="2111040" cy="144756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58960" y="4891680"/>
              <a:ext cx="2054520" cy="140832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762120" y="389736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62120" y="539100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767560" y="4818240"/>
            <a:ext cx="224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386160" y="243828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037200" y="243828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630760" y="3138480"/>
            <a:ext cx="2522520" cy="147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b86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016080" y="3274920"/>
            <a:ext cx="2503800" cy="1478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db8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328920" y="373392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767560" y="3276720"/>
            <a:ext cx="224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1600200"/>
            <a:ext cx="7391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990720" y="5099040"/>
            <a:ext cx="7164360" cy="2746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440080" y="5097600"/>
            <a:ext cx="5715000" cy="110880"/>
          </a:xfrm>
          <a:prstGeom prst="roundRect">
            <a:avLst>
              <a:gd name="adj" fmla="val 0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990720" y="5641920"/>
            <a:ext cx="7164360" cy="2746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440080" y="5640480"/>
            <a:ext cx="5715000" cy="110880"/>
          </a:xfrm>
          <a:prstGeom prst="roundRect">
            <a:avLst>
              <a:gd name="adj" fmla="val 0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990720" y="4556160"/>
            <a:ext cx="7164360" cy="2746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440080" y="4554360"/>
            <a:ext cx="5715000" cy="111240"/>
          </a:xfrm>
          <a:prstGeom prst="roundRect">
            <a:avLst>
              <a:gd name="adj" fmla="val 0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992160" y="3508200"/>
            <a:ext cx="7174080" cy="2746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451240" y="3506760"/>
            <a:ext cx="5715000" cy="111240"/>
          </a:xfrm>
          <a:prstGeom prst="roundRect">
            <a:avLst>
              <a:gd name="adj" fmla="val 0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90720" y="4054320"/>
            <a:ext cx="7164360" cy="2746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440080" y="4052880"/>
            <a:ext cx="5715000" cy="111240"/>
          </a:xfrm>
          <a:prstGeom prst="roundRect">
            <a:avLst>
              <a:gd name="adj" fmla="val 0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992160" y="2946240"/>
            <a:ext cx="7174080" cy="2746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451240" y="2944800"/>
            <a:ext cx="5715000" cy="111240"/>
          </a:xfrm>
          <a:prstGeom prst="roundRect">
            <a:avLst>
              <a:gd name="adj" fmla="val 0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49400" y="2917800"/>
            <a:ext cx="1384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049400" y="3484440"/>
            <a:ext cx="1384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049400" y="4017960"/>
            <a:ext cx="1384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049400" y="4527720"/>
            <a:ext cx="1384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049400" y="5070600"/>
            <a:ext cx="1384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049400" y="5618160"/>
            <a:ext cx="1384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448400" y="2917800"/>
            <a:ext cx="7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288200" y="347832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17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288200" y="401148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70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435800" y="4525920"/>
            <a:ext cx="7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410600" y="5059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63.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404120" y="5614920"/>
            <a:ext cx="79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84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2438280" y="5640480"/>
            <a:ext cx="4735440" cy="276120"/>
            <a:chOff x="2438280" y="5640480"/>
            <a:chExt cx="4735440" cy="276120"/>
          </a:xfrm>
        </p:grpSpPr>
        <p:grpSp>
          <p:nvGrpSpPr>
            <p:cNvPr id="905" name=""/>
            <p:cNvGrpSpPr/>
            <p:nvPr/>
          </p:nvGrpSpPr>
          <p:grpSpPr>
            <a:xfrm>
              <a:off x="2438280" y="5640480"/>
              <a:ext cx="4735080" cy="276120"/>
              <a:chOff x="2438280" y="5640480"/>
              <a:chExt cx="4735080" cy="276120"/>
            </a:xfrm>
          </p:grpSpPr>
          <p:sp>
            <p:nvSpPr>
              <p:cNvPr id="906" name=""/>
              <p:cNvSpPr/>
              <p:nvPr/>
            </p:nvSpPr>
            <p:spPr>
              <a:xfrm>
                <a:off x="2438280" y="5641920"/>
                <a:ext cx="4735080" cy="274680"/>
              </a:xfrm>
              <a:prstGeom prst="rect">
                <a:avLst/>
              </a:prstGeom>
              <a:gradFill rotWithShape="0">
                <a:gsLst>
                  <a:gs pos="0">
                    <a:srgbClr val="ab77ac"/>
                  </a:gs>
                  <a:gs pos="100000">
                    <a:srgbClr val="e7a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438280" y="5640480"/>
                <a:ext cx="4735080" cy="111240"/>
              </a:xfrm>
              <a:prstGeom prst="roundRect">
                <a:avLst>
                  <a:gd name="adj" fmla="val 0"/>
                </a:avLst>
              </a:prstGeom>
              <a:solidFill>
                <a:srgbClr val="f8f8f8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2438280" y="5743800"/>
              <a:ext cx="473544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2433600" y="5097600"/>
            <a:ext cx="3600000" cy="276120"/>
            <a:chOff x="2433600" y="5097600"/>
            <a:chExt cx="3600000" cy="276120"/>
          </a:xfrm>
        </p:grpSpPr>
        <p:grpSp>
          <p:nvGrpSpPr>
            <p:cNvPr id="910" name=""/>
            <p:cNvGrpSpPr/>
            <p:nvPr/>
          </p:nvGrpSpPr>
          <p:grpSpPr>
            <a:xfrm>
              <a:off x="2438280" y="5097600"/>
              <a:ext cx="3582360" cy="276120"/>
              <a:chOff x="2438280" y="5097600"/>
              <a:chExt cx="3582360" cy="276120"/>
            </a:xfrm>
          </p:grpSpPr>
          <p:sp>
            <p:nvSpPr>
              <p:cNvPr id="911" name=""/>
              <p:cNvSpPr/>
              <p:nvPr/>
            </p:nvSpPr>
            <p:spPr>
              <a:xfrm>
                <a:off x="2438280" y="5099040"/>
                <a:ext cx="3582360" cy="274680"/>
              </a:xfrm>
              <a:prstGeom prst="rect">
                <a:avLst/>
              </a:prstGeom>
              <a:gradFill rotWithShape="0">
                <a:gsLst>
                  <a:gs pos="0">
                    <a:srgbClr val="7197bd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438280" y="5097600"/>
                <a:ext cx="3577680" cy="111240"/>
              </a:xfrm>
              <a:prstGeom prst="roundRect">
                <a:avLst>
                  <a:gd name="adj" fmla="val 0"/>
                </a:avLst>
              </a:prstGeom>
              <a:solidFill>
                <a:srgbClr val="f8f8f8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>
              <a:off x="2433600" y="5202360"/>
              <a:ext cx="3600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2438280" y="4554360"/>
            <a:ext cx="2258280" cy="274680"/>
            <a:chOff x="2438280" y="4554360"/>
            <a:chExt cx="2258280" cy="274680"/>
          </a:xfrm>
        </p:grpSpPr>
        <p:grpSp>
          <p:nvGrpSpPr>
            <p:cNvPr id="915" name=""/>
            <p:cNvGrpSpPr/>
            <p:nvPr/>
          </p:nvGrpSpPr>
          <p:grpSpPr>
            <a:xfrm>
              <a:off x="2438280" y="4554360"/>
              <a:ext cx="2258280" cy="274680"/>
              <a:chOff x="2438280" y="4554360"/>
              <a:chExt cx="2258280" cy="274680"/>
            </a:xfrm>
          </p:grpSpPr>
          <p:sp>
            <p:nvSpPr>
              <p:cNvPr id="916" name=""/>
              <p:cNvSpPr/>
              <p:nvPr/>
            </p:nvSpPr>
            <p:spPr>
              <a:xfrm>
                <a:off x="2438280" y="4554360"/>
                <a:ext cx="2258280" cy="274680"/>
              </a:xfrm>
              <a:prstGeom prst="rect">
                <a:avLst/>
              </a:prstGeom>
              <a:gradFill rotWithShape="0">
                <a:gsLst>
                  <a:gs pos="0">
                    <a:srgbClr val="b54545"/>
                  </a:gs>
                  <a:gs pos="100000">
                    <a:srgbClr val="f4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438280" y="4554360"/>
                <a:ext cx="2258280" cy="111240"/>
              </a:xfrm>
              <a:prstGeom prst="roundRect">
                <a:avLst>
                  <a:gd name="adj" fmla="val 0"/>
                </a:avLst>
              </a:prstGeom>
              <a:solidFill>
                <a:srgbClr val="f8f8f8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8" name=""/>
            <p:cNvSpPr/>
            <p:nvPr/>
          </p:nvSpPr>
          <p:spPr>
            <a:xfrm>
              <a:off x="2446200" y="4660560"/>
              <a:ext cx="224748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2448000" y="2941560"/>
            <a:ext cx="2833920" cy="280440"/>
            <a:chOff x="2448000" y="2941560"/>
            <a:chExt cx="2833920" cy="280440"/>
          </a:xfrm>
        </p:grpSpPr>
        <p:grpSp>
          <p:nvGrpSpPr>
            <p:cNvPr id="920" name=""/>
            <p:cNvGrpSpPr/>
            <p:nvPr/>
          </p:nvGrpSpPr>
          <p:grpSpPr>
            <a:xfrm>
              <a:off x="2448000" y="2941560"/>
              <a:ext cx="2833920" cy="280440"/>
              <a:chOff x="2448000" y="2941560"/>
              <a:chExt cx="2833920" cy="280440"/>
            </a:xfrm>
          </p:grpSpPr>
          <p:sp>
            <p:nvSpPr>
              <p:cNvPr id="921" name=""/>
              <p:cNvSpPr/>
              <p:nvPr/>
            </p:nvSpPr>
            <p:spPr>
              <a:xfrm>
                <a:off x="2448000" y="2941560"/>
                <a:ext cx="2833920" cy="280440"/>
              </a:xfrm>
              <a:prstGeom prst="rect">
                <a:avLst/>
              </a:prstGeom>
              <a:gradFill rotWithShape="0">
                <a:gsLst>
                  <a:gs pos="0">
                    <a:srgbClr val="679c21"/>
                  </a:gs>
                  <a:gs pos="100000">
                    <a:srgbClr val="8cd32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448000" y="2943000"/>
                <a:ext cx="2833920" cy="113400"/>
              </a:xfrm>
              <a:prstGeom prst="roundRect">
                <a:avLst>
                  <a:gd name="adj" fmla="val 0"/>
                </a:avLst>
              </a:prstGeom>
              <a:solidFill>
                <a:srgbClr val="f8f8f8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>
              <a:off x="2457360" y="3048480"/>
              <a:ext cx="281124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2448000" y="3506760"/>
            <a:ext cx="849240" cy="276120"/>
            <a:chOff x="2448000" y="3506760"/>
            <a:chExt cx="849240" cy="276120"/>
          </a:xfrm>
        </p:grpSpPr>
        <p:grpSp>
          <p:nvGrpSpPr>
            <p:cNvPr id="925" name=""/>
            <p:cNvGrpSpPr/>
            <p:nvPr/>
          </p:nvGrpSpPr>
          <p:grpSpPr>
            <a:xfrm>
              <a:off x="2448000" y="3506760"/>
              <a:ext cx="849240" cy="276120"/>
              <a:chOff x="2448000" y="3506760"/>
              <a:chExt cx="849240" cy="276120"/>
            </a:xfrm>
          </p:grpSpPr>
          <p:sp>
            <p:nvSpPr>
              <p:cNvPr id="926" name=""/>
              <p:cNvSpPr/>
              <p:nvPr/>
            </p:nvSpPr>
            <p:spPr>
              <a:xfrm>
                <a:off x="2448000" y="3508200"/>
                <a:ext cx="849240" cy="274680"/>
              </a:xfrm>
              <a:prstGeom prst="rect">
                <a:avLst/>
              </a:prstGeom>
              <a:gradFill rotWithShape="0">
                <a:gsLst>
                  <a:gs pos="0">
                    <a:srgbClr val="4483bc"/>
                  </a:gs>
                  <a:gs pos="100000">
                    <a:srgbClr val="5cb1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448000" y="3506760"/>
                <a:ext cx="849240" cy="111240"/>
              </a:xfrm>
              <a:prstGeom prst="roundRect">
                <a:avLst>
                  <a:gd name="adj" fmla="val 0"/>
                </a:avLst>
              </a:prstGeom>
              <a:solidFill>
                <a:srgbClr val="f8f8f8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2449440" y="3611520"/>
              <a:ext cx="8478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2438280" y="4059360"/>
            <a:ext cx="4221000" cy="266040"/>
            <a:chOff x="2438280" y="4059360"/>
            <a:chExt cx="4221000" cy="266040"/>
          </a:xfrm>
        </p:grpSpPr>
        <p:sp>
          <p:nvSpPr>
            <p:cNvPr id="930" name=""/>
            <p:cNvSpPr/>
            <p:nvPr/>
          </p:nvSpPr>
          <p:spPr>
            <a:xfrm>
              <a:off x="2438280" y="4060440"/>
              <a:ext cx="4221000" cy="264960"/>
            </a:xfrm>
            <a:prstGeom prst="rect">
              <a:avLst/>
            </a:prstGeom>
            <a:gradFill rotWithShape="0">
              <a:gsLst>
                <a:gs pos="0">
                  <a:srgbClr val="bd71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38280" y="4059360"/>
              <a:ext cx="4217760" cy="1072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2455920" y="4152960"/>
            <a:ext cx="4187880" cy="0"/>
          </a:xfrm>
          <a:prstGeom prst="line">
            <a:avLst/>
          </a:prstGeom>
          <a:ln w="9360">
            <a:solidFill>
              <a:srgbClr val="ffffff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285920" y="1940040"/>
            <a:ext cx="6553080" cy="72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902040" y="2816280"/>
            <a:ext cx="1711440" cy="536040"/>
            <a:chOff x="3902040" y="2816280"/>
            <a:chExt cx="1711440" cy="536040"/>
          </a:xfrm>
        </p:grpSpPr>
        <p:sp>
          <p:nvSpPr>
            <p:cNvPr id="936" name=""/>
            <p:cNvSpPr/>
            <p:nvPr/>
          </p:nvSpPr>
          <p:spPr>
            <a:xfrm>
              <a:off x="3902040" y="2816280"/>
              <a:ext cx="171144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928320" y="2848680"/>
              <a:ext cx="16513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7080120" y="4680000"/>
            <a:ext cx="1086120" cy="1263600"/>
          </a:xfrm>
          <a:prstGeom prst="rect">
            <a:avLst/>
          </a:prstGeom>
          <a:gradFill rotWithShape="0">
            <a:gsLst>
              <a:gs pos="0">
                <a:srgbClr val="8cd32d"/>
              </a:gs>
              <a:gs pos="100000">
                <a:srgbClr val="65982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916600" y="4680000"/>
            <a:ext cx="1085760" cy="1263600"/>
          </a:xfrm>
          <a:prstGeom prst="rect">
            <a:avLst/>
          </a:prstGeom>
          <a:gradFill rotWithShape="0">
            <a:gsLst>
              <a:gs pos="0">
                <a:srgbClr val="8cd32d"/>
              </a:gs>
              <a:gs pos="100000">
                <a:srgbClr val="65982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853920" y="3992400"/>
            <a:ext cx="2273400" cy="536400"/>
            <a:chOff x="853920" y="3992400"/>
            <a:chExt cx="2273400" cy="536400"/>
          </a:xfrm>
        </p:grpSpPr>
        <p:sp>
          <p:nvSpPr>
            <p:cNvPr id="941" name=""/>
            <p:cNvSpPr/>
            <p:nvPr/>
          </p:nvSpPr>
          <p:spPr>
            <a:xfrm>
              <a:off x="853920" y="399240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5cb1fe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88840" y="402480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cb1fe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5899320" y="3992400"/>
            <a:ext cx="2273040" cy="536400"/>
            <a:chOff x="5899320" y="3992400"/>
            <a:chExt cx="2273040" cy="536400"/>
          </a:xfrm>
        </p:grpSpPr>
        <p:sp>
          <p:nvSpPr>
            <p:cNvPr id="944" name=""/>
            <p:cNvSpPr/>
            <p:nvPr/>
          </p:nvSpPr>
          <p:spPr>
            <a:xfrm>
              <a:off x="5899320" y="399240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8cd32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934240" y="402480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d32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3373560" y="4002120"/>
            <a:ext cx="2273040" cy="536040"/>
            <a:chOff x="3373560" y="4002120"/>
            <a:chExt cx="2273040" cy="536040"/>
          </a:xfrm>
        </p:grpSpPr>
        <p:sp>
          <p:nvSpPr>
            <p:cNvPr id="947" name=""/>
            <p:cNvSpPr/>
            <p:nvPr/>
          </p:nvSpPr>
          <p:spPr>
            <a:xfrm>
              <a:off x="3373560" y="400212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408480" y="40345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99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1728720" y="2816280"/>
            <a:ext cx="1711440" cy="536040"/>
            <a:chOff x="1728720" y="2816280"/>
            <a:chExt cx="1711440" cy="536040"/>
          </a:xfrm>
        </p:grpSpPr>
        <p:sp>
          <p:nvSpPr>
            <p:cNvPr id="950" name=""/>
            <p:cNvSpPr/>
            <p:nvPr/>
          </p:nvSpPr>
          <p:spPr>
            <a:xfrm>
              <a:off x="1728720" y="2816280"/>
              <a:ext cx="171144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755000" y="2848680"/>
              <a:ext cx="16513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1787400" y="1957320"/>
            <a:ext cx="1597320" cy="536400"/>
            <a:chOff x="1787400" y="1957320"/>
            <a:chExt cx="1597320" cy="536400"/>
          </a:xfrm>
        </p:grpSpPr>
        <p:sp>
          <p:nvSpPr>
            <p:cNvPr id="953" name=""/>
            <p:cNvSpPr/>
            <p:nvPr/>
          </p:nvSpPr>
          <p:spPr>
            <a:xfrm>
              <a:off x="1787400" y="1957320"/>
              <a:ext cx="159732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811880" y="1989720"/>
              <a:ext cx="15415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873000" y="4680000"/>
            <a:ext cx="1086120" cy="126360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427fb7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036880" y="4680000"/>
            <a:ext cx="1085760" cy="126360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427fb7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"/>
          <p:cNvCxnSpPr/>
          <p:nvPr/>
        </p:nvCxnSpPr>
        <p:spPr>
          <a:xfrm flipH="1">
            <a:off x="3458520" y="30571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8" name=""/>
          <p:cNvCxnSpPr>
            <a:stCxn id="941" idx="0"/>
            <a:endCxn id="950" idx="2"/>
          </p:cNvCxnSpPr>
          <p:nvPr/>
        </p:nvCxnSpPr>
        <p:spPr>
          <a:xfrm flipH="1" flipV="1" rot="5400000">
            <a:off x="1967400" y="3375000"/>
            <a:ext cx="640440" cy="594360"/>
          </a:xfrm>
          <a:prstGeom prst="bentConnector3">
            <a:avLst>
              <a:gd name="adj1" fmla="val 498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9" name=""/>
          <p:cNvCxnSpPr>
            <a:stCxn id="944" idx="0"/>
            <a:endCxn id="950" idx="2"/>
          </p:cNvCxnSpPr>
          <p:nvPr/>
        </p:nvCxnSpPr>
        <p:spPr>
          <a:xfrm flipV="1" rot="16200000">
            <a:off x="4489560" y="1446120"/>
            <a:ext cx="640440" cy="4452120"/>
          </a:xfrm>
          <a:prstGeom prst="bentConnector3">
            <a:avLst>
              <a:gd name="adj1" fmla="val 498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60" name=""/>
          <p:cNvSpPr/>
          <p:nvPr/>
        </p:nvSpPr>
        <p:spPr>
          <a:xfrm>
            <a:off x="2082960" y="20383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911760" y="291636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940360" y="40831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880920" y="407340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773280" y="501480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932120" y="501480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403440" y="407988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390840" y="4680000"/>
            <a:ext cx="1085760" cy="1263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b86e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554360" y="4680000"/>
            <a:ext cx="1086120" cy="1263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b86e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290760" y="501480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449600" y="501480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816520" y="501480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975360" y="501480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859040" y="289260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4" name=""/>
          <p:cNvCxnSpPr>
            <a:stCxn id="953" idx="2"/>
            <a:endCxn id="950" idx="0"/>
          </p:cNvCxnSpPr>
          <p:nvPr/>
        </p:nvCxnSpPr>
        <p:spPr>
          <a:xfrm flipH="1">
            <a:off x="2584080" y="2493720"/>
            <a:ext cx="21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5" name=""/>
          <p:cNvCxnSpPr>
            <a:stCxn id="950" idx="2"/>
            <a:endCxn id="947" idx="0"/>
          </p:cNvCxnSpPr>
          <p:nvPr/>
        </p:nvCxnSpPr>
        <p:spPr>
          <a:xfrm flipH="1" rot="16200000">
            <a:off x="3221640" y="2714400"/>
            <a:ext cx="650160" cy="1926360"/>
          </a:xfrm>
          <a:prstGeom prst="bentConnector3">
            <a:avLst>
              <a:gd name="adj1" fmla="val 5008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76" name=""/>
          <p:cNvSpPr/>
          <p:nvPr/>
        </p:nvSpPr>
        <p:spPr>
          <a:xfrm>
            <a:off x="71632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20640" y="1928880"/>
            <a:ext cx="782496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f45e5e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f45e5e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5e5e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45e5e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f45e5e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5302080"/>
            <a:ext cx="64008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www.opena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Hot Tip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90720" y="467640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6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883040" y="5695920"/>
            <a:ext cx="3880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05800" y="617220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45e5e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418800">
            <a:off x="1452960" y="2537640"/>
            <a:ext cx="876240" cy="9511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6760" y="2878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3418800">
            <a:off x="2813400" y="4342320"/>
            <a:ext cx="874800" cy="94932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a51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39880" y="461808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4~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3418800">
            <a:off x="4775400" y="3250440"/>
            <a:ext cx="876240" cy="950760"/>
          </a:xfrm>
          <a:prstGeom prst="rect">
            <a:avLst/>
          </a:prstGeom>
          <a:gradFill rotWithShape="0">
            <a:gsLst>
              <a:gs pos="0">
                <a:srgbClr val="8cd32d"/>
              </a:gs>
              <a:gs pos="100000">
                <a:srgbClr val="406114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06920" y="354960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6~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418800">
            <a:off x="7002360" y="1866600"/>
            <a:ext cx="874440" cy="951120"/>
          </a:xfrm>
          <a:prstGeom prst="rect">
            <a:avLst/>
          </a:prstGeom>
          <a:gradFill rotWithShape="0">
            <a:gsLst>
              <a:gs pos="0">
                <a:srgbClr val="f45e5e"/>
              </a:gs>
              <a:gs pos="100000">
                <a:srgbClr val="702b2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76520" y="2206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3441600"/>
            <a:ext cx="722520" cy="10112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726000" y="3946320"/>
            <a:ext cx="1012680" cy="5778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667480" y="2615760"/>
            <a:ext cx="1336680" cy="7938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70320" y="2281320"/>
            <a:ext cx="39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47120" y="5595840"/>
            <a:ext cx="234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`01~`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`01~`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`01~`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2520" y="4584600"/>
            <a:ext cx="234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`04~`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`04~`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`04~`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36520" y="3141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5080" y="3811680"/>
            <a:ext cx="234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`99~`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`99~`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`99~`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71600" y="4699080"/>
            <a:ext cx="6361200" cy="877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3403440"/>
            <a:ext cx="6361200" cy="878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2101680"/>
            <a:ext cx="6361200" cy="878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00320" y="3132000"/>
            <a:ext cx="4686120" cy="362160"/>
            <a:chOff x="2200320" y="3132000"/>
            <a:chExt cx="4686120" cy="362160"/>
          </a:xfrm>
        </p:grpSpPr>
        <p:sp>
          <p:nvSpPr>
            <p:cNvPr id="168" name=""/>
            <p:cNvSpPr/>
            <p:nvPr/>
          </p:nvSpPr>
          <p:spPr>
            <a:xfrm>
              <a:off x="2200320" y="3132000"/>
              <a:ext cx="4686120" cy="3621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cd32d"/>
                </a:gs>
                <a:gs pos="50000">
                  <a:srgbClr val="80c129"/>
                </a:gs>
                <a:gs pos="100000">
                  <a:srgbClr val="8cd3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211840" y="3143160"/>
              <a:ext cx="4668840" cy="334440"/>
              <a:chOff x="2211840" y="3143160"/>
              <a:chExt cx="4668840" cy="334440"/>
            </a:xfrm>
          </p:grpSpPr>
          <p:sp>
            <p:nvSpPr>
              <p:cNvPr id="170" name=""/>
              <p:cNvSpPr/>
              <p:nvPr/>
            </p:nvSpPr>
            <p:spPr>
              <a:xfrm>
                <a:off x="2211840" y="3391200"/>
                <a:ext cx="4668840" cy="86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cd32d">
                      <a:alpha val="0"/>
                    </a:srgbClr>
                  </a:gs>
                  <a:gs pos="100000">
                    <a:srgbClr val="e7f5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211840" y="3143160"/>
                <a:ext cx="4668840" cy="86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cf7dd"/>
                  </a:gs>
                  <a:gs pos="100000">
                    <a:srgbClr val="8cd32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2173320" y="4470480"/>
            <a:ext cx="4686120" cy="361800"/>
            <a:chOff x="2173320" y="4470480"/>
            <a:chExt cx="4686120" cy="361800"/>
          </a:xfrm>
        </p:grpSpPr>
        <p:sp>
          <p:nvSpPr>
            <p:cNvPr id="173" name=""/>
            <p:cNvSpPr/>
            <p:nvPr/>
          </p:nvSpPr>
          <p:spPr>
            <a:xfrm>
              <a:off x="2173320" y="4470480"/>
              <a:ext cx="4686120" cy="3618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45e5e"/>
                </a:gs>
                <a:gs pos="50000">
                  <a:srgbClr val="df5656"/>
                </a:gs>
                <a:gs pos="100000">
                  <a:srgbClr val="f4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184840" y="4481640"/>
              <a:ext cx="4668840" cy="334440"/>
              <a:chOff x="2184840" y="4481640"/>
              <a:chExt cx="4668840" cy="334440"/>
            </a:xfrm>
          </p:grpSpPr>
          <p:sp>
            <p:nvSpPr>
              <p:cNvPr id="175" name=""/>
              <p:cNvSpPr/>
              <p:nvPr/>
            </p:nvSpPr>
            <p:spPr>
              <a:xfrm>
                <a:off x="2184840" y="4729680"/>
                <a:ext cx="4668840" cy="86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45e5e">
                      <a:alpha val="0"/>
                    </a:srgbClr>
                  </a:gs>
                  <a:gs pos="100000">
                    <a:srgbClr val="fbd5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184840" y="4481640"/>
                <a:ext cx="4668840" cy="86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bdfdf"/>
                  </a:gs>
                  <a:gs pos="100000">
                    <a:srgbClr val="f45e5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203560" y="1839960"/>
            <a:ext cx="4686120" cy="361800"/>
            <a:chOff x="2203560" y="1839960"/>
            <a:chExt cx="4686120" cy="361800"/>
          </a:xfrm>
        </p:grpSpPr>
        <p:sp>
          <p:nvSpPr>
            <p:cNvPr id="178" name=""/>
            <p:cNvSpPr/>
            <p:nvPr/>
          </p:nvSpPr>
          <p:spPr>
            <a:xfrm>
              <a:off x="2203560" y="1839960"/>
              <a:ext cx="4686120" cy="3618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ea8c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214360" y="1851120"/>
              <a:ext cx="4668480" cy="334800"/>
              <a:chOff x="2214360" y="1851120"/>
              <a:chExt cx="4668480" cy="334800"/>
            </a:xfrm>
          </p:grpSpPr>
          <p:sp>
            <p:nvSpPr>
              <p:cNvPr id="180" name=""/>
              <p:cNvSpPr/>
              <p:nvPr/>
            </p:nvSpPr>
            <p:spPr>
              <a:xfrm>
                <a:off x="2214360" y="2098800"/>
                <a:ext cx="4668480" cy="87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00">
                      <a:alpha val="0"/>
                    </a:srgbClr>
                  </a:gs>
                  <a:gs pos="100000">
                    <a:srgbClr val="fee9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214360" y="1851120"/>
                <a:ext cx="4668480" cy="87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e7c5"/>
                  </a:gs>
                  <a:gs pos="100000">
                    <a:srgbClr val="ff99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3413520" y="182880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3520" y="313524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3520" y="44593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74920" y="5715000"/>
            <a:ext cx="6165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60ad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03360" y="3581280"/>
            <a:ext cx="60912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03360" y="2279520"/>
            <a:ext cx="60912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08160" y="4948200"/>
            <a:ext cx="1727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32240" y="4948200"/>
            <a:ext cx="1727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38840" y="2452680"/>
            <a:ext cx="0" cy="3108240"/>
          </a:xfrm>
          <a:prstGeom prst="line">
            <a:avLst/>
          </a:prstGeom>
          <a:ln w="1260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58280" y="27511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9440" y="3710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9440" y="46483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3079800"/>
            <a:ext cx="29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4005360"/>
            <a:ext cx="29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4932360"/>
            <a:ext cx="29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7480" y="2554200"/>
            <a:ext cx="2844720" cy="2867040"/>
          </a:xfrm>
          <a:prstGeom prst="ellipse">
            <a:avLst/>
          </a:prstGeom>
          <a:noFill/>
          <a:ln w="9360">
            <a:solidFill>
              <a:srgbClr val="b2b2b2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944640" y="2803680"/>
            <a:ext cx="2377800" cy="2425320"/>
            <a:chOff x="944640" y="2803680"/>
            <a:chExt cx="2377800" cy="2425320"/>
          </a:xfrm>
        </p:grpSpPr>
        <p:sp>
          <p:nvSpPr>
            <p:cNvPr id="200" name=""/>
            <p:cNvSpPr/>
            <p:nvPr/>
          </p:nvSpPr>
          <p:spPr>
            <a:xfrm>
              <a:off x="944640" y="2803680"/>
              <a:ext cx="2377800" cy="2425320"/>
            </a:xfrm>
            <a:prstGeom prst="ellipse">
              <a:avLst/>
            </a:prstGeom>
            <a:gradFill rotWithShape="0">
              <a:gsLst>
                <a:gs pos="0">
                  <a:srgbClr val="3160ad"/>
                </a:gs>
                <a:gs pos="100000">
                  <a:srgbClr val="e7ecf5"/>
                </a:gs>
              </a:gsLst>
              <a:lin ang="13500000"/>
            </a:gradFill>
            <a:ln w="38160">
              <a:solidFill>
                <a:srgbClr val="f8f8f8"/>
              </a:solidFill>
              <a:miter/>
            </a:ln>
            <a:effectLst>
              <a:outerShdw dist="40186" dir="4303641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42560" y="2898360"/>
              <a:ext cx="2180160" cy="2225520"/>
            </a:xfrm>
            <a:prstGeom prst="ellipse">
              <a:avLst/>
            </a:prstGeom>
            <a:gradFill rotWithShape="0">
              <a:gsLst>
                <a:gs pos="0">
                  <a:srgbClr val="8fa8d2"/>
                </a:gs>
                <a:gs pos="100000">
                  <a:srgbClr val="3160ad"/>
                </a:gs>
              </a:gsLst>
              <a:lin ang="13500000"/>
            </a:gradFill>
            <a:ln w="0">
              <a:noFill/>
            </a:ln>
            <a:effectLst>
              <a:outerShdw dist="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45400" y="3323160"/>
              <a:ext cx="1395720" cy="1425240"/>
            </a:xfrm>
            <a:prstGeom prst="ellipse">
              <a:avLst/>
            </a:prstGeom>
            <a:gradFill rotWithShape="0">
              <a:gsLst>
                <a:gs pos="0">
                  <a:srgbClr val="224278"/>
                </a:gs>
                <a:gs pos="100000">
                  <a:srgbClr val="3160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541440" y="2370240"/>
            <a:ext cx="3216240" cy="3246480"/>
          </a:xfrm>
          <a:prstGeom prst="ellipse">
            <a:avLst/>
          </a:prstGeom>
          <a:noFill/>
          <a:ln w="19080">
            <a:solidFill>
              <a:srgbClr val="b2b2b2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5040" y="4000680"/>
            <a:ext cx="3552840" cy="0"/>
          </a:xfrm>
          <a:prstGeom prst="line">
            <a:avLst/>
          </a:prstGeom>
          <a:ln w="1260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41640" y="2130480"/>
            <a:ext cx="0" cy="3736800"/>
          </a:xfrm>
          <a:prstGeom prst="line">
            <a:avLst/>
          </a:prstGeom>
          <a:ln w="1260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711520" y="2352600"/>
            <a:ext cx="339480" cy="339840"/>
            <a:chOff x="2711520" y="2352600"/>
            <a:chExt cx="339480" cy="339840"/>
          </a:xfrm>
        </p:grpSpPr>
        <p:sp>
          <p:nvSpPr>
            <p:cNvPr id="207" name=""/>
            <p:cNvSpPr/>
            <p:nvPr/>
          </p:nvSpPr>
          <p:spPr>
            <a:xfrm>
              <a:off x="2711520" y="2352600"/>
              <a:ext cx="339480" cy="339840"/>
            </a:xfrm>
            <a:prstGeom prst="ellipse">
              <a:avLst/>
            </a:prstGeom>
            <a:gradFill rotWithShape="0">
              <a:gsLst>
                <a:gs pos="0">
                  <a:srgbClr val="3160ad"/>
                </a:gs>
                <a:gs pos="100000">
                  <a:srgbClr val="c3d0e6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38520" y="2381040"/>
              <a:ext cx="282240" cy="282600"/>
            </a:xfrm>
            <a:prstGeom prst="ellipse">
              <a:avLst/>
            </a:prstGeom>
            <a:gradFill rotWithShape="0">
              <a:gsLst>
                <a:gs pos="0">
                  <a:srgbClr val="7b99ca"/>
                </a:gs>
                <a:gs pos="100000">
                  <a:srgbClr val="3160a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027240" y="2324160"/>
            <a:ext cx="20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21120" y="378792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26000" y="299412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70200" y="46148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22560" y="525312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65320" y="3664080"/>
            <a:ext cx="1987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422520" y="3057480"/>
            <a:ext cx="339840" cy="339840"/>
            <a:chOff x="3422520" y="3057480"/>
            <a:chExt cx="339840" cy="339840"/>
          </a:xfrm>
        </p:grpSpPr>
        <p:sp>
          <p:nvSpPr>
            <p:cNvPr id="216" name=""/>
            <p:cNvSpPr/>
            <p:nvPr/>
          </p:nvSpPr>
          <p:spPr>
            <a:xfrm>
              <a:off x="3422520" y="3057480"/>
              <a:ext cx="339840" cy="339840"/>
            </a:xfrm>
            <a:prstGeom prst="ellipse">
              <a:avLst/>
            </a:prstGeom>
            <a:gradFill rotWithShape="0">
              <a:gsLst>
                <a:gs pos="0">
                  <a:srgbClr val="3160ad"/>
                </a:gs>
                <a:gs pos="100000">
                  <a:srgbClr val="c3d0e6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49880" y="3085920"/>
              <a:ext cx="282600" cy="282600"/>
            </a:xfrm>
            <a:prstGeom prst="ellipse">
              <a:avLst/>
            </a:prstGeom>
            <a:gradFill rotWithShape="0">
              <a:gsLst>
                <a:gs pos="0">
                  <a:srgbClr val="7b99ca"/>
                </a:gs>
                <a:gs pos="100000">
                  <a:srgbClr val="3160a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654360" y="3825720"/>
            <a:ext cx="339840" cy="339840"/>
            <a:chOff x="3654360" y="3825720"/>
            <a:chExt cx="339840" cy="339840"/>
          </a:xfrm>
        </p:grpSpPr>
        <p:sp>
          <p:nvSpPr>
            <p:cNvPr id="219" name=""/>
            <p:cNvSpPr/>
            <p:nvPr/>
          </p:nvSpPr>
          <p:spPr>
            <a:xfrm>
              <a:off x="3654360" y="3825720"/>
              <a:ext cx="339840" cy="339840"/>
            </a:xfrm>
            <a:prstGeom prst="ellipse">
              <a:avLst/>
            </a:prstGeom>
            <a:gradFill rotWithShape="0">
              <a:gsLst>
                <a:gs pos="0">
                  <a:srgbClr val="3160ad"/>
                </a:gs>
                <a:gs pos="100000">
                  <a:srgbClr val="c3d0e6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81720" y="3854160"/>
              <a:ext cx="282600" cy="282600"/>
            </a:xfrm>
            <a:prstGeom prst="ellipse">
              <a:avLst/>
            </a:prstGeom>
            <a:gradFill rotWithShape="0">
              <a:gsLst>
                <a:gs pos="0">
                  <a:srgbClr val="7b99ca"/>
                </a:gs>
                <a:gs pos="100000">
                  <a:srgbClr val="3160a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13160" y="4641840"/>
            <a:ext cx="339840" cy="339840"/>
            <a:chOff x="3413160" y="4641840"/>
            <a:chExt cx="339840" cy="339840"/>
          </a:xfrm>
        </p:grpSpPr>
        <p:sp>
          <p:nvSpPr>
            <p:cNvPr id="222" name=""/>
            <p:cNvSpPr/>
            <p:nvPr/>
          </p:nvSpPr>
          <p:spPr>
            <a:xfrm>
              <a:off x="3413160" y="4641840"/>
              <a:ext cx="339840" cy="339840"/>
            </a:xfrm>
            <a:prstGeom prst="ellipse">
              <a:avLst/>
            </a:prstGeom>
            <a:gradFill rotWithShape="0">
              <a:gsLst>
                <a:gs pos="0">
                  <a:srgbClr val="3160ad"/>
                </a:gs>
                <a:gs pos="100000">
                  <a:srgbClr val="c3d0e6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40520" y="4670280"/>
              <a:ext cx="282600" cy="282600"/>
            </a:xfrm>
            <a:prstGeom prst="ellipse">
              <a:avLst/>
            </a:prstGeom>
            <a:gradFill rotWithShape="0">
              <a:gsLst>
                <a:gs pos="0">
                  <a:srgbClr val="7b99ca"/>
                </a:gs>
                <a:gs pos="100000">
                  <a:srgbClr val="3160a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787480" y="5264280"/>
            <a:ext cx="339840" cy="339480"/>
            <a:chOff x="2787480" y="5264280"/>
            <a:chExt cx="339840" cy="339480"/>
          </a:xfrm>
        </p:grpSpPr>
        <p:sp>
          <p:nvSpPr>
            <p:cNvPr id="225" name=""/>
            <p:cNvSpPr/>
            <p:nvPr/>
          </p:nvSpPr>
          <p:spPr>
            <a:xfrm>
              <a:off x="2787480" y="5264280"/>
              <a:ext cx="339840" cy="339480"/>
            </a:xfrm>
            <a:prstGeom prst="ellipse">
              <a:avLst/>
            </a:prstGeom>
            <a:gradFill rotWithShape="0">
              <a:gsLst>
                <a:gs pos="0">
                  <a:srgbClr val="3160ad"/>
                </a:gs>
                <a:gs pos="100000">
                  <a:srgbClr val="c3d0e6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14840" y="5292720"/>
              <a:ext cx="282600" cy="282240"/>
            </a:xfrm>
            <a:prstGeom prst="ellipse">
              <a:avLst/>
            </a:prstGeom>
            <a:gradFill rotWithShape="0">
              <a:gsLst>
                <a:gs pos="0">
                  <a:srgbClr val="7b99ca"/>
                </a:gs>
                <a:gs pos="100000">
                  <a:srgbClr val="3160a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740560" y="2852640"/>
            <a:ext cx="180720" cy="181080"/>
            <a:chOff x="5740560" y="2852640"/>
            <a:chExt cx="180720" cy="181080"/>
          </a:xfrm>
        </p:grpSpPr>
        <p:sp>
          <p:nvSpPr>
            <p:cNvPr id="228" name=""/>
            <p:cNvSpPr/>
            <p:nvPr/>
          </p:nvSpPr>
          <p:spPr>
            <a:xfrm>
              <a:off x="5740560" y="2852640"/>
              <a:ext cx="180720" cy="181080"/>
            </a:xfrm>
            <a:prstGeom prst="ellipse">
              <a:avLst/>
            </a:prstGeom>
            <a:gradFill rotWithShape="0">
              <a:gsLst>
                <a:gs pos="0">
                  <a:srgbClr val="3160ad"/>
                </a:gs>
                <a:gs pos="100000">
                  <a:srgbClr val="c3d0e6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54960" y="2867760"/>
              <a:ext cx="150480" cy="150480"/>
            </a:xfrm>
            <a:prstGeom prst="ellipse">
              <a:avLst/>
            </a:prstGeom>
            <a:gradFill rotWithShape="0">
              <a:gsLst>
                <a:gs pos="0">
                  <a:srgbClr val="7b99ca"/>
                </a:gs>
                <a:gs pos="100000">
                  <a:srgbClr val="3160a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740560" y="3807000"/>
            <a:ext cx="180720" cy="180720"/>
            <a:chOff x="5740560" y="3807000"/>
            <a:chExt cx="180720" cy="180720"/>
          </a:xfrm>
        </p:grpSpPr>
        <p:sp>
          <p:nvSpPr>
            <p:cNvPr id="231" name=""/>
            <p:cNvSpPr/>
            <p:nvPr/>
          </p:nvSpPr>
          <p:spPr>
            <a:xfrm>
              <a:off x="5740560" y="3807000"/>
              <a:ext cx="180720" cy="180720"/>
            </a:xfrm>
            <a:prstGeom prst="ellipse">
              <a:avLst/>
            </a:prstGeom>
            <a:gradFill rotWithShape="0">
              <a:gsLst>
                <a:gs pos="0">
                  <a:srgbClr val="3160ad"/>
                </a:gs>
                <a:gs pos="100000">
                  <a:srgbClr val="c3d0e6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54960" y="3822120"/>
              <a:ext cx="150480" cy="150480"/>
            </a:xfrm>
            <a:prstGeom prst="ellipse">
              <a:avLst/>
            </a:prstGeom>
            <a:gradFill rotWithShape="0">
              <a:gsLst>
                <a:gs pos="0">
                  <a:srgbClr val="7b99ca"/>
                </a:gs>
                <a:gs pos="100000">
                  <a:srgbClr val="3160a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740560" y="4741920"/>
            <a:ext cx="180720" cy="181080"/>
            <a:chOff x="5740560" y="4741920"/>
            <a:chExt cx="180720" cy="181080"/>
          </a:xfrm>
        </p:grpSpPr>
        <p:sp>
          <p:nvSpPr>
            <p:cNvPr id="234" name=""/>
            <p:cNvSpPr/>
            <p:nvPr/>
          </p:nvSpPr>
          <p:spPr>
            <a:xfrm>
              <a:off x="5740560" y="4741920"/>
              <a:ext cx="180720" cy="181080"/>
            </a:xfrm>
            <a:prstGeom prst="ellipse">
              <a:avLst/>
            </a:prstGeom>
            <a:gradFill rotWithShape="0">
              <a:gsLst>
                <a:gs pos="0">
                  <a:srgbClr val="3160ad"/>
                </a:gs>
                <a:gs pos="100000">
                  <a:srgbClr val="c3d0e6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54960" y="4757040"/>
              <a:ext cx="150480" cy="150480"/>
            </a:xfrm>
            <a:prstGeom prst="ellipse">
              <a:avLst/>
            </a:prstGeom>
            <a:gradFill rotWithShape="0">
              <a:gsLst>
                <a:gs pos="0">
                  <a:srgbClr val="7b99ca"/>
                </a:gs>
                <a:gs pos="100000">
                  <a:srgbClr val="3160a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71632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205740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06800" y="5749920"/>
            <a:ext cx="6240240" cy="347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未知"/>
          <p:cNvSpPr/>
          <p:nvPr/>
        </p:nvSpPr>
        <p:spPr>
          <a:xfrm>
            <a:off x="2868480" y="2816280"/>
            <a:ext cx="4751640" cy="284616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ef4e6">
                  <a:alpha val="80000"/>
                </a:srgbClr>
              </a:gs>
              <a:gs pos="100000">
                <a:srgbClr val="ff99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59000" y="5742000"/>
            <a:ext cx="520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00        01        02       03        04        05        06        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17240" y="48909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50840" y="4780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83920" y="4076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48840" y="33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6200" y="48434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68000" y="40654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22120" y="24084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39760" y="31035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95640" y="6156360"/>
            <a:ext cx="62625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in here  (unit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60440" y="5827680"/>
            <a:ext cx="6559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70040" y="2913120"/>
            <a:ext cx="163188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2820960"/>
            <a:ext cx="3825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03720" y="5162400"/>
            <a:ext cx="129960" cy="130320"/>
          </a:xfrm>
          <a:prstGeom prst="ellipse">
            <a:avLst/>
          </a:prstGeom>
          <a:solidFill>
            <a:srgbClr val="5cb1fe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5111640"/>
            <a:ext cx="130320" cy="130320"/>
          </a:xfrm>
          <a:prstGeom prst="ellipse">
            <a:avLst/>
          </a:prstGeom>
          <a:solidFill>
            <a:srgbClr val="5cb1fe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4446720"/>
            <a:ext cx="130320" cy="129960"/>
          </a:xfrm>
          <a:prstGeom prst="ellipse">
            <a:avLst/>
          </a:prstGeom>
          <a:solidFill>
            <a:srgbClr val="5cb1fe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3684600"/>
            <a:ext cx="130320" cy="130320"/>
          </a:xfrm>
          <a:prstGeom prst="ellipse">
            <a:avLst/>
          </a:prstGeom>
          <a:solidFill>
            <a:srgbClr val="5cb1fe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4675320"/>
            <a:ext cx="130320" cy="129960"/>
          </a:xfrm>
          <a:prstGeom prst="ellipse">
            <a:avLst/>
          </a:prstGeom>
          <a:solidFill>
            <a:srgbClr val="5cb1fe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4446720"/>
            <a:ext cx="130320" cy="129960"/>
          </a:xfrm>
          <a:prstGeom prst="ellipse">
            <a:avLst/>
          </a:prstGeom>
          <a:solidFill>
            <a:srgbClr val="5cb1fe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29560" y="2741760"/>
            <a:ext cx="187200" cy="187200"/>
          </a:xfrm>
          <a:prstGeom prst="ellipse">
            <a:avLst/>
          </a:prstGeom>
          <a:solidFill>
            <a:srgbClr val="f45e5e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15360" y="3381480"/>
            <a:ext cx="129960" cy="129960"/>
          </a:xfrm>
          <a:prstGeom prst="ellipse">
            <a:avLst/>
          </a:prstGeom>
          <a:solidFill>
            <a:srgbClr val="5cb1fe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8120" y="2913120"/>
            <a:ext cx="163224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233960" y="3013200"/>
            <a:ext cx="2309760" cy="22888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H="1" flipV="1" rot="5400000">
            <a:off x="4261680" y="2995200"/>
            <a:ext cx="2279880" cy="232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0501"/>
                </a:moveTo>
                <a:arcTo wR="10800" hR="10800" stAng="-10704666" swAng="10737983"/>
                <a:lnTo>
                  <a:pt x="10800" y="10800"/>
                </a:lnTo>
                <a:close/>
              </a:path>
              <a:path fill="none" w="21600" h="21600">
                <a:moveTo>
                  <a:pt x="4" y="10501"/>
                </a:moveTo>
                <a:arcTo wR="10800" hR="10800" stAng="-10704666" swAng="10737983"/>
              </a:path>
            </a:pathLst>
          </a:custGeom>
          <a:solidFill>
            <a:srgbClr val="f45e5e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 rot="16490400">
            <a:off x="4262400" y="3019320"/>
            <a:ext cx="2279880" cy="228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" y="11649"/>
                </a:moveTo>
                <a:arcTo wR="10800" hR="10800" stAng="10529578" swAng="10922138"/>
                <a:lnTo>
                  <a:pt x="10800" y="10800"/>
                </a:lnTo>
                <a:close/>
              </a:path>
              <a:path fill="none" w="21600" h="21600">
                <a:moveTo>
                  <a:pt x="33" y="11649"/>
                </a:moveTo>
                <a:arcTo wR="10800" hR="10800" stAng="10529578" swAng="10922138"/>
              </a:path>
            </a:pathLst>
          </a:custGeom>
          <a:solidFill>
            <a:srgbClr val="5cb1fe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954680" y="3886560"/>
            <a:ext cx="1623600" cy="1479960"/>
            <a:chOff x="4954680" y="3886560"/>
            <a:chExt cx="1623600" cy="1479960"/>
          </a:xfrm>
        </p:grpSpPr>
        <p:grpSp>
          <p:nvGrpSpPr>
            <p:cNvPr id="268" name=""/>
            <p:cNvGrpSpPr/>
            <p:nvPr/>
          </p:nvGrpSpPr>
          <p:grpSpPr>
            <a:xfrm>
              <a:off x="5329440" y="3886560"/>
              <a:ext cx="1248840" cy="1465560"/>
              <a:chOff x="5329440" y="3886560"/>
              <a:chExt cx="1248840" cy="1465560"/>
            </a:xfrm>
          </p:grpSpPr>
          <p:sp>
            <p:nvSpPr>
              <p:cNvPr id="269" name=""/>
              <p:cNvSpPr/>
              <p:nvPr/>
            </p:nvSpPr>
            <p:spPr>
              <a:xfrm flipH="1" flipV="1" rot="1528800">
                <a:off x="6024960" y="3890880"/>
                <a:ext cx="2970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 rot="2344200">
                <a:off x="5930280" y="406980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 rot="2640000">
                <a:off x="5852880" y="415728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flipV="1" rot="3172200">
                <a:off x="5755680" y="425772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54680" y="4290120"/>
              <a:ext cx="1569240" cy="1076400"/>
              <a:chOff x="4954680" y="4290120"/>
              <a:chExt cx="1569240" cy="1076400"/>
            </a:xfrm>
          </p:grpSpPr>
          <p:sp>
            <p:nvSpPr>
              <p:cNvPr id="274" name=""/>
              <p:cNvSpPr/>
              <p:nvPr/>
            </p:nvSpPr>
            <p:spPr>
              <a:xfrm flipH="1" flipV="1" rot="2881800">
                <a:off x="5821920" y="4198680"/>
                <a:ext cx="29808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 rot="3697200">
                <a:off x="5665680" y="4327920"/>
                <a:ext cx="29844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 rot="3993000">
                <a:off x="5560200" y="4378320"/>
                <a:ext cx="29844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flipV="1" rot="4525200">
                <a:off x="5432040" y="4433760"/>
                <a:ext cx="29844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>
            <a:off x="4419720" y="3673440"/>
            <a:ext cx="912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3648240"/>
            <a:ext cx="912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19680" y="3427560"/>
            <a:ext cx="342720" cy="107640"/>
          </a:xfrm>
          <a:prstGeom prst="line">
            <a:avLst/>
          </a:prstGeom>
          <a:ln w="76320">
            <a:solidFill>
              <a:srgbClr val="f45e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990960" y="5119560"/>
            <a:ext cx="247680" cy="190800"/>
          </a:xfrm>
          <a:prstGeom prst="line">
            <a:avLst/>
          </a:prstGeom>
          <a:ln w="76320">
            <a:solidFill>
              <a:srgbClr val="f45e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821480" y="5413680"/>
            <a:ext cx="40680" cy="309960"/>
          </a:xfrm>
          <a:prstGeom prst="line">
            <a:avLst/>
          </a:prstGeom>
          <a:ln w="76320">
            <a:solidFill>
              <a:srgbClr val="f45e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63800" y="4409640"/>
            <a:ext cx="313200" cy="12600"/>
          </a:xfrm>
          <a:prstGeom prst="line">
            <a:avLst/>
          </a:prstGeom>
          <a:ln w="76320">
            <a:solidFill>
              <a:srgbClr val="f45e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994000" y="2719800"/>
            <a:ext cx="720" cy="359640"/>
          </a:xfrm>
          <a:prstGeom prst="line">
            <a:avLst/>
          </a:prstGeom>
          <a:ln w="76320">
            <a:solidFill>
              <a:srgbClr val="5cb1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6576480" y="4724280"/>
            <a:ext cx="254520" cy="181440"/>
          </a:xfrm>
          <a:prstGeom prst="line">
            <a:avLst/>
          </a:prstGeom>
          <a:ln w="76320">
            <a:solidFill>
              <a:srgbClr val="5cb1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456240" y="3207960"/>
            <a:ext cx="254160" cy="181800"/>
          </a:xfrm>
          <a:prstGeom prst="line">
            <a:avLst/>
          </a:prstGeom>
          <a:ln w="76320">
            <a:solidFill>
              <a:srgbClr val="5cb1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67080" y="29671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00200" y="3006720"/>
            <a:ext cx="1301760" cy="587520"/>
          </a:xfrm>
          <a:prstGeom prst="roundRect">
            <a:avLst>
              <a:gd name="adj" fmla="val 50000"/>
            </a:avLst>
          </a:prstGeom>
          <a:solidFill>
            <a:srgbClr val="f45e5e">
              <a:alpha val="96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314320" y="19144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351400" y="1952640"/>
            <a:ext cx="1300320" cy="587520"/>
          </a:xfrm>
          <a:prstGeom prst="roundRect">
            <a:avLst>
              <a:gd name="adj" fmla="val 50000"/>
            </a:avLst>
          </a:prstGeom>
          <a:solidFill>
            <a:srgbClr val="5cb1fe">
              <a:alpha val="70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51920" y="3127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26880" y="20970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09760" y="40831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43240" y="4122720"/>
            <a:ext cx="1301760" cy="587520"/>
          </a:xfrm>
          <a:prstGeom prst="roundRect">
            <a:avLst>
              <a:gd name="adj" fmla="val 50000"/>
            </a:avLst>
          </a:prstGeom>
          <a:solidFill>
            <a:srgbClr val="f45e5e">
              <a:alpha val="96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694600" y="4243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06760" y="516888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639880" y="5208480"/>
            <a:ext cx="1301760" cy="587520"/>
          </a:xfrm>
          <a:prstGeom prst="roundRect">
            <a:avLst>
              <a:gd name="adj" fmla="val 50000"/>
            </a:avLst>
          </a:prstGeom>
          <a:solidFill>
            <a:srgbClr val="f45e5e">
              <a:alpha val="96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91600" y="5329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76640" y="579924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110120" y="5838840"/>
            <a:ext cx="1301760" cy="587520"/>
          </a:xfrm>
          <a:prstGeom prst="roundRect">
            <a:avLst>
              <a:gd name="adj" fmla="val 50000"/>
            </a:avLst>
          </a:prstGeom>
          <a:solidFill>
            <a:srgbClr val="f45e5e">
              <a:alpha val="96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61480" y="59594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726960" y="264960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763680" y="2687760"/>
            <a:ext cx="1299960" cy="587160"/>
          </a:xfrm>
          <a:prstGeom prst="roundRect">
            <a:avLst>
              <a:gd name="adj" fmla="val 50000"/>
            </a:avLst>
          </a:prstGeom>
          <a:solidFill>
            <a:srgbClr val="5cb1fe">
              <a:alpha val="70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139520" y="28321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151040" y="37162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188120" y="3754440"/>
            <a:ext cx="1300320" cy="587520"/>
          </a:xfrm>
          <a:prstGeom prst="roundRect">
            <a:avLst>
              <a:gd name="adj" fmla="val 50000"/>
            </a:avLst>
          </a:prstGeom>
          <a:solidFill>
            <a:srgbClr val="5cb1fe">
              <a:alpha val="70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563600" y="38988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881040" y="473724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917760" y="4775040"/>
            <a:ext cx="1299960" cy="587520"/>
          </a:xfrm>
          <a:prstGeom prst="roundRect">
            <a:avLst>
              <a:gd name="adj" fmla="val 50000"/>
            </a:avLst>
          </a:prstGeom>
          <a:solidFill>
            <a:srgbClr val="5cb1fe">
              <a:alpha val="70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293600" y="49197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735240" y="4043520"/>
            <a:ext cx="313560" cy="9000"/>
          </a:xfrm>
          <a:prstGeom prst="line">
            <a:avLst/>
          </a:prstGeom>
          <a:ln w="76320">
            <a:solidFill>
              <a:srgbClr val="5cb1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85800" y="1844640"/>
            <a:ext cx="4191120" cy="762120"/>
            <a:chOff x="685800" y="1844640"/>
            <a:chExt cx="4191120" cy="762120"/>
          </a:xfrm>
        </p:grpSpPr>
        <p:sp>
          <p:nvSpPr>
            <p:cNvPr id="313" name=""/>
            <p:cNvSpPr/>
            <p:nvPr/>
          </p:nvSpPr>
          <p:spPr>
            <a:xfrm>
              <a:off x="685800" y="1844640"/>
              <a:ext cx="4191120" cy="762120"/>
            </a:xfrm>
            <a:prstGeom prst="wedgeRectCallout">
              <a:avLst>
                <a:gd name="adj1" fmla="val 40907"/>
                <a:gd name="adj2" fmla="val 111250"/>
              </a:avLst>
            </a:prstGeom>
            <a:solidFill>
              <a:srgbClr val="ffffff"/>
            </a:solidFill>
            <a:ln w="38160">
              <a:solidFill>
                <a:srgbClr val="8cd3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8080" y="1996920"/>
              <a:ext cx="403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60ad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3160a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84880" y="2752560"/>
            <a:ext cx="2867040" cy="2968920"/>
          </a:xfrm>
          <a:prstGeom prst="ellipse">
            <a:avLst/>
          </a:prstGeom>
          <a:noFill/>
          <a:ln w="57240">
            <a:solidFill>
              <a:srgbClr val="3160ad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01880" y="2752560"/>
            <a:ext cx="2866680" cy="2968920"/>
          </a:xfrm>
          <a:prstGeom prst="ellipse">
            <a:avLst/>
          </a:prstGeom>
          <a:noFill/>
          <a:ln w="57240">
            <a:solidFill>
              <a:srgbClr val="3160ad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121200" y="3624120"/>
            <a:ext cx="1368000" cy="1266480"/>
            <a:chOff x="3121200" y="3624120"/>
            <a:chExt cx="1368000" cy="1266480"/>
          </a:xfrm>
        </p:grpSpPr>
        <p:sp>
          <p:nvSpPr>
            <p:cNvPr id="319" name=""/>
            <p:cNvSpPr/>
            <p:nvPr/>
          </p:nvSpPr>
          <p:spPr>
            <a:xfrm>
              <a:off x="3121200" y="3624120"/>
              <a:ext cx="1368000" cy="1266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cb1fe"/>
                </a:gs>
                <a:gs pos="100000">
                  <a:srgbClr val="4280b8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3172320" y="3687120"/>
              <a:ext cx="680760" cy="6325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bcffd"/>
                </a:gs>
                <a:gs pos="50000">
                  <a:srgbClr val="5cb1fe">
                    <a:alpha val="0"/>
                  </a:srgbClr>
                </a:gs>
                <a:gs pos="100000">
                  <a:srgbClr val="9bcff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117960" y="3857760"/>
            <a:ext cx="13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17760" y="399420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11760" y="3057480"/>
            <a:ext cx="1333440" cy="7621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3112" y="12960"/>
                </a:moveTo>
                <a:arcTo wR="-7986" hR="-7986" stAng="9858530" swAng="-9800800"/>
                <a:lnTo>
                  <a:pt x="2" y="10619"/>
                </a:lnTo>
                <a:arcTo wR="10800" hR="10800" stAng="-10742270" swAng="9800800"/>
                <a:lnTo>
                  <a:pt x="23797" y="7149"/>
                </a:lnTo>
                <a:lnTo>
                  <a:pt x="20954" y="12214"/>
                </a:lnTo>
                <a:lnTo>
                  <a:pt x="15889" y="9370"/>
                </a:lnTo>
                <a:close/>
              </a:path>
            </a:pathLst>
          </a:custGeom>
          <a:solidFill>
            <a:srgbClr val="00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640400" y="3624120"/>
            <a:ext cx="1368000" cy="1266480"/>
            <a:chOff x="4640400" y="3624120"/>
            <a:chExt cx="1368000" cy="1266480"/>
          </a:xfrm>
        </p:grpSpPr>
        <p:sp>
          <p:nvSpPr>
            <p:cNvPr id="325" name=""/>
            <p:cNvSpPr/>
            <p:nvPr/>
          </p:nvSpPr>
          <p:spPr>
            <a:xfrm>
              <a:off x="4640400" y="3624120"/>
              <a:ext cx="1368000" cy="1266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cd32d"/>
                </a:gs>
                <a:gs pos="100000">
                  <a:srgbClr val="65992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4691520" y="3687120"/>
              <a:ext cx="680760" cy="6325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8e37f"/>
                </a:gs>
                <a:gs pos="50000">
                  <a:srgbClr val="8cd32d">
                    <a:alpha val="0"/>
                  </a:srgbClr>
                </a:gs>
                <a:gs pos="100000">
                  <a:srgbClr val="b8e37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637160" y="3857760"/>
            <a:ext cx="13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235160" y="2295360"/>
            <a:ext cx="1197000" cy="1171800"/>
            <a:chOff x="1235160" y="2295360"/>
            <a:chExt cx="1197000" cy="1171800"/>
          </a:xfrm>
        </p:grpSpPr>
        <p:grpSp>
          <p:nvGrpSpPr>
            <p:cNvPr id="329" name=""/>
            <p:cNvGrpSpPr/>
            <p:nvPr/>
          </p:nvGrpSpPr>
          <p:grpSpPr>
            <a:xfrm>
              <a:off x="1235160" y="2295360"/>
              <a:ext cx="1197000" cy="1171800"/>
              <a:chOff x="1235160" y="2295360"/>
              <a:chExt cx="1197000" cy="1171800"/>
            </a:xfrm>
          </p:grpSpPr>
          <p:pic>
            <p:nvPicPr>
              <p:cNvPr id="33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5160" y="2295360"/>
                <a:ext cx="1197000" cy="11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"/>
              <p:cNvSpPr/>
              <p:nvPr/>
            </p:nvSpPr>
            <p:spPr>
              <a:xfrm>
                <a:off x="1235160" y="2295360"/>
                <a:ext cx="1188720" cy="1171800"/>
              </a:xfrm>
              <a:prstGeom prst="ellipse">
                <a:avLst/>
              </a:prstGeom>
              <a:gradFill rotWithShape="0">
                <a:gsLst>
                  <a:gs pos="0">
                    <a:srgbClr val="5cb1fe">
                      <a:alpha val="55294"/>
                    </a:srgbClr>
                  </a:gs>
                  <a:gs pos="50000">
                    <a:srgbClr val="2a5175">
                      <a:alpha val="90196"/>
                    </a:srgbClr>
                  </a:gs>
                  <a:gs pos="100000">
                    <a:srgbClr val="5cb1fe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1354680" y="2306520"/>
              <a:ext cx="945360" cy="41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"/>
          <p:cNvGrpSpPr/>
          <p:nvPr/>
        </p:nvGrpSpPr>
        <p:grpSpPr>
          <a:xfrm>
            <a:off x="374760" y="3666960"/>
            <a:ext cx="1197000" cy="1171800"/>
            <a:chOff x="374760" y="3666960"/>
            <a:chExt cx="1197000" cy="1171800"/>
          </a:xfrm>
        </p:grpSpPr>
        <p:grpSp>
          <p:nvGrpSpPr>
            <p:cNvPr id="334" name=""/>
            <p:cNvGrpSpPr/>
            <p:nvPr/>
          </p:nvGrpSpPr>
          <p:grpSpPr>
            <a:xfrm>
              <a:off x="374760" y="3666960"/>
              <a:ext cx="1197000" cy="1171800"/>
              <a:chOff x="374760" y="3666960"/>
              <a:chExt cx="1197000" cy="1171800"/>
            </a:xfrm>
          </p:grpSpPr>
          <p:pic>
            <p:nvPicPr>
              <p:cNvPr id="3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74760" y="3666960"/>
                <a:ext cx="1197000" cy="11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374760" y="3666960"/>
                <a:ext cx="1188720" cy="1171800"/>
              </a:xfrm>
              <a:prstGeom prst="ellipse">
                <a:avLst/>
              </a:prstGeom>
              <a:gradFill rotWithShape="0">
                <a:gsLst>
                  <a:gs pos="0">
                    <a:srgbClr val="5cb1fe">
                      <a:alpha val="55294"/>
                    </a:srgbClr>
                  </a:gs>
                  <a:gs pos="50000">
                    <a:srgbClr val="2a5175">
                      <a:alpha val="90196"/>
                    </a:srgbClr>
                  </a:gs>
                  <a:gs pos="100000">
                    <a:srgbClr val="5cb1fe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7" name="" descr=""/>
            <p:cNvPicPr/>
            <p:nvPr/>
          </p:nvPicPr>
          <p:blipFill>
            <a:blip r:embed="rId4"/>
            <a:stretch/>
          </p:blipFill>
          <p:spPr>
            <a:xfrm>
              <a:off x="494280" y="3678120"/>
              <a:ext cx="945360" cy="41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8" name=""/>
          <p:cNvGrpSpPr/>
          <p:nvPr/>
        </p:nvGrpSpPr>
        <p:grpSpPr>
          <a:xfrm>
            <a:off x="1235160" y="4962600"/>
            <a:ext cx="1197000" cy="1171440"/>
            <a:chOff x="1235160" y="4962600"/>
            <a:chExt cx="1197000" cy="1171440"/>
          </a:xfrm>
        </p:grpSpPr>
        <p:grpSp>
          <p:nvGrpSpPr>
            <p:cNvPr id="339" name=""/>
            <p:cNvGrpSpPr/>
            <p:nvPr/>
          </p:nvGrpSpPr>
          <p:grpSpPr>
            <a:xfrm>
              <a:off x="1235160" y="4962600"/>
              <a:ext cx="1197000" cy="1171440"/>
              <a:chOff x="1235160" y="4962600"/>
              <a:chExt cx="1197000" cy="1171440"/>
            </a:xfrm>
          </p:grpSpPr>
          <p:pic>
            <p:nvPicPr>
              <p:cNvPr id="34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235160" y="496260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"/>
              <p:cNvSpPr/>
              <p:nvPr/>
            </p:nvSpPr>
            <p:spPr>
              <a:xfrm>
                <a:off x="1235160" y="496260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5cb1fe">
                      <a:alpha val="55294"/>
                    </a:srgbClr>
                  </a:gs>
                  <a:gs pos="50000">
                    <a:srgbClr val="2a5175">
                      <a:alpha val="90196"/>
                    </a:srgbClr>
                  </a:gs>
                  <a:gs pos="100000">
                    <a:srgbClr val="5cb1fe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2" name="" descr=""/>
            <p:cNvPicPr/>
            <p:nvPr/>
          </p:nvPicPr>
          <p:blipFill>
            <a:blip r:embed="rId6"/>
            <a:stretch/>
          </p:blipFill>
          <p:spPr>
            <a:xfrm>
              <a:off x="1354680" y="497376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"/>
          <p:cNvSpPr/>
          <p:nvPr/>
        </p:nvSpPr>
        <p:spPr>
          <a:xfrm>
            <a:off x="1300320" y="260208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5800" y="39895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03200" y="525456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748560" y="2295360"/>
            <a:ext cx="1197000" cy="1171800"/>
            <a:chOff x="6748560" y="2295360"/>
            <a:chExt cx="1197000" cy="1171800"/>
          </a:xfrm>
        </p:grpSpPr>
        <p:grpSp>
          <p:nvGrpSpPr>
            <p:cNvPr id="347" name=""/>
            <p:cNvGrpSpPr/>
            <p:nvPr/>
          </p:nvGrpSpPr>
          <p:grpSpPr>
            <a:xfrm>
              <a:off x="6748560" y="2295360"/>
              <a:ext cx="1197000" cy="1171800"/>
              <a:chOff x="6748560" y="2295360"/>
              <a:chExt cx="1197000" cy="1171800"/>
            </a:xfrm>
          </p:grpSpPr>
          <p:pic>
            <p:nvPicPr>
              <p:cNvPr id="34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8560" y="2295360"/>
                <a:ext cx="1197000" cy="11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6748560" y="2295360"/>
                <a:ext cx="1188720" cy="1171800"/>
              </a:xfrm>
              <a:prstGeom prst="ellipse">
                <a:avLst/>
              </a:prstGeom>
              <a:gradFill rotWithShape="0">
                <a:gsLst>
                  <a:gs pos="0">
                    <a:srgbClr val="8cd32d">
                      <a:alpha val="55294"/>
                    </a:srgbClr>
                  </a:gs>
                  <a:gs pos="50000">
                    <a:srgbClr val="5c8b1d">
                      <a:alpha val="90196"/>
                    </a:srgbClr>
                  </a:gs>
                  <a:gs pos="100000">
                    <a:srgbClr val="8cd32d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0" name="" descr=""/>
            <p:cNvPicPr/>
            <p:nvPr/>
          </p:nvPicPr>
          <p:blipFill>
            <a:blip r:embed="rId8"/>
            <a:stretch/>
          </p:blipFill>
          <p:spPr>
            <a:xfrm>
              <a:off x="6868080" y="2306520"/>
              <a:ext cx="945360" cy="41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/>
          <p:cNvSpPr/>
          <p:nvPr/>
        </p:nvSpPr>
        <p:spPr>
          <a:xfrm>
            <a:off x="6813720" y="260208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642080" y="3666960"/>
            <a:ext cx="1197000" cy="1171800"/>
            <a:chOff x="7642080" y="3666960"/>
            <a:chExt cx="1197000" cy="1171800"/>
          </a:xfrm>
        </p:grpSpPr>
        <p:grpSp>
          <p:nvGrpSpPr>
            <p:cNvPr id="353" name=""/>
            <p:cNvGrpSpPr/>
            <p:nvPr/>
          </p:nvGrpSpPr>
          <p:grpSpPr>
            <a:xfrm>
              <a:off x="7642080" y="3666960"/>
              <a:ext cx="1197000" cy="1171800"/>
              <a:chOff x="7642080" y="3666960"/>
              <a:chExt cx="1197000" cy="1171800"/>
            </a:xfrm>
          </p:grpSpPr>
          <p:pic>
            <p:nvPicPr>
              <p:cNvPr id="35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642080" y="3666960"/>
                <a:ext cx="1197000" cy="11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7642080" y="3666960"/>
                <a:ext cx="1188720" cy="1171800"/>
              </a:xfrm>
              <a:prstGeom prst="ellipse">
                <a:avLst/>
              </a:prstGeom>
              <a:gradFill rotWithShape="0">
                <a:gsLst>
                  <a:gs pos="0">
                    <a:srgbClr val="8cd32d">
                      <a:alpha val="55294"/>
                    </a:srgbClr>
                  </a:gs>
                  <a:gs pos="50000">
                    <a:srgbClr val="5c8b1d">
                      <a:alpha val="90196"/>
                    </a:srgbClr>
                  </a:gs>
                  <a:gs pos="100000">
                    <a:srgbClr val="8cd32d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" descr=""/>
            <p:cNvPicPr/>
            <p:nvPr/>
          </p:nvPicPr>
          <p:blipFill>
            <a:blip r:embed="rId10"/>
            <a:stretch/>
          </p:blipFill>
          <p:spPr>
            <a:xfrm>
              <a:off x="7761600" y="3678120"/>
              <a:ext cx="945360" cy="41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"/>
          <p:cNvSpPr/>
          <p:nvPr/>
        </p:nvSpPr>
        <p:spPr>
          <a:xfrm>
            <a:off x="7683480" y="39895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748560" y="4944960"/>
            <a:ext cx="1197000" cy="1171800"/>
            <a:chOff x="6748560" y="4944960"/>
            <a:chExt cx="1197000" cy="1171800"/>
          </a:xfrm>
        </p:grpSpPr>
        <p:grpSp>
          <p:nvGrpSpPr>
            <p:cNvPr id="359" name=""/>
            <p:cNvGrpSpPr/>
            <p:nvPr/>
          </p:nvGrpSpPr>
          <p:grpSpPr>
            <a:xfrm>
              <a:off x="6748560" y="4944960"/>
              <a:ext cx="1197000" cy="1171800"/>
              <a:chOff x="6748560" y="4944960"/>
              <a:chExt cx="1197000" cy="1171800"/>
            </a:xfrm>
          </p:grpSpPr>
          <p:pic>
            <p:nvPicPr>
              <p:cNvPr id="36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48560" y="4944960"/>
                <a:ext cx="1197000" cy="11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6748560" y="4944960"/>
                <a:ext cx="1188720" cy="1171800"/>
              </a:xfrm>
              <a:prstGeom prst="ellipse">
                <a:avLst/>
              </a:prstGeom>
              <a:gradFill rotWithShape="0">
                <a:gsLst>
                  <a:gs pos="0">
                    <a:srgbClr val="8cd32d">
                      <a:alpha val="55294"/>
                    </a:srgbClr>
                  </a:gs>
                  <a:gs pos="50000">
                    <a:srgbClr val="5c8b1d">
                      <a:alpha val="90196"/>
                    </a:srgbClr>
                  </a:gs>
                  <a:gs pos="100000">
                    <a:srgbClr val="8cd32d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" descr=""/>
            <p:cNvPicPr/>
            <p:nvPr/>
          </p:nvPicPr>
          <p:blipFill>
            <a:blip r:embed="rId12"/>
            <a:stretch/>
          </p:blipFill>
          <p:spPr>
            <a:xfrm>
              <a:off x="6868080" y="4956120"/>
              <a:ext cx="945360" cy="41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"/>
          <p:cNvSpPr/>
          <p:nvPr/>
        </p:nvSpPr>
        <p:spPr>
          <a:xfrm>
            <a:off x="6813720" y="525132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0800000">
            <a:off x="3956040" y="4734000"/>
            <a:ext cx="1333440" cy="76176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3112" y="12960"/>
                </a:moveTo>
                <a:arcTo wR="-7986" hR="-7986" stAng="9858530" swAng="-9800800"/>
                <a:lnTo>
                  <a:pt x="2" y="10619"/>
                </a:lnTo>
                <a:arcTo wR="10800" hR="10800" stAng="-10742270" swAng="9800800"/>
                <a:lnTo>
                  <a:pt x="23797" y="7149"/>
                </a:lnTo>
                <a:lnTo>
                  <a:pt x="20954" y="12214"/>
                </a:lnTo>
                <a:lnTo>
                  <a:pt x="15889" y="9370"/>
                </a:lnTo>
                <a:close/>
              </a:path>
            </a:pathLst>
          </a:custGeom>
          <a:solidFill>
            <a:srgbClr val="00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43680" y="399420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19320" y="1486080"/>
            <a:ext cx="6705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0:51:18Z</dcterms:created>
  <dc:creator>www.themegallery.com</dc:creator>
  <dc:description/>
  <dc:language>en-US</dc:language>
  <cp:lastModifiedBy>Data_server</cp:lastModifiedBy>
  <dcterms:modified xsi:type="dcterms:W3CDTF">2014-10-24T04:52:31Z</dcterms:modified>
  <cp:revision>14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