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248A-8861-45A3-8F51-766BA741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B6E2-303B-4B6C-93B5-9AC646A1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8DED-158A-4B91-B747-C531C219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5A4C-7E46-4F27-B2EF-CD258008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362D-1FFD-4D0F-8524-EFCB327A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42F-057D-4017-971C-67792B51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B933-69B2-416B-8102-B4CAD50D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990D-ADC5-4906-9A40-49CD9240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6BCD-D110-4293-AD8F-4672FB17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23A-E375-4583-BB25-2C9B38AD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7208-1940-4B37-8ADD-F2FD94F6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95D1-345D-472B-B693-E4A57F1C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DD4D-C436-48F3-B83F-50C31E04E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8732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93360" y="64771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ike</cp:lastModifiedBy>
  <cp:lastPrinted>1899-12-30T00:00:00Z</cp:lastPrinted>
  <dcterms:modified xsi:type="dcterms:W3CDTF">2014-05-17T08:39:39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