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9E00-48AB-428D-A012-D28FE4EFC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0471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E231-B7D2-4585-BBEA-4E202B175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1424-7BDF-4AB1-991A-47FF79BD9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E470-9F40-483C-B132-5C2D33DA0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8BBD-480E-4DB4-8853-496798394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40471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7A5-C6AB-4315-BD62-FAF36C5D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B0A-6658-4E86-B7E3-792C6C84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63D-04CE-4BD1-879B-527240FE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E68-C807-4C73-A0E7-2195FBDF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6D6-1CC9-4A55-96B0-9E326224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4624-5CF0-4DAB-BF30-8218F276FB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6F2-0A05-4E25-849A-3E0C234F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562-906C-4672-9630-019ADA0C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88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B92-03D0-4098-B87F-9344052B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73B-D43A-47E6-8E9A-E8478263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60" y="40471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D15-A7E5-4D23-903A-193FA97E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88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DCB-01EC-4E32-92D5-8E10BCAF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4324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812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36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4324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812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589-5380-46AC-BCCA-50D3D24E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9A64-E0DD-4314-B43A-8F03222041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88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60" y="40471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88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4324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1812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36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4324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1812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DCDA-39E8-45A4-A697-0F44AA0CE5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388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60" y="40471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388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C68C-EE73-4314-BDF7-56EB59631D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4324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8120" y="13399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6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4324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8120" y="404712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E7F2-1DCC-48DC-B8F9-486E03039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0471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E930-9ACE-47A9-A63D-4DAE09745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33992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04712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1FB3-D4E4-4CBB-BC28-9F0D46818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315707F-303C-487F-8D5C-7693B732270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2060640"/>
            <a:ext cx="53989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A205-7CAA-4A25-8FE1-240FE80E8E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E75A-C242-4EB6-AC09-610FB6F30D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76360" y="2060640"/>
            <a:ext cx="53989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85120" y="6093000"/>
            <a:ext cx="223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04320" y="616572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1c1c1c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oempc</cp:lastModifiedBy>
  <cp:lastPrinted>1899-12-30T00:00:00Z</cp:lastPrinted>
  <dcterms:modified xsi:type="dcterms:W3CDTF">2014-06-03T05:37:31Z</dcterms:modified>
  <cp:revision>272</cp:revision>
  <dc:subject/>
  <dc:title>关于西建大晚睡熄灯利弊的调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