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77B99-61E4-4E1E-961D-E0B1FD69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2AA40-13E9-49DB-A6A2-EF3C614D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9E36D-64E2-4F66-9115-C7D384BB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64DAE-48B6-4E57-A4C5-B2E80AFB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299B5-B192-4291-BCDE-7F19A548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EE647-06C9-4BA1-A071-79FEAB4E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9A034-E89B-4D6C-BD2A-D7D86EFC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4EE43-B956-4157-B090-8A30C307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921EA-7738-47FE-AC37-64ADBD99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95D4A-1D37-4EBC-A8EA-136763A2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97DDE-C9E0-4E20-B462-DAD4A84C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D49F2-3513-4ED0-9400-1AFBFD92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9180-4DBE-4633-83C3-64C88711C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08000" y="6526080"/>
            <a:ext cx="1008000" cy="295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48480" y="6165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49880" y="60930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cp:lastPrinted>1899-12-30T00:00:00Z</cp:lastPrinted>
  <dcterms:modified xsi:type="dcterms:W3CDTF">2014-06-05T07:47:16Z</dcterms:modified>
  <cp:revision>4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