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0045-F695-4BC5-911D-3D52371C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F741-94D0-4448-BC13-188669DA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69B2-C06D-424B-808F-D9C02FF0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F7A2-8BB1-4BF5-A44B-619C42133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7CFC-CF05-464F-84FF-4FAF99F6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6096-5C18-4980-A458-1B84DA5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62193-C700-430C-BA0E-59B05AF0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A6E71-47EC-40F9-8DE0-03B2D3AA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E11F-30E3-4033-A759-81618BBF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0E7F-5A90-4171-AAC7-A54344D8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B07E-9494-40F9-96B0-6A6FA67B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4CBB-1361-49A7-A739-BD0E2F33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65518-C79C-4EFB-BF80-9ED76F17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98F-9870-4546-B3B7-E32E9CE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DB49-D229-4024-9359-B866D41A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5F950-7C1B-4B4A-B0CB-139C94822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42840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090960"/>
            <a:ext cx="264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2E7B-3112-4244-BEB7-7D613DB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06D4-5700-44E0-BC61-2ABA2BC99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FF2-8F82-4095-ACDC-832D766E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C1FF-C190-4FBA-BB8D-774DFE4B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6143400"/>
            <a:ext cx="8229600" cy="27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8AB-3A85-49A2-8CFB-07F62B4D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5E8A-5BC8-4E2B-B35F-AC1526F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09096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143-4FEE-4191-9E15-7B8EFAB4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428400"/>
            <a:ext cx="40158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090960"/>
            <a:ext cx="8229600" cy="24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103-A1A3-422E-A67C-143609A4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E5F-ECDB-4970-9AFF-46447ED6E23E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6143400"/>
            <a:ext cx="822960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细黑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428400"/>
            <a:ext cx="8229600" cy="50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7668-6F41-47C4-BFE2-626B7116CF3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4067280" y="2205000"/>
            <a:ext cx="468144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单击添加幻灯片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219640" y="3213000"/>
            <a:ext cx="31291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细黑"/>
                <a:ea typeface="华文细黑"/>
              </a:rPr>
              <a:t>单击添加署名或公司信息</a:t>
            </a:r>
            <a:r>
              <a:rPr b="0" lang="zh-CN" sz="1600" spc="-1" strike="noStrike">
                <a:solidFill>
                  <a:srgbClr val="000000"/>
                </a:solidFill>
                <a:latin typeface="华文细黑"/>
                <a:ea typeface="华文细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733800" y="624852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0" y="6143760"/>
            <a:ext cx="647064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细黑"/>
              </a:rPr>
              <a:t>模板的使用</a:t>
            </a:r>
            <a:endParaRPr b="0" lang="en-US" sz="28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28760" y="1214280"/>
            <a:ext cx="820728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42960" y="228600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细黑"/>
              </a:rPr>
              <a:t>感谢您的关注！</a:t>
            </a:r>
            <a:endParaRPr b="0" lang="en-US" sz="32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174564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db5353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db5353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0:01:56Z</dcterms:created>
  <dc:creator>lxym148</dc:creator>
  <dc:description/>
  <dc:language>en-US</dc:language>
  <cp:lastModifiedBy>king</cp:lastModifiedBy>
  <cp:lastPrinted>1899-12-30T00:00:00Z</cp:lastPrinted>
  <dcterms:modified xsi:type="dcterms:W3CDTF">2014-06-03T08:37:21Z</dcterms:modified>
  <cp:revision>12</cp:revision>
  <dc:subject/>
  <dc:title>母亲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