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96F-5DA0-4E33-8BBF-8F75D75E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039-315A-4432-A76A-07541FF9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701-1004-49F8-9407-D3C8C9B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233-4EF9-4394-BEB9-E8645F58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8AE7-35C1-40AB-95D5-DDA1B056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5284-9FB4-446A-8D54-D549B9A8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7818-B605-4BBC-B7F4-73D2829E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4101-5AFE-4D53-A59F-9E81A35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CF6A-F476-4819-B6CC-202080A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6B5D-F6C1-461C-BE7E-9486D28A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A3BC-31A3-4AB9-BA69-C1981CD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923-1DF4-429A-93B6-A4218228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17CE-A7C6-438A-8F58-AD710E3C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647B-508A-44D8-A180-8083B71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81F5-2646-4792-8159-36186049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A541-DEF0-4629-AFD4-9FDCDC8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750-8DFC-4F37-9A7B-F9C9E408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410-C18E-429A-8E0F-14BDB385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6F5-11B4-4EA3-8193-89F3781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3EB-EBE7-478A-BAA9-483B089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732-0A61-4766-AD60-BD09302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55C-7D36-47C6-9FA6-3936F80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CCE-E59E-4A7D-89B1-DB648BD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951-2940-4156-AEED-35D0919B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9144000" cy="1268280"/>
            <a:chOff x="0" y="0"/>
            <a:chExt cx="9144000" cy="1268280"/>
          </a:xfrm>
        </p:grpSpPr>
        <p:pic>
          <p:nvPicPr>
            <p:cNvPr id="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8" descr=""/>
          <p:cNvPicPr/>
          <p:nvPr/>
        </p:nvPicPr>
        <p:blipFill>
          <a:blip r:embed="rId4"/>
          <a:stretch/>
        </p:blipFill>
        <p:spPr>
          <a:xfrm>
            <a:off x="-117360" y="-19080"/>
            <a:ext cx="1671480" cy="244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77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f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af2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af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f2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f2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F1C0-36D8-4439-9EE8-E164CD8AFC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图片 7" descr=""/>
          <p:cNvPicPr/>
          <p:nvPr/>
        </p:nvPicPr>
        <p:blipFill>
          <a:blip r:embed="rId3"/>
          <a:stretch/>
        </p:blipFill>
        <p:spPr>
          <a:xfrm>
            <a:off x="-1112760" y="692280"/>
            <a:ext cx="5735520" cy="8499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4000" y="1580760"/>
            <a:ext cx="5548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77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f2777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f2777"/>
                </a:solidFill>
                <a:latin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f2777"/>
                </a:solidFill>
                <a:latin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f2777"/>
                </a:solidFill>
                <a:latin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f2777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08C9-9CAE-4BAE-BA07-7FEA5E1222FF}" type="slidenum">
              <a:rPr b="0" lang="en-US" sz="1400" spc="-1" strike="noStrike">
                <a:solidFill>
                  <a:srgbClr val="af2777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277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af27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77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2777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af277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af277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7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f277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1580760"/>
            <a:ext cx="5548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  <a:ea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563640" y="4532040"/>
            <a:ext cx="554508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23276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2777"/>
              </a:solidFill>
              <a:latin typeface="Brush Script St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2777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65060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1:43:03Z</dcterms:created>
  <dc:creator>王琳</dc:creator>
  <dc:description/>
  <dc:language>en-US</dc:language>
  <cp:lastModifiedBy>微软用户</cp:lastModifiedBy>
  <dcterms:modified xsi:type="dcterms:W3CDTF">2014-05-21T03:21:16Z</dcterms:modified>
  <cp:revision>6</cp:revision>
  <dc:subject/>
  <dc:title>粉红色调主调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