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609A4-42A8-404B-ACCE-CF2DD98EF1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000" y="21384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104840"/>
            <a:ext cx="82072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" y="3727800"/>
            <a:ext cx="82072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ED1D9-960B-4E32-A248-E7C497FEAE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000" y="21384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104840"/>
            <a:ext cx="40050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880" y="1104840"/>
            <a:ext cx="40050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3727800"/>
            <a:ext cx="40050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3880" y="3727800"/>
            <a:ext cx="40050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D1C86-A9F6-4A4A-B85A-AB84BD912A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000" y="21384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104840"/>
            <a:ext cx="26424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3240" y="1104840"/>
            <a:ext cx="26424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8120" y="1104840"/>
            <a:ext cx="26424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360" y="3727800"/>
            <a:ext cx="26424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3240" y="3727800"/>
            <a:ext cx="26424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8120" y="3727800"/>
            <a:ext cx="26424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D39BA-8219-4669-9B16-DE641DA608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21384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68360" y="1104840"/>
            <a:ext cx="820728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21384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104840"/>
            <a:ext cx="820728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21384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104840"/>
            <a:ext cx="400500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3880" y="1104840"/>
            <a:ext cx="400500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21384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68000" y="213840"/>
            <a:ext cx="583236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21384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104840"/>
            <a:ext cx="40050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880" y="1104840"/>
            <a:ext cx="400500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8360" y="3727800"/>
            <a:ext cx="40050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000" y="21384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68360" y="1104840"/>
            <a:ext cx="820728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13EE8-6D41-46B9-A726-500A4B2E62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21384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104840"/>
            <a:ext cx="400500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880" y="1104840"/>
            <a:ext cx="40050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3880" y="3727800"/>
            <a:ext cx="40050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000" y="21384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104840"/>
            <a:ext cx="40050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880" y="1104840"/>
            <a:ext cx="40050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360" y="3727800"/>
            <a:ext cx="82072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21384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104840"/>
            <a:ext cx="82072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360" y="3727800"/>
            <a:ext cx="82072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21384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104840"/>
            <a:ext cx="40050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880" y="1104840"/>
            <a:ext cx="40050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360" y="3727800"/>
            <a:ext cx="40050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3880" y="3727800"/>
            <a:ext cx="40050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000" y="21384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104840"/>
            <a:ext cx="26424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43240" y="1104840"/>
            <a:ext cx="26424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18120" y="1104840"/>
            <a:ext cx="26424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360" y="3727800"/>
            <a:ext cx="26424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43240" y="3727800"/>
            <a:ext cx="26424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18120" y="3727800"/>
            <a:ext cx="26424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21384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8360" y="1104840"/>
            <a:ext cx="820728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A61F0-D833-495E-9B16-3B6CA0FEFB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000" y="21384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104840"/>
            <a:ext cx="400500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3880" y="1104840"/>
            <a:ext cx="400500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2091A-AD44-4DC3-97DD-ABC8D44317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000" y="21384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714D0-DF57-4FC8-9444-15AC532EF8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68000" y="213840"/>
            <a:ext cx="583236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9C1A7-7D0A-4063-A840-0D84978137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21384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104840"/>
            <a:ext cx="40050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880" y="1104840"/>
            <a:ext cx="400500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8360" y="3727800"/>
            <a:ext cx="40050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BEBF1-46F4-40D9-8868-940C5922DC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000" y="21384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104840"/>
            <a:ext cx="400500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880" y="1104840"/>
            <a:ext cx="40050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3880" y="3727800"/>
            <a:ext cx="40050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FA635-2300-469A-8E90-6132EDC164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000" y="21384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104840"/>
            <a:ext cx="40050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880" y="1104840"/>
            <a:ext cx="40050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" y="3727800"/>
            <a:ext cx="82072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F390F-A07E-43B9-8797-0F8D80DFAB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1680" y="0"/>
            <a:ext cx="917568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04840"/>
            <a:ext cx="820728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f59b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f59b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f59b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bf59b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468000" y="64018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0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1318178C-F46C-4A22-B044-3A383D5DBC1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68000" y="21384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-22320"/>
            <a:ext cx="9180360" cy="688032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4208040"/>
            <a:ext cx="8207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bf59b8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bf59b8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4208040"/>
            <a:ext cx="8207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18840" y="5287680"/>
            <a:ext cx="81946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400" y="6454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21384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1104840"/>
            <a:ext cx="820728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DDE7D-1E83-431F-B6CB-312C1C2043A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4208040"/>
            <a:ext cx="8207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谢谢欣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18840" y="5287680"/>
            <a:ext cx="819468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268280" y="6243480"/>
            <a:ext cx="48740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 u="sng">
                <a:solidFill>
                  <a:srgbClr val="371535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i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i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i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i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8" name="矩形 4"/>
            <p:cNvSpPr/>
            <p:nvPr/>
          </p:nvSpPr>
          <p:spPr>
            <a:xfrm>
              <a:off x="679680" y="0"/>
              <a:ext cx="653976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i="1" lang="en-US" sz="3200" spc="-1" strike="noStrike" u="sng">
                  <a:solidFill>
                    <a:srgbClr val="371535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i="1" lang="zh-CN" sz="3200" spc="-1" strike="noStrike" u="sng">
                  <a:solidFill>
                    <a:srgbClr val="371535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i="1" lang="en-US" sz="3200" spc="-1" strike="noStrike" u="sng">
                  <a:solidFill>
                    <a:srgbClr val="371535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i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5BA34-2CEF-4416-8421-32ADC04CB89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/>
  <dc:description/>
  <dc:language>en-US</dc:language>
  <cp:lastModifiedBy>User</cp:lastModifiedBy>
  <cp:lastPrinted>1899-12-30T00:00:00Z</cp:lastPrinted>
  <dcterms:modified xsi:type="dcterms:W3CDTF">2014-05-23T03:18:41Z</dcterms:modified>
  <cp:revision>16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