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85E-D0B8-410C-9687-21F4A484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9EA-9DC7-4471-8CE6-38304E13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800-AADC-4619-B8DD-F3E24FC4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C6A-60CF-47A1-BB46-D1C54623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F16-7AFD-441E-A95D-EA706902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F9F-8FBD-4A39-95DA-E5430AAB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C7C-B87D-4C2D-ABCA-DD9A6FF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E13-30DA-4ABF-A64C-54F1592D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D3A-3ED1-4229-9186-4D429AE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303-2135-4A12-AC96-B86BDC8D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545-1C6D-45AA-9867-94B7CD85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B7E-7811-4421-9230-754EC373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482-6815-4801-864C-20E179B4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6EAB-0239-435F-ACD9-1595CB6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B023-8470-4BFD-872D-8B61E21C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5049-69BF-4054-8834-E339A9E5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BC9A-7AAF-45BB-9622-59B4CDF1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C883-DB23-4285-AE2A-E52E17A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5C36-5CF5-400E-A09A-7CD85C1F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D275-E842-4846-AF6E-813B253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CE07-7BCC-4952-8355-1CD6BB80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DF34-5ED9-4688-8C8C-947D8E7A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DE5A-A3FB-4520-8ED4-7C416812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422C-9776-43EE-A2D4-6008D110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3934-4CFE-468C-9E33-C1F20F5277D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5098-E4B9-48C6-BF15-A8A03207774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-6480" y="754200"/>
            <a:ext cx="9182160" cy="3857400"/>
            <a:chOff x="-6480" y="754200"/>
            <a:chExt cx="9182160" cy="3857400"/>
          </a:xfrm>
        </p:grpSpPr>
        <p:sp>
          <p:nvSpPr>
            <p:cNvPr id="120" name="任意多边形 14"/>
            <p:cNvSpPr/>
            <p:nvPr/>
          </p:nvSpPr>
          <p:spPr>
            <a:xfrm>
              <a:off x="-6480" y="121284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15"/>
            <p:cNvSpPr/>
            <p:nvPr/>
          </p:nvSpPr>
          <p:spPr>
            <a:xfrm>
              <a:off x="7200" y="98064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16"/>
            <p:cNvSpPr/>
            <p:nvPr/>
          </p:nvSpPr>
          <p:spPr>
            <a:xfrm>
              <a:off x="7200" y="75420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" name="组合 18" descr=""/>
          <p:cNvPicPr/>
          <p:nvPr/>
        </p:nvPicPr>
        <p:blipFill>
          <a:blip r:embed="rId1"/>
          <a:stretch/>
        </p:blipFill>
        <p:spPr>
          <a:xfrm>
            <a:off x="-27000" y="-1239840"/>
            <a:ext cx="9226440" cy="3903840"/>
          </a:xfrm>
          <a:prstGeom prst="rect">
            <a:avLst/>
          </a:prstGeom>
          <a:ln w="0">
            <a:noFill/>
          </a:ln>
        </p:spPr>
      </p:pic>
      <p:sp>
        <p:nvSpPr>
          <p:cNvPr id="124" name="流程图: 延期 13"/>
          <p:cNvSpPr/>
          <p:nvPr/>
        </p:nvSpPr>
        <p:spPr>
          <a:xfrm rot="6571800">
            <a:off x="3135600" y="-2731320"/>
            <a:ext cx="2347920" cy="10369800"/>
          </a:xfrm>
          <a:custGeom>
            <a:avLst/>
            <a:gdLst/>
            <a:ahLst/>
            <a:rect l="l" t="t" r="r" b="b"/>
            <a:pathLst>
              <a:path w="2108230" h="8036046">
                <a:moveTo>
                  <a:pt x="0" y="8036046"/>
                </a:moveTo>
                <a:cubicBezTo>
                  <a:pt x="443920" y="6825168"/>
                  <a:pt x="768119" y="5510039"/>
                  <a:pt x="773044" y="4259491"/>
                </a:cubicBezTo>
                <a:cubicBezTo>
                  <a:pt x="768119" y="2831357"/>
                  <a:pt x="438696" y="1361657"/>
                  <a:pt x="0" y="0"/>
                </a:cubicBezTo>
                <a:cubicBezTo>
                  <a:pt x="473928" y="0"/>
                  <a:pt x="2108230" y="2152238"/>
                  <a:pt x="2108230" y="4371331"/>
                </a:cubicBezTo>
                <a:cubicBezTo>
                  <a:pt x="2108230" y="6590424"/>
                  <a:pt x="473928" y="8036046"/>
                  <a:pt x="0" y="8036046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1430280" y="457344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4497840" y="569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cc"/>
                </a:solidFill>
                <a:latin typeface="Calibri"/>
              </a:rPr>
              <a:t>报告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4701240" y="606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cc"/>
                </a:solidFill>
                <a:latin typeface="Calibri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737712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"/>
          <p:cNvSpPr/>
          <p:nvPr/>
        </p:nvSpPr>
        <p:spPr>
          <a:xfrm>
            <a:off x="0" y="0"/>
            <a:ext cx="9180360" cy="333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0" y="6381720"/>
            <a:ext cx="9180360" cy="216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85824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25520" y="1787400"/>
            <a:ext cx="8329680" cy="3873600"/>
            <a:chOff x="425520" y="1787400"/>
            <a:chExt cx="8329680" cy="3873600"/>
          </a:xfrm>
        </p:grpSpPr>
        <p:sp>
          <p:nvSpPr>
            <p:cNvPr id="133" name="Rectangle 21"/>
            <p:cNvSpPr/>
            <p:nvPr/>
          </p:nvSpPr>
          <p:spPr>
            <a:xfrm>
              <a:off x="425520" y="4058640"/>
              <a:ext cx="8329680" cy="1602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AutoShape 22"/>
            <p:cNvSpPr/>
            <p:nvPr/>
          </p:nvSpPr>
          <p:spPr>
            <a:xfrm>
              <a:off x="763200" y="4567680"/>
              <a:ext cx="3672720" cy="945000"/>
            </a:xfrm>
            <a:prstGeom prst="parallelogram">
              <a:avLst>
                <a:gd name="adj" fmla="val 9716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AutoShape 23"/>
            <p:cNvSpPr/>
            <p:nvPr/>
          </p:nvSpPr>
          <p:spPr>
            <a:xfrm>
              <a:off x="4926960" y="4567680"/>
              <a:ext cx="3675240" cy="945000"/>
            </a:xfrm>
            <a:prstGeom prst="parallelogram">
              <a:avLst>
                <a:gd name="adj" fmla="val 9722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AutoShape 24"/>
            <p:cNvSpPr/>
            <p:nvPr/>
          </p:nvSpPr>
          <p:spPr>
            <a:xfrm>
              <a:off x="763200" y="1787400"/>
              <a:ext cx="3672720" cy="942480"/>
            </a:xfrm>
            <a:prstGeom prst="parallelogram">
              <a:avLst>
                <a:gd name="adj" fmla="val 97422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>
              <a:off x="1667160" y="3138480"/>
              <a:ext cx="1832760" cy="613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3828960" y="5040360"/>
              <a:ext cx="1396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4027680" y="4761720"/>
              <a:ext cx="1396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>
              <a:off x="763200" y="4289040"/>
              <a:ext cx="3672720" cy="945000"/>
            </a:xfrm>
            <a:prstGeom prst="parallelogram">
              <a:avLst>
                <a:gd name="adj" fmla="val 97162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AutoShape 29"/>
            <p:cNvSpPr/>
            <p:nvPr/>
          </p:nvSpPr>
          <p:spPr>
            <a:xfrm>
              <a:off x="4926960" y="4289040"/>
              <a:ext cx="3675240" cy="945000"/>
            </a:xfrm>
            <a:prstGeom prst="parallelogram">
              <a:avLst>
                <a:gd name="adj" fmla="val 97229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TextBox 17"/>
          <p:cNvSpPr/>
          <p:nvPr/>
        </p:nvSpPr>
        <p:spPr>
          <a:xfrm>
            <a:off x="1892520" y="2058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a452a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1845360" y="4618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a452a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6214320" y="4479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a452a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-6480" y="754200"/>
            <a:ext cx="9182160" cy="3857400"/>
            <a:chOff x="-6480" y="754200"/>
            <a:chExt cx="9182160" cy="3857400"/>
          </a:xfrm>
        </p:grpSpPr>
        <p:sp>
          <p:nvSpPr>
            <p:cNvPr id="146" name="任意多边形 4"/>
            <p:cNvSpPr/>
            <p:nvPr/>
          </p:nvSpPr>
          <p:spPr>
            <a:xfrm>
              <a:off x="-6480" y="121284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任意多边形 5"/>
            <p:cNvSpPr/>
            <p:nvPr/>
          </p:nvSpPr>
          <p:spPr>
            <a:xfrm>
              <a:off x="7200" y="98064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任意多边形 6"/>
            <p:cNvSpPr/>
            <p:nvPr/>
          </p:nvSpPr>
          <p:spPr>
            <a:xfrm>
              <a:off x="7200" y="754200"/>
              <a:ext cx="9168480" cy="3398760"/>
            </a:xfrm>
            <a:custGeom>
              <a:avLst/>
              <a:gdLst/>
              <a:ahLst/>
              <a:rect l="l" t="t" r="r" b="b"/>
              <a:pathLst>
                <a:path w="9171160" h="3398000">
                  <a:moveTo>
                    <a:pt x="0" y="0"/>
                  </a:moveTo>
                  <a:cubicBezTo>
                    <a:pt x="1073589" y="1235798"/>
                    <a:pt x="2147179" y="2471596"/>
                    <a:pt x="3675706" y="3014804"/>
                  </a:cubicBezTo>
                  <a:cubicBezTo>
                    <a:pt x="5204233" y="3558012"/>
                    <a:pt x="7187696" y="3408630"/>
                    <a:pt x="9171160" y="32592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9" name="组合 7" descr=""/>
          <p:cNvPicPr/>
          <p:nvPr/>
        </p:nvPicPr>
        <p:blipFill>
          <a:blip r:embed="rId1"/>
          <a:stretch/>
        </p:blipFill>
        <p:spPr>
          <a:xfrm>
            <a:off x="-27000" y="-1239840"/>
            <a:ext cx="9226440" cy="3903840"/>
          </a:xfrm>
          <a:prstGeom prst="rect">
            <a:avLst/>
          </a:prstGeom>
          <a:ln w="0">
            <a:noFill/>
          </a:ln>
        </p:spPr>
      </p:pic>
      <p:sp>
        <p:nvSpPr>
          <p:cNvPr id="150" name="流程图: 延期 13"/>
          <p:cNvSpPr/>
          <p:nvPr/>
        </p:nvSpPr>
        <p:spPr>
          <a:xfrm rot="6571800">
            <a:off x="3135600" y="-2731320"/>
            <a:ext cx="2347920" cy="10369800"/>
          </a:xfrm>
          <a:custGeom>
            <a:avLst/>
            <a:gdLst/>
            <a:ahLst/>
            <a:rect l="l" t="t" r="r" b="b"/>
            <a:pathLst>
              <a:path w="2108230" h="8036046">
                <a:moveTo>
                  <a:pt x="0" y="8036046"/>
                </a:moveTo>
                <a:cubicBezTo>
                  <a:pt x="443920" y="6825168"/>
                  <a:pt x="768119" y="5510039"/>
                  <a:pt x="773044" y="4259491"/>
                </a:cubicBezTo>
                <a:cubicBezTo>
                  <a:pt x="768119" y="2831357"/>
                  <a:pt x="438696" y="1361657"/>
                  <a:pt x="0" y="0"/>
                </a:cubicBezTo>
                <a:cubicBezTo>
                  <a:pt x="473928" y="0"/>
                  <a:pt x="2108230" y="2152238"/>
                  <a:pt x="2108230" y="4371331"/>
                </a:cubicBezTo>
                <a:cubicBezTo>
                  <a:pt x="2108230" y="6590424"/>
                  <a:pt x="473928" y="8036046"/>
                  <a:pt x="0" y="8036046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329120" y="41022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4497840" y="569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cc"/>
                </a:solidFill>
                <a:latin typeface="Calibri"/>
              </a:rPr>
              <a:t>报告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4701240" y="606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cc"/>
                </a:solidFill>
                <a:latin typeface="Calibri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1:31:56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深灰 优雅 商务 PPT模板</cp:keywords>
  <dc:language>en-US</dc:language>
  <cp:lastModifiedBy>微软中国</cp:lastModifiedBy>
  <cp:lastPrinted>1899-12-30T00:00:00Z</cp:lastPrinted>
  <dcterms:modified xsi:type="dcterms:W3CDTF">2014-05-25T05:27:31Z</dcterms:modified>
  <cp:revision>5</cp:revision>
  <dc:subject>商务PPT模板</dc:subject>
  <dc:title>粉黑色优雅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