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6C63-3A3B-49C4-BE88-A1E24025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A90A8-687B-4FD5-993B-D3E043A8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5D7D-5A6F-40A2-94B9-99CEF4B0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85A7-8581-4AAE-8BD0-361A9253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D047-0EF6-46E4-8776-8704C87E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CCED-9F81-48C3-894B-49C9EFFF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7657-371D-44A5-8F4E-902BB8BB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9976-E87B-4441-AEAA-DF7EAD8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1AB4-4081-4E42-AD6F-4405D640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6962-C5C7-41EA-98FB-3596A9EC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E1E4-AFD6-49B3-9A30-A3F03103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CBD4-3EEA-4539-B299-73B17968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7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1009402-C2AD-4A84-B7E2-B3257A01491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468360" y="4870440"/>
            <a:ext cx="233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653000"/>
            <a:ext cx="9194760" cy="2205000"/>
          </a:xfrm>
          <a:prstGeom prst="rect">
            <a:avLst/>
          </a:prstGeom>
          <a:gradFill rotWithShape="0">
            <a:gsLst>
              <a:gs pos="0">
                <a:srgbClr val="ff6743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08640"/>
            <a:ext cx="919476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941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653000"/>
            <a:ext cx="9194760" cy="2205000"/>
          </a:xfrm>
          <a:prstGeom prst="rect">
            <a:avLst/>
          </a:prstGeom>
          <a:gradFill rotWithShape="0">
            <a:gsLst>
              <a:gs pos="0">
                <a:srgbClr val="ff6743"/>
              </a:gs>
              <a:gs pos="100000">
                <a:srgbClr val="c02500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508640"/>
            <a:ext cx="9194760" cy="150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025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3337-75A9-4632-8DB6-0F91DCB745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D3A7-2F4F-4E31-BE15-8E7BC7935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>
            <a:hlinkClick r:id="rId11"/>
          </p:cNvPr>
          <p:cNvSpPr/>
          <p:nvPr/>
        </p:nvSpPr>
        <p:spPr>
          <a:xfrm>
            <a:off x="236880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5816160"/>
            <a:ext cx="8207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68360" y="4941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72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87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88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05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bc000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a0004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757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97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1477800" y="537228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45440" y="602136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2850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整理发布，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A1C3-DB9D-4A00-A674-5126C0E931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cp:lastPrinted>1899-12-30T00:00:00Z</cp:lastPrinted>
  <dcterms:modified xsi:type="dcterms:W3CDTF">2014-05-17T08:10:17Z</dcterms:modified>
  <cp:revision>2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