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4290-CD98-4409-A4A5-93845286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45A7-FAEA-4F04-B641-C10285C34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769A-E0F5-490E-96D2-30EE24D2F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A3FC-ECBC-4B64-BFF1-7A7E70EAA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D572-C67D-4BC9-B5EA-CE9E9A797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3B8C-A015-4A90-96F2-C60EE3784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8A3C-FC97-4185-BBE4-DA5F5AA26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8E3F-DC1C-4793-B77D-8BAD80914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45CF-06D7-4F3B-956D-4BCFF1AA5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7D91-82F1-4345-AD7E-E18E7FDD8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B7C7-117A-4243-AC33-A837A99DB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5E49-0CE7-4B3B-B368-D44D45F84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6" descr="bg白2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313E5A2-32F2-43D7-B39A-4F6C84ABDB7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8" descr="bg白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52600" y="3573000"/>
            <a:ext cx="5400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23360" y="6093000"/>
            <a:ext cx="223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58FFF23-DA51-4717-944A-FBA5ED0C228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微软用户</cp:lastModifiedBy>
  <dcterms:modified xsi:type="dcterms:W3CDTF">2014-11-06T01:23:02Z</dcterms:modified>
  <cp:revision>21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