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539-CAAF-47D8-8A0D-055DCDE1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9CF-7494-4624-9753-EA027F9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9BC-652B-4A04-BBE6-F2C22469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C8D-7C42-4ABE-A8E8-759ECBD3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1AB-DF92-4793-910A-B61BF608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B205-0115-42C6-9695-2F75ECCB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CA77-1506-48B1-B8B5-7553E6D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536-7649-46BF-ABB5-31ABF50E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F6F-9F2F-42EA-8B5C-E187791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24DC-D567-4C04-9113-B7F4FF84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5862-39BB-4897-B26B-0E33CDA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F6C-45D9-4F82-8564-99CDD68B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A50C-7208-44A1-BEE5-A424EC90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A107-423F-44DB-9B6E-1A04D71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B7E7-05BE-4F0F-A8FC-AE00EF9C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4E9-3E2F-49B7-B06D-133FC80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2BCA-BBF8-40F8-B465-CDBF79A9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9F9-864C-425E-863F-1EF3461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049-DFE9-4D21-B3FB-AE1E411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885-0C42-481B-BE7C-A54BA02E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51F-02C8-4629-9993-FE6D8755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226-8304-4190-B233-2717F7B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917-2082-4346-A489-0B9C10C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5F4-CA16-4A2F-BF57-04989B69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8B80-2210-42A6-812A-F3D5FB17A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" y="4297320"/>
            <a:ext cx="914220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B0A-66ED-4BB3-8D1F-B4955DC14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204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33:31Z</dcterms:created>
  <dc:creator>Administrator</dc:creator>
  <dc:description/>
  <dc:language>en-US</dc:language>
  <cp:lastModifiedBy/>
  <cp:lastPrinted>1899-12-30T00:00:00Z</cp:lastPrinted>
  <dcterms:modified xsi:type="dcterms:W3CDTF">2014-05-17T08:0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