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862-F279-45F1-900D-E58C1ACF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570-300A-4CEB-AE9E-F4A243F8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A6B9-EB5F-4A82-B8A2-1566FD53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5ABF-DD78-4395-A185-6995B4F4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9B18-F9D7-4982-8CA0-A915A33D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42E8-8A4E-4459-81CB-E1209126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98FB-3BEA-4FCC-A708-E74B7217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9ECA-DBC0-4CA1-A1A0-97A3ECDD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55A4-E9FA-48A0-913E-772B9D9B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7162-0008-4030-BC97-C6C896B8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90BC-CE8C-4F37-BA68-E16ABE6D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7B77-3B6E-49DD-A2F0-AA33804A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8A31-3D85-414A-BAC9-D8138297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5434-88EB-4FCE-B929-5B670F09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2679-F85D-4228-926B-2AA7D82C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C3EB-B48D-4A67-9D5C-B1409E8A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1504-356C-40E5-B897-2C699C2C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64D-A046-45EB-8839-7707D3F5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2FA8-C292-44D8-9DD2-8F38F4EE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E16-267A-483E-8652-F1276F7B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76A-FED2-46D6-8C63-2A974E67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A0A-0D55-48E3-9F86-A9087C80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FA40-D186-461D-B54D-74368748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A674-2E39-4CE3-B9FA-F8B6FBA1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8B8A-02C5-4B23-82E2-FFEEAA7535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9C8F-8800-4B12-9851-74C1711223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4753080"/>
            <a:ext cx="2448000" cy="2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双击添加署名</a:t>
            </a:r>
            <a:r>
              <a:rPr b="1" lang="en-US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/</a:t>
            </a:r>
            <a:r>
              <a:rPr b="1" lang="zh-CN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公司名</a:t>
            </a:r>
            <a:r>
              <a:rPr b="1" lang="en-US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/</a:t>
            </a:r>
            <a:r>
              <a:rPr b="1" lang="zh-CN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日期</a:t>
            </a:r>
            <a:endParaRPr b="1" lang="en-US" sz="24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826920" y="3289320"/>
            <a:ext cx="279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1305000" y="400356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424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f5f5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5f5f5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5f5f5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5f5f5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3:57:45Z</dcterms:created>
  <dc:creator/>
  <dc:description/>
  <dc:language>en-US</dc:language>
  <cp:lastModifiedBy>雨林木风</cp:lastModifiedBy>
  <cp:lastPrinted>1899-12-30T00:00:00Z</cp:lastPrinted>
  <dcterms:modified xsi:type="dcterms:W3CDTF">2014-05-25T05:26:00Z</dcterms:modified>
  <cp:revision>3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