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52D-69A3-4467-97BE-9399D3CD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D86-07EE-4FBA-804B-3A4FBCE2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156-5B74-4CC4-B767-7E9B9445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44B-CB33-484B-B915-D1D119A5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8BE0-DA1B-43C0-AB60-DBE90C54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F246-A55B-4948-B47B-1DB6C7E6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CD41-2F0F-49C1-983F-042CBA85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E522-EA65-45DF-BBAC-951C0E37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3CB3-B168-45B6-BB4A-DDBF8D5A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2960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14D6-8746-4D3A-A6AD-4A84918B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76DB-FE2A-440B-8684-52B9B3E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190-0AC6-493D-9246-D2D64554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B32E-5B00-4D19-8FBC-F903CB96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DCC2-566B-4386-BBB2-385ECEC6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9DA2-4B20-4FA9-8A9B-AB755122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1825-4B4B-4464-9108-16E6A9E4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0995-950E-4CF6-97AF-51B00C68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A5E1-11CE-4F6D-96A8-AB4C0946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584C-1EF4-49C5-8AE4-CE0A048B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CA2B-393A-4314-B1A0-0729FEA6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55D9-48B0-4349-ABFA-1EE3CD9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38FA-2740-4050-9F13-7B21135C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7F1-3044-48A5-BB60-8D247ED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2960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6808-2D7C-40C9-9A6C-15E7F255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292C-D689-4996-878E-D167EB7C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2325-B06D-4456-B048-8617D89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ADCE-169A-418C-B8D8-F53836CA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A5FC-B7C7-49D0-8D99-89370D62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3E3A-D44C-4659-BEC9-9780F79C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928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27440"/>
            <a:ext cx="264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3F7B-8493-424E-B620-F87E68AE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527-1E47-42A6-87B1-EBEE9BB7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8C4-A659-448B-95DB-60093DC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285840"/>
            <a:ext cx="8229600" cy="19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CB7-8E60-4936-8C5F-A63D5E10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F8F-A6B3-48BF-BFD3-663EA94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27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860-083D-4665-9145-A01FCAB3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27036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28440"/>
            <a:ext cx="40158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2744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F7A-902A-427B-9370-976F6F79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117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B3C6-5849-46A8-A444-D4928B09C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1.png"/>
          <p:cNvPicPr/>
          <p:nvPr/>
        </p:nvPicPr>
        <p:blipFill>
          <a:blip r:embed="rId3"/>
          <a:srcRect l="18705" t="7777" r="19908" b="12344"/>
          <a:stretch/>
        </p:blipFill>
        <p:spPr>
          <a:xfrm>
            <a:off x="1476360" y="117360"/>
            <a:ext cx="6605640" cy="64468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2.png"/>
          <p:cNvPicPr/>
          <p:nvPr/>
        </p:nvPicPr>
        <p:blipFill>
          <a:blip r:embed="rId4"/>
          <a:srcRect l="26668" t="17035" r="27129" b="21110"/>
          <a:stretch/>
        </p:blipFill>
        <p:spPr>
          <a:xfrm>
            <a:off x="2124000" y="620640"/>
            <a:ext cx="5407200" cy="54309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3.png"/>
          <p:cNvPicPr/>
          <p:nvPr/>
        </p:nvPicPr>
        <p:blipFill>
          <a:blip r:embed="rId5"/>
          <a:srcRect l="0" t="0" r="75005" b="82299"/>
          <a:stretch/>
        </p:blipFill>
        <p:spPr>
          <a:xfrm>
            <a:off x="0" y="0"/>
            <a:ext cx="2286000" cy="1214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360" y="2852640"/>
            <a:ext cx="4248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9D18-3A7E-478D-A5F5-86C082436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7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1.png"/>
          <p:cNvPicPr/>
          <p:nvPr/>
        </p:nvPicPr>
        <p:blipFill>
          <a:blip r:embed="rId3"/>
          <a:srcRect l="18705" t="7777" r="19908" b="12344"/>
          <a:stretch/>
        </p:blipFill>
        <p:spPr>
          <a:xfrm>
            <a:off x="1709640" y="533520"/>
            <a:ext cx="5613480" cy="54784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2.png"/>
          <p:cNvPicPr/>
          <p:nvPr/>
        </p:nvPicPr>
        <p:blipFill>
          <a:blip r:embed="rId4"/>
          <a:srcRect l="26668" t="17035" r="27129" b="21110"/>
          <a:stretch/>
        </p:blipFill>
        <p:spPr>
          <a:xfrm>
            <a:off x="2405160" y="1150920"/>
            <a:ext cx="4224240" cy="42418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0" descr="3.png"/>
          <p:cNvPicPr/>
          <p:nvPr/>
        </p:nvPicPr>
        <p:blipFill>
          <a:blip r:embed="rId5"/>
          <a:srcRect l="0" t="0" r="75005" b="82299"/>
          <a:stretch/>
        </p:blipFill>
        <p:spPr>
          <a:xfrm>
            <a:off x="3357720" y="2500200"/>
            <a:ext cx="2286000" cy="1214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B4A-350C-455E-BD90-26AAF33CAD83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360" y="2852640"/>
            <a:ext cx="4248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87280" y="3933360"/>
            <a:ext cx="37450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17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98280" y="6292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ad16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20:15:49Z</dcterms:created>
  <dc:creator/>
  <dc:description/>
  <dc:language>en-US</dc:language>
  <cp:lastModifiedBy/>
  <cp:lastPrinted>1899-12-30T00:00:00Z</cp:lastPrinted>
  <dcterms:modified xsi:type="dcterms:W3CDTF">2014-05-27T05:31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