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8520" y="70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36c09"/>
                </a:solidFill>
                <a:latin typeface="Calibri"/>
              </a:rPr>
              <a:t>Southern Business Exp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Text Box 7"/>
          <p:cNvSpPr/>
          <p:nvPr/>
        </p:nvSpPr>
        <p:spPr>
          <a:xfrm>
            <a:off x="1976760" y="3000240"/>
            <a:ext cx="39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ww.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eepp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52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day’s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Good News and Bad News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onnect SI — Blueprint for Success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What You Can Do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ense of Urgency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Different About Connect S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6c0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</a:rPr>
              <a:t>Collaborative 20-county economic and community development strategy — measurable, transforming and sustainable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</a:rPr>
              <a:t>Positions SI to compete globally against </a:t>
            </a:r>
            <a:r>
              <a:rPr b="1" lang="en-US" sz="2400" spc="-1" strike="noStrike">
                <a:solidFill>
                  <a:srgbClr val="006699"/>
                </a:solidFill>
                <a:latin typeface="Calibri"/>
              </a:rPr>
              <a:t>country</a:t>
            </a:r>
            <a:r>
              <a:rPr b="0" lang="en-US" sz="2400" spc="-1" strike="noStrike">
                <a:solidFill>
                  <a:srgbClr val="006699"/>
                </a:solidFill>
                <a:latin typeface="Calibri"/>
              </a:rPr>
              <a:t> strategies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6c0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</a:rPr>
              <a:t>Views neighbors as resource partners rather than competitors 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</a:rPr>
              <a:t>Understands that knowledge based, small, &amp; innovative firms are the growth engines of our future…not industries of our past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6c0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</a:rPr>
              <a:t>Broadband strategy focus enables all 20 counties to benefit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</a:rPr>
              <a:t>Sees economic development as the job of every citizen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6c0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</a:rPr>
              <a:t>Collaboratively funded rather than grant dependent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</a:rPr>
              <a:t>Business plan based, action driven, results oriented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6c09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e36c09"/>
                </a:solidFill>
                <a:latin typeface="Calibri"/>
              </a:rPr>
              <a:t>Bottom up — grass-roots driven</a:t>
            </a:r>
            <a:endParaRPr b="0" lang="en-US" sz="24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033960" y="6165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36c09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6310440"/>
            <a:ext cx="705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35880" y="-27000"/>
            <a:ext cx="8802000" cy="6856560"/>
            <a:chOff x="-335880" y="-27000"/>
            <a:chExt cx="8802000" cy="6856560"/>
          </a:xfrm>
        </p:grpSpPr>
        <p:sp>
          <p:nvSpPr>
            <p:cNvPr id="48" name="矩形 4"/>
            <p:cNvSpPr/>
            <p:nvPr/>
          </p:nvSpPr>
          <p:spPr>
            <a:xfrm>
              <a:off x="-335880" y="-2700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86960"/>
              <a:ext cx="8466120" cy="514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445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52:00Z</dcterms:created>
  <dc:creator/>
  <dc:description/>
  <dc:language>en-US</dc:language>
  <cp:lastModifiedBy>YlmF</cp:lastModifiedBy>
  <dcterms:modified xsi:type="dcterms:W3CDTF">2014-11-02T00:30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