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F34-5A3A-471A-B01C-76DF0A1A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11C-F2F8-4DC7-8C6C-A203079D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EBF-9727-4323-A629-DD98321E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EBE-75E9-46BD-912C-03FE0374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924-5221-421B-93D3-B52152AA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AB9-A066-4693-BD55-D9B5BA00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629-D3FB-475D-8872-C8CD50CE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13E-C439-4F31-91C7-B7AB644C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E1B-21CA-40A2-A995-3B0FD005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DD5-11D7-4C2A-B320-06862BA9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E1F-25BE-4F33-BCC2-938AB46D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E02-FD79-4302-99ED-40359DDA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BA12-4F98-4AEA-82F0-DFA90875A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71520" y="3273120"/>
            <a:ext cx="51433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87196"/>
                </a:solidFill>
                <a:latin typeface="Calibri"/>
              </a:rPr>
              <a:t>PRESENTATION 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13240" y="4000320"/>
            <a:ext cx="420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87196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813800" y="6670800"/>
            <a:ext cx="1309680" cy="134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2856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8719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2860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fr-FR" sz="3200" spc="-1" strike="noStrike">
                <a:solidFill>
                  <a:srgbClr val="48719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2856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65788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6:05:09Z</dcterms:created>
  <dc:creator>Eric</dc:creator>
  <dc:description/>
  <dc:language>en-US</dc:language>
  <cp:lastModifiedBy>Admin</cp:lastModifiedBy>
  <cp:lastPrinted>1899-12-30T00:00:00Z</cp:lastPrinted>
  <dcterms:modified xsi:type="dcterms:W3CDTF">2014-05-13T13:57:01Z</dcterms:modified>
  <cp:revision>30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