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4CD-1BB0-40F6-83F1-3889D959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0AF-6BE8-488C-9DCD-F36E2DC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287-5371-4193-A995-743ADFA2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BCB-BC7E-475A-BBF5-CA9265B8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AE5-49E8-4623-A999-46C52538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D0D9-79F7-4F37-BB1F-6FB6DDF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1C2C-E18C-4F3E-9AC4-32D7907F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D26F-7785-46A3-9659-7293CE19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FBCB-E85C-4A47-AFAF-47C93C83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5CBD-EB65-48EE-B2B5-20C65F71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A821-9BEF-497E-907D-F7E5439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52B-ED9A-45E4-AB80-B592E359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BFDB-CE08-4BE1-9A8E-156EE9D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C079-6C76-4BB6-A00E-76B84409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968-A656-4586-BEFC-B64FFC8D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BDC-FD02-4D38-8663-76DB9EB0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E144-131F-4655-9E40-FE42C78B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87C-6F9A-47D0-9D4B-80D86B9D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321-2065-44C2-BC1F-2E2129E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A4B-0378-4172-B5F0-FB8F2AA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38A-56A2-452A-B6C6-C6A24922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33D-8251-47E2-971D-F9C74EC1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957-C6A4-4DC7-9F96-E08C4871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C82-78DD-43F4-AA15-1C7E288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F0D-D6EC-497F-B22E-1AB7586D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C9F-250D-40BE-9172-3B0A06AD63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83A7-F02B-4506-8E74-07C05CE81B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57360"/>
            <a:ext cx="9144000" cy="3384360"/>
          </a:xfrm>
          <a:prstGeom prst="rect">
            <a:avLst/>
          </a:prstGeom>
          <a:solidFill>
            <a:srgbClr val="1895d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4720" y="333360"/>
            <a:ext cx="790560" cy="790560"/>
          </a:xfrm>
          <a:prstGeom prst="ellipse">
            <a:avLst/>
          </a:prstGeom>
          <a:solidFill>
            <a:srgbClr val="dfe6eb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5640000">
            <a:off x="2873160" y="316080"/>
            <a:ext cx="789840" cy="78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695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69507"/>
              </a:path>
            </a:pathLst>
          </a:custGeom>
          <a:solidFill>
            <a:srgbClr val="287d9d">
              <a:alpha val="89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0400" y="435276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6840" y="4352760"/>
            <a:ext cx="361800" cy="360360"/>
          </a:xfrm>
          <a:prstGeom prst="roundRect">
            <a:avLst>
              <a:gd name="adj" fmla="val 16667"/>
            </a:avLst>
          </a:pr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44760" y="435276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7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060640"/>
            <a:ext cx="900000" cy="900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>
            <a:off x="5579640" y="2204640"/>
            <a:ext cx="1080" cy="2377080"/>
          </a:xfrm>
          <a:prstGeom prst="straightConnector1">
            <a:avLst/>
          </a:prstGeom>
          <a:ln w="19080">
            <a:solidFill>
              <a:srgbClr val="1391d3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108000" y="3141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005360"/>
            <a:ext cx="719280" cy="720720"/>
          </a:xfrm>
          <a:prstGeom prst="ellipse">
            <a:avLst/>
          </a:prstGeom>
          <a:gradFill rotWithShape="0">
            <a:gsLst>
              <a:gs pos="0">
                <a:srgbClr val="ffffff">
                  <a:alpha val="61176"/>
                </a:srgbClr>
              </a:gs>
              <a:gs pos="100000">
                <a:srgbClr val="79c2e6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680" y="369252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4352760"/>
            <a:ext cx="358560" cy="3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76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You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773360"/>
            <a:ext cx="43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Your slogan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6deea"/>
                </a:solidFill>
                <a:latin typeface="Microsoft Tai 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3527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6deea"/>
                </a:solidFill>
                <a:latin typeface="Microsoft Tai 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4040" y="43527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deea"/>
                </a:solidFill>
                <a:latin typeface="Microsoft Tai Le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205000"/>
            <a:ext cx="1260360" cy="1260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2421000"/>
            <a:ext cx="576000" cy="576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44370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6deea"/>
                </a:solidFill>
                <a:latin typeface="Vrinda"/>
              </a:rPr>
              <a:t>CONTACT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4005360"/>
            <a:ext cx="971640" cy="971280"/>
          </a:xfrm>
          <a:prstGeom prst="ellips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11400" y="35496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38560" y="362124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9040" y="335268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364500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502080"/>
            <a:ext cx="971640" cy="97164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781360"/>
            <a:ext cx="718920" cy="718920"/>
          </a:xfrm>
          <a:prstGeom prst="ellipse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79c2e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05600" y="28591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3840" y="31082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7336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89960" y="2782800"/>
            <a:ext cx="720720" cy="71928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53600" y="238932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4840" y="20131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59800" y="417204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4510080"/>
            <a:ext cx="719280" cy="71928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07400" y="379080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79c2e6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56360" y="2205000"/>
            <a:ext cx="2427120" cy="1790640"/>
            <a:chOff x="6156360" y="2205000"/>
            <a:chExt cx="2427120" cy="1790640"/>
          </a:xfrm>
        </p:grpSpPr>
        <p:sp>
          <p:nvSpPr>
            <p:cNvPr id="120" name="11 Rectángulo"/>
            <p:cNvSpPr/>
            <p:nvPr/>
          </p:nvSpPr>
          <p:spPr>
            <a:xfrm>
              <a:off x="6182640" y="2205000"/>
              <a:ext cx="2374200" cy="946080"/>
            </a:xfrm>
            <a:prstGeom prst="rect">
              <a:avLst/>
            </a:prstGeom>
            <a:solidFill>
              <a:srgbClr val="bbe0e3">
                <a:alpha val="5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2 Marcador de contenido"/>
            <p:cNvSpPr/>
            <p:nvPr/>
          </p:nvSpPr>
          <p:spPr>
            <a:xfrm>
              <a:off x="6156360" y="351252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be0e3"/>
                  </a:solidFill>
                  <a:latin typeface="Calibri"/>
                  <a:ea typeface="Calibri"/>
                </a:rPr>
                <a:t>Lorem Ipsum is simply dummy text of the printing and typesett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 Marcador de contenido"/>
            <p:cNvSpPr/>
            <p:nvPr/>
          </p:nvSpPr>
          <p:spPr>
            <a:xfrm>
              <a:off x="6156360" y="330588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28720" y="2492280"/>
            <a:ext cx="4680000" cy="1441440"/>
          </a:xfrm>
          <a:prstGeom prst="roundRect">
            <a:avLst>
              <a:gd name="adj" fmla="val 8273"/>
            </a:avLst>
          </a:prstGeom>
          <a:gradFill rotWithShape="0">
            <a:gsLst>
              <a:gs pos="0">
                <a:srgbClr val="d0e9eb">
                  <a:alpha val="44313"/>
                </a:srgbClr>
              </a:gs>
              <a:gs pos="100000">
                <a:srgbClr val="bbe0e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565360"/>
            <a:ext cx="2448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并编辑其中素材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并使用其中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同心圆 3"/>
          <p:cNvSpPr/>
          <p:nvPr/>
        </p:nvSpPr>
        <p:spPr>
          <a:xfrm>
            <a:off x="609480" y="3860640"/>
            <a:ext cx="2643480" cy="2644920"/>
          </a:xfrm>
          <a:prstGeom prst="donut">
            <a:avLst>
              <a:gd name="adj" fmla="val 8981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0"/>
          <p:cNvSpPr/>
          <p:nvPr/>
        </p:nvSpPr>
        <p:spPr>
          <a:xfrm>
            <a:off x="1405080" y="1859040"/>
            <a:ext cx="6553080" cy="430848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1762200" y="1771560"/>
            <a:ext cx="581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408400" y="99072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0" y="981000"/>
            <a:ext cx="16909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607320" y="9907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4" name=""/>
          <p:cNvCxnSpPr/>
          <p:nvPr/>
        </p:nvCxnSpPr>
        <p:spPr>
          <a:xfrm>
            <a:off x="5579640" y="3428640"/>
            <a:ext cx="1080" cy="2377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6000" y="3430440"/>
            <a:ext cx="3192480" cy="2359080"/>
          </a:xfrm>
          <a:prstGeom prst="rect">
            <a:avLst/>
          </a:prstGeom>
          <a:ln w="0">
            <a:noFill/>
          </a:ln>
        </p:spPr>
      </p:pic>
      <p:sp>
        <p:nvSpPr>
          <p:cNvPr id="136" name="矩形 8"/>
          <p:cNvSpPr/>
          <p:nvPr/>
        </p:nvSpPr>
        <p:spPr>
          <a:xfrm>
            <a:off x="5902200" y="2349360"/>
            <a:ext cx="29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Impact"/>
              </a:rPr>
              <a:t>Title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2418840" y="34084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>
            <a:off x="2437200" y="4016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>
            <a:off x="2441880" y="46227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8"/>
          <p:cNvSpPr/>
          <p:nvPr/>
        </p:nvSpPr>
        <p:spPr>
          <a:xfrm>
            <a:off x="2437200" y="52293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408400" y="9907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613440" y="99072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147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151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155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3"/>
          <p:cNvSpPr/>
          <p:nvPr/>
        </p:nvSpPr>
        <p:spPr>
          <a:xfrm>
            <a:off x="1170000" y="14907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170000" y="26049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170000" y="369900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1170000" y="479268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915240" y="1424160"/>
            <a:ext cx="825120" cy="802800"/>
            <a:chOff x="6915240" y="1424160"/>
            <a:chExt cx="825120" cy="802800"/>
          </a:xfrm>
        </p:grpSpPr>
        <p:grpSp>
          <p:nvGrpSpPr>
            <p:cNvPr id="162" name=""/>
            <p:cNvGrpSpPr/>
            <p:nvPr/>
          </p:nvGrpSpPr>
          <p:grpSpPr>
            <a:xfrm>
              <a:off x="6915240" y="1424160"/>
              <a:ext cx="825120" cy="802800"/>
              <a:chOff x="6915240" y="1424160"/>
              <a:chExt cx="825120" cy="8028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915240" y="1424160"/>
                <a:ext cx="825120" cy="802800"/>
                <a:chOff x="6915240" y="1424160"/>
                <a:chExt cx="825120" cy="802800"/>
              </a:xfrm>
            </p:grpSpPr>
            <p:pic>
              <p:nvPicPr>
                <p:cNvPr id="164" name="Picture 14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15240" y="1424160"/>
                  <a:ext cx="82512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Oval 15"/>
                <p:cNvSpPr/>
                <p:nvPr/>
              </p:nvSpPr>
              <p:spPr>
                <a:xfrm>
                  <a:off x="6915240" y="1424160"/>
                  <a:ext cx="819720" cy="80280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6" name="Picture 16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6997680" y="143172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WordArt 17"/>
            <p:cNvSpPr txBox="1"/>
            <p:nvPr/>
          </p:nvSpPr>
          <p:spPr>
            <a:xfrm>
              <a:off x="7196760" y="164016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915240" y="2538360"/>
            <a:ext cx="825480" cy="803160"/>
            <a:chOff x="6915240" y="2538360"/>
            <a:chExt cx="825480" cy="803160"/>
          </a:xfrm>
        </p:grpSpPr>
        <p:grpSp>
          <p:nvGrpSpPr>
            <p:cNvPr id="169" name=""/>
            <p:cNvGrpSpPr/>
            <p:nvPr/>
          </p:nvGrpSpPr>
          <p:grpSpPr>
            <a:xfrm>
              <a:off x="6915240" y="2538360"/>
              <a:ext cx="825480" cy="803160"/>
              <a:chOff x="6915240" y="2538360"/>
              <a:chExt cx="825480" cy="8031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6915240" y="2538360"/>
                <a:ext cx="825480" cy="803160"/>
                <a:chOff x="6915240" y="2538360"/>
                <a:chExt cx="825480" cy="803160"/>
              </a:xfrm>
            </p:grpSpPr>
            <p:pic>
              <p:nvPicPr>
                <p:cNvPr id="171" name="Picture 21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15240" y="25383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Oval 22"/>
                <p:cNvSpPr/>
                <p:nvPr/>
              </p:nvSpPr>
              <p:spPr>
                <a:xfrm>
                  <a:off x="6915240" y="2538360"/>
                  <a:ext cx="820080" cy="8031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3" name="Picture 23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25459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WordArt 24"/>
            <p:cNvSpPr txBox="1"/>
            <p:nvPr/>
          </p:nvSpPr>
          <p:spPr>
            <a:xfrm>
              <a:off x="7223040" y="275436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915240" y="3630600"/>
            <a:ext cx="825480" cy="803160"/>
            <a:chOff x="6915240" y="3630600"/>
            <a:chExt cx="825480" cy="803160"/>
          </a:xfrm>
        </p:grpSpPr>
        <p:grpSp>
          <p:nvGrpSpPr>
            <p:cNvPr id="176" name=""/>
            <p:cNvGrpSpPr/>
            <p:nvPr/>
          </p:nvGrpSpPr>
          <p:grpSpPr>
            <a:xfrm>
              <a:off x="6915240" y="3630600"/>
              <a:ext cx="825480" cy="803160"/>
              <a:chOff x="6915240" y="3630600"/>
              <a:chExt cx="825480" cy="8031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915240" y="3630600"/>
                <a:ext cx="825480" cy="803160"/>
                <a:chOff x="6915240" y="3630600"/>
                <a:chExt cx="825480" cy="803160"/>
              </a:xfrm>
            </p:grpSpPr>
            <p:pic>
              <p:nvPicPr>
                <p:cNvPr id="178" name="Picture 28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15240" y="363060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Oval 29"/>
                <p:cNvSpPr/>
                <p:nvPr/>
              </p:nvSpPr>
              <p:spPr>
                <a:xfrm>
                  <a:off x="6915240" y="3630600"/>
                  <a:ext cx="820080" cy="8031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0" name="Picture 30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6997680" y="363816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WordArt 31"/>
            <p:cNvSpPr txBox="1"/>
            <p:nvPr/>
          </p:nvSpPr>
          <p:spPr>
            <a:xfrm>
              <a:off x="7223040" y="384660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915240" y="4713120"/>
            <a:ext cx="825480" cy="803160"/>
            <a:chOff x="6915240" y="4713120"/>
            <a:chExt cx="825480" cy="803160"/>
          </a:xfrm>
        </p:grpSpPr>
        <p:grpSp>
          <p:nvGrpSpPr>
            <p:cNvPr id="183" name=""/>
            <p:cNvGrpSpPr/>
            <p:nvPr/>
          </p:nvGrpSpPr>
          <p:grpSpPr>
            <a:xfrm>
              <a:off x="6915240" y="4713120"/>
              <a:ext cx="825480" cy="803160"/>
              <a:chOff x="6915240" y="4713120"/>
              <a:chExt cx="825480" cy="80316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6915240" y="4713120"/>
                <a:ext cx="825480" cy="803160"/>
                <a:chOff x="6915240" y="4713120"/>
                <a:chExt cx="825480" cy="803160"/>
              </a:xfrm>
            </p:grpSpPr>
            <p:pic>
              <p:nvPicPr>
                <p:cNvPr id="185" name="Picture 35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15240" y="47131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Oval 36"/>
                <p:cNvSpPr/>
                <p:nvPr/>
              </p:nvSpPr>
              <p:spPr>
                <a:xfrm>
                  <a:off x="6915240" y="4713120"/>
                  <a:ext cx="820080" cy="8031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7" name="Picture 37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997680" y="47206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WordArt 38"/>
            <p:cNvSpPr txBox="1"/>
            <p:nvPr/>
          </p:nvSpPr>
          <p:spPr>
            <a:xfrm>
              <a:off x="7185240" y="4929120"/>
              <a:ext cx="2664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917720"/>
            <a:ext cx="8712000" cy="43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6708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9400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6708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836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9400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044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0440" y="3355920"/>
            <a:ext cx="259056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8172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3736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198756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1339920"/>
            <a:ext cx="2737080" cy="647640"/>
          </a:xfrm>
          <a:prstGeom prst="roundRect">
            <a:avLst>
              <a:gd name="adj" fmla="val 16667"/>
            </a:avLst>
          </a:prstGeom>
          <a:solidFill>
            <a:srgbClr val="1391d3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4920" y="1339920"/>
            <a:ext cx="27370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3080" y="145728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Value for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40" y="28004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285120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onsumer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00960" y="280044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onsum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213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217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221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3"/>
          <p:cNvSpPr/>
          <p:nvPr/>
        </p:nvSpPr>
        <p:spPr>
          <a:xfrm flipV="1" rot="10800000">
            <a:off x="2209680" y="4727520"/>
            <a:ext cx="4422960" cy="4348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未知"/>
          <p:cNvSpPr/>
          <p:nvPr/>
        </p:nvSpPr>
        <p:spPr>
          <a:xfrm>
            <a:off x="4429080" y="1557360"/>
            <a:ext cx="1720800" cy="257004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未知"/>
          <p:cNvSpPr/>
          <p:nvPr/>
        </p:nvSpPr>
        <p:spPr>
          <a:xfrm>
            <a:off x="2930400" y="3276720"/>
            <a:ext cx="2981520" cy="1708200"/>
          </a:xfrm>
          <a:prstGeom prst="pie">
            <a:avLst/>
          </a:prstGeom>
          <a:solidFill>
            <a:srgbClr val="79c2e6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未知"/>
          <p:cNvSpPr/>
          <p:nvPr/>
        </p:nvSpPr>
        <p:spPr>
          <a:xfrm>
            <a:off x="2695680" y="1558800"/>
            <a:ext cx="1730160" cy="257040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 rot="6300000">
            <a:off x="2987280" y="377964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 rot="13500000">
            <a:off x="4231440" y="1653480"/>
            <a:ext cx="393840" cy="3888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 rot="20700000">
            <a:off x="5473440" y="3790800"/>
            <a:ext cx="390600" cy="392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072240" y="1911240"/>
            <a:ext cx="2732400" cy="2727360"/>
            <a:chOff x="3072240" y="1911240"/>
            <a:chExt cx="2732400" cy="2727360"/>
          </a:xfrm>
        </p:grpSpPr>
        <p:sp>
          <p:nvSpPr>
            <p:cNvPr id="231" name="Oval 11"/>
            <p:cNvSpPr/>
            <p:nvPr/>
          </p:nvSpPr>
          <p:spPr>
            <a:xfrm rot="649800">
              <a:off x="3270240" y="2109960"/>
              <a:ext cx="2336400" cy="23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2"/>
            <p:cNvSpPr/>
            <p:nvPr/>
          </p:nvSpPr>
          <p:spPr>
            <a:xfrm rot="649800">
              <a:off x="3401640" y="2236680"/>
              <a:ext cx="2073240" cy="2075040"/>
            </a:xfrm>
            <a:prstGeom prst="ellipse">
              <a:avLst/>
            </a:prstGeom>
            <a:solidFill>
              <a:srgbClr val="79c2e6"/>
            </a:soli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未知"/>
          <p:cNvSpPr/>
          <p:nvPr/>
        </p:nvSpPr>
        <p:spPr>
          <a:xfrm>
            <a:off x="3565440" y="2227320"/>
            <a:ext cx="1736640" cy="834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235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239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243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9380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688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0980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3996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688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2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12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2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7960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2252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944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288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58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988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258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258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816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6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63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992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94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2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31280" y="5734080"/>
            <a:ext cx="151272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3596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0580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596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596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088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0396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688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7704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0396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71960" y="1628640"/>
            <a:ext cx="2952720" cy="57816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1800" y="1628640"/>
            <a:ext cx="280008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87600" y="1701720"/>
            <a:ext cx="2571840" cy="47952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14880" y="1628640"/>
            <a:ext cx="152280" cy="95400"/>
          </a:xfrm>
          <a:prstGeom prst="ellipse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1800" y="1701720"/>
            <a:ext cx="269856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161800" y="1844640"/>
            <a:ext cx="100980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62160" y="1844640"/>
            <a:ext cx="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62160" y="3645000"/>
            <a:ext cx="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380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3800" y="4149720"/>
            <a:ext cx="295272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4652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24680" y="1844640"/>
            <a:ext cx="93348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58160" y="1844640"/>
            <a:ext cx="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58160" y="3645000"/>
            <a:ext cx="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54688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46880" y="4149720"/>
            <a:ext cx="287964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42652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89480" y="1739880"/>
            <a:ext cx="23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New Brand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323208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Bran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24520" y="32194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Brand 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4680" y="2206800"/>
            <a:ext cx="28069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66880" y="3648240"/>
            <a:ext cx="27367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77040" y="3648240"/>
            <a:ext cx="2736720" cy="21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310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314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318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578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5:57:43Z</dcterms:created>
  <dc:creator/>
  <dc:description/>
  <dc:language>en-US</dc:language>
  <cp:lastModifiedBy/>
  <cp:lastPrinted>1899-12-30T00:00:00Z</cp:lastPrinted>
  <dcterms:modified xsi:type="dcterms:W3CDTF">2014-05-26T06:20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