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475-CE6C-449B-BF48-F2877E3A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F9C-305D-494E-B3CB-3FA54AB1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41D-DB73-4C70-B43D-592E6276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E1C-C964-42E9-84E4-C28F9EFA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D1C-1682-4200-A1E0-4202DFD6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247-B01C-4E09-9720-929EC934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7A4-5219-41BF-B2A8-C430E941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2A6-C668-4381-953E-197DCB40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A06-AA91-4AE0-A3AE-1B73753A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2DE-3EA5-4D44-80B3-414CE871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F4B-4B5D-446F-AD63-2651DB0F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AED-2ABE-4BA0-8643-1194FB8B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5319-05D5-4BA6-B3FF-56412A7C1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66229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08080"/>
                </a:solidFill>
                <a:latin typeface="Arial"/>
              </a:rPr>
              <a:t>PRESENTATION 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1221840"/>
            <a:ext cx="640080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808080"/>
                </a:solidFill>
                <a:latin typeface="Arial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80808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0808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506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6:15:39Z</dcterms:created>
  <dc:creator>Mediac</dc:creator>
  <dc:description/>
  <dc:language>en-US</dc:language>
  <cp:lastModifiedBy>Mediac</cp:lastModifiedBy>
  <cp:lastPrinted>1899-12-30T00:00:00Z</cp:lastPrinted>
  <dcterms:modified xsi:type="dcterms:W3CDTF">2014-05-24T01:49:17Z</dcterms:modified>
  <cp:revision>1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