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B15-0E7E-4F51-8B8C-91DD0083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35A-4362-4D9C-ACDD-C5133802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7B7-F405-494F-B7F5-4ADC46E1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7CF-3E40-4DCA-868C-47BA2C0A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CD2-BD74-44A9-B012-C283D1C7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F58-3960-466C-AD13-85C87F2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39D-E11B-4871-BFCC-A1B8700B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D57-0C37-46E1-88A1-A8C84DAC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F1E-5255-4E6C-B9D5-F8528719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A24-949C-4064-9251-10E310C7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F33-4E12-40A5-80CF-63A781E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217-9A2D-4021-A21A-F5E347C7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043-3C3A-4F66-B025-1D9A1CBAA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8896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5892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18560" y="4876920"/>
            <a:ext cx="1190520" cy="28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25800" y="480384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498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68000" y="1199880"/>
            <a:ext cx="64184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774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749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774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749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078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7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49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078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7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49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7525800" y="473220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68000" y="1199880"/>
            <a:ext cx="64184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075480" y="4660920"/>
            <a:ext cx="381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10:40Z</dcterms:created>
  <dc:creator>Ric6000</dc:creator>
  <dc:description/>
  <dc:language>en-US</dc:language>
  <cp:lastModifiedBy>Ric6000</cp:lastModifiedBy>
  <cp:lastPrinted>1899-12-30T00:00:00Z</cp:lastPrinted>
  <dcterms:modified xsi:type="dcterms:W3CDTF">2014-05-21T14:38:03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