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62071-BC9D-4897-9352-77619C09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D50B3-7301-46C1-B36C-FB3D8EA8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9B971-B548-4013-8265-49090A14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D0D13-0D9E-4CD7-ADB8-005F9502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4BB2E-A53A-439B-BC63-8226FFC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DBB70-E1AB-48B0-8220-01857A38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1783E-1312-4978-B7F2-7AC17B5C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FA443-780B-4965-A431-BF772C8E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10183-0C6F-4CB2-B147-7DA0CCE5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E4CA3-984C-4F68-86FE-E5A95A9D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19BCD-D1E3-4588-8309-75DB4C45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4CC0C-1D9F-48F4-863B-1A819D03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00E03-0423-48E5-B275-4595EF3C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723D4-E60F-4AF6-A332-5D9FC925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202DD-0931-45BA-B59D-1CC97AE5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067DA-69BD-411B-A3E0-3DE0FDE7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E1CDB-2F24-4E54-A153-D1879F26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0391F-8663-4DC0-A057-5CD61D49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33A91-992F-45BB-A130-414B3C7E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C023B-738B-427E-8B20-FC6B4DA3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3536F-EF33-459A-888D-F89892F3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3EB18-D692-4043-A839-6D31F2DB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A9424-689C-4423-99CA-A2CEDD15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69A2E-0C03-48E5-ACCF-EC8233E2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F166B-259B-4E1F-94C8-5264DF7F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24CBF-DAD4-4B1B-BE5A-D41064E2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F9F7F-D98B-4C3A-B3C4-41B37A72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06ABF-17A4-4744-A219-6D3222B0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7741F-3D43-47F6-99B7-476873CF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919F3-47B2-4922-94F2-39359258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9F0-5531-4476-AB0F-32DDB1CF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EF01C-B8E3-409E-8F9A-E49B4104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049C8-7FFA-4C52-9720-7B145241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8CCA2-5587-42BB-8EEC-8897903C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2E554-A097-4AE9-BBAA-CA931AD2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F1B92-92F4-4F1A-ACCE-5EE3BF42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175CC-E7D7-438F-9948-F4081127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DCE97-B0D6-481F-93AA-7C112BFC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70539-088D-4842-9FE4-F7C9C5D5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319F0-CDFA-4D6C-80F3-4FB72563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B926F-5307-4942-BF3A-096DB660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5D0-B699-4459-B150-B56192FE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3EF91-27C0-497D-B1C9-570D156C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DA559-69C9-4ED6-97B0-F484246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89DE3-B1C5-4107-99DB-4490BDEB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D4D64-D6C2-4103-A13F-E8AC51D4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1CB65-B531-446E-A5F9-BEA88CA3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45348-B808-408F-A771-C179A36C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BE454-ECDB-4E61-8322-A917DA43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0A195-1685-4AF3-AC52-6C01A9AE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3AC46-8BFB-440A-84B6-09B6D102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20B7E-F27F-42F8-B8C9-AB0448FE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3D2-2FDE-4216-B253-0679D1D0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5DA20-30AF-4BC3-BFC3-20E207A4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F3F53-26DB-41A3-8890-CCF27A0A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F6CE8-DC18-4468-B57E-00050838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74F69-AF20-402A-B513-51484851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91FB6-2D6E-450B-9EEC-5B0AC4A2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73547-9B57-4153-A498-20AFFBDA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CEC27-0AB2-498D-8559-3FE10C71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7FE-4E61-4F89-80AF-457478DD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5AA-5994-4B51-BFCC-770FA71A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EFC-7346-438A-83CA-9B84B6E2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B35-4D70-4A49-8125-33A4C2EC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540-ED2B-4D95-A0B7-6BE73CE2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B2A-4A30-453E-A1BA-D923F963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CBE-B8C0-4643-B9A4-5B91237D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BA2-8111-4681-8E19-B560CE0A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2DA-0A3A-420F-A59C-B8953ECC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CFE9-7B35-45B0-9367-6C18F485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503A-6C64-4300-ADD6-893774DC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B17E-D46E-4C49-85A4-00702DAC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DFB4-87D6-4A3A-BD1D-F62B39EE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8026-CF93-471D-99FB-BCA8FD6B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8A05-55B0-4BA7-A9F4-4EA913DD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4E8F-DD8A-4E78-B06F-3EA8F965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02A5-C7CB-4D66-BE09-00B08D27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F8ED-BDF8-47C0-B092-7AF509CE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91CC-BA99-4FFA-8400-8F8F3CF2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833D-8E09-4424-8648-7CEB6523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DC2F-98A1-40EF-AA51-0C68514F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9A6B-A18E-4AC0-A097-242DC198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4F63-3900-40FE-BB4E-B0BDAEAD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ED3C-92AF-4564-BA7E-2D633998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6B43-211C-4CA2-85C5-F5F288C8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BD624-A19A-45DC-82A7-BC1F5914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7EAA2-1F6B-4728-8CEF-A2FE57B6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E61F-CB05-4EE2-A56D-8E17749F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BC368-3EC2-4C6B-AC66-310B149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BDB5B-AEFF-4617-AE5C-47FA0522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C33DB-6727-4912-B2CC-66010478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42D6-3C80-48C8-AFAE-738A771B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97F35-E0D1-4851-AEA3-98A25257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F8509-8C99-4BA5-AB57-17953CD1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A8F0-6C89-4928-9A58-05ADD8BD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88093-E265-4A5B-BC61-5C2755D4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86B6E-60C6-4941-A59A-BBED18B8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F33F-E660-4C14-A497-24A13543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817D6-5287-450C-9A3D-FEB49FB6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B80D3-A827-430C-A6D2-3FD8391D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73FD-E15B-4A8B-B5A5-112F632D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3FAF-7E8B-4453-A4DD-54AFD886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E4076-A0CB-45D5-91BF-C0CE69D7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B48EC-41A7-4235-80FB-19748BA9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A8FAD-06BF-4D0B-9DE4-41E6CC01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86E57-6447-4AFB-9A4B-30E3A5D2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B198D-B6F4-43B2-A508-AC9FE310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07E53-E048-4324-BA02-BC5FCB02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4DE19-6799-4A10-9AD9-5D7306FE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5E57D-3775-49AD-AD43-82D6BBED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13425-FCBD-4437-8AAE-2EBA82D2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696B9-039D-43CE-B69C-FDD884A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5A62A-C0EA-447B-9A01-2ED8242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679E-2E04-474A-811B-EEDCB0C3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69FE-CFF8-4DFF-8AAD-BE4996C8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34FE0-6323-49A8-AA53-05D56F84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2BCDA-FCCE-4E48-8DE4-40C05BD9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5BE55-02E0-428B-AF44-48534064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85166-E4C8-43D8-BA8E-F5908F7D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168B1-3193-4402-9619-72B66D2E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0BC75-6582-47D9-8E53-6F70D377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F4A3C-1168-4B80-9EEB-4DD79A22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B979E-F8FD-49A0-9FAB-D736A5D9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474FB-2816-4002-A500-EABA1CCF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9989E-40BA-4578-9467-D56D433E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FF55B-0E22-4F0B-A5B6-CD3DE248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DBC50-9904-40F0-B4E6-F9F4C8DC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93189-3221-4F69-BADC-35E0C294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C7C17-6A37-4551-A3E9-BE29176E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9669A-3E6F-4B9E-8679-FCFAA2E6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032AE-6618-4E0D-80CA-2DCA9829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7D7ED-4855-4B74-8797-67BABB42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A3172-0AC9-4010-9B14-E84C413E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E2658-158B-40EF-A8D9-ACCF360F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32A67-C75F-49B4-9AB9-F1768BF2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DED41-A062-413D-B9D1-7EB2FACE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7E7CD-028D-4AEE-98BC-B4490A56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E03E3-6DFD-4AA5-880E-986AEE66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7D4A-EC62-43E6-ACBD-D97C00A3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093FF-AB84-41D5-81D3-F63046D5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DA078-9A7A-4180-9B28-2DEF5EE0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3D384-ABFB-4B64-BE6B-AE8A4755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15CCA-0DFD-49FC-B8F7-637AD67A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BE8BB-01F1-4ADA-AD2B-A89375FF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5560" y="115920"/>
            <a:ext cx="8812440" cy="436680"/>
            <a:chOff x="115560" y="115920"/>
            <a:chExt cx="8812440" cy="436680"/>
          </a:xfrm>
        </p:grpSpPr>
        <p:sp>
          <p:nvSpPr>
            <p:cNvPr id="1" name="Rectangle 111"/>
            <p:cNvSpPr/>
            <p:nvPr/>
          </p:nvSpPr>
          <p:spPr>
            <a:xfrm>
              <a:off x="1834920" y="189000"/>
              <a:ext cx="5616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" name="Rectangle 112"/>
            <p:cNvSpPr/>
            <p:nvPr/>
          </p:nvSpPr>
          <p:spPr>
            <a:xfrm>
              <a:off x="115560" y="13500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Dotum"/>
                  <a:ea typeface="Dotum"/>
                </a:rPr>
                <a:t>Powerdiagram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" name="Line 113"/>
            <p:cNvSpPr/>
            <p:nvPr/>
          </p:nvSpPr>
          <p:spPr>
            <a:xfrm>
              <a:off x="179280" y="549360"/>
              <a:ext cx="874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" name="Line 114"/>
            <p:cNvSpPr/>
            <p:nvPr/>
          </p:nvSpPr>
          <p:spPr>
            <a:xfrm>
              <a:off x="179280" y="115920"/>
              <a:ext cx="874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" name="Line 115"/>
            <p:cNvSpPr/>
            <p:nvPr/>
          </p:nvSpPr>
          <p:spPr>
            <a:xfrm>
              <a:off x="1763640" y="189000"/>
              <a:ext cx="14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" name="矩形 2"/>
          <p:cNvSpPr/>
          <p:nvPr/>
        </p:nvSpPr>
        <p:spPr>
          <a:xfrm>
            <a:off x="1651320" y="8388360"/>
            <a:ext cx="58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更多精彩，请移步：让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飞起来丨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http://pptshare.qzone.qq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5C4E-8118-4828-A27E-A6FBF9D01536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80B6-DD0F-44BC-BC6D-FB73D73DAFF9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C972-1E8B-449B-8B7E-18778AEB8A8A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B7DF-85D3-4B22-A14C-941DC48985A7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4626-4EC7-45AE-ACC4-9289DF600494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9016-9100-425C-8BD5-EADB88CEE3FA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E062-59A7-4DDD-B138-9D16A8FED433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48DB-DCEC-443B-870C-0EF0A91F094A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FA83-65DE-4A96-AE53-9153A56B01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150B-CC3D-4C3F-973B-D5DD2271E9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F716-207F-405F-8288-EF5F56158945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5AB8-A224-48E1-9E83-DEB370F93277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CADF-4BE9-4974-872C-A67471A5E0D9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B23F-DC99-4462-8B7E-362E3D5CF987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1DFF-EA9F-43FF-BBCA-C2265FD19C1D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56E3-0E77-405A-BA13-96C836374E89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8BC7-D872-4248-ABBF-EFAC1AC421DB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637B-A192-4EC9-A55E-E9D68BC86031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F4CA-5A7B-492D-B836-56E4761CE071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CA92-E186-43DA-9BE5-F277D1EC3313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B4D8-6A2D-47B3-87D6-5E97B3C9B879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EFFB-E557-4341-9470-BDDA25D8FCAC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5659-0525-4FC8-8D5C-3BC515C03654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A5AC-A511-44CC-AC2F-E8DE7FB7F238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722"/>
          <p:cNvSpPr/>
          <p:nvPr/>
        </p:nvSpPr>
        <p:spPr>
          <a:xfrm>
            <a:off x="1477800" y="5157720"/>
            <a:ext cx="6407280" cy="1366920"/>
          </a:xfrm>
          <a:prstGeom prst="rect">
            <a:avLst/>
          </a:prstGeom>
          <a:solidFill>
            <a:srgbClr val="bbe0e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AutoShape 1787"/>
          <p:cNvSpPr/>
          <p:nvPr/>
        </p:nvSpPr>
        <p:spPr>
          <a:xfrm>
            <a:off x="3625920" y="5796000"/>
            <a:ext cx="85392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AutoShape 1788"/>
          <p:cNvSpPr/>
          <p:nvPr/>
        </p:nvSpPr>
        <p:spPr>
          <a:xfrm>
            <a:off x="5405400" y="580536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8" name="AutoShape 1789"/>
          <p:cNvSpPr/>
          <p:nvPr/>
        </p:nvSpPr>
        <p:spPr>
          <a:xfrm>
            <a:off x="6780240" y="5805360"/>
            <a:ext cx="1079640" cy="2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AutoShape 1786"/>
          <p:cNvSpPr/>
          <p:nvPr/>
        </p:nvSpPr>
        <p:spPr>
          <a:xfrm>
            <a:off x="1798560" y="5805360"/>
            <a:ext cx="757440" cy="216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AutoShape 1776"/>
          <p:cNvSpPr/>
          <p:nvPr/>
        </p:nvSpPr>
        <p:spPr>
          <a:xfrm>
            <a:off x="6497640" y="1763640"/>
            <a:ext cx="1873080" cy="2519280"/>
          </a:xfrm>
          <a:custGeom>
            <a:avLst/>
            <a:gdLst>
              <a:gd name="textAreaLeft" fmla="*/ 52200 w 1873080"/>
              <a:gd name="textAreaRight" fmla="*/ 1820880 w 1873080"/>
              <a:gd name="textAreaTop" fmla="*/ 52200 h 2519280"/>
              <a:gd name="textAreaBottom" fmla="*/ 2467080 h 2519280"/>
            </a:gdLst>
            <a:ahLst/>
            <a:rect l="textAreaLeft" t="textAreaTop" r="textAreaRight" b="textAreaBottom"/>
            <a:pathLst>
              <a:path w="21600" h="29050">
                <a:moveTo>
                  <a:pt x="2067" y="0"/>
                </a:moveTo>
                <a:arcTo wR="2067" hR="2067" stAng="16200000" swAng="-5400000"/>
                <a:lnTo>
                  <a:pt x="0" y="26983"/>
                </a:lnTo>
                <a:arcTo wR="2067" hR="2067" stAng="10800000" swAng="-5400000"/>
                <a:lnTo>
                  <a:pt x="19533" y="29050"/>
                </a:lnTo>
                <a:arcTo wR="2067" hR="2067" stAng="5400000" swAng="-5400000"/>
                <a:lnTo>
                  <a:pt x="21600" y="2067"/>
                </a:lnTo>
                <a:arcTo wR="2067" hR="2067" stAng="0" swAng="-5400000"/>
                <a:close/>
              </a:path>
            </a:pathLst>
          </a:custGeom>
          <a:solidFill>
            <a:srgbClr val="969696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AutoShape 1775"/>
          <p:cNvSpPr/>
          <p:nvPr/>
        </p:nvSpPr>
        <p:spPr>
          <a:xfrm>
            <a:off x="6469200" y="1728720"/>
            <a:ext cx="1873080" cy="2519280"/>
          </a:xfrm>
          <a:custGeom>
            <a:avLst/>
            <a:gdLst>
              <a:gd name="textAreaLeft" fmla="*/ 52200 w 1873080"/>
              <a:gd name="textAreaRight" fmla="*/ 1820880 w 1873080"/>
              <a:gd name="textAreaTop" fmla="*/ 52200 h 2519280"/>
              <a:gd name="textAreaBottom" fmla="*/ 2467080 h 2519280"/>
            </a:gdLst>
            <a:ahLst/>
            <a:rect l="textAreaLeft" t="textAreaTop" r="textAreaRight" b="textAreaBottom"/>
            <a:pathLst>
              <a:path w="21600" h="29050">
                <a:moveTo>
                  <a:pt x="2067" y="0"/>
                </a:moveTo>
                <a:arcTo wR="2067" hR="2067" stAng="16200000" swAng="-5400000"/>
                <a:lnTo>
                  <a:pt x="0" y="26983"/>
                </a:lnTo>
                <a:arcTo wR="2067" hR="2067" stAng="10800000" swAng="-5400000"/>
                <a:lnTo>
                  <a:pt x="19533" y="29050"/>
                </a:lnTo>
                <a:arcTo wR="2067" hR="2067" stAng="5400000" swAng="-5400000"/>
                <a:lnTo>
                  <a:pt x="21600" y="2067"/>
                </a:lnTo>
                <a:arcTo wR="2067" hR="2067" stAng="0" swAng="-5400000"/>
                <a:close/>
              </a:path>
            </a:pathLst>
          </a:custGeom>
          <a:solidFill>
            <a:srgbClr val="c0c0c0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2" name="AutoShape 1774"/>
          <p:cNvSpPr/>
          <p:nvPr/>
        </p:nvSpPr>
        <p:spPr>
          <a:xfrm>
            <a:off x="6443640" y="1700280"/>
            <a:ext cx="1873440" cy="2519280"/>
          </a:xfrm>
          <a:custGeom>
            <a:avLst/>
            <a:gdLst>
              <a:gd name="textAreaLeft" fmla="*/ 52200 w 1873440"/>
              <a:gd name="textAreaRight" fmla="*/ 1821240 w 1873440"/>
              <a:gd name="textAreaTop" fmla="*/ 52200 h 2519280"/>
              <a:gd name="textAreaBottom" fmla="*/ 2467080 h 2519280"/>
            </a:gdLst>
            <a:ahLst/>
            <a:rect l="textAreaLeft" t="textAreaTop" r="textAreaRight" b="textAreaBottom"/>
            <a:pathLst>
              <a:path w="21600" h="29045">
                <a:moveTo>
                  <a:pt x="2067" y="0"/>
                </a:moveTo>
                <a:arcTo wR="2067" hR="2067" stAng="16200000" swAng="-5400000"/>
                <a:lnTo>
                  <a:pt x="0" y="26978"/>
                </a:lnTo>
                <a:arcTo wR="2067" hR="2067" stAng="10800000" swAng="-5400000"/>
                <a:lnTo>
                  <a:pt x="19533" y="29045"/>
                </a:lnTo>
                <a:arcTo wR="2067" hR="2067" stAng="5400000" swAng="-5400000"/>
                <a:lnTo>
                  <a:pt x="21600" y="2067"/>
                </a:lnTo>
                <a:arcTo wR="2067" hR="2067" stAng="0" swAng="-5400000"/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43" name="Object 1518" descr=""/>
          <p:cNvPicPr/>
          <p:nvPr/>
        </p:nvPicPr>
        <p:blipFill>
          <a:blip r:embed="rId1"/>
          <a:stretch/>
        </p:blipFill>
        <p:spPr>
          <a:xfrm>
            <a:off x="1306440" y="1227240"/>
            <a:ext cx="4969080" cy="4064040"/>
          </a:xfrm>
          <a:prstGeom prst="rect">
            <a:avLst/>
          </a:prstGeom>
          <a:ln w="0">
            <a:noFill/>
          </a:ln>
        </p:spPr>
      </p:pic>
      <p:sp>
        <p:nvSpPr>
          <p:cNvPr id="544" name="Line 1557"/>
          <p:cNvSpPr/>
          <p:nvPr/>
        </p:nvSpPr>
        <p:spPr>
          <a:xfrm>
            <a:off x="1459080" y="6041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Line 1558"/>
          <p:cNvSpPr/>
          <p:nvPr/>
        </p:nvSpPr>
        <p:spPr>
          <a:xfrm>
            <a:off x="1459080" y="6041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6" name="Line 1561"/>
          <p:cNvSpPr/>
          <p:nvPr/>
        </p:nvSpPr>
        <p:spPr>
          <a:xfrm>
            <a:off x="1246320" y="6203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Line 1562"/>
          <p:cNvSpPr/>
          <p:nvPr/>
        </p:nvSpPr>
        <p:spPr>
          <a:xfrm>
            <a:off x="1246320" y="6203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Line 1565"/>
          <p:cNvSpPr/>
          <p:nvPr/>
        </p:nvSpPr>
        <p:spPr>
          <a:xfrm>
            <a:off x="1233360" y="611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Line 1566"/>
          <p:cNvSpPr/>
          <p:nvPr/>
        </p:nvSpPr>
        <p:spPr>
          <a:xfrm>
            <a:off x="1233360" y="611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Line 1568"/>
          <p:cNvSpPr/>
          <p:nvPr/>
        </p:nvSpPr>
        <p:spPr>
          <a:xfrm>
            <a:off x="122400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Line 1569"/>
          <p:cNvSpPr/>
          <p:nvPr/>
        </p:nvSpPr>
        <p:spPr>
          <a:xfrm>
            <a:off x="122400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Line 1571"/>
          <p:cNvSpPr/>
          <p:nvPr/>
        </p:nvSpPr>
        <p:spPr>
          <a:xfrm>
            <a:off x="124308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Line 1572"/>
          <p:cNvSpPr/>
          <p:nvPr/>
        </p:nvSpPr>
        <p:spPr>
          <a:xfrm>
            <a:off x="124308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Line 1574"/>
          <p:cNvSpPr/>
          <p:nvPr/>
        </p:nvSpPr>
        <p:spPr>
          <a:xfrm>
            <a:off x="1233360" y="605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Line 1575"/>
          <p:cNvSpPr/>
          <p:nvPr/>
        </p:nvSpPr>
        <p:spPr>
          <a:xfrm>
            <a:off x="1233360" y="605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Line 1598"/>
          <p:cNvSpPr/>
          <p:nvPr/>
        </p:nvSpPr>
        <p:spPr>
          <a:xfrm>
            <a:off x="4414680" y="6276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Line 1599"/>
          <p:cNvSpPr/>
          <p:nvPr/>
        </p:nvSpPr>
        <p:spPr>
          <a:xfrm>
            <a:off x="4414680" y="6276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Line 1600"/>
          <p:cNvSpPr/>
          <p:nvPr/>
        </p:nvSpPr>
        <p:spPr>
          <a:xfrm>
            <a:off x="4402080" y="61912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9" name="Line 1601"/>
          <p:cNvSpPr/>
          <p:nvPr/>
        </p:nvSpPr>
        <p:spPr>
          <a:xfrm>
            <a:off x="4402080" y="61912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Line 1602"/>
          <p:cNvSpPr/>
          <p:nvPr/>
        </p:nvSpPr>
        <p:spPr>
          <a:xfrm>
            <a:off x="4389480" y="6124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Line 1603"/>
          <p:cNvSpPr/>
          <p:nvPr/>
        </p:nvSpPr>
        <p:spPr>
          <a:xfrm>
            <a:off x="4389480" y="6124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Line 1612"/>
          <p:cNvSpPr/>
          <p:nvPr/>
        </p:nvSpPr>
        <p:spPr>
          <a:xfrm>
            <a:off x="3259080" y="6186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Line 1613"/>
          <p:cNvSpPr/>
          <p:nvPr/>
        </p:nvSpPr>
        <p:spPr>
          <a:xfrm>
            <a:off x="3259080" y="6186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Line 1616"/>
          <p:cNvSpPr/>
          <p:nvPr/>
        </p:nvSpPr>
        <p:spPr>
          <a:xfrm>
            <a:off x="3046320" y="6348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5" name="Line 1617"/>
          <p:cNvSpPr/>
          <p:nvPr/>
        </p:nvSpPr>
        <p:spPr>
          <a:xfrm>
            <a:off x="3046320" y="6348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Line 1620"/>
          <p:cNvSpPr/>
          <p:nvPr/>
        </p:nvSpPr>
        <p:spPr>
          <a:xfrm>
            <a:off x="3033720" y="6262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Line 1621"/>
          <p:cNvSpPr/>
          <p:nvPr/>
        </p:nvSpPr>
        <p:spPr>
          <a:xfrm>
            <a:off x="3033720" y="6262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Line 1623"/>
          <p:cNvSpPr/>
          <p:nvPr/>
        </p:nvSpPr>
        <p:spPr>
          <a:xfrm>
            <a:off x="3024360" y="6195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Line 1624"/>
          <p:cNvSpPr/>
          <p:nvPr/>
        </p:nvSpPr>
        <p:spPr>
          <a:xfrm>
            <a:off x="3024360" y="6195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Line 1626"/>
          <p:cNvSpPr/>
          <p:nvPr/>
        </p:nvSpPr>
        <p:spPr>
          <a:xfrm>
            <a:off x="3043080" y="61959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1" name="Line 1627"/>
          <p:cNvSpPr/>
          <p:nvPr/>
        </p:nvSpPr>
        <p:spPr>
          <a:xfrm>
            <a:off x="3043080" y="61959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2" name="Line 1629"/>
          <p:cNvSpPr/>
          <p:nvPr/>
        </p:nvSpPr>
        <p:spPr>
          <a:xfrm>
            <a:off x="3033720" y="6202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3" name="Line 1630"/>
          <p:cNvSpPr/>
          <p:nvPr/>
        </p:nvSpPr>
        <p:spPr>
          <a:xfrm>
            <a:off x="3033720" y="6202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Text Box 1702"/>
          <p:cNvSpPr/>
          <p:nvPr/>
        </p:nvSpPr>
        <p:spPr>
          <a:xfrm>
            <a:off x="1573200" y="6004080"/>
            <a:ext cx="14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Brand Identity Characte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Text Box 1703"/>
          <p:cNvSpPr/>
          <p:nvPr/>
        </p:nvSpPr>
        <p:spPr>
          <a:xfrm>
            <a:off x="3606840" y="5762520"/>
            <a:ext cx="108108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Text Box 1704"/>
          <p:cNvSpPr/>
          <p:nvPr/>
        </p:nvSpPr>
        <p:spPr>
          <a:xfrm>
            <a:off x="3373560" y="6004080"/>
            <a:ext cx="13316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Web site Desig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Multimedia Desig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Character Applicati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7" name="Text Box 1705"/>
          <p:cNvSpPr/>
          <p:nvPr/>
        </p:nvSpPr>
        <p:spPr>
          <a:xfrm>
            <a:off x="5384880" y="5762520"/>
            <a:ext cx="101592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PARTNER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8" name="Text Box 1706"/>
          <p:cNvSpPr/>
          <p:nvPr/>
        </p:nvSpPr>
        <p:spPr>
          <a:xfrm>
            <a:off x="5145120" y="6004080"/>
            <a:ext cx="19810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Fashion illustrati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Visual characte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Web element characte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Line 1708"/>
          <p:cNvSpPr/>
          <p:nvPr/>
        </p:nvSpPr>
        <p:spPr>
          <a:xfrm>
            <a:off x="3005280" y="5499000"/>
            <a:ext cx="1440" cy="89388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Line 1709"/>
          <p:cNvSpPr/>
          <p:nvPr/>
        </p:nvSpPr>
        <p:spPr>
          <a:xfrm>
            <a:off x="4910040" y="5373720"/>
            <a:ext cx="1800" cy="101916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Line 1710"/>
          <p:cNvSpPr/>
          <p:nvPr/>
        </p:nvSpPr>
        <p:spPr>
          <a:xfrm>
            <a:off x="6472080" y="5499000"/>
            <a:ext cx="1800" cy="89388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Text Box 1711"/>
          <p:cNvSpPr/>
          <p:nvPr/>
        </p:nvSpPr>
        <p:spPr>
          <a:xfrm>
            <a:off x="6769080" y="5762520"/>
            <a:ext cx="16905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WOLRD WID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Text Box 1712"/>
          <p:cNvSpPr/>
          <p:nvPr/>
        </p:nvSpPr>
        <p:spPr>
          <a:xfrm>
            <a:off x="1768320" y="5762520"/>
            <a:ext cx="8589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84" name="Group 51"/>
          <p:cNvGrpSpPr/>
          <p:nvPr/>
        </p:nvGrpSpPr>
        <p:grpSpPr>
          <a:xfrm>
            <a:off x="2173320" y="5497560"/>
            <a:ext cx="5181120" cy="328680"/>
            <a:chOff x="2173320" y="5497560"/>
            <a:chExt cx="5181120" cy="328680"/>
          </a:xfrm>
        </p:grpSpPr>
        <p:sp>
          <p:nvSpPr>
            <p:cNvPr id="585" name="Line 1714"/>
            <p:cNvSpPr/>
            <p:nvPr/>
          </p:nvSpPr>
          <p:spPr>
            <a:xfrm>
              <a:off x="2173320" y="5497560"/>
              <a:ext cx="1080" cy="32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6" name="Line 1715"/>
            <p:cNvSpPr/>
            <p:nvPr/>
          </p:nvSpPr>
          <p:spPr>
            <a:xfrm>
              <a:off x="4077720" y="5497560"/>
              <a:ext cx="1080" cy="32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7" name="Line 1716"/>
            <p:cNvSpPr/>
            <p:nvPr/>
          </p:nvSpPr>
          <p:spPr>
            <a:xfrm>
              <a:off x="5829480" y="5497560"/>
              <a:ext cx="1080" cy="32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8" name="Line 1717"/>
            <p:cNvSpPr/>
            <p:nvPr/>
          </p:nvSpPr>
          <p:spPr>
            <a:xfrm>
              <a:off x="7353000" y="5497560"/>
              <a:ext cx="1440" cy="32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89" name="Line 1718"/>
          <p:cNvSpPr/>
          <p:nvPr/>
        </p:nvSpPr>
        <p:spPr>
          <a:xfrm>
            <a:off x="2173320" y="5497560"/>
            <a:ext cx="518148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0" name="Text Box 1720"/>
          <p:cNvSpPr/>
          <p:nvPr/>
        </p:nvSpPr>
        <p:spPr>
          <a:xfrm>
            <a:off x="3949560" y="5113440"/>
            <a:ext cx="1944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C. I. D  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  <a:ea typeface="Gulim"/>
              </a:rPr>
              <a:t>d i v i s i o n   p r o c e s s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1" name="Text Box 1735"/>
          <p:cNvSpPr/>
          <p:nvPr/>
        </p:nvSpPr>
        <p:spPr>
          <a:xfrm>
            <a:off x="6443640" y="2062080"/>
            <a:ext cx="22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+ C o m p a n y _ T I T L E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2" name="Oval 1742"/>
          <p:cNvSpPr/>
          <p:nvPr/>
        </p:nvSpPr>
        <p:spPr>
          <a:xfrm>
            <a:off x="6659640" y="1844640"/>
            <a:ext cx="9036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3" name="AutoShape 1739"/>
          <p:cNvSpPr/>
          <p:nvPr/>
        </p:nvSpPr>
        <p:spPr>
          <a:xfrm>
            <a:off x="6675480" y="1508040"/>
            <a:ext cx="60120" cy="399960"/>
          </a:xfrm>
          <a:custGeom>
            <a:avLst/>
            <a:gdLst>
              <a:gd name="textAreaLeft" fmla="*/ 8640 w 60120"/>
              <a:gd name="textAreaRight" fmla="*/ 51480 w 6012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971">
                <a:moveTo>
                  <a:pt x="10800" y="0"/>
                </a:moveTo>
                <a:arcTo wR="10800" hR="10800" stAng="16200000" swAng="-5400000"/>
                <a:lnTo>
                  <a:pt x="0" y="132171"/>
                </a:lnTo>
                <a:arcTo wR="10800" hR="10800" stAng="10800000" swAng="-5400000"/>
                <a:lnTo>
                  <a:pt x="10800" y="14297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4" name="Oval 1746"/>
          <p:cNvSpPr/>
          <p:nvPr/>
        </p:nvSpPr>
        <p:spPr>
          <a:xfrm>
            <a:off x="6875640" y="1844640"/>
            <a:ext cx="9036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5" name="AutoShape 1748"/>
          <p:cNvSpPr/>
          <p:nvPr/>
        </p:nvSpPr>
        <p:spPr>
          <a:xfrm>
            <a:off x="6891480" y="1508040"/>
            <a:ext cx="60120" cy="399960"/>
          </a:xfrm>
          <a:custGeom>
            <a:avLst/>
            <a:gdLst>
              <a:gd name="textAreaLeft" fmla="*/ 8640 w 60120"/>
              <a:gd name="textAreaRight" fmla="*/ 51480 w 6012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971">
                <a:moveTo>
                  <a:pt x="10800" y="0"/>
                </a:moveTo>
                <a:arcTo wR="10800" hR="10800" stAng="16200000" swAng="-5400000"/>
                <a:lnTo>
                  <a:pt x="0" y="132171"/>
                </a:lnTo>
                <a:arcTo wR="10800" hR="10800" stAng="10800000" swAng="-5400000"/>
                <a:lnTo>
                  <a:pt x="10800" y="14297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Oval 1750"/>
          <p:cNvSpPr/>
          <p:nvPr/>
        </p:nvSpPr>
        <p:spPr>
          <a:xfrm>
            <a:off x="7091280" y="1844640"/>
            <a:ext cx="9072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7" name="AutoShape 1752"/>
          <p:cNvSpPr/>
          <p:nvPr/>
        </p:nvSpPr>
        <p:spPr>
          <a:xfrm>
            <a:off x="7107120" y="1508040"/>
            <a:ext cx="60480" cy="399960"/>
          </a:xfrm>
          <a:custGeom>
            <a:avLst/>
            <a:gdLst>
              <a:gd name="textAreaLeft" fmla="*/ 8640 w 60480"/>
              <a:gd name="textAreaRight" fmla="*/ 51840 w 6048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125">
                <a:moveTo>
                  <a:pt x="10800" y="0"/>
                </a:moveTo>
                <a:arcTo wR="10800" hR="10800" stAng="16200000" swAng="-5400000"/>
                <a:lnTo>
                  <a:pt x="0" y="131325"/>
                </a:lnTo>
                <a:arcTo wR="10800" hR="10800" stAng="10800000" swAng="-5400000"/>
                <a:lnTo>
                  <a:pt x="10800" y="1421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8" name="Oval 1754"/>
          <p:cNvSpPr/>
          <p:nvPr/>
        </p:nvSpPr>
        <p:spPr>
          <a:xfrm>
            <a:off x="7307280" y="1844640"/>
            <a:ext cx="9036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9" name="AutoShape 1756"/>
          <p:cNvSpPr/>
          <p:nvPr/>
        </p:nvSpPr>
        <p:spPr>
          <a:xfrm>
            <a:off x="7323120" y="1508040"/>
            <a:ext cx="60480" cy="399960"/>
          </a:xfrm>
          <a:custGeom>
            <a:avLst/>
            <a:gdLst>
              <a:gd name="textAreaLeft" fmla="*/ 8640 w 60480"/>
              <a:gd name="textAreaRight" fmla="*/ 51840 w 6048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125">
                <a:moveTo>
                  <a:pt x="10800" y="0"/>
                </a:moveTo>
                <a:arcTo wR="10800" hR="10800" stAng="16200000" swAng="-5400000"/>
                <a:lnTo>
                  <a:pt x="0" y="131325"/>
                </a:lnTo>
                <a:arcTo wR="10800" hR="10800" stAng="10800000" swAng="-5400000"/>
                <a:lnTo>
                  <a:pt x="10800" y="1421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0" name="Oval 1758"/>
          <p:cNvSpPr/>
          <p:nvPr/>
        </p:nvSpPr>
        <p:spPr>
          <a:xfrm>
            <a:off x="7523280" y="1844640"/>
            <a:ext cx="9036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1" name="AutoShape 1760"/>
          <p:cNvSpPr/>
          <p:nvPr/>
        </p:nvSpPr>
        <p:spPr>
          <a:xfrm>
            <a:off x="7539120" y="1508040"/>
            <a:ext cx="60120" cy="399960"/>
          </a:xfrm>
          <a:custGeom>
            <a:avLst/>
            <a:gdLst>
              <a:gd name="textAreaLeft" fmla="*/ 8640 w 60120"/>
              <a:gd name="textAreaRight" fmla="*/ 51480 w 6012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971">
                <a:moveTo>
                  <a:pt x="10800" y="0"/>
                </a:moveTo>
                <a:arcTo wR="10800" hR="10800" stAng="16200000" swAng="-5400000"/>
                <a:lnTo>
                  <a:pt x="0" y="132171"/>
                </a:lnTo>
                <a:arcTo wR="10800" hR="10800" stAng="10800000" swAng="-5400000"/>
                <a:lnTo>
                  <a:pt x="10800" y="14297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2" name="Oval 1762"/>
          <p:cNvSpPr/>
          <p:nvPr/>
        </p:nvSpPr>
        <p:spPr>
          <a:xfrm>
            <a:off x="7738920" y="1844640"/>
            <a:ext cx="9072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AutoShape 1764"/>
          <p:cNvSpPr/>
          <p:nvPr/>
        </p:nvSpPr>
        <p:spPr>
          <a:xfrm>
            <a:off x="7754760" y="1508040"/>
            <a:ext cx="60480" cy="399960"/>
          </a:xfrm>
          <a:custGeom>
            <a:avLst/>
            <a:gdLst>
              <a:gd name="textAreaLeft" fmla="*/ 8640 w 60480"/>
              <a:gd name="textAreaRight" fmla="*/ 51840 w 6048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125">
                <a:moveTo>
                  <a:pt x="10800" y="0"/>
                </a:moveTo>
                <a:arcTo wR="10800" hR="10800" stAng="16200000" swAng="-5400000"/>
                <a:lnTo>
                  <a:pt x="0" y="131325"/>
                </a:lnTo>
                <a:arcTo wR="10800" hR="10800" stAng="10800000" swAng="-5400000"/>
                <a:lnTo>
                  <a:pt x="10800" y="1421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Oval 1766"/>
          <p:cNvSpPr/>
          <p:nvPr/>
        </p:nvSpPr>
        <p:spPr>
          <a:xfrm>
            <a:off x="7954920" y="1844640"/>
            <a:ext cx="9036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AutoShape 1768"/>
          <p:cNvSpPr/>
          <p:nvPr/>
        </p:nvSpPr>
        <p:spPr>
          <a:xfrm>
            <a:off x="7970760" y="1508040"/>
            <a:ext cx="60480" cy="399960"/>
          </a:xfrm>
          <a:custGeom>
            <a:avLst/>
            <a:gdLst>
              <a:gd name="textAreaLeft" fmla="*/ 8640 w 60480"/>
              <a:gd name="textAreaRight" fmla="*/ 51840 w 6048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125">
                <a:moveTo>
                  <a:pt x="10800" y="0"/>
                </a:moveTo>
                <a:arcTo wR="10800" hR="10800" stAng="16200000" swAng="-5400000"/>
                <a:lnTo>
                  <a:pt x="0" y="131325"/>
                </a:lnTo>
                <a:arcTo wR="10800" hR="10800" stAng="10800000" swAng="-5400000"/>
                <a:lnTo>
                  <a:pt x="10800" y="1421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Line 1778"/>
          <p:cNvSpPr/>
          <p:nvPr/>
        </p:nvSpPr>
        <p:spPr>
          <a:xfrm>
            <a:off x="6540480" y="2276640"/>
            <a:ext cx="165564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7" name="Text Box 1779"/>
          <p:cNvSpPr/>
          <p:nvPr/>
        </p:nvSpPr>
        <p:spPr>
          <a:xfrm>
            <a:off x="6516720" y="227664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Mixing Business With Pleasure sponsored by Set aside time for fun and relaxation 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08" name="Group 75"/>
          <p:cNvGrpSpPr/>
          <p:nvPr/>
        </p:nvGrpSpPr>
        <p:grpSpPr>
          <a:xfrm>
            <a:off x="6521400" y="3573360"/>
            <a:ext cx="1728720" cy="459000"/>
            <a:chOff x="6521400" y="3573360"/>
            <a:chExt cx="1728720" cy="459000"/>
          </a:xfrm>
        </p:grpSpPr>
        <p:sp>
          <p:nvSpPr>
            <p:cNvPr id="609" name="Text Box 1780"/>
            <p:cNvSpPr/>
            <p:nvPr/>
          </p:nvSpPr>
          <p:spPr>
            <a:xfrm>
              <a:off x="6521400" y="357336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BUSINESS is new low-cost and easy-to-use Web-site design tool will help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0" name="Line 1781"/>
            <p:cNvSpPr/>
            <p:nvPr/>
          </p:nvSpPr>
          <p:spPr>
            <a:xfrm>
              <a:off x="6540480" y="3573360"/>
              <a:ext cx="165564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11" name="Group 78"/>
          <p:cNvGrpSpPr/>
          <p:nvPr/>
        </p:nvGrpSpPr>
        <p:grpSpPr>
          <a:xfrm>
            <a:off x="6521400" y="2736720"/>
            <a:ext cx="1728720" cy="824040"/>
            <a:chOff x="6521400" y="2736720"/>
            <a:chExt cx="1728720" cy="824040"/>
          </a:xfrm>
        </p:grpSpPr>
        <p:sp>
          <p:nvSpPr>
            <p:cNvPr id="612" name="Text Box 1784"/>
            <p:cNvSpPr/>
            <p:nvPr/>
          </p:nvSpPr>
          <p:spPr>
            <a:xfrm>
              <a:off x="6521400" y="2736720"/>
              <a:ext cx="1728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RestaurantRow.com strives to bring you the best and most current information about a variety of topics to enhance your dining experience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Over time, we will be adding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Line 1785"/>
            <p:cNvSpPr/>
            <p:nvPr/>
          </p:nvSpPr>
          <p:spPr>
            <a:xfrm>
              <a:off x="6540480" y="2736720"/>
              <a:ext cx="165564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14" name="Text Box 1790"/>
          <p:cNvSpPr/>
          <p:nvPr/>
        </p:nvSpPr>
        <p:spPr>
          <a:xfrm>
            <a:off x="6618240" y="5992920"/>
            <a:ext cx="121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  <a:ea typeface="Gulim"/>
              </a:rPr>
              <a:t>BUSINESS is new low-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  <a:ea typeface="Gulim"/>
              </a:rPr>
              <a:t>cost and easy-to-us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  <a:ea typeface="Gulim"/>
              </a:rPr>
              <a:t>Web-site design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61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7:00Z</dcterms:created>
  <dc:creator>VitaminD</dc:creator>
  <dc:description>更多精彩_x005F_x000d_
让PPT飞起来_x005F_x000d_
http://pptshare.qzone.qq.com</dc:description>
  <dc:language>en-US</dc:language>
  <cp:lastModifiedBy>a</cp:lastModifiedBy>
  <dcterms:modified xsi:type="dcterms:W3CDTF">2014-10-28T01:38:43Z</dcterms:modified>
  <cp:revision>112</cp:revision>
  <dc:subject/>
  <dc:title>PowerDiagram数据分析类PPT图表50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