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65F-3E5D-4A02-B16B-788E645B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7EF-4E81-4AD6-B588-0A09CFB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E5E-79C1-4526-AF7B-31CA1E33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5B5-2106-4111-A149-157C4F0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72D-01B4-426A-8DF2-A7CFBAA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EE4-6A8C-4760-993B-E7AB4D5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50D-D62D-425E-8B7F-3EFF8C4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074-EF22-433B-9A9D-27640FD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34E-17B3-4921-915D-41EF917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0C3-3018-4162-B14E-B5D21A5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3D9-3E4A-4D8C-8C30-DC7DD0CF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307-5B9A-425D-8E11-6F35B7DC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709-BA91-4C07-8BC2-69EFB4E1D6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770"/>
          <p:cNvSpPr/>
          <p:nvPr/>
        </p:nvSpPr>
        <p:spPr>
          <a:xfrm>
            <a:off x="3049560" y="1293840"/>
            <a:ext cx="2952720" cy="2952720"/>
          </a:xfrm>
          <a:prstGeom prst="pie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63600" y="2959200"/>
            <a:ext cx="4888080" cy="1892160"/>
            <a:chOff x="2163600" y="2959200"/>
            <a:chExt cx="4888080" cy="1892160"/>
          </a:xfrm>
        </p:grpSpPr>
        <p:grpSp>
          <p:nvGrpSpPr>
            <p:cNvPr id="94" name=""/>
            <p:cNvGrpSpPr/>
            <p:nvPr/>
          </p:nvGrpSpPr>
          <p:grpSpPr>
            <a:xfrm>
              <a:off x="2163600" y="2959200"/>
              <a:ext cx="1471680" cy="1440"/>
              <a:chOff x="2163600" y="2959200"/>
              <a:chExt cx="1471680" cy="1440"/>
            </a:xfrm>
          </p:grpSpPr>
          <p:sp>
            <p:nvSpPr>
              <p:cNvPr id="95" name="Line 2703"/>
              <p:cNvSpPr/>
              <p:nvPr/>
            </p:nvSpPr>
            <p:spPr>
              <a:xfrm>
                <a:off x="2163600" y="2959200"/>
                <a:ext cx="147168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2163600" y="2959200"/>
                <a:ext cx="1471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639520" y="3335040"/>
              <a:ext cx="1136880" cy="1257480"/>
              <a:chOff x="2639520" y="3335040"/>
              <a:chExt cx="1136880" cy="1257480"/>
            </a:xfrm>
          </p:grpSpPr>
          <p:sp>
            <p:nvSpPr>
              <p:cNvPr id="98" name="Line 2707"/>
              <p:cNvSpPr/>
              <p:nvPr/>
            </p:nvSpPr>
            <p:spPr>
              <a:xfrm flipV="1">
                <a:off x="2639880" y="3335040"/>
                <a:ext cx="1136520" cy="125748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 rot="10800000">
                <a:off x="2639520" y="3335040"/>
                <a:ext cx="1136520" cy="125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609440" y="3789360"/>
              <a:ext cx="2160" cy="1062000"/>
              <a:chOff x="4609440" y="3789360"/>
              <a:chExt cx="2160" cy="1062000"/>
            </a:xfrm>
          </p:grpSpPr>
          <p:sp>
            <p:nvSpPr>
              <p:cNvPr id="101" name="Line 2708"/>
              <p:cNvSpPr/>
              <p:nvPr/>
            </p:nvSpPr>
            <p:spPr>
              <a:xfrm flipV="1">
                <a:off x="4609800" y="3789360"/>
                <a:ext cx="1800" cy="10620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 rot="10800000">
                <a:off x="4609440" y="3789360"/>
                <a:ext cx="1800" cy="106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045040" y="3339720"/>
              <a:ext cx="1528560" cy="1181160"/>
              <a:chOff x="5045040" y="3339720"/>
              <a:chExt cx="1528560" cy="1181160"/>
            </a:xfrm>
          </p:grpSpPr>
          <p:sp>
            <p:nvSpPr>
              <p:cNvPr id="104" name="Line 2709"/>
              <p:cNvSpPr/>
              <p:nvPr/>
            </p:nvSpPr>
            <p:spPr>
              <a:xfrm flipH="1" flipV="1">
                <a:off x="5045040" y="3339720"/>
                <a:ext cx="1528560" cy="118116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 rot="10800000">
                <a:off x="5045040" y="3339720"/>
                <a:ext cx="1528560" cy="118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580000" y="2959200"/>
              <a:ext cx="1471680" cy="1440"/>
              <a:chOff x="5580000" y="2959200"/>
              <a:chExt cx="1471680" cy="1440"/>
            </a:xfrm>
          </p:grpSpPr>
          <p:sp>
            <p:nvSpPr>
              <p:cNvPr id="107" name="Line 2753"/>
              <p:cNvSpPr/>
              <p:nvPr/>
            </p:nvSpPr>
            <p:spPr>
              <a:xfrm>
                <a:off x="5580000" y="2959200"/>
                <a:ext cx="1471680" cy="14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580000" y="2959200"/>
                <a:ext cx="1471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09" name="Object 2752" descr=""/>
          <p:cNvPicPr/>
          <p:nvPr/>
        </p:nvPicPr>
        <p:blipFill>
          <a:blip r:embed="rId1"/>
          <a:stretch/>
        </p:blipFill>
        <p:spPr>
          <a:xfrm>
            <a:off x="1844640" y="981000"/>
            <a:ext cx="5400720" cy="360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258920" y="115560"/>
            <a:ext cx="6191280" cy="5713560"/>
            <a:chOff x="1258920" y="115560"/>
            <a:chExt cx="6191280" cy="5713560"/>
          </a:xfrm>
        </p:grpSpPr>
        <p:sp>
          <p:nvSpPr>
            <p:cNvPr id="111" name="AutoShape 2741"/>
            <p:cNvSpPr/>
            <p:nvPr/>
          </p:nvSpPr>
          <p:spPr>
            <a:xfrm rot="10800000">
              <a:off x="1258920" y="115200"/>
              <a:ext cx="6191280" cy="57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332000" y="3861000"/>
              <a:ext cx="5830920" cy="1944000"/>
              <a:chOff x="1332000" y="3861000"/>
              <a:chExt cx="5830920" cy="1944000"/>
            </a:xfrm>
          </p:grpSpPr>
          <p:sp>
            <p:nvSpPr>
              <p:cNvPr id="113" name="Rectangle 2743"/>
              <p:cNvSpPr/>
              <p:nvPr/>
            </p:nvSpPr>
            <p:spPr>
              <a:xfrm>
                <a:off x="6804000" y="4221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" name="Rectangle 2744"/>
              <p:cNvSpPr/>
              <p:nvPr/>
            </p:nvSpPr>
            <p:spPr>
              <a:xfrm>
                <a:off x="5219640" y="5445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Rectangle 2745"/>
              <p:cNvSpPr/>
              <p:nvPr/>
            </p:nvSpPr>
            <p:spPr>
              <a:xfrm>
                <a:off x="2987640" y="537336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Rectangle 2746"/>
              <p:cNvSpPr/>
              <p:nvPr/>
            </p:nvSpPr>
            <p:spPr>
              <a:xfrm>
                <a:off x="1332000" y="3861000"/>
                <a:ext cx="358920" cy="36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18" name="Line 1557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21" name="Line 1558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24" name="Line 1561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27" name="Line 1562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30" name="Line 1574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33" name="Line 1575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36" name="Line 1598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39" name="Line 1599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42" name="Line 1602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45" name="Line 1603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508200" y="6043680"/>
            <a:ext cx="236520" cy="163440"/>
            <a:chOff x="3508200" y="6043680"/>
            <a:chExt cx="236520" cy="163440"/>
          </a:xfrm>
        </p:grpSpPr>
        <p:grpSp>
          <p:nvGrpSpPr>
            <p:cNvPr id="148" name=""/>
            <p:cNvGrpSpPr/>
            <p:nvPr/>
          </p:nvGrpSpPr>
          <p:grpSpPr>
            <a:xfrm>
              <a:off x="3743280" y="6043680"/>
              <a:ext cx="1440" cy="1440"/>
              <a:chOff x="3743280" y="6043680"/>
              <a:chExt cx="1440" cy="1440"/>
            </a:xfrm>
          </p:grpSpPr>
          <p:sp>
            <p:nvSpPr>
              <p:cNvPr id="149" name="Line 1612"/>
              <p:cNvSpPr/>
              <p:nvPr/>
            </p:nvSpPr>
            <p:spPr>
              <a:xfrm>
                <a:off x="3743280" y="6043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3743280" y="6043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743280" y="6043680"/>
              <a:ext cx="1440" cy="1440"/>
              <a:chOff x="3743280" y="6043680"/>
              <a:chExt cx="1440" cy="1440"/>
            </a:xfrm>
          </p:grpSpPr>
          <p:sp>
            <p:nvSpPr>
              <p:cNvPr id="152" name="Line 1613"/>
              <p:cNvSpPr/>
              <p:nvPr/>
            </p:nvSpPr>
            <p:spPr>
              <a:xfrm>
                <a:off x="3743280" y="6043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3743280" y="6043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530520" y="6205680"/>
              <a:ext cx="1440" cy="1440"/>
              <a:chOff x="3530520" y="6205680"/>
              <a:chExt cx="1440" cy="1440"/>
            </a:xfrm>
          </p:grpSpPr>
          <p:sp>
            <p:nvSpPr>
              <p:cNvPr id="155" name="Line 1616"/>
              <p:cNvSpPr/>
              <p:nvPr/>
            </p:nvSpPr>
            <p:spPr>
              <a:xfrm>
                <a:off x="353052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353052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530520" y="6205680"/>
              <a:ext cx="1440" cy="1440"/>
              <a:chOff x="3530520" y="6205680"/>
              <a:chExt cx="1440" cy="1440"/>
            </a:xfrm>
          </p:grpSpPr>
          <p:sp>
            <p:nvSpPr>
              <p:cNvPr id="158" name="Line 1617"/>
              <p:cNvSpPr/>
              <p:nvPr/>
            </p:nvSpPr>
            <p:spPr>
              <a:xfrm>
                <a:off x="353052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353052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17560" y="6120000"/>
              <a:ext cx="1800" cy="1440"/>
              <a:chOff x="3517560" y="6120000"/>
              <a:chExt cx="1800" cy="1440"/>
            </a:xfrm>
          </p:grpSpPr>
          <p:sp>
            <p:nvSpPr>
              <p:cNvPr id="161" name="Line 1620"/>
              <p:cNvSpPr/>
              <p:nvPr/>
            </p:nvSpPr>
            <p:spPr>
              <a:xfrm>
                <a:off x="3517560" y="612000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517560" y="61200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517560" y="6120000"/>
              <a:ext cx="1800" cy="1440"/>
              <a:chOff x="3517560" y="6120000"/>
              <a:chExt cx="1800" cy="1440"/>
            </a:xfrm>
          </p:grpSpPr>
          <p:sp>
            <p:nvSpPr>
              <p:cNvPr id="164" name="Line 1621"/>
              <p:cNvSpPr/>
              <p:nvPr/>
            </p:nvSpPr>
            <p:spPr>
              <a:xfrm>
                <a:off x="3517560" y="612000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517560" y="61200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508200" y="6053040"/>
              <a:ext cx="1440" cy="1800"/>
              <a:chOff x="3508200" y="6053040"/>
              <a:chExt cx="1440" cy="1800"/>
            </a:xfrm>
          </p:grpSpPr>
          <p:sp>
            <p:nvSpPr>
              <p:cNvPr id="167" name="Line 1623"/>
              <p:cNvSpPr/>
              <p:nvPr/>
            </p:nvSpPr>
            <p:spPr>
              <a:xfrm>
                <a:off x="350820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350820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508200" y="6053040"/>
              <a:ext cx="1440" cy="1800"/>
              <a:chOff x="3508200" y="6053040"/>
              <a:chExt cx="1440" cy="1800"/>
            </a:xfrm>
          </p:grpSpPr>
          <p:sp>
            <p:nvSpPr>
              <p:cNvPr id="170" name="Line 1624"/>
              <p:cNvSpPr/>
              <p:nvPr/>
            </p:nvSpPr>
            <p:spPr>
              <a:xfrm>
                <a:off x="350820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350820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27280" y="6053040"/>
              <a:ext cx="1440" cy="1800"/>
              <a:chOff x="3527280" y="6053040"/>
              <a:chExt cx="1440" cy="1800"/>
            </a:xfrm>
          </p:grpSpPr>
          <p:sp>
            <p:nvSpPr>
              <p:cNvPr id="173" name="Line 1626"/>
              <p:cNvSpPr/>
              <p:nvPr/>
            </p:nvSpPr>
            <p:spPr>
              <a:xfrm>
                <a:off x="352728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52728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527280" y="6053040"/>
              <a:ext cx="1440" cy="1800"/>
              <a:chOff x="3527280" y="6053040"/>
              <a:chExt cx="1440" cy="1800"/>
            </a:xfrm>
          </p:grpSpPr>
          <p:sp>
            <p:nvSpPr>
              <p:cNvPr id="176" name="Line 1627"/>
              <p:cNvSpPr/>
              <p:nvPr/>
            </p:nvSpPr>
            <p:spPr>
              <a:xfrm>
                <a:off x="3527280" y="60530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527280" y="60530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517560" y="6059520"/>
              <a:ext cx="1800" cy="1800"/>
              <a:chOff x="3517560" y="6059520"/>
              <a:chExt cx="1800" cy="1800"/>
            </a:xfrm>
          </p:grpSpPr>
          <p:sp>
            <p:nvSpPr>
              <p:cNvPr id="179" name="Line 1629"/>
              <p:cNvSpPr/>
              <p:nvPr/>
            </p:nvSpPr>
            <p:spPr>
              <a:xfrm>
                <a:off x="3517560" y="605952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3517560" y="605952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17560" y="6059520"/>
              <a:ext cx="1800" cy="1800"/>
              <a:chOff x="3517560" y="6059520"/>
              <a:chExt cx="1800" cy="1800"/>
            </a:xfrm>
          </p:grpSpPr>
          <p:sp>
            <p:nvSpPr>
              <p:cNvPr id="182" name="Line 1630"/>
              <p:cNvSpPr/>
              <p:nvPr/>
            </p:nvSpPr>
            <p:spPr>
              <a:xfrm>
                <a:off x="3517560" y="6059520"/>
                <a:ext cx="18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3517560" y="6059520"/>
                <a:ext cx="1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84" name="Oval 2705"/>
          <p:cNvSpPr/>
          <p:nvPr/>
        </p:nvSpPr>
        <p:spPr>
          <a:xfrm>
            <a:off x="6702480" y="2401920"/>
            <a:ext cx="1204920" cy="12016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Oval 2706"/>
          <p:cNvSpPr/>
          <p:nvPr/>
        </p:nvSpPr>
        <p:spPr>
          <a:xfrm>
            <a:off x="6653160" y="2349360"/>
            <a:ext cx="1201680" cy="12020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Oval 2711"/>
          <p:cNvSpPr/>
          <p:nvPr/>
        </p:nvSpPr>
        <p:spPr>
          <a:xfrm>
            <a:off x="784080" y="2193840"/>
            <a:ext cx="1762200" cy="1760760"/>
          </a:xfrm>
          <a:prstGeom prst="ellipse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Oval 2712"/>
          <p:cNvSpPr/>
          <p:nvPr/>
        </p:nvSpPr>
        <p:spPr>
          <a:xfrm>
            <a:off x="708120" y="2117880"/>
            <a:ext cx="1762200" cy="176040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Oval 2725"/>
          <p:cNvSpPr/>
          <p:nvPr/>
        </p:nvSpPr>
        <p:spPr>
          <a:xfrm>
            <a:off x="6037200" y="4387680"/>
            <a:ext cx="1343160" cy="134172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Oval 2726"/>
          <p:cNvSpPr/>
          <p:nvPr/>
        </p:nvSpPr>
        <p:spPr>
          <a:xfrm>
            <a:off x="5979960" y="4330800"/>
            <a:ext cx="1343160" cy="134136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Oval 2728"/>
          <p:cNvSpPr/>
          <p:nvPr/>
        </p:nvSpPr>
        <p:spPr>
          <a:xfrm>
            <a:off x="1598760" y="4335480"/>
            <a:ext cx="1650960" cy="164628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Oval 2729"/>
          <p:cNvSpPr/>
          <p:nvPr/>
        </p:nvSpPr>
        <p:spPr>
          <a:xfrm>
            <a:off x="1530360" y="4264200"/>
            <a:ext cx="1647720" cy="164772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Oval 2731"/>
          <p:cNvSpPr/>
          <p:nvPr/>
        </p:nvSpPr>
        <p:spPr>
          <a:xfrm>
            <a:off x="3811680" y="4857840"/>
            <a:ext cx="1552320" cy="15494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Oval 2732"/>
          <p:cNvSpPr/>
          <p:nvPr/>
        </p:nvSpPr>
        <p:spPr>
          <a:xfrm>
            <a:off x="3747960" y="4792680"/>
            <a:ext cx="1549440" cy="154764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Freeform 2738"/>
          <p:cNvSpPr/>
          <p:nvPr/>
        </p:nvSpPr>
        <p:spPr>
          <a:xfrm>
            <a:off x="1763640" y="1628640"/>
            <a:ext cx="6648480" cy="2149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AutoShape 2742"/>
          <p:cNvSpPr/>
          <p:nvPr/>
        </p:nvSpPr>
        <p:spPr>
          <a:xfrm rot="1754400">
            <a:off x="6916320" y="417636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AutoShape 2757"/>
          <p:cNvSpPr/>
          <p:nvPr/>
        </p:nvSpPr>
        <p:spPr>
          <a:xfrm rot="4375200">
            <a:off x="5354280" y="545940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AutoShape 2758"/>
          <p:cNvSpPr/>
          <p:nvPr/>
        </p:nvSpPr>
        <p:spPr>
          <a:xfrm rot="6443400">
            <a:off x="3131640" y="5473440"/>
            <a:ext cx="249120" cy="24948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AutoShape 2759"/>
          <p:cNvSpPr/>
          <p:nvPr/>
        </p:nvSpPr>
        <p:spPr>
          <a:xfrm rot="9871800">
            <a:off x="1457280" y="3985920"/>
            <a:ext cx="249120" cy="249120"/>
          </a:xfrm>
          <a:prstGeom prst="flowChartMerg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Rectangle 2760"/>
          <p:cNvSpPr/>
          <p:nvPr/>
        </p:nvSpPr>
        <p:spPr>
          <a:xfrm>
            <a:off x="6670800" y="24883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Internation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Rectangle 2761"/>
          <p:cNvSpPr/>
          <p:nvPr/>
        </p:nvSpPr>
        <p:spPr>
          <a:xfrm>
            <a:off x="6078960" y="445536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Business tip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Rectangle 2762"/>
          <p:cNvSpPr/>
          <p:nvPr/>
        </p:nvSpPr>
        <p:spPr>
          <a:xfrm>
            <a:off x="3956760" y="490320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Reservation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Rectangle 2763"/>
          <p:cNvSpPr/>
          <p:nvPr/>
        </p:nvSpPr>
        <p:spPr>
          <a:xfrm>
            <a:off x="1734120" y="4403160"/>
            <a:ext cx="122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News &amp; Trend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Rectangle 2764"/>
          <p:cNvSpPr/>
          <p:nvPr/>
        </p:nvSpPr>
        <p:spPr>
          <a:xfrm>
            <a:off x="952200" y="22377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  <a:ea typeface="Dotum"/>
              </a:rPr>
              <a:t>+ Entertainme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Rectangle 2765"/>
          <p:cNvSpPr/>
          <p:nvPr/>
        </p:nvSpPr>
        <p:spPr>
          <a:xfrm>
            <a:off x="6732720" y="2708280"/>
            <a:ext cx="10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ixing Business With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Pleasuresponsore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company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Rectangle 2766"/>
          <p:cNvSpPr/>
          <p:nvPr/>
        </p:nvSpPr>
        <p:spPr>
          <a:xfrm>
            <a:off x="6030720" y="4680360"/>
            <a:ext cx="129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Here it is! What all our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readers have bee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f the season's top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fashion look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Rectangle 2767"/>
          <p:cNvSpPr/>
          <p:nvPr/>
        </p:nvSpPr>
        <p:spPr>
          <a:xfrm>
            <a:off x="3821400" y="5130000"/>
            <a:ext cx="152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catwalk images of th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trendiest styles and colors.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Your personal look book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and fashion guide, no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matter your lifestyle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Rectangle 2768"/>
          <p:cNvSpPr/>
          <p:nvPr/>
        </p:nvSpPr>
        <p:spPr>
          <a:xfrm>
            <a:off x="826920" y="2476080"/>
            <a:ext cx="151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'Timeless' Marilyn Monroe Exhibit Open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Lagerfeld's Paris triumph at H&amp;M falls flat in London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Zip into fashion when selecting that winter jacket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Rectangle 2769"/>
          <p:cNvSpPr/>
          <p:nvPr/>
        </p:nvSpPr>
        <p:spPr>
          <a:xfrm>
            <a:off x="1657440" y="4615920"/>
            <a:ext cx="143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keep a link with the fash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Our Premium Fashion section 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</a:rPr>
              <a:t>includes the latest fashion, beauty, news, articles, and more!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8T01:41:51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