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9FC7-D1CD-41FC-B980-1FF9E722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186A-6DF2-432E-A0F1-6C1A67E0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ACC5-1F39-4CB7-BEBE-4B90DFE0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AB72-37BD-4B3C-A796-DFCD85D6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198B-2E8A-4C0C-9C2E-9D3BB0D2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DAEC-439F-4249-82C6-988CE6E8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F8C5-4CE8-48D6-8AE0-3CE9103F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EE49-A321-41DE-9F68-8020FBD4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A624-8E5E-46B5-8D0F-B68BF729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1438-7B5D-4114-AE5D-A697B33D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7783-C5E2-47C5-B91D-D7ED37C1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B942-62BB-4C11-AA6C-FB497B4D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A488-62CC-4D65-9FBD-5C667CF2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E95F-F7EA-4CCD-9EF6-80B1E447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703D-69A9-40D7-9046-51AF6A1E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F9DA-A9B2-4503-A550-D6546E04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066B-66E0-4A87-B8E3-46302494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318A-4EB7-408B-B1A4-1696AE90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133FB-1560-4FD6-8740-3EA51E64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BDBC8-F6B1-4F8B-99AD-606248C5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15919-0820-42DA-AE5D-2BCCD694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AA55-5DEE-49D6-91AD-9B42CD39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74D87-C239-418D-9F13-4F0FAA41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DFF25-6D9D-4ED7-BB39-4B096394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C1DD8-2068-4CF0-98A0-ABAB921F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18FE0-33CA-4DF0-9EDA-D15109B2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B39D2-393E-4990-97D1-94FB4D85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59C04-AB15-455A-AD5C-C90D25F7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3E9C6-0F9D-433C-9D1C-ADA93170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017DA-8F5D-4FF6-B93C-303D53FC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70521-532F-483E-977A-62A6623F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48FC-0241-491B-81C8-C641A117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A0FC-376E-4669-AA7C-170949B2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1E62-0069-48E8-8EB2-5CE471EF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7975-763B-43A0-AD47-1E7D2F2C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570C-F75E-49F1-8E0A-161CC0B4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5416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7920" y="60955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5400" y="60955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0955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D965-1C14-4828-8977-7B868372CB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981080"/>
            <a:ext cx="6858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5905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5638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C2A2-52E5-4A0F-8CC2-EA627081E0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38131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4029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2559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45435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7577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5037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52642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54784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4078080" y="301932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26668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5638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C8FE-1165-47CB-A069-7DFAEE8D43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1981080"/>
            <a:ext cx="6858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523520" y="35809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54160"/>
            <a:ext cx="701028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标题 1"/>
          <p:cNvSpPr/>
          <p:nvPr/>
        </p:nvSpPr>
        <p:spPr>
          <a:xfrm>
            <a:off x="3276720" y="2571840"/>
            <a:ext cx="430992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感谢您的关注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516320" y="53341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9T03:20:24Z</dcterms:created>
  <dc:creator/>
  <dc:description/>
  <dc:language>en-US</dc:language>
  <cp:lastModifiedBy>微软用户</cp:lastModifiedBy>
  <dcterms:modified xsi:type="dcterms:W3CDTF">2014-05-19T05:06:5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ersion">
    <vt:r8>1</vt:r8>
  </property>
</Properties>
</file>