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0CF8-17AA-445C-A772-62815DDC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9B97-EC4E-4347-94D2-F7843E68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D17E-5E87-42C6-ADA1-72C8933B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ADA1-C4BF-4607-BAA2-3F900FB8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00DA-DAB7-4336-8B65-AAF5F9B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8687-C1F9-4E19-A429-CF63B9B3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8F84-F2A1-474D-9A62-CE0AB2A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E638-ADD1-41D5-9C6E-E3FCD5A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AAA5-3E59-4F94-9680-1C8E1AB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5829-A47D-4AE5-AF7C-31ADA994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A5BB-9FF4-4221-89AD-5FC7581F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37D9-36A8-4579-BEF5-11556CC0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1680" y="-22320"/>
            <a:ext cx="917568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17000"/>
            <a:ext cx="7199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26028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426360"/>
            <a:ext cx="14396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A7D987C-33AD-47F4-986A-39AA0D6ABAF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3749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3ED6-30A7-45C6-9E00-D61B8C953A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F78-291D-4A05-9908-F4D3B6DF9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33573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23749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3840" y="652608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7199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700280"/>
            <a:ext cx="8207280" cy="863640"/>
            <a:chOff x="457200" y="1700280"/>
            <a:chExt cx="8207280" cy="863640"/>
          </a:xfrm>
        </p:grpSpPr>
        <p:grpSp>
          <p:nvGrpSpPr>
            <p:cNvPr id="128" name=""/>
            <p:cNvGrpSpPr/>
            <p:nvPr/>
          </p:nvGrpSpPr>
          <p:grpSpPr>
            <a:xfrm>
              <a:off x="457200" y="1700280"/>
              <a:ext cx="8207280" cy="576360"/>
              <a:chOff x="457200" y="1700280"/>
              <a:chExt cx="8207280" cy="57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45720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8284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08120" y="1700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376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2640" y="1700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87920" y="1700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13560" y="1700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9200" y="1700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57200" y="2276640"/>
              <a:ext cx="8207280" cy="287280"/>
              <a:chOff x="457200" y="2276640"/>
              <a:chExt cx="8207280" cy="287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572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828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81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37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626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7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135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92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6040" y="2890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479600" y="177336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37600" y="621360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1152-EE74-49CA-9E90-C850250AE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50B1-0D98-4BAD-B01E-924DFB4506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tlantic</cp:lastModifiedBy>
  <dcterms:modified xsi:type="dcterms:W3CDTF">2014-11-02T01:26:12Z</dcterms:modified>
  <cp:revision>2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