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FD8-9ED1-4D96-99D2-C3769E08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1AB-470A-44C0-85B5-2A26225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A85-B151-46D1-8F37-B68B8ABC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EFB-C44E-474C-979D-05361F8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03E4-DAEF-444C-878A-B4DC0464E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89A6-84BC-47FB-A686-76D0460E9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01476-D6AD-4B31-BB80-40FF29ACF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B2E1D-3F19-4A26-9A32-659C3929B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F1DB9-F1D5-44DA-BD89-433A1A93E4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BCC20-B9A0-4D3B-B6E0-80949150C3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43AC-13FC-4EBF-9F73-E8DAB93B3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BB9-3EC8-4601-A0C9-735D9A9E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62D1-3C38-4C61-99BD-4C135E047F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90908-8DF5-4436-98AF-2F836F4EE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72C5-764B-454A-BC39-EBE2147C94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693AE-5A77-4BCD-BB5E-2BB580657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A7F92-AC8E-47FF-849D-89CB1E76CE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56463-58C8-4B81-A073-BDD14968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D0E8B-506A-40A1-B2D2-1671D6A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A2F0B-4727-4735-B9B5-2C7642D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4C14B-BFB2-45E0-80E6-F3351B1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B0E11-FE71-408C-85EF-1F763B4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31B-18F0-42FA-8E19-D3DE964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C7F24-D335-4DD7-BE46-985A00D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77C8F-9508-4535-8540-78C1F5E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2F18A-3712-455C-AE56-874486AB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F6CF2-4D89-4246-916F-A28B4AB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F0B4E-4957-4B8D-94B1-F5A2BFE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5685F-1C7A-47D6-A03F-658FBD45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BA6FC-EE88-4583-931A-1BB4B8E5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E8E21-2BEC-4E23-881F-EC31F365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2B023-BE18-4ED7-85B0-9EFBFA9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63AB8-A367-4295-B76D-659278E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83F-7311-46E5-AA80-B21738AE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02A83-F2CE-4563-8072-1440D4E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0946F-E21C-42AC-AF7E-AD08F025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AEC34-13F4-4E8A-AD32-85D06F1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BC95B-CFDB-4D2F-B3AD-5C995E9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638D5-214B-403B-9216-8036C31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0ABDF-FD19-4CCF-8552-4867ABF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CD815-0CA3-4114-8D26-3A88AF29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6F20A-B74B-4A2A-B045-5D3F02A0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AC2A4-ECE3-4A69-8307-1F5D9789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087-792B-4775-B68C-E474500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5BC-3C22-4CAE-9BCB-AC275E92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38A-AC6D-4648-9ED5-B9D0688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044-E53D-4046-AD6B-E84E639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C45-DD83-48FB-910C-424AB26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8908929B-9630-435F-962A-5EA27781551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0560" cy="5522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850920" y="6165720"/>
            <a:ext cx="1873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ge  </a:t>
            </a:r>
            <a:fld id="{5E2D6F18-F5DC-4757-9372-6A180EB937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DB8BC95E-C8A5-44B3-9F9E-195DE95371E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3BFFA2D1-ECCA-4872-9713-BD40DA1F460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14080" y="6165720"/>
            <a:ext cx="624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6:30:07Z</dcterms:created>
  <dc:creator>BillGates</dc:creator>
  <dc:description/>
  <dc:language>en-US</dc:language>
  <cp:lastModifiedBy>dl-server</cp:lastModifiedBy>
  <cp:lastPrinted>1899-12-30T00:00:00Z</cp:lastPrinted>
  <dcterms:modified xsi:type="dcterms:W3CDTF">2014-06-07T08:12:1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