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144A-D5A2-4B7A-9D53-432FE61C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CA8-C755-44AA-93F5-81E278EF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50F-E4DD-4F60-9120-32916E62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340-B9D1-4E73-BA6C-276EC2F1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A978-4464-4BEB-9AA5-512D51A2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649EC-5169-4DA6-907E-8D93ABC7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E8E3-86BC-419C-A9C0-02B727F7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64B7-5905-4960-A9FE-A2E5CDFD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4DDE-03F6-4BEE-AD68-BCF202A9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AE89-9521-4A5F-A655-EE27AB28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DCF3-3370-4189-BDFF-9A7364B4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A79-57A2-483F-93D3-150E1700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139E-F938-4E31-815C-C7795979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F91B-535A-437C-AC13-8A8A73AF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56E7-A028-4566-B45F-1DA47814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CBAD-7C7E-4A9A-90CD-FBDCF77E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1300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7039-014D-4AC2-AD1C-52B0D09B6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DB9-39A2-457D-8A8D-96E893E90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ACCF-443E-4BEB-9543-ECCDFA8C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174-0067-4C49-B351-BF918751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0E67-2063-4099-99C7-B3049FA5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928-74A1-4830-A412-36261901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997-0054-47E5-A948-1F7F7A34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13000"/>
            <a:ext cx="40158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80E-9724-4B8E-9599-683CBE32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eij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8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00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c8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00"/>
                </a:solidFill>
                <a:latin typeface="黑体"/>
              </a:rPr>
              <a:t>Second Outline Level</a:t>
            </a: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c8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00"/>
                </a:solidFill>
                <a:latin typeface="黑体"/>
              </a:rPr>
              <a:t>Third Outline Level</a:t>
            </a: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c80000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00"/>
                </a:solidFill>
                <a:latin typeface="黑体"/>
              </a:rPr>
              <a:t>Fourth Outline Level</a:t>
            </a: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c8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00"/>
                </a:solidFill>
                <a:latin typeface="黑体"/>
              </a:rPr>
              <a:t>Fifth Outline Level</a:t>
            </a: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cc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00"/>
                </a:solidFill>
                <a:latin typeface="黑体"/>
              </a:rPr>
              <a:t>Sixth Outline Level</a:t>
            </a: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cc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00"/>
                </a:solidFill>
                <a:latin typeface="黑体"/>
              </a:rPr>
              <a:t>Seventh Outline Level</a:t>
            </a: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-22320"/>
            <a:ext cx="9140760" cy="1219320"/>
            <a:chOff x="0" y="-22320"/>
            <a:chExt cx="9140760" cy="1219320"/>
          </a:xfrm>
        </p:grpSpPr>
        <p:sp>
          <p:nvSpPr>
            <p:cNvPr id="5" name="Rectangle 81"/>
            <p:cNvSpPr/>
            <p:nvPr/>
          </p:nvSpPr>
          <p:spPr>
            <a:xfrm>
              <a:off x="0" y="-22320"/>
              <a:ext cx="9140760" cy="1219320"/>
            </a:xfrm>
            <a:prstGeom prst="rect">
              <a:avLst/>
            </a:prstGeom>
            <a:gradFill rotWithShape="0">
              <a:gsLst>
                <a:gs pos="0">
                  <a:srgbClr val="cc0000">
                    <a:alpha val="30196"/>
                  </a:srgbClr>
                </a:gs>
                <a:gs pos="100000">
                  <a:srgbClr val="5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6" name="Rectangle 83"/>
            <p:cNvSpPr/>
            <p:nvPr/>
          </p:nvSpPr>
          <p:spPr>
            <a:xfrm>
              <a:off x="0" y="-20880"/>
              <a:ext cx="9140760" cy="107424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>
                    <a:alpha val="3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80000"/>
                </a:solidFill>
                <a:latin typeface="黑体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A474-DDA7-43D1-A7CF-AEC162A6869A}" type="slidenum">
              <a:rPr b="0" lang="en-US" sz="1400" spc="-1" strike="noStrike">
                <a:solidFill>
                  <a:srgbClr val="c80000"/>
                </a:solidFill>
                <a:latin typeface="黑体"/>
                <a:ea typeface="黑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beiji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0" y="981000"/>
            <a:ext cx="9144000" cy="2158560"/>
            <a:chOff x="0" y="981000"/>
            <a:chExt cx="9144000" cy="2158560"/>
          </a:xfrm>
        </p:grpSpPr>
        <p:sp>
          <p:nvSpPr>
            <p:cNvPr id="47" name="Rectangle 81"/>
            <p:cNvSpPr/>
            <p:nvPr/>
          </p:nvSpPr>
          <p:spPr>
            <a:xfrm>
              <a:off x="0" y="981000"/>
              <a:ext cx="9144000" cy="2158560"/>
            </a:xfrm>
            <a:prstGeom prst="rect">
              <a:avLst/>
            </a:prstGeom>
            <a:gradFill rotWithShape="0">
              <a:gsLst>
                <a:gs pos="0">
                  <a:srgbClr val="cc0000">
                    <a:alpha val="30196"/>
                  </a:srgbClr>
                </a:gs>
                <a:gs pos="100000">
                  <a:srgbClr val="5e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48" name="Rectangle 83"/>
            <p:cNvSpPr/>
            <p:nvPr/>
          </p:nvSpPr>
          <p:spPr>
            <a:xfrm>
              <a:off x="0" y="983520"/>
              <a:ext cx="9144000" cy="1901520"/>
            </a:xfrm>
            <a:prstGeom prst="rect">
              <a:avLst/>
            </a:prstGeom>
            <a:gradFill rotWithShape="0">
              <a:gsLst>
                <a:gs pos="0">
                  <a:srgbClr val="5e0000"/>
                </a:gs>
                <a:gs pos="100000">
                  <a:srgbClr val="cc0000">
                    <a:alpha val="3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c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D7D9-44AF-4898-817E-09A3E6A315B2}" type="slidenum"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80000"/>
                </a:solidFill>
                <a:latin typeface="黑体"/>
              </a:rPr>
              <a:t>Click to edit the outline text format</a:t>
            </a: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0000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c80000"/>
              </a:solidFill>
              <a:latin typeface="黑体"/>
            </a:endParaRPr>
          </a:p>
          <a:p>
            <a:pPr lvl="2" marL="914400" algn="ctr">
              <a:spcBef>
                <a:spcPts val="601"/>
              </a:spcBef>
              <a:buClr>
                <a:srgbClr val="c80000"/>
              </a:buClr>
              <a:buFont typeface="黑体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00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c80000"/>
              </a:solidFill>
              <a:latin typeface="黑体"/>
            </a:endParaRPr>
          </a:p>
          <a:p>
            <a:pPr lvl="3" marL="1371600" algn="ctr">
              <a:spcBef>
                <a:spcPts val="499"/>
              </a:spcBef>
              <a:buClr>
                <a:srgbClr val="c80000"/>
              </a:buClr>
              <a:buFont typeface="黑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c80000"/>
              </a:solidFill>
              <a:latin typeface="黑体"/>
            </a:endParaRPr>
          </a:p>
          <a:p>
            <a:pPr lvl="4" marL="1828800" algn="ctr">
              <a:spcBef>
                <a:spcPts val="499"/>
              </a:spcBef>
              <a:buClr>
                <a:srgbClr val="c80000"/>
              </a:buClr>
              <a:buFont typeface="黑体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c80000"/>
              </a:solidFill>
              <a:latin typeface="黑体"/>
            </a:endParaRPr>
          </a:p>
          <a:p>
            <a:pPr lvl="5" marL="1828800">
              <a:spcBef>
                <a:spcPts val="499"/>
              </a:spcBef>
              <a:buClr>
                <a:srgbClr val="cc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c80000"/>
              </a:solidFill>
              <a:latin typeface="黑体"/>
            </a:endParaRPr>
          </a:p>
          <a:p>
            <a:pPr lvl="6" marL="1828800">
              <a:spcBef>
                <a:spcPts val="499"/>
              </a:spcBef>
              <a:buClr>
                <a:srgbClr val="cc0000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80000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c8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  <p:sp>
        <p:nvSpPr>
          <p:cNvPr id="92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8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cc0000"/>
                </a:solidFill>
                <a:latin typeface="Arial"/>
              </a:endParaRPr>
            </a:p>
          </p:txBody>
        </p:sp>
        <p:pic>
          <p:nvPicPr>
            <p:cNvPr id="9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c000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c000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c000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3:20:16Z</dcterms:created>
  <dc:creator/>
  <dc:description/>
  <dc:language>en-US</dc:language>
  <cp:lastModifiedBy>acer</cp:lastModifiedBy>
  <dcterms:modified xsi:type="dcterms:W3CDTF">2014-11-06T01:34:37Z</dcterms:modified>
  <cp:revision>5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