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838224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2455560"/>
            <a:ext cx="838224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245556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245556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01268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01268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245556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245556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245556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012680"/>
            <a:ext cx="838224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838224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409032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012680"/>
            <a:ext cx="409032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29680"/>
            <a:ext cx="83822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012680"/>
            <a:ext cx="409032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245556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012680"/>
            <a:ext cx="838224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409032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245556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2455560"/>
            <a:ext cx="838224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838224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2455560"/>
            <a:ext cx="838224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245556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245556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01268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01268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245556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245556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245556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80880" y="1012680"/>
            <a:ext cx="838224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838224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409032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6040" y="1012680"/>
            <a:ext cx="409032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838224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80880" y="229680"/>
            <a:ext cx="83822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6040" y="1012680"/>
            <a:ext cx="409032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245556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409032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04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6040" y="245556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2455560"/>
            <a:ext cx="838224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838224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0880" y="2455560"/>
            <a:ext cx="838224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80880" y="245556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6040" y="245556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15160" y="101268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49440" y="101268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80880" y="245556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15160" y="245556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49440" y="245556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80880" y="1012680"/>
            <a:ext cx="838224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838224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409032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012680"/>
            <a:ext cx="409032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409032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6040" y="1012680"/>
            <a:ext cx="409032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80880" y="229680"/>
            <a:ext cx="83822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6040" y="1012680"/>
            <a:ext cx="409032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80880" y="245556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409032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604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6040" y="245556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604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80880" y="2455560"/>
            <a:ext cx="838224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838224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80880" y="2455560"/>
            <a:ext cx="838224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04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80880" y="245556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6040" y="245556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15160" y="101268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49440" y="101268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0880" y="245556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15160" y="245556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49440" y="2455560"/>
            <a:ext cx="26989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29680"/>
            <a:ext cx="83822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012680"/>
            <a:ext cx="409032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245556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409032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245556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012680"/>
            <a:ext cx="409032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2455560"/>
            <a:ext cx="8382240" cy="13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Segoe UI"/>
              </a:rPr>
              <a:t>Click to edit the title text format</a:t>
            </a: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012680"/>
            <a:ext cx="838224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lvl="1" marL="343080" indent="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ego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lvl="2" marL="628560" indent="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ego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lvl="3" marL="91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ego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lvl="4" marL="12002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ego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lvl="5" marL="12002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ego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lvl="6" marL="12002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ego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U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Segoe U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78000" indent="536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755640" indent="158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1101600" indent="-18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1425600" indent="-511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1425600" indent="-511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1425600" indent="-511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83757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87360" y="1420560"/>
            <a:ext cx="837576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900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9000" indent="-459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459000" indent="-459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459000" indent="-459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459000" indent="-459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459000" indent="-459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459000" indent="-459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Segoe UI"/>
              </a:rPr>
              <a:t>Click to edit the title text format</a:t>
            </a: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380880" y="1012680"/>
            <a:ext cx="838224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lvl="1" marL="343080" indent="57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ego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lvl="2" marL="628560" indent="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ego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lvl="3" marL="91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ego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lvl="4" marL="12002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ego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lvl="5" marL="12002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ego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  <a:p>
            <a:pPr lvl="6" marL="12002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ego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traight Connector 7"/>
          <p:cNvSpPr/>
          <p:nvPr/>
        </p:nvSpPr>
        <p:spPr>
          <a:xfrm>
            <a:off x="2752560" y="3981600"/>
            <a:ext cx="5985000" cy="0"/>
          </a:xfrm>
          <a:prstGeom prst="line">
            <a:avLst/>
          </a:prstGeom>
          <a:ln w="9360">
            <a:solidFill>
              <a:srgbClr val="d90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91840" y="3417120"/>
            <a:ext cx="71787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155" name=""/>
          <p:cNvSpPr/>
          <p:nvPr/>
        </p:nvSpPr>
        <p:spPr>
          <a:xfrm>
            <a:off x="6707520" y="630396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Segoe U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8" name="TextBox 233"/>
          <p:cNvSpPr/>
          <p:nvPr/>
        </p:nvSpPr>
        <p:spPr>
          <a:xfrm>
            <a:off x="0" y="11653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4988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b0f0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b0f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b0f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b0f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22:01:00Z</dcterms:created>
  <dc:creator>Jennifer</dc:creator>
  <dc:description/>
  <dc:language>en-US</dc:language>
  <cp:lastModifiedBy>shans</cp:lastModifiedBy>
  <cp:lastPrinted>1899-12-30T00:00:00Z</cp:lastPrinted>
  <dcterms:modified xsi:type="dcterms:W3CDTF">2014-06-07T06:46:49Z</dcterms:modified>
  <cp:revision>685</cp:revision>
  <dc:subject/>
  <dc:title>SQL Server 2008 R2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dience (Arsenal)">
    <vt:lpwstr>BDMTDMIT ProDeveloperMicrosoft Field (Internal Only)Partners</vt:lpwstr>
  </property>
  <property fmtid="{D5CDD505-2E9C-101B-9397-08002B2CF9AE}" pid="3" name="Confidentiality (Arsenal)">
    <vt:lpwstr>Customer Ready</vt:lpwstr>
  </property>
  <property fmtid="{D5CDD505-2E9C-101B-9397-08002B2CF9AE}" pid="4" name="Content Owner (Arsenal)">
    <vt:lpwstr>Sabrena McBride22317</vt:lpwstr>
  </property>
  <property fmtid="{D5CDD505-2E9C-101B-9397-08002B2CF9AE}" pid="5" name="Content Type (Arsenal)">
    <vt:lpwstr>Deck (PPT)</vt:lpwstr>
  </property>
  <property fmtid="{D5CDD505-2E9C-101B-9397-08002B2CF9AE}" pid="6" name="ContentTypeId">
    <vt:lpwstr>0x0101005358CE6EDC73FE4C8342CD8D202AE755</vt:lpwstr>
  </property>
  <property fmtid="{D5CDD505-2E9C-101B-9397-08002B2CF9AE}" pid="7" name="Description (Arsenal)">
    <vt:lpwstr>SQL Server 2008 R2</vt:lpwstr>
  </property>
  <property fmtid="{D5CDD505-2E9C-101B-9397-08002B2CF9AE}" pid="8" name="KSOProductBuildVer">
    <vt:lpwstr>2052-9.1.0.4468</vt:lpwstr>
  </property>
  <property fmtid="{D5CDD505-2E9C-101B-9397-08002B2CF9AE}" pid="9" name="Keyword (Arsenal)">
    <vt:lpwstr>R2</vt:lpwstr>
  </property>
  <property fmtid="{D5CDD505-2E9C-101B-9397-08002B2CF9AE}" pid="10" name="URL">
    <vt:lpwstr>http://ArsenalContent/ContentDetail.aspx?ContentID=180464http://ArsenalContent/ContentDetail.aspx?ContentID=180464</vt:lpwstr>
  </property>
</Properties>
</file>