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5E9A-0AB7-487C-A544-E8DE94E8E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6C36-9C4C-4EE7-BE5D-1CB626DE3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E1A2-D8AC-455D-A3E2-C99B56BB8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3B27-227C-4788-B456-877DEEA2B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733A-F73C-4778-8956-A8C35B6F9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E561-CCE3-4C99-BD0C-9461745B7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A0A8-CD82-4D87-A7F9-7ED692E2A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DCCE-3059-438A-A706-09D58165D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AB63-E3B6-4DF7-9A4A-5C1CEAF86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ADD2-53C7-4163-BAD7-D9E00F613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B3F5-CFEC-4FCD-9944-239DEBB7A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AA26-C5EC-4A1E-9F0E-C06512D98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bg2"/>
          <p:cNvPicPr/>
          <p:nvPr/>
        </p:nvPicPr>
        <p:blipFill>
          <a:blip r:embed="rId2"/>
          <a:stretch/>
        </p:blipFill>
        <p:spPr>
          <a:xfrm>
            <a:off x="-33480" y="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8F3AE1A-A180-4BF6-A08D-961622EDF334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7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2867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5280" y="51350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468360" y="4221000"/>
            <a:ext cx="4813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单击此处添加标题文字</a:t>
            </a:r>
            <a:endParaRPr b="1" i="1" lang="en-US" sz="2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-4344840" y="4456080"/>
            <a:ext cx="48132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10196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i="1" lang="en-US" sz="24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1019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396720" y="5950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44E3EE8-E2D1-4B06-BDF0-15D4D82AE96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bg3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5357880" y="4640400"/>
            <a:ext cx="2903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5651640" y="3718080"/>
            <a:ext cx="246528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谢谢观赏</a:t>
            </a:r>
            <a:endParaRPr b="1" i="1" lang="en-US" sz="2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3122280" y="4118760"/>
            <a:ext cx="246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18039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1" i="1" lang="en-US" sz="24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18039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1586520" y="6237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1c1c1c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ilovePPT.ORG</cp:lastModifiedBy>
  <cp:lastPrinted>1899-12-30T00:00:00Z</cp:lastPrinted>
  <dcterms:modified xsi:type="dcterms:W3CDTF">2014-05-23T12:45:09Z</dcterms:modified>
  <cp:revision>2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